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18D-FF60-44B9-AE2A-212228D1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44A-D76D-4DE2-89FF-D9007B37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F17-F767-49C0-85F0-202A0EFB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858-CA5D-491D-B62B-FDAAD6BE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15B0-6B37-4A28-BB87-96BF9A03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1356-BA4C-40F4-93C8-9D521797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24A6-E300-450A-8F7E-9D33A269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E35E-8E79-48A4-A1A5-445ED1E4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B911-08F3-41BF-BB03-C7037AC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98A0-A4B7-4443-9677-0B510BEF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287F-6503-47C3-B522-9FACEF19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27B-B5D4-4653-AEE4-3FFD4881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A25-1BF0-44CB-82C7-AFA4A49C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0A66-75A6-438A-8EDB-A70C639D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79ED-DDAA-48E5-B2E6-2A0D870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2031-E00C-4B8F-9662-7D560E2C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C826-9D5A-477F-B1D6-FF67C747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F06-8EC4-4E85-8058-8E63D643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5BA-0CA2-4D03-8E57-533D1345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476-DE95-4806-BE7A-11E1A22D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A8D-0A10-41FC-90F8-1CBBBB23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5E9-2BC9-487C-AE12-AB21EE1F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55E-4D5D-4B90-8E9B-747C5C33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EC1-B8A9-4498-9EBA-80621D75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Group 3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Rectangle 6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Rectangle 7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Rectangle 8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Rectangle 9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Rectangle 10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Rectangle 11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Rectangle 12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Rectangle 13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Group 14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Rectangle 15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Rectangle 16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Rectangle 17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Rectangle 18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Rectangle 19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Rectangle 20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Rectangle 21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Rectangle 22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Rectangle 24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Rectangle 25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Rectangle 26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Rectangle 27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Rectangle 28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Rectangle 29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Rectangle 30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Rectangle 31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Rectangle 33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Rectangle 34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Rectangle 35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Rectangle 36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Rectangle 37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Rectangle 38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Rectangle 39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Rectangle 40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Rectangle 42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Rectangle 43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Rectangle 44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Rectangle 45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Rectangle 46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Rectangle 47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Rectangle 48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Rectangle 49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Rectangle 51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Rectangle 52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Rectangle 53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Rectangle 54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Rectangle 55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Rectangle 56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Rectangle 57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Rectangle 58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Rectangle 60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Rectangle 61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Rectangle 62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Rectangle 63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Rectangle 64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Rectangle 65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Rectangle 66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Rectangle 67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Group 68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Group 69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Rectangle 70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Rectangle 71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Rectangle 72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Rectangle 73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Rectangle 74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Rectangle 75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Rectangle 76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Rectangle 77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Group 78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Rectangle 79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Rectangle 80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Rectangle 81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Rectangle 82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Rectangle 83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Rectangle 84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Rectangle 85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Rectangle 86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Group 87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Rectangle 88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Rectangle 89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Rectangle 90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Rectangle 91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Rectangle 92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Rectangle 93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Rectangle 94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Rectangle 95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Group 96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Rectangle 97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Rectangle 98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Rectangle 99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Rectangle 100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Rectangle 101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Rectangle 102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Rectangle 103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Rectangle 104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Group 105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Rectangle 106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Rectangle 107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Rectangle 108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Rectangle 109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Rectangle 110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Rectangle 111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Rectangle 112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Rectangle 113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Group 114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Rectangle 115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Rectangle 116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Rectangle 117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Rectangle 118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Rectangle 119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Rectangle 120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Rectangle 121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Rectangle 122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Group 123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Rectangle 124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Rectangle 125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Rectangle 126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Rectangle 127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Rectangle 128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Rectangle 129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Rectangle 130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Rectangle 131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Group 132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Rectangle 133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Rectangle 134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Rectangle 135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Rectangle 136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Rectangle 137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Rectangle 138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Rectangle 139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Rectangle 140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Group 141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Rectangle 142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Rectangle 143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Rectangle 144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Rectangle 145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Rectangle 146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Rectangle 147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Rectangle 148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Rectangle 149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Group 150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Rectangle 151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Rectangle 152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Rectangle 153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Rectangle 154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Rectangle 155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Rectangle 156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Rectangle 157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Rectangle 158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Group 159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Rectangle 160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Rectangle 161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Rectangle 162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Rectangle 163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Rectangle 164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Rectangle 165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Rectangle 166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Rectangle 167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Group 168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Rectangle 169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Rectangle 170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Rectangle 171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Rectangle 172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Rectangle 173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Rectangle 174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Rectangle 175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Rectangle 176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Group 177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Rectangle 178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Rectangle 179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Rectangle 180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Rectangle 181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Rectangle 182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Rectangle 183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Rectangle 184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Rectangle 185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Group 186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Rectangle 187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Rectangle 188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Rectangle 189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Rectangle 190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Rectangle 191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Rectangle 192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Rectangle 193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Rectangle 194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Group 195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Rectangle 196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Rectangle 197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Rectangle 198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Rectangle 199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Rectangle 200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Rectangle 201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Rectangle 202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Rectangle 203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Group 204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Rectangle 205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Rectangle 206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Rectangle 207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Rectangle 208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Rectangle 209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Rectangle 210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Rectangle 211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Rectangle 212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Group 213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Rectangle 214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Rectangle 215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Rectangle 216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Rectangle 217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Rectangle 218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Rectangle 219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Rectangle 220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Rectangle 221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Group 222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Rectangle 223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Rectangle 224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Rectangle 225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Rectangle 226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Rectangle 227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Rectangle 228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Rectangle 229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Rectangle 230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Group 231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Rectangle 232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Rectangle 233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Rectangle 234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235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236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37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38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39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Group 240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Rectangle 241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42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43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44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245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246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247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248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Group 249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Rectangle 250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251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252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253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254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255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256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257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Group 258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Rectangle 259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260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261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Rectangle 262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263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264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265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266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Group 267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Rectangle 268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269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270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271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272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273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274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275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Group 276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Group 279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Rectangle 280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Group 290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Rectangle 291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 algn="r" rtl="1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 algn="r" rtl="1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 algn="r" rtl="1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 algn="r" rtl="1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5BCC-5BA4-4AAA-838B-4372B3D0407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Group 3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Group 4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Rectangle 5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Rectangle 6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Rectangle 7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Rectangle 8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Rectangle 9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Rectangle 10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Rectangle 11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Rectangle 12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Group 13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Rectangle 14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Rectangle 15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Rectangle 16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Rectangle 17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Rectangle 18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Rectangle 19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Rectangle 20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Rectangle 21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Group 22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Rectangle 23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Rectangle 24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Rectangle 25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Rectangle 26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Rectangle 27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Rectangle 28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Rectangle 29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Rectangle 30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Group 31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Rectangle 32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Rectangle 33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Rectangle 34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Rectangle 35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Rectangle 36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Rectangle 37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Rectangle 38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Rectangle 39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Group 40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Rectangle 41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Rectangle 42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Rectangle 43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Rectangle 44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Rectangle 45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Rectangle 46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Rectangle 47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Rectangle 48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Group 49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Rectangle 50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Rectangle 51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Rectangle 52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Rectangle 53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Rectangle 54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Rectangle 55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Rectangle 56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Rectangle 57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Group 58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Rectangle 59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Rectangle 60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Rectangle 61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Rectangle 63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Rectangle 64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Rectangle 65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Rectangle 66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Group 67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Group 68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Rectangle 69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Rectangle 70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Rectangle 71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Rectangle 72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Rectangle 73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Rectangle 74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Rectangle 75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Rectangle 76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Group 77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Rectangle 78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Rectangle 79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Rectangle 80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Rectangle 81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Rectangle 82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Rectangle 83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Rectangle 84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Rectangle 85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Group 86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Rectangle 87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Rectangle 88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Rectangle 89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Rectangle 90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Rectangle 91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Rectangle 92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Rectangle 93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Rectangle 94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Group 95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Rectangle 96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Rectangle 97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Rectangle 98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Rectangle 99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Rectangle 100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Rectangle 101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Rectangle 102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Rectangle 103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Group 104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Rectangle 105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Rectangle 106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Rectangle 107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Rectangle 108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Rectangle 109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Rectangle 110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Rectangle 111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Rectangle 112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Group 113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Rectangle 114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Rectangle 115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Rectangle 116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Rectangle 117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Rectangle 118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Rectangle 119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Rectangle 120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Group 122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Rectangle 123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Rectangle 124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Rectangle 125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Rectangle 126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Rectangle 127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Rectangle 128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Rectangle 129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Rectangle 130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Group 131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Rectangle 132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Rectangle 133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Rectangle 134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Rectangle 135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Rectangle 136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Rectangle 137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Rectangle 138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Rectangle 139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Group 140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Rectangle 141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Rectangle 142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Rectangle 143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Rectangle 144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Rectangle 145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Rectangle 146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Rectangle 147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Rectangle 148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Group 149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Rectangle 150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Rectangle 151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Rectangle 152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Rectangle 153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Rectangle 154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Rectangle 155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Rectangle 156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Rectangle 157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Group 158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Rectangle 159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Rectangle 160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Rectangle 161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Rectangle 162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Rectangle 163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Rectangle 164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Rectangle 165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Rectangle 166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Group 167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Rectangle 168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Rectangle 169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Rectangle 170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Rectangle 171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Rectangle 172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Rectangle 173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Rectangle 174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Rectangle 175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Group 176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Rectangle 177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Rectangle 178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Rectangle 179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Rectangle 180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Rectangle 181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Rectangle 182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Rectangle 183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Rectangle 184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Group 185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Rectangle 186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Rectangle 187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Rectangle 188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Rectangle 189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Rectangle 190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Rectangle 191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Rectangle 192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Rectangle 193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Group 194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Rectangle 195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Rectangle 196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Rectangle 197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Rectangle 198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Rectangle 199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Rectangle 200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Rectangle 201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Rectangle 202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Group 203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Rectangle 204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Rectangle 205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Rectangle 206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Rectangle 207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Rectangle 208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Rectangle 209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Rectangle 210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Rectangle 211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Group 212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Rectangle 213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Rectangle 214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Rectangle 215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Rectangle 216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Rectangle 217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Rectangle 218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Rectangle 219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Rectangle 220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Group 221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Rectangle 222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Rectangle 223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Rectangle 224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Rectangle 225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Rectangle 226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Rectangle 227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Rectangle 228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Rectangle 229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Group 230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Rectangle 231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Rectangle 232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Rectangle 233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Rectangle 234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Rectangle 235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Rectangle 236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Rectangle 237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Rectangle 238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Group 239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Rectangle 240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Rectangle 241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Rectangle 242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Rectangle 243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Rectangle 244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Rectangle 245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Rectangle 246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Rectangle 247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Group 248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Rectangle 249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Rectangle 250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Rectangle 251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Rectangle 252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Rectangle 253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Rectangle 254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Rectangle 255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Rectangle 256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Group 257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Rectangle 258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Rectangle 259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Rectangle 260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Rectangle 261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Rectangle 262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Rectangle 263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Rectangle 264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Rectangle 265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Group 266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Rectangle 267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Rectangle 268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Rectangle 269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Rectangle 270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Rectangle 271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Rectangle 272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Rectangle 273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Rectangle 274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Rectangle 275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Rectangle 276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Rectangle 277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Rectangle 278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Rectangle 279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Rectangle 280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Group 281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Rectangle 282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Rectangle 283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Rectangle 284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Rectangle 285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Group 286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Group 287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Rectangle 288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Rectangle 289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Group 290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Rectangle 291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Rectangle 292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 algn="r" rtl="1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 algn="r" rtl="1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 algn="r" rtl="1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 algn="r" rtl="1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6187-D434-47FE-B743-3710AABBBF9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8226360" cy="1366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40400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cc00"/>
                </a:solidFill>
                <a:latin typeface="Impact"/>
              </a:rPr>
              <a:t>אמירת אמת למטופל </a:t>
            </a:r>
            <a:br>
              <a:rPr sz="4400"/>
            </a:br>
            <a:r>
              <a:rPr b="1" lang="he-IL" sz="4400" spc="-1" strike="noStrike">
                <a:solidFill>
                  <a:srgbClr val="ffcc00"/>
                </a:solidFill>
                <a:latin typeface="Impact"/>
              </a:rPr>
              <a:t>עם מחלה קשה/מקצרת חיים</a:t>
            </a:r>
            <a:br>
              <a:rPr sz="4400"/>
            </a:br>
            <a:r>
              <a:rPr b="1" lang="he-IL" sz="4400" spc="-1" strike="noStrike">
                <a:solidFill>
                  <a:srgbClr val="ffcc00"/>
                </a:solidFill>
                <a:latin typeface="Impact"/>
              </a:rPr>
              <a:t> עמדת רופאים ואחיות  בישראל</a:t>
            </a: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84000" y="3529080"/>
            <a:ext cx="7723080" cy="11239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2b4b6f"/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 Narrow"/>
              </a:rPr>
              <a:t>שחר, אירית</a:t>
            </a:r>
            <a:r>
              <a:rPr b="1" lang="he-IL" sz="2000" spc="-1" strike="noStrike">
                <a:solidFill>
                  <a:srgbClr val="000000"/>
                </a:solidFill>
                <a:latin typeface="Arial Narrow"/>
              </a:rPr>
              <a:t>  -</a:t>
            </a:r>
            <a:r>
              <a:rPr b="1" lang="he-I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, MA</a:t>
            </a:r>
            <a:r>
              <a:rPr b="1" lang="he-I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 rtl="1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 Narrow"/>
              </a:rPr>
              <a:t>בן נתן, מירב</a:t>
            </a:r>
            <a:r>
              <a:rPr b="1" lang="he-IL" sz="2000" spc="-1" strike="noStrike">
                <a:solidFill>
                  <a:srgbClr val="000000"/>
                </a:solidFill>
                <a:latin typeface="Arial Narrow"/>
              </a:rPr>
              <a:t>  –</a:t>
            </a:r>
            <a:r>
              <a:rPr b="1" lang="he-IL" sz="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, PhD Stud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 Narrow"/>
              </a:rPr>
              <a:t>ד"ר גרפינקל, דורון  -</a:t>
            </a:r>
            <a:r>
              <a:rPr b="1" lang="he-IL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6" name="Picture 7" descr="לוגו יובל"/>
          <p:cNvPicPr/>
          <p:nvPr/>
        </p:nvPicPr>
        <p:blipFill>
          <a:blip r:embed="rId1"/>
          <a:stretch/>
        </p:blipFill>
        <p:spPr>
          <a:xfrm>
            <a:off x="7093080" y="3500280"/>
            <a:ext cx="1763640" cy="1152720"/>
          </a:xfrm>
          <a:prstGeom prst="rect">
            <a:avLst/>
          </a:prstGeom>
          <a:ln w="57240">
            <a:solidFill>
              <a:srgbClr val="f2b508"/>
            </a:solidFill>
            <a:miter/>
          </a:ln>
        </p:spPr>
      </p:pic>
      <p:pic>
        <p:nvPicPr>
          <p:cNvPr id="667" name="Picture 8" descr="לוגו עדכני)"/>
          <p:cNvPicPr/>
          <p:nvPr/>
        </p:nvPicPr>
        <p:blipFill>
          <a:blip r:embed="rId2"/>
          <a:stretch/>
        </p:blipFill>
        <p:spPr>
          <a:xfrm>
            <a:off x="324000" y="3357720"/>
            <a:ext cx="23716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שיטות מחקר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4000" y="133020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774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cdcbab"/>
                </a:solidFill>
                <a:uFillTx/>
                <a:latin typeface="Arial Narrow"/>
              </a:rPr>
              <a:t>נבדקים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77480" indent="-177480" algn="r" rtl="1">
              <a:lnSpc>
                <a:spcPct val="105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המדגם כלל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100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רופאים ו -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200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אחיות העובדים בבתי חולים ובקהילה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77480" indent="-177480" algn="r" rtl="1">
              <a:lnSpc>
                <a:spcPct val="105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מרבית הנבדקים בגיל  ממוצע 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40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(נע בין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24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-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67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77480" indent="-177480" algn="r" rtl="1">
              <a:lnSpc>
                <a:spcPct val="105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מרבית הרופאים גברים -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57%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  ומרבית האחיות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84%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נשים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77480" indent="-177480" algn="r" rtl="1">
              <a:lnSpc>
                <a:spcPct val="105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רוב הרופאים והאחיות יהודים, חילונים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50400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שיטות מחקר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4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cdcbab"/>
                </a:solidFill>
                <a:uFillTx/>
                <a:latin typeface="Arial Narrow"/>
              </a:rPr>
              <a:t>כלי המחקר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04120" indent="-204120" algn="r" rtl="1">
              <a:lnSpc>
                <a:spcPct val="13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נבנו שני שאלונים אחד לרופא ושני לאחות על בסיס סקירת הספרות והמודל התיאורטי. 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04120" indent="-204120" algn="r" rtl="1">
              <a:lnSpc>
                <a:spcPct val="13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שאלון זה עבר מבחן מהימנות  ורמת מהימנותו הינה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- 0.78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שיטות מחקר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801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174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cdcbab"/>
                </a:solidFill>
                <a:uFillTx/>
                <a:latin typeface="Arial Narrow"/>
              </a:rPr>
              <a:t>ה ל י ך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17440" indent="-217440" algn="r" rtl="1">
              <a:lnSpc>
                <a:spcPct val="12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המחקר נערך לאחר קבלת אישור ועדת הלסינקי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17440" indent="-217440" algn="r" rtl="1">
              <a:lnSpc>
                <a:spcPct val="12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תוצאות המבחן חלוץ הראו כי התפלגות התשובות הנחקרים הייתה נורמאלית, רכיבי השאלון ברורים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שיטות מחקר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86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cdcbab"/>
                </a:solidFill>
                <a:uFillTx/>
                <a:latin typeface="Arial Narrow"/>
              </a:rPr>
              <a:t>הליך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86480" indent="-18648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השאלונים חולקו אישית ע"י עורכי המחקר, לאחר מתן הסבר על  מטרות המחקר ואופן מילוי השאלון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86480" indent="-18648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הובהרה לנחקרים אנונימיות המחקר והובטח לכולם כי השימוש בתוצאותיו ייעשה לצורכי מחקר בלבד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86480" indent="-18648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איסוף הנתונים נמשך כארבעה חודשים</a:t>
            </a:r>
            <a:r>
              <a:rPr b="0" lang="he-IL" sz="36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ממצאים 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26560" y="175248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95120" indent="-19512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עולה כי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Arial Narrow"/>
              </a:rPr>
              <a:t>50%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Arial Narrow"/>
              </a:rPr>
              <a:t>מהרופאים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שהשתתפו היו בעלי ניסיון קודם במסירת בשורה מרה לחולים בשלב הסופני של החיים וביצעו זאת בפועל יותר  מ -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פעמים  במהלך השנה האחרונה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95120" indent="-19512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לעומתם,  רק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Arial Narrow"/>
              </a:rPr>
              <a:t>24%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Arial Narrow"/>
              </a:rPr>
              <a:t>מהאחיות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היו שותפות  במסירת מידע לחולים סופניים  ועשו זאת רק  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עד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פעמים  בשנה האחרונה</a:t>
            </a:r>
            <a:r>
              <a:rPr b="0" lang="he-IL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9512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ממצאים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26560" y="176220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 algn="r" rtl="1">
              <a:lnSpc>
                <a:spcPct val="8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יותר מ-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30%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מהרופאים שאמרו אמת למטופל בכל מקרה בעבר   ציינו  כי 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Arial Narrow"/>
              </a:rPr>
              <a:t>בעתיד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,       אם יצטרכו להתמודד עם אמירת אמת לחולה סופני יחליטו לבצע אמירת האמת  </a:t>
            </a:r>
            <a:r>
              <a:rPr b="1" lang="he-IL" sz="3600" spc="-1" strike="noStrike">
                <a:solidFill>
                  <a:srgbClr val="ffcc00"/>
                </a:solidFill>
                <a:latin typeface="Arial Narrow"/>
              </a:rPr>
              <a:t>רק על בסיס המקרה הספציפי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(כל מקרה לגופו)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971640" y="4508640"/>
            <a:ext cx="81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Arial Narrow"/>
                <a:ea typeface="David"/>
              </a:rPr>
              <a:t>  לעומתם, יותר מ- </a:t>
            </a:r>
            <a:r>
              <a:rPr b="1" lang="he-IL" sz="4000" spc="-1" strike="noStrike">
                <a:solidFill>
                  <a:srgbClr val="000000"/>
                </a:solidFill>
                <a:latin typeface="Arial Narrow"/>
                <a:ea typeface="David"/>
              </a:rPr>
              <a:t>76%</a:t>
            </a:r>
            <a:r>
              <a:rPr b="1" lang="he-IL" sz="4000" spc="-1" strike="noStrike">
                <a:solidFill>
                  <a:srgbClr val="000000"/>
                </a:solidFill>
                <a:latin typeface="Arial Narrow"/>
                <a:ea typeface="David"/>
              </a:rPr>
              <a:t> מהאחיות ציינו שבעתיד</a:t>
            </a:r>
            <a:r>
              <a:rPr b="0" lang="he-IL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he-IL" sz="4000" spc="-1" strike="noStrike">
                <a:solidFill>
                  <a:srgbClr val="000000"/>
                </a:solidFill>
                <a:latin typeface="Arial Narrow"/>
                <a:cs typeface="David"/>
              </a:rPr>
              <a:t>יאמרו האמת לחולים סופניים בכל מצב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ממצאים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80920" y="1752480"/>
            <a:ext cx="801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 algn="r" rtl="1">
              <a:lnSpc>
                <a:spcPct val="8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גם הרופאים  וגם  האחיות  הדגישו את הקושי  הרב  במסירת  מידע  לגבי מצב  סופני  למכלול  סוגי המטופלים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 algn="r" rtl="1">
              <a:lnSpc>
                <a:spcPct val="8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ציינו שהקושי  למסור  בשורה מרה  יחסית נמוך  יותר כאשר מדובר במטופל  קשיש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89308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29486b"/>
            </a:outerShdw>
          </a:effectLst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8f8f8"/>
                </a:solidFill>
                <a:latin typeface="Impact"/>
              </a:rPr>
              <a:t>רמת הסכמה </a:t>
            </a:r>
            <a:r>
              <a:rPr b="1" lang="he-IL" sz="4400" spc="-1" strike="noStrike">
                <a:solidFill>
                  <a:srgbClr val="f8f8f8"/>
                </a:solidFill>
                <a:latin typeface="Impact"/>
              </a:rPr>
              <a:t>לגבי השאלה:</a:t>
            </a:r>
            <a:br>
              <a:rPr sz="4400"/>
            </a:br>
            <a:r>
              <a:rPr b="1" lang="he-IL" sz="4400" spc="-1" strike="noStrike">
                <a:solidFill>
                  <a:srgbClr val="f8f8f8"/>
                </a:solidFill>
                <a:latin typeface="Impact"/>
              </a:rPr>
              <a:t>למי קל יותר לבשר בשורה מרה</a:t>
            </a: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720" name="Object 5"/>
          <p:cNvGraphicFramePr/>
          <p:nvPr/>
        </p:nvGraphicFramePr>
        <p:xfrm>
          <a:off x="1073160" y="1755720"/>
          <a:ext cx="7778880" cy="48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755720"/>
                    <a:ext cx="777888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ממצאים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 algn="r" rtl="1">
              <a:spcBef>
                <a:spcPts val="799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 Narrow"/>
              </a:rPr>
              <a:t>רוב הרופאים והאחיות לא עברו הכשרה בנושא העברת בשורה מרה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 Narrow"/>
              </a:rPr>
              <a:t>    (</a:t>
            </a:r>
            <a:r>
              <a:rPr b="1" lang="he-IL" sz="3200" spc="-1" strike="noStrike">
                <a:solidFill>
                  <a:srgbClr val="000000"/>
                </a:solidFill>
                <a:latin typeface="Arial Narrow"/>
              </a:rPr>
              <a:t>55%</a:t>
            </a:r>
            <a:r>
              <a:rPr b="1" lang="he-IL" sz="3200" spc="-1" strike="noStrike">
                <a:solidFill>
                  <a:srgbClr val="000000"/>
                </a:solidFill>
                <a:latin typeface="Arial Narrow"/>
              </a:rPr>
              <a:t> מהרופאים </a:t>
            </a:r>
            <a:r>
              <a:rPr b="1" lang="he-IL" sz="3200" spc="-1" strike="noStrike">
                <a:solidFill>
                  <a:srgbClr val="000000"/>
                </a:solidFill>
                <a:latin typeface="Arial Narrow"/>
              </a:rPr>
              <a:t>77%</a:t>
            </a:r>
            <a:r>
              <a:rPr b="1" lang="he-IL" sz="3200" spc="-1" strike="noStrike">
                <a:solidFill>
                  <a:srgbClr val="000000"/>
                </a:solidFill>
                <a:latin typeface="Arial Narrow"/>
              </a:rPr>
              <a:t> מהאחיות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 algn="r" rtl="1">
              <a:spcBef>
                <a:spcPts val="799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 Narrow"/>
              </a:rPr>
              <a:t>הרופאים והאחיות ציינו כי הממונים עליהם מצפים מהם לומר את אמת למטופליהם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ממצאים  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4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17440" indent="-21744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44%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מהרופאים חושבים כי אי אמירת אמת יכולה לחזק תקווה אצל מטופל עם מחלה קשה, רק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34%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מאחיות סברו כך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17440" indent="-21744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Arial Narrow"/>
              </a:rPr>
              <a:t>90%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מהאחיות אך רק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Arial Narrow"/>
              </a:rPr>
              <a:t>66%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מהרופאים היו מודעים לעובדה  כי  חובת  דיווח  האמת  מעוגנת  ב"חוק זכויות החולה"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174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רקע מדעי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60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73160" indent="-173160" algn="r" rtl="1">
              <a:lnSpc>
                <a:spcPct val="11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תקשורת יעילה בין מטופל למטפל תורמת להקטנת הלחץ הנפשי של המטופל ומהווה מרכיב משמעותי בדרך להשגת איכות טיפול מרבית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73160" indent="0" algn="r" rtl="1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גורם בעייתי העלול להפריע ליצירת תקשורת יעילה הוא העברת בשורה מרה.  "בשורה מרה" היא הודעה בה המטפל מוסר למטופל מידע על קיום מצב קשה עבורו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8f8f8"/>
                </a:solidFill>
                <a:latin typeface="Impact"/>
              </a:rPr>
              <a:t>ממצאים - התנהגות בהווה</a:t>
            </a:r>
            <a:endParaRPr b="1" lang="en-US" sz="48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3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מבדיקת מודל המחקר עולה כי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13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13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אמונות התנהגות  ועמדות סובייקטיביות  חיוביות  בנושא  בשורה  מרה מנבאות העברת בשורה בפועל על ידי הרופאים והאחיות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13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8f8f8"/>
                </a:solidFill>
                <a:latin typeface="Impact"/>
              </a:rPr>
              <a:t>ממצאים- התנהגות בעתיד</a:t>
            </a:r>
            <a:endParaRPr b="1" lang="en-US" sz="48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801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08440" indent="-208440" algn="r" rtl="1">
              <a:lnSpc>
                <a:spcPct val="120000"/>
              </a:lnSpc>
              <a:spcBef>
                <a:spcPts val="700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273ee9"/>
                </a:solidFill>
                <a:uFillTx/>
                <a:latin typeface="Arial Narrow"/>
              </a:rPr>
              <a:t> </a:t>
            </a:r>
            <a:r>
              <a:rPr b="1" lang="he-IL" sz="4000" spc="-1" strike="noStrike" u="sng">
                <a:solidFill>
                  <a:srgbClr val="273ee9"/>
                </a:solidFill>
                <a:uFillTx/>
                <a:latin typeface="Arial Narrow"/>
              </a:rPr>
              <a:t>אמונות התנהגותיות</a:t>
            </a:r>
            <a:r>
              <a:rPr b="1" lang="he-IL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e-IL" sz="4000" spc="-1" strike="noStrike" u="sng">
                <a:solidFill>
                  <a:srgbClr val="fdfd3d"/>
                </a:solidFill>
                <a:uFillTx/>
                <a:latin typeface="Arial Narrow"/>
              </a:rPr>
              <a:t>וניסיון קודם</a:t>
            </a:r>
            <a:r>
              <a:rPr b="1" lang="he-IL" sz="2800" spc="-1" strike="noStrike">
                <a:solidFill>
                  <a:srgbClr val="000000"/>
                </a:solidFill>
                <a:latin typeface="Arial Narrow"/>
              </a:rPr>
              <a:t>     מנבאים כוונה לבשר בשורה מרה בעתיד אצל האחיו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0844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08440" indent="-208440" algn="r" rtl="1">
              <a:lnSpc>
                <a:spcPct val="120000"/>
              </a:lnSpc>
              <a:spcBef>
                <a:spcPts val="700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273ee9"/>
                </a:solidFill>
                <a:latin typeface="Arial Narrow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Arial Narrow"/>
              </a:rPr>
              <a:t>ואצל הרופאים, </a:t>
            </a:r>
            <a:r>
              <a:rPr b="1" lang="he-IL" sz="3600" spc="-1" strike="noStrike" u="sng">
                <a:solidFill>
                  <a:srgbClr val="ecebd3"/>
                </a:solidFill>
                <a:uFillTx/>
                <a:latin typeface="Arial Narrow"/>
              </a:rPr>
              <a:t>נורמות סובייקטיביות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e-IL" sz="3600" spc="-1" strike="noStrike" u="sng">
                <a:solidFill>
                  <a:srgbClr val="fdfd3d"/>
                </a:solidFill>
                <a:uFillTx/>
                <a:latin typeface="Arial Narrow"/>
              </a:rPr>
              <a:t>וניסיון קודם</a:t>
            </a:r>
            <a:r>
              <a:rPr b="1" lang="he-IL" sz="2800" spc="-1" strike="noStrike">
                <a:solidFill>
                  <a:srgbClr val="000000"/>
                </a:solidFill>
                <a:latin typeface="Arial Narrow"/>
              </a:rPr>
              <a:t> מנבאים כוונה  לבשר בשורה מרה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0844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מסקנות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19600" indent="-219600" algn="r" rtl="1">
              <a:lnSpc>
                <a:spcPct val="9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הגורמים המשפיעים על רופאים ואחיות  בנושא אמירת אמת למטופל עם מחלה קשה הם אמונות התנהגותיות, עמדות סובייקטיביות וניסיון קודם באמירת אמת בעבר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 algn="r" rtl="1">
              <a:lnSpc>
                <a:spcPct val="9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קיימת בעייתיות רבה בסוגיית אמירת האמת לחולה הנוטה למות הן מצידם של הרופאים והן מצידן של האחיות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המלצות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731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3160" indent="-17316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לקיים הכשרות מקצועיות לרופאים ולאחיות במטרה לשנות אמונות התנהגותיות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73160" indent="-17316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לקיים הדרכה בשדה קליני בצורה שתאפשר לרופאים ואחיות מתמחים להיחשף למצבים בהם רופא ו/או אחות בכירים מעבירים  בשורה מרה למטופל בזמן אמת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73160" indent="-17316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תרגול סימולציות לצוותים מקצועיים בנושא אמירת אמת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36" name="Picture 7" descr="mban117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רקע מדעי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86480" indent="-186480" algn="r" rtl="1">
              <a:lnSpc>
                <a:spcPct val="11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משפט בולט בשבועת היפוקראטס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86480" indent="0" algn="r" rtl="1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הרופא ישמור על חוליו מפני נזק וחוסר צדק"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86480" indent="0" algn="r" rtl="1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86480" indent="0" algn="r" rtl="1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הפרשנות המקובלת של הרופאים הייתה כי בשורה מרה תגרום לנזק ותקצר חייו של המטופל.</a:t>
            </a:r>
            <a:r>
              <a:rPr b="0" lang="he-IL" sz="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רקע מדעי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77480" indent="-177480" algn="r" rtl="1">
              <a:lnSpc>
                <a:spcPct val="11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חוק זכויות החולה שינה את התמונה לחלוטין. החוק קבע שלא יינתן טיפול רפואי למטופל, אלא אם כן נתן המטופל את הסכמתו מדעת בנדון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77480" indent="-177480" algn="r" rtl="1">
              <a:lnSpc>
                <a:spcPct val="11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לצורך קבלת הסכמה מדעת על המטפל למסור למטופל מידע לגבי האבחנה והפרוגנוזה שלו,    גם אם זו בשורה מרה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Object 2"/>
          <p:cNvGraphicFramePr/>
          <p:nvPr/>
        </p:nvGraphicFramePr>
        <p:xfrm>
          <a:off x="539640" y="1413000"/>
          <a:ext cx="836136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8361360" cy="5103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256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600" dir="16200000" blurRad="0" rotWithShape="0">
              <a:srgbClr val="ecebd3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66"/>
                </a:solidFill>
                <a:latin typeface="Arial"/>
              </a:rPr>
              <a:t>    </a:t>
            </a:r>
            <a:br>
              <a:rPr sz="3400"/>
            </a:br>
            <a:r>
              <a:rPr b="1" lang="he-IL" sz="5400" spc="-1" strike="noStrike">
                <a:solidFill>
                  <a:srgbClr val="ff0000"/>
                </a:solidFill>
                <a:latin typeface="Arial"/>
                <a:cs typeface="David"/>
              </a:rPr>
              <a:t>הצוות   הבין   תחומי</a:t>
            </a:r>
            <a:br>
              <a:rPr sz="4800"/>
            </a:br>
            <a:endParaRPr b="1" lang="en-US" sz="5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581040" y="1324080"/>
            <a:ext cx="7772400" cy="48765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30609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fff00"/>
                </a:solidFill>
                <a:latin typeface="Arial"/>
              </a:rPr>
              <a:t>רופאים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he-IL" sz="3800" spc="-1" strike="noStrike">
                <a:solidFill>
                  <a:srgbClr val="ffff00"/>
                </a:solidFill>
                <a:latin typeface="Arial"/>
              </a:rPr>
              <a:t>אחיות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fff00"/>
                </a:solidFill>
                <a:latin typeface="Arial"/>
              </a:rPr>
              <a:t>עובדים סוציאליים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fff00"/>
                </a:solidFill>
                <a:latin typeface="Arial"/>
              </a:rPr>
              <a:t>דיאטנית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fff00"/>
                </a:solidFill>
                <a:latin typeface="Arial"/>
              </a:rPr>
              <a:t>פיזיותרפיסט/ מרפא בעיסוק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fff00"/>
                </a:solidFill>
                <a:latin typeface="Arial"/>
              </a:rPr>
              <a:t>מזכירה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fff00"/>
                </a:solidFill>
                <a:latin typeface="Arial"/>
              </a:rPr>
              <a:t>איש רוח / דת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fff00"/>
                </a:solidFill>
                <a:latin typeface="Arial"/>
              </a:rPr>
              <a:t>מתנדבים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רקע מדעי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60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48680" indent="0" algn="r" rtl="1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he-IL" sz="4800" spc="-1" strike="noStrike">
                <a:solidFill>
                  <a:srgbClr val="000000"/>
                </a:solidFill>
                <a:latin typeface="Arial Narrow"/>
              </a:rPr>
              <a:t>מה  רוצים המטופלים והמשפחות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marL="148680" indent="0" algn="r" rtl="1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Arial Narrow"/>
              </a:rPr>
              <a:t> מספר גדל והולך של מחקרים מעיד כי מטופלים מעוניינים לדעת האמת לגבי מצבם באשר הוא. ברם, רבים מהרופאים והאחיות נמענים מלומר להם אמת זו.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marL="148680" indent="0" algn="r" rtl="1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מטרות המחקר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 algn="r" rtl="1">
              <a:lnSpc>
                <a:spcPct val="11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איתור הגורמים המשפיעים על  הצוות המטפל בקבלת ההחלטה: "למסור או לא למסור בשורה מרה למטופל ?"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 algn="r" rtl="1">
              <a:lnSpc>
                <a:spcPct val="110000"/>
              </a:lnSpc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האם קיים  שוני  בדרכי  קבלת  ההחלטות בין הרופא לבין  האחות?"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8f8f8"/>
                </a:solidFill>
                <a:latin typeface="Impact"/>
              </a:rPr>
              <a:t>מודל תיאורטי</a:t>
            </a:r>
            <a:br>
              <a:rPr sz="5400"/>
            </a:br>
            <a:r>
              <a:rPr b="1" lang="he-IL" sz="4800" spc="-1" strike="noStrike">
                <a:solidFill>
                  <a:srgbClr val="f8f8f8"/>
                </a:solidFill>
                <a:latin typeface="Impact"/>
              </a:rPr>
              <a:t>"ההתנהגות ההגיונית"</a:t>
            </a:r>
            <a:endParaRPr b="1" lang="en-US" sz="4800" spc="-1" strike="noStrike">
              <a:solidFill>
                <a:srgbClr val="f8f8f8"/>
              </a:solidFill>
              <a:latin typeface="Impact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1042920" y="2133720"/>
            <a:ext cx="7848720" cy="3924360"/>
            <a:chOff x="1042920" y="2133720"/>
            <a:chExt cx="7848720" cy="3924360"/>
          </a:xfrm>
        </p:grpSpPr>
        <p:sp>
          <p:nvSpPr>
            <p:cNvPr id="684" name="AutoShape 5"/>
            <p:cNvSpPr/>
            <p:nvPr/>
          </p:nvSpPr>
          <p:spPr>
            <a:xfrm>
              <a:off x="1042920" y="2133720"/>
              <a:ext cx="7848720" cy="39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1042920" y="2490480"/>
              <a:ext cx="7134120" cy="3031920"/>
              <a:chOff x="1042920" y="2490480"/>
              <a:chExt cx="7134120" cy="3031920"/>
            </a:xfrm>
          </p:grpSpPr>
          <p:sp>
            <p:nvSpPr>
              <p:cNvPr id="686" name="Rectangle 7"/>
              <p:cNvSpPr/>
              <p:nvPr/>
            </p:nvSpPr>
            <p:spPr>
              <a:xfrm>
                <a:off x="6215040" y="2490480"/>
                <a:ext cx="1962000" cy="713520"/>
              </a:xfrm>
              <a:prstGeom prst="rect">
                <a:avLst/>
              </a:prstGeom>
              <a:solidFill>
                <a:srgbClr val="b6b5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000" spc="-1" strike="noStrike">
                    <a:solidFill>
                      <a:srgbClr val="000000"/>
                    </a:solidFill>
                    <a:latin typeface="Times New Roman"/>
                    <a:cs typeface="David"/>
                  </a:rPr>
                  <a:t>אמונות </a:t>
                </a: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000" spc="-1" strike="noStrike">
                    <a:solidFill>
                      <a:srgbClr val="000000"/>
                    </a:solidFill>
                    <a:latin typeface="Times New Roman"/>
                    <a:cs typeface="David"/>
                  </a:rPr>
                  <a:t>התנהגותיות</a:t>
                </a: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7" name="Rectangle 8"/>
              <p:cNvSpPr/>
              <p:nvPr/>
            </p:nvSpPr>
            <p:spPr>
              <a:xfrm>
                <a:off x="6215040" y="4809240"/>
                <a:ext cx="1962000" cy="713160"/>
              </a:xfrm>
              <a:prstGeom prst="rect">
                <a:avLst/>
              </a:prstGeom>
              <a:solidFill>
                <a:srgbClr val="cdcb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8" name="Rectangle 9"/>
              <p:cNvSpPr/>
              <p:nvPr/>
            </p:nvSpPr>
            <p:spPr>
              <a:xfrm>
                <a:off x="4074840" y="2490480"/>
                <a:ext cx="1605600" cy="713520"/>
              </a:xfrm>
              <a:prstGeom prst="rect">
                <a:avLst/>
              </a:prstGeom>
              <a:solidFill>
                <a:srgbClr val="8ba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000" spc="-1" strike="noStrike">
                    <a:solidFill>
                      <a:srgbClr val="000000"/>
                    </a:solidFill>
                    <a:latin typeface="Times New Roman"/>
                    <a:cs typeface="David"/>
                  </a:rPr>
                  <a:t>עמדה כלפי ההתנהגות</a:t>
                </a: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9" name="Rectangle 10"/>
              <p:cNvSpPr/>
              <p:nvPr/>
            </p:nvSpPr>
            <p:spPr>
              <a:xfrm>
                <a:off x="3895920" y="4809240"/>
                <a:ext cx="1604160" cy="71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000" spc="-1" strike="noStrike">
                    <a:solidFill>
                      <a:srgbClr val="000000"/>
                    </a:solidFill>
                    <a:latin typeface="Times New Roman"/>
                    <a:cs typeface="David"/>
                  </a:rPr>
                  <a:t>נורמות סובייקטיביות</a:t>
                </a: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0" name="Rectangle 11"/>
              <p:cNvSpPr/>
              <p:nvPr/>
            </p:nvSpPr>
            <p:spPr>
              <a:xfrm>
                <a:off x="2826000" y="3560760"/>
                <a:ext cx="1247760" cy="713160"/>
              </a:xfrm>
              <a:prstGeom prst="rect">
                <a:avLst/>
              </a:prstGeom>
              <a:solidFill>
                <a:srgbClr val="ece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Times New Roman"/>
                    <a:cs typeface="David"/>
                  </a:rPr>
                  <a:t>כוונה התנהגותית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1" name="Rectangle 12"/>
              <p:cNvSpPr/>
              <p:nvPr/>
            </p:nvSpPr>
            <p:spPr>
              <a:xfrm>
                <a:off x="1042920" y="3560760"/>
                <a:ext cx="1246320" cy="654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000000"/>
                    </a:solidFill>
                    <a:latin typeface="Times New Roman"/>
                    <a:cs typeface="David"/>
                  </a:rPr>
                  <a:t>התנהגות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2" name="Line 13"/>
              <p:cNvSpPr/>
              <p:nvPr/>
            </p:nvSpPr>
            <p:spPr>
              <a:xfrm flipH="1">
                <a:off x="5858280" y="2846880"/>
                <a:ext cx="35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3" name="Line 14"/>
              <p:cNvSpPr/>
              <p:nvPr/>
            </p:nvSpPr>
            <p:spPr>
              <a:xfrm flipH="1">
                <a:off x="5680440" y="5166000"/>
                <a:ext cx="53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4" name="Line 15"/>
              <p:cNvSpPr/>
              <p:nvPr/>
            </p:nvSpPr>
            <p:spPr>
              <a:xfrm flipH="1">
                <a:off x="3361320" y="2668680"/>
                <a:ext cx="71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5" name="Line 16"/>
              <p:cNvSpPr/>
              <p:nvPr/>
            </p:nvSpPr>
            <p:spPr>
              <a:xfrm>
                <a:off x="3361680" y="2668680"/>
                <a:ext cx="0" cy="89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6" name="Line 17"/>
              <p:cNvSpPr/>
              <p:nvPr/>
            </p:nvSpPr>
            <p:spPr>
              <a:xfrm flipH="1">
                <a:off x="3361680" y="5166000"/>
                <a:ext cx="534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7" name="Line 18"/>
              <p:cNvSpPr/>
              <p:nvPr/>
            </p:nvSpPr>
            <p:spPr>
              <a:xfrm>
                <a:off x="3361680" y="4273920"/>
                <a:ext cx="0" cy="89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8" name="Line 19"/>
              <p:cNvSpPr/>
              <p:nvPr/>
            </p:nvSpPr>
            <p:spPr>
              <a:xfrm flipH="1">
                <a:off x="2469240" y="3917520"/>
                <a:ext cx="35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99" name="Line 20"/>
            <p:cNvSpPr/>
            <p:nvPr/>
          </p:nvSpPr>
          <p:spPr>
            <a:xfrm>
              <a:off x="4954320" y="36169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700" name="Text Box 24"/>
          <p:cNvSpPr/>
          <p:nvPr/>
        </p:nvSpPr>
        <p:spPr>
          <a:xfrm>
            <a:off x="6156360" y="4797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אמונות סובייקטיביות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1" name="Rectangle 25"/>
          <p:cNvSpPr/>
          <p:nvPr/>
        </p:nvSpPr>
        <p:spPr>
          <a:xfrm>
            <a:off x="1351440" y="6021360"/>
            <a:ext cx="24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1d"/>
                </a:solidFill>
                <a:latin typeface="Arial Narrow"/>
              </a:rPr>
              <a:t>(</a:t>
            </a:r>
            <a:r>
              <a:rPr b="1" lang="en-US" sz="1800" spc="-1" strike="noStrike">
                <a:solidFill>
                  <a:srgbClr val="ffff1d"/>
                </a:solidFill>
                <a:latin typeface="Arial Narrow"/>
              </a:rPr>
              <a:t>Ajzen &amp;  Fishbein, 1980</a:t>
            </a:r>
            <a:r>
              <a:rPr b="1" lang="en-US" sz="1800" spc="-1" strike="noStrike">
                <a:solidFill>
                  <a:srgbClr val="ffff1d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6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8f8f8"/>
                </a:solidFill>
                <a:latin typeface="Impact"/>
              </a:rPr>
              <a:t>שאלות המחקר</a:t>
            </a:r>
            <a:endParaRPr b="1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2960" indent="-19296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האם מודל ההתנהגות ההגיונית מנבא התנהגות בפועל של מסירת בשורה מרה  ע"י רופאים ואחיות 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92960" indent="-19296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האם מודל ההתנהגות ההגיונית מנבא את הכוונה בעתיד למסירת בשורה מרה של רופאים ואחיות 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92960" indent="-192960" algn="r" rtl="1">
              <a:spcBef>
                <a:spcPts val="901"/>
              </a:spcBef>
              <a:buClr>
                <a:srgbClr val="2948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 Narrow"/>
              </a:rPr>
              <a:t>  האם יש שוני בדרכי קבלת ההחלטות בין הרופא לאחות ?</a:t>
            </a:r>
            <a:r>
              <a:rPr b="0" lang="he-I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2:21:31Z</dcterms:created>
  <dc:creator>meraav</dc:creator>
  <dc:description/>
  <dc:language>en-US</dc:language>
  <cp:lastModifiedBy>דורון</cp:lastModifiedBy>
  <dcterms:modified xsi:type="dcterms:W3CDTF">2010-08-17T06:05:21Z</dcterms:modified>
  <cp:revision>40</cp:revision>
  <dc:subject/>
  <dc:title>אמירת אמת למטופל עם מחלה קשה/מקצרת חיים  עמדת רופאים ואחיות בישרא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