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FE9-9582-4B89-AA06-80DEF5F8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159-4E81-44A2-92B9-4D810B8C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38D-7FC2-4E2C-9C9E-756054B4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FC0-330D-4996-808E-C8D62EEB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741-7D5A-430C-A2A9-BD49D30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24A-D872-4502-A739-28116F9C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6A2-F8BC-4A43-9DD5-DC8F03BD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D53-EAAC-4A8B-B086-DE307E4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C7E-F211-441F-B2A0-DA64933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189-1704-4CDF-A206-1CBB67D1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9E2-64C8-438C-8397-04DFA2A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C32-5B1F-4139-8F57-486F3DE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61D-01ED-4018-A485-7EF225286A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ementing  The  Leadership Theory in Geriatric T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507520" cy="326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Garfinkel, M.D. ,T. Sinai, J.Ben-Israel, M.D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hoham Geriatric Medical Cen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SHOH"/>
          <p:cNvPicPr/>
          <p:nvPr/>
        </p:nvPicPr>
        <p:blipFill>
          <a:blip r:embed="rId1"/>
          <a:stretch/>
        </p:blipFill>
        <p:spPr>
          <a:xfrm>
            <a:off x="2916360" y="5086440"/>
            <a:ext cx="4038480" cy="172728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44" name="Text Box 6"/>
          <p:cNvSpPr/>
          <p:nvPr/>
        </p:nvSpPr>
        <p:spPr>
          <a:xfrm>
            <a:off x="0" y="1871640"/>
            <a:ext cx="91440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r Treating a Patients with Severe Disfigur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eadership Theory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Bass 19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idely used in  industrial organizations, much less in medic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ain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1. Group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2 . Re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3. Leadership Modeling (personal example)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250920" y="-31608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 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81080" y="1125360"/>
            <a:ext cx="91440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 62 year old man with Squamous Cell Carcinoma (SCC) - a malignant skin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e SCC was Neglected  so that  large  parts of the  face  were  destroyed  resulting in Severe  Dis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dmited after Suicide Atte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oderate- Severe Congestive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hronic Anemia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(Serum Hemoglobin 4.5 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Preparing a Multi-Disciplinary Team for  a deviat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Overcoming Total Refusal of  the  Staff  to Treat  a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ading a Group Process in the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4838760" y="4797360"/>
          <a:ext cx="390996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4797360"/>
                    <a:ext cx="3909960" cy="2060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HODS - The 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welve  3  hour s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with all staf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d by the Chief Physician &amp; Headnurse, Monitored by the Consultant (Psycholo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ccording to the principles &amp; concepts of Leadership Theory (Group Empowerment,  Reframing, Leadership Model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12 sessions - 8 before,  4 after the patient’s admit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e staff filled in Questionnaires at 5 Crucial points dur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Parameters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. Self e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B. Image of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. Image of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D. Job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actor analyses &amp; multiple reg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4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HODS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285560"/>
            <a:ext cx="8964720" cy="410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19 staff members participated in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process for 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 linear positive  correlation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ime   and all 4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Positive ranking of the process was at i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highest level 4 months after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357200"/>
            <a:ext cx="8964720" cy="481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most  significant finding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65 % of staff  members changed position towards the  patient - from complete refusal  of  all  contact  with the  patient initiall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o regarding him as “family” or “friend”  4 months later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0" y="1125360"/>
            <a:ext cx="868680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adership theory models may serve as effective tools for preparing multidisciplinary teams in long-term care facilities, to cope with difficult pat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rough a group process, team members can significantly improve their attitude towards “difficult to treat” patient, while contributing to increase their own self esteem, job ranking and image of their instit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14:01:07Z</dcterms:created>
  <dc:creator>TalS</dc:creator>
  <dc:description/>
  <dc:language>en-US</dc:language>
  <cp:lastModifiedBy>דורון</cp:lastModifiedBy>
  <dcterms:modified xsi:type="dcterms:W3CDTF">2010-08-17T06:02:49Z</dcterms:modified>
  <cp:revision>19</cp:revision>
  <dc:subject/>
  <dc:title>שקופית 1</dc:title>
</cp:coreProperties>
</file>