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31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30.jpeg" ContentType="image/jpeg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34.jpeg" ContentType="image/jpeg"/>
  <Override PartName="/ppt/media/image4.jpeg" ContentType="image/jpeg"/>
  <Override PartName="/ppt/media/image38.wmf" ContentType="image/x-wmf"/>
  <Override PartName="/ppt/media/image8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10288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9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-36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88584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he-IL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57DDA2-8C05-483D-BFB6-CF9F006DC8C5}" type="slidenum">
              <a:rPr b="0" i="1" lang="he-I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860400" y="851040"/>
            <a:ext cx="513720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10FFC0-ED0A-4F1E-AC0E-0BBA46601CE5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202176-9377-4F68-90A1-AAC5C86B1884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F6148F-F043-450D-AAFB-65091506DB62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C61964-E77D-4F3E-B1AC-A75A14F82CCC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8DFB34-65A8-4F78-B2D1-54EF47686A43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6066B5-BF67-4286-80EF-CA294C18A133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4869A3-C292-47A3-A501-0F184E74BEAE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F4241E-3768-4591-95DA-9C09C753D8DC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860400" y="851040"/>
            <a:ext cx="5137200" cy="3425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410B26-788F-406D-8F71-49111AB083AB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58960" y="85248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325811-9796-4585-9A9B-FD6952C3D995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C711B9-1992-4A28-800F-681C4C167845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60400" y="851040"/>
            <a:ext cx="5137200" cy="3425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D51-89B6-43D6-933E-FD2D9137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043-5B66-40E7-8EA4-23C54F44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6B4-CD95-4E6E-97C8-A0CE646C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DB1-4480-4A44-9CF0-E508413D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616-21EF-477E-B784-CE1BE660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7D2-3670-4824-9B92-28EC764D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722-7F2D-481B-BA84-3D6D0F34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13C-58AB-499D-9567-2FA8E6BC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85560" y="3427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687-B32B-4EF4-8A65-D1B2C35B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A14-43BE-42E0-9F83-1151BEA7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7AB-EF5A-443F-B16A-09B23A0D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4F7-BD11-454C-953D-4F7D3C04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afd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B382-157B-471A-AA7C-B4DDDEF9D52B}" type="slidenum">
              <a:rPr b="0" lang="he-IL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3880"/>
            <a:ext cx="102726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733400"/>
            <a:ext cx="102726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590400" y="52560"/>
            <a:ext cx="141948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50000">
              <a:srgbClr val="fafd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1"/>
          <p:cNvSpPr/>
          <p:nvPr/>
        </p:nvSpPr>
        <p:spPr>
          <a:xfrm>
            <a:off x="114480" y="1676520"/>
            <a:ext cx="10287000" cy="5047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c0128"/>
                </a:solidFill>
                <a:latin typeface="Arial"/>
              </a:rPr>
              <a:t>הרחבת  האופק  הפליאטיבי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Arial"/>
                <a:cs typeface="David"/>
              </a:rPr>
              <a:t>הכינוס  השנתי  של   "</a:t>
            </a:r>
            <a:r>
              <a:rPr b="1" lang="he-IL" sz="7200" spc="-1" strike="noStrike">
                <a:solidFill>
                  <a:srgbClr val="fc0128"/>
                </a:solidFill>
                <a:latin typeface="Arial"/>
                <a:cs typeface="David"/>
              </a:rPr>
              <a:t>תמיכה" </a:t>
            </a:r>
            <a:endParaRPr b="0" lang="en-US" sz="72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Arial"/>
                <a:cs typeface="David"/>
              </a:rPr>
              <a:t>האגודה  הישראלית  לטיפול  תומך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pic>
        <p:nvPicPr>
          <p:cNvPr id="52" name="Picture 15" descr="תמיכה 2"/>
          <p:cNvPicPr/>
          <p:nvPr/>
        </p:nvPicPr>
        <p:blipFill>
          <a:blip r:embed="rId1"/>
          <a:stretch/>
        </p:blipFill>
        <p:spPr>
          <a:xfrm>
            <a:off x="38160" y="-365040"/>
            <a:ext cx="10287000" cy="1888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38160" y="6110280"/>
            <a:ext cx="10287000" cy="106884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80800"/>
                </a:solidFill>
                <a:latin typeface="Arial"/>
                <a:cs typeface="David"/>
              </a:rPr>
              <a:t>יום רביעי, </a:t>
            </a:r>
            <a:r>
              <a:rPr b="1" lang="he-IL" sz="3200" spc="-1" strike="noStrike">
                <a:solidFill>
                  <a:srgbClr val="080800"/>
                </a:solidFill>
                <a:latin typeface="Arial"/>
                <a:ea typeface="David"/>
              </a:rPr>
              <a:t>25</a:t>
            </a:r>
            <a:r>
              <a:rPr b="1" lang="he-IL" sz="3200" spc="-1" strike="noStrike">
                <a:solidFill>
                  <a:srgbClr val="080800"/>
                </a:solidFill>
                <a:latin typeface="Arial"/>
                <a:ea typeface="David"/>
              </a:rPr>
              <a:t> לינואר </a:t>
            </a:r>
            <a:r>
              <a:rPr b="1" lang="he-IL" sz="3200" spc="-1" strike="noStrike">
                <a:solidFill>
                  <a:srgbClr val="080800"/>
                </a:solidFill>
                <a:latin typeface="Arial"/>
                <a:ea typeface="David"/>
              </a:rPr>
              <a:t>2006</a:t>
            </a:r>
            <a:r>
              <a:rPr b="1" lang="he-IL" sz="3200" spc="-1" strike="noStrike">
                <a:solidFill>
                  <a:srgbClr val="080800"/>
                </a:solidFill>
                <a:latin typeface="Arial"/>
                <a:ea typeface="David"/>
              </a:rPr>
              <a:t>, מלון דיוויד אינטרקונטיננטל, תל - אביב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2590920" y="2452680"/>
            <a:ext cx="5143320" cy="16304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20"/>
                </a:solidFill>
                <a:latin typeface="Arial"/>
              </a:rPr>
              <a:t>דר</a:t>
            </a:r>
            <a:r>
              <a:rPr b="1" lang="he-IL" sz="4000" spc="-1" strike="noStrike">
                <a:solidFill>
                  <a:srgbClr val="000020"/>
                </a:solidFill>
                <a:latin typeface="Arial"/>
                <a:ea typeface="Arial"/>
              </a:rPr>
              <a:t>'</a:t>
            </a:r>
            <a:r>
              <a:rPr b="1" lang="he-IL" sz="4000" spc="-1" strike="noStrike">
                <a:solidFill>
                  <a:srgbClr val="000020"/>
                </a:solidFill>
                <a:latin typeface="Arial"/>
              </a:rPr>
              <a:t> דורון גרפינקל</a:t>
            </a: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6200" y="1828800"/>
            <a:ext cx="9820440" cy="2286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c0128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MPAIRED  HEALING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UND  AND  FRACTUR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MPAIRED  IMMUNITY    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ELLULAR  &amp;  HUMOR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 N F E C T I O N 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                   INCREASED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USCEPTIBILIT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OSTEOPOROSIS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&amp; </a:t>
            </a:r>
            <a:r>
              <a:rPr b="1" lang="he-IL" sz="2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OSTEOARTHROSI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4035600"/>
            <a:ext cx="9753480" cy="228564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PARKINSON’S  </a:t>
            </a:r>
            <a:r>
              <a:rPr b="1" lang="he-IL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ISEASE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PRESBYOPIA </a:t>
            </a:r>
            <a:r>
              <a:rPr b="1" lang="he-IL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&amp; </a:t>
            </a:r>
            <a:r>
              <a:rPr b="1" lang="he-IL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PRESBYACUSIS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PROSTATIC </a:t>
            </a:r>
            <a:r>
              <a:rPr b="1" lang="he-IL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HYPERTROPHY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RINARY  INCONTINENCE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85480" y="151920"/>
            <a:ext cx="10115640" cy="12956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c0128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r>
              <a:rPr b="1" lang="he-IL" sz="48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מחלות  ומוגבלויות תלויות בגיל</a:t>
            </a:r>
            <a:r>
              <a:rPr b="1" lang="he-IL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he-IL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(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AGE  ASSOCIATED  DISEASES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2"/>
          <p:cNvGraphicFramePr/>
          <p:nvPr/>
        </p:nvGraphicFramePr>
        <p:xfrm>
          <a:off x="4991040" y="1978200"/>
          <a:ext cx="3772080" cy="46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1040" y="1978200"/>
                    <a:ext cx="3772080" cy="4651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18900000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10287000" cy="685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c0128"/>
                </a:solidFill>
                <a:latin typeface="Arial"/>
                <a:cs typeface="David"/>
              </a:rPr>
              <a:t>הצד ה"רע" של  אריכות  ימים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THE   “BAD  SIDE”  OF   AGING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3581280"/>
            <a:ext cx="1020132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MPAIRED  IMMUNITY                                  INCONTINENCE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OSTEOPOROSIS  &amp;  OSTEOARTHROSIS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2041560"/>
            <a:ext cx="10287000" cy="1463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THEROSCLEROSIS        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 A N C E R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                                          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 E M E N T I A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                                                   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 E P R E S S I O N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0" y="4876920"/>
            <a:ext cx="10287000" cy="1830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ABETES   MELLITUS 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TARACT,       GLAUCOMA,       AMD,   PRESBYOPIA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ARING  LOSS,  PRESBYACUSIS 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STATIC   HYPERTROPHY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KINSON’S  DISEASE,   HYPOTHERMIA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 rot="1304400">
            <a:off x="1395000" y="3401640"/>
            <a:ext cx="754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D  R  U  G  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0" y="1828800"/>
            <a:ext cx="10315440" cy="84855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40186" dir="20503642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afd00"/>
                </a:solidFill>
                <a:latin typeface="Arial"/>
                <a:cs typeface="David"/>
              </a:rPr>
              <a:t>עלייה  </a:t>
            </a: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בשכיחות ובמורכבות של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מחלות "תלויות בגיל"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כרוניות</a:t>
            </a:r>
            <a:r>
              <a:rPr b="1" lang="he-IL" sz="6000" spc="-1" strike="noStrike">
                <a:solidFill>
                  <a:srgbClr val="fafd00"/>
                </a:solidFill>
                <a:latin typeface="Arial"/>
                <a:ea typeface="David"/>
              </a:rPr>
              <a:t>, מגבילות וגורמות סבל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85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38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38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38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47680" y="304560"/>
            <a:ext cx="10267920" cy="685800"/>
          </a:xfrm>
          <a:prstGeom prst="rect">
            <a:avLst/>
          </a:prstGeom>
          <a:noFill/>
          <a:ln w="0">
            <a:noFill/>
          </a:ln>
          <a:effectLst>
            <a:outerShdw dist="28496" dir="697448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POPULATION    BALANCE</a:t>
            </a:r>
            <a:br>
              <a:rPr sz="4800"/>
            </a:br>
            <a:r>
              <a:rPr b="1" lang="he-IL" sz="4800" spc="-1" strike="noStrike">
                <a:solidFill>
                  <a:srgbClr val="fc0128"/>
                </a:solidFill>
                <a:latin typeface="Arial"/>
                <a:cs typeface="Arial"/>
              </a:rPr>
              <a:t>איזון  בין תת אוכלוסיות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0" y="1214280"/>
          <a:ext cx="102855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4280"/>
                    <a:ext cx="102855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Line 4"/>
          <p:cNvSpPr/>
          <p:nvPr/>
        </p:nvSpPr>
        <p:spPr>
          <a:xfrm>
            <a:off x="2486160" y="1905120"/>
            <a:ext cx="0" cy="4114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486400" y="6172200"/>
            <a:ext cx="85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37184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257640" y="6156360"/>
            <a:ext cx="102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515280" y="6172200"/>
            <a:ext cx="154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000240" y="1965240"/>
            <a:ext cx="3257640" cy="13114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ANCIENT</a:t>
            </a: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ROME</a:t>
            </a: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486160" y="1562040"/>
            <a:ext cx="561960" cy="1866960"/>
          </a:xfrm>
          <a:prstGeom prst="rtTriangle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2486160" y="3429000"/>
            <a:ext cx="514080" cy="259092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152280" y="3184560"/>
            <a:ext cx="274320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8160" y="6181560"/>
            <a:ext cx="3581280" cy="519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476440" y="2895480"/>
            <a:ext cx="77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000240" y="5410080"/>
            <a:ext cx="2143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44" name="Freeform 16"/>
          <p:cNvSpPr/>
          <p:nvPr/>
        </p:nvSpPr>
        <p:spPr>
          <a:xfrm>
            <a:off x="5829480" y="5715000"/>
            <a:ext cx="1904760" cy="30492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30" h="169">
                <a:moveTo>
                  <a:pt x="0" y="0"/>
                </a:moveTo>
                <a:lnTo>
                  <a:pt x="0" y="168"/>
                </a:lnTo>
                <a:lnTo>
                  <a:pt x="1029" y="168"/>
                </a:lnTo>
                <a:lnTo>
                  <a:pt x="996" y="150"/>
                </a:lnTo>
                <a:lnTo>
                  <a:pt x="447" y="132"/>
                </a:lnTo>
                <a:lnTo>
                  <a:pt x="0" y="15"/>
                </a:lnTo>
              </a:path>
            </a:pathLst>
          </a:custGeom>
          <a:solidFill>
            <a:srgbClr val="00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3"/>
          <p:cNvGraphicFramePr/>
          <p:nvPr/>
        </p:nvGraphicFramePr>
        <p:xfrm>
          <a:off x="-20520" y="1219320"/>
          <a:ext cx="1025028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219320"/>
                    <a:ext cx="1025028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4"/>
          <p:cNvSpPr/>
          <p:nvPr/>
        </p:nvSpPr>
        <p:spPr>
          <a:xfrm>
            <a:off x="6819840" y="6095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5211720" y="609588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514680" y="608004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8298000" y="609588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438280" y="1447920"/>
            <a:ext cx="905040" cy="451476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586320" y="2452680"/>
            <a:ext cx="204588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2 0 0 0</a:t>
            </a: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7429680" y="4876920"/>
            <a:ext cx="1114200" cy="10508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8143920" y="5562720"/>
            <a:ext cx="1800360" cy="3808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2486160" y="1905120"/>
            <a:ext cx="771480" cy="75960"/>
          </a:xfrm>
          <a:prstGeom prst="rtTriangle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44360" y="3032280"/>
            <a:ext cx="225612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-38160" y="6172200"/>
            <a:ext cx="3343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3583080" y="3352680"/>
            <a:ext cx="2830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2657520" y="2422440"/>
            <a:ext cx="428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ILDREN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47680" y="304560"/>
            <a:ext cx="10267920" cy="685800"/>
          </a:xfrm>
          <a:prstGeom prst="rect">
            <a:avLst/>
          </a:prstGeom>
          <a:noFill/>
          <a:ln w="0">
            <a:noFill/>
          </a:ln>
          <a:effectLst>
            <a:outerShdw dist="28496" dir="697448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POPULATION    BALANCE</a:t>
            </a:r>
            <a:br>
              <a:rPr sz="4800"/>
            </a:br>
            <a:r>
              <a:rPr b="1" lang="he-IL" sz="4800" spc="-1" strike="noStrike">
                <a:solidFill>
                  <a:srgbClr val="fc0128"/>
                </a:solidFill>
                <a:latin typeface="Arial"/>
              </a:rPr>
              <a:t>איזון  בין תת אוכלוסיות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3"/>
          <p:cNvGraphicFramePr/>
          <p:nvPr/>
        </p:nvGraphicFramePr>
        <p:xfrm>
          <a:off x="0" y="1389240"/>
          <a:ext cx="10248840" cy="53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9240"/>
                    <a:ext cx="1024884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4"/>
          <p:cNvSpPr/>
          <p:nvPr/>
        </p:nvSpPr>
        <p:spPr>
          <a:xfrm>
            <a:off x="685800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211720" y="617220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514680" y="615636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8298000" y="617220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772080" y="3200400"/>
            <a:ext cx="3257280" cy="143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21 st.</a:t>
            </a: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CENTURY</a:t>
            </a: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297360" y="3260880"/>
            <a:ext cx="218160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3687840" y="2743200"/>
            <a:ext cx="229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3086280" y="0"/>
            <a:ext cx="35049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Garfinkel  D., 1997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2743200" y="2422440"/>
            <a:ext cx="428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ILDREN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7507440" y="4495680"/>
            <a:ext cx="2320920" cy="45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2840" y="228240"/>
            <a:ext cx="10115640" cy="1523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afd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GERIATRIC  BOOM  CATASTROPH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5570640" y="547560"/>
            <a:ext cx="4570200" cy="8251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B U R D E N</a:t>
            </a: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0" y="2666880"/>
          <a:ext cx="28954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2895480" cy="1905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7" name="Object 3"/>
          <p:cNvGraphicFramePr/>
          <p:nvPr/>
        </p:nvGraphicFramePr>
        <p:xfrm>
          <a:off x="-38160" y="4267080"/>
          <a:ext cx="4457880" cy="24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8160" y="4267080"/>
                    <a:ext cx="4457880" cy="2438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5560" cy="114300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LOBAL  BURDEN  OF  CANCER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0080" y="1066320"/>
            <a:ext cx="10199880" cy="449604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00002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EW  CASES  OF  CANCER  WORLDWID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( in millions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Arial"/>
              </a:rPr>
              <a:t>במיליונים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Arial"/>
              </a:rPr>
              <a:t>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75                      5.9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80                      6.4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85                      7.6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90                      8.4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2000                 10.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Arial"/>
              </a:rPr>
              <a:t>               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30200" y="1600200"/>
            <a:ext cx="9340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bfbff"/>
                </a:solidFill>
                <a:latin typeface="Arial"/>
                <a:cs typeface="David"/>
              </a:rPr>
              <a:t>מקרים חדשים של סרטן בכל העולם</a:t>
            </a: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10287000" cy="12956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Number of Hip Fractures Annually</a:t>
            </a:r>
            <a:br>
              <a:rPr sz="4200"/>
            </a:br>
            <a:r>
              <a:rPr b="1" lang="he-IL" sz="4200" spc="-1" strike="noStrike">
                <a:solidFill>
                  <a:srgbClr val="ffffff"/>
                </a:solidFill>
                <a:latin typeface="Arial"/>
                <a:cs typeface="Arial"/>
              </a:rPr>
              <a:t>מספר  שברים בפרק  הירך  בשנה</a:t>
            </a:r>
            <a:r>
              <a:rPr b="1" lang="en-US" sz="4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60480" y="1066680"/>
          <a:ext cx="1022652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1066680"/>
                    <a:ext cx="1022652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4"/>
          <p:cNvSpPr/>
          <p:nvPr/>
        </p:nvSpPr>
        <p:spPr>
          <a:xfrm>
            <a:off x="10115640" y="1905120"/>
            <a:ext cx="0" cy="419076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1905120"/>
            <a:ext cx="18972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1d58"/>
                </a:solidFill>
                <a:latin typeface="Arial"/>
              </a:rPr>
              <a:t>No.</a:t>
            </a: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(x 1000)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705720" y="3505320"/>
            <a:ext cx="1784160" cy="9169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USA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8077320" y="5029200"/>
            <a:ext cx="100620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UK</a:t>
            </a: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429000" y="5791320"/>
            <a:ext cx="99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8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5111280" y="5791320"/>
            <a:ext cx="851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200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8845200" y="5867280"/>
            <a:ext cx="851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205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3"/>
          <p:cNvGraphicFramePr/>
          <p:nvPr/>
        </p:nvGraphicFramePr>
        <p:xfrm>
          <a:off x="114480" y="911160"/>
          <a:ext cx="1022652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911160"/>
                    <a:ext cx="1022652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Line 4"/>
          <p:cNvSpPr/>
          <p:nvPr/>
        </p:nvSpPr>
        <p:spPr>
          <a:xfrm>
            <a:off x="10115640" y="1905120"/>
            <a:ext cx="0" cy="419076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1905120"/>
            <a:ext cx="18288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1d58"/>
                </a:solidFill>
                <a:latin typeface="Arial"/>
              </a:rPr>
              <a:t>No.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1d58"/>
                </a:solidFill>
                <a:latin typeface="Arial"/>
              </a:rPr>
              <a:t>x 10</a:t>
            </a:r>
            <a:r>
              <a:rPr b="1" lang="en-US" sz="5400" spc="-1" strike="noStrike" baseline="30000">
                <a:solidFill>
                  <a:srgbClr val="081d58"/>
                </a:solidFill>
                <a:latin typeface="Arial"/>
              </a:rPr>
              <a:t>6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886200" y="3886200"/>
            <a:ext cx="1784520" cy="9169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USA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876920" y="5105520"/>
            <a:ext cx="9144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UK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 rot="19962600">
            <a:off x="5262480" y="2057400"/>
            <a:ext cx="3462480" cy="463680"/>
          </a:xfrm>
          <a:prstGeom prst="rightArrow">
            <a:avLst>
              <a:gd name="adj1" fmla="val 15000"/>
              <a:gd name="adj2" fmla="val 191456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 rot="20915400">
            <a:off x="5450040" y="4571640"/>
            <a:ext cx="3122640" cy="306360"/>
          </a:xfrm>
          <a:prstGeom prst="rightArrow">
            <a:avLst>
              <a:gd name="adj1" fmla="val 15000"/>
              <a:gd name="adj2" fmla="val 261330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3048120" y="5791320"/>
            <a:ext cx="122868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8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4724280" y="5791320"/>
            <a:ext cx="121932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200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7854840" y="5791320"/>
            <a:ext cx="851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205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8001000" y="4952880"/>
            <a:ext cx="10666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UK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7810560" y="3565440"/>
            <a:ext cx="1447920" cy="70344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USA</a:t>
            </a: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14480" y="6172200"/>
            <a:ext cx="1028700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lobaly, estimate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f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24.3 million peopl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i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dementia will double every 20 years, to 81.1 million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2040 (one new case every 7 seconds)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171360" y="987480"/>
            <a:ext cx="10115640" cy="137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בעולם כולו, המספר המשוער של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24.3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מיליון אנשים עם שיטיון, יכפיל עצמו כל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20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שנה  עד ל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-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81.1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מיליון בשנת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2040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(מקרה חדש מאובחן כל 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7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שניות)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240" y="-76680"/>
            <a:ext cx="997272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Number of Patients with Dementia</a:t>
            </a:r>
            <a:br>
              <a:rPr sz="4200"/>
            </a:br>
            <a:r>
              <a:rPr b="1" lang="he-IL" sz="4200" spc="-1" strike="noStrike">
                <a:solidFill>
                  <a:srgbClr val="ffffff"/>
                </a:solidFill>
                <a:latin typeface="Arial"/>
              </a:rPr>
              <a:t>מספר  החולים עם שיטיון  בשנה</a:t>
            </a:r>
            <a:endParaRPr b="0" lang="en-US" sz="42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50000">
              <a:srgbClr val="0033cc"/>
            </a:gs>
            <a:gs pos="100000">
              <a:srgbClr val="0000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0287000" cy="9144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LOBAL  BURDEN OF DISEASE</a:t>
            </a:r>
            <a:br>
              <a:rPr sz="4400"/>
            </a:b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Arial"/>
              </a:rPr>
              <a:t>הנטל  העולמי  של  התחלואה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1752480"/>
            <a:ext cx="1013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0" y="1876320"/>
            <a:ext cx="100584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cs typeface="David"/>
              </a:rPr>
              <a:t>הברכה העתיקה "בריאות ואריכות ימים..."    כבר    אינה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 תופסת     בדורנו       כיוון   שהזדקנות  קשורה בעלייה בשכיחות ומורכבות  מחלות כרוניות  מגבילות.                                     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cs typeface="David"/>
              </a:rPr>
              <a:t>העלייה הגדולה "נטו" בהיוותרות  בחיים מתורגמת  בסופו של  דבר  ליותר  שנים של תפקוד לקוי - גופני, מנטלי וחברתי. 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8160" y="3429000"/>
            <a:ext cx="10058400" cy="155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80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בערך  חצי  מהשנים שנותרו  לאנשים בגיל 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65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 -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74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 (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12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 -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24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 שנה) יהיו קשורות במוגבלות כלשהי ובסבל להם ולמשפחתם</a:t>
            </a:r>
            <a:r>
              <a:rPr b="0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.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-152280" y="4800600"/>
            <a:ext cx="10210680" cy="218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7"/>
                </a:solidFill>
                <a:latin typeface="Arial"/>
                <a:ea typeface="David"/>
              </a:rPr>
              <a:t>                בארה"ב,</a:t>
            </a:r>
            <a:r>
              <a:rPr b="1" lang="en-US" sz="3200" spc="-1" strike="noStrike">
                <a:solidFill>
                  <a:srgbClr val="fffff7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ffff7"/>
                </a:solidFill>
                <a:latin typeface="Arial"/>
                <a:cs typeface="David"/>
              </a:rPr>
              <a:t>מספר האנשים שהיו  בבתי  אבות  סיעודיים</a:t>
            </a:r>
            <a:r>
              <a:rPr b="1" lang="he-IL" sz="3200" spc="-1" strike="noStrike">
                <a:solidFill>
                  <a:srgbClr val="fffff7"/>
                </a:solidFill>
                <a:latin typeface="Arial"/>
                <a:ea typeface="David"/>
              </a:rPr>
              <a:t> </a:t>
            </a:r>
            <a:r>
              <a:rPr b="1" lang="en-US" sz="3200" spc="-1" strike="noStrike">
                <a:solidFill>
                  <a:srgbClr val="fffff7"/>
                </a:solidFill>
                <a:latin typeface="Arial"/>
                <a:ea typeface="David"/>
              </a:rPr>
              <a:t>         </a:t>
            </a:r>
            <a:r>
              <a:rPr b="1" lang="en-US" sz="2800" spc="-1" strike="noStrike">
                <a:solidFill>
                  <a:srgbClr val="fffff7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ffff7"/>
                </a:solidFill>
                <a:latin typeface="Arial"/>
                <a:ea typeface="David"/>
              </a:rPr>
              <a:t> (</a:t>
            </a:r>
            <a:r>
              <a:rPr b="1" lang="en-US" sz="2400" spc="-1" strike="noStrike">
                <a:solidFill>
                  <a:srgbClr val="fffff7"/>
                </a:solidFill>
                <a:latin typeface="Arial"/>
                <a:ea typeface="David"/>
              </a:rPr>
              <a:t>NURSING HOMES</a:t>
            </a:r>
            <a:r>
              <a:rPr b="1" lang="he-IL" sz="2800" spc="-1" strike="noStrike">
                <a:solidFill>
                  <a:srgbClr val="fffff7"/>
                </a:solidFill>
                <a:latin typeface="Arial"/>
                <a:ea typeface="David"/>
              </a:rPr>
              <a:t>) </a:t>
            </a:r>
            <a:r>
              <a:rPr b="1" lang="he-IL" sz="3200" spc="-1" strike="noStrike">
                <a:solidFill>
                  <a:srgbClr val="fffff7"/>
                </a:solidFill>
                <a:latin typeface="Arial"/>
                <a:cs typeface="David"/>
              </a:rPr>
              <a:t>ב - </a:t>
            </a:r>
            <a:r>
              <a:rPr b="1" lang="he-IL" sz="3200" spc="-1" strike="noStrike">
                <a:solidFill>
                  <a:srgbClr val="fffff7"/>
                </a:solidFill>
                <a:latin typeface="Arial"/>
                <a:ea typeface="David"/>
              </a:rPr>
              <a:t>1985</a:t>
            </a:r>
            <a:r>
              <a:rPr b="1" lang="he-IL" sz="3200" spc="-1" strike="noStrike">
                <a:solidFill>
                  <a:srgbClr val="fffff7"/>
                </a:solidFill>
                <a:latin typeface="Arial"/>
                <a:ea typeface="David"/>
              </a:rPr>
              <a:t> היה  </a:t>
            </a:r>
            <a:r>
              <a:rPr b="1" lang="he-IL" sz="3200" spc="-1" strike="noStrike">
                <a:solidFill>
                  <a:srgbClr val="fffff7"/>
                </a:solidFill>
                <a:latin typeface="Arial"/>
                <a:ea typeface="David"/>
              </a:rPr>
              <a:t>1.1</a:t>
            </a:r>
            <a:r>
              <a:rPr b="1" lang="he-IL" sz="3200" spc="-1" strike="noStrike">
                <a:solidFill>
                  <a:srgbClr val="fffff7"/>
                </a:solidFill>
                <a:latin typeface="Arial"/>
                <a:ea typeface="David"/>
              </a:rPr>
              <a:t>  מיליון.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7"/>
                </a:solidFill>
                <a:latin typeface="Arial"/>
                <a:ea typeface="David"/>
              </a:rPr>
              <a:t> המספר </a:t>
            </a:r>
            <a:r>
              <a:rPr b="1" lang="he-IL" sz="3200" spc="-1" strike="noStrike" u="sng">
                <a:solidFill>
                  <a:srgbClr val="fffff7"/>
                </a:solidFill>
                <a:uFillTx/>
                <a:latin typeface="Arial"/>
                <a:cs typeface="David"/>
              </a:rPr>
              <a:t>הוכפל בשנת </a:t>
            </a:r>
            <a:r>
              <a:rPr b="1" lang="he-IL" sz="3200" spc="-1" strike="noStrike" u="sng">
                <a:solidFill>
                  <a:srgbClr val="fffff7"/>
                </a:solidFill>
                <a:uFillTx/>
                <a:latin typeface="Arial"/>
                <a:ea typeface="David"/>
              </a:rPr>
              <a:t>2000</a:t>
            </a:r>
            <a:r>
              <a:rPr b="1" lang="he-IL" sz="2800" spc="-1" strike="noStrike">
                <a:solidFill>
                  <a:srgbClr val="fffff7"/>
                </a:solidFill>
                <a:latin typeface="Arial"/>
                <a:ea typeface="David"/>
              </a:rPr>
              <a:t>  ויגיע  ב </a:t>
            </a:r>
            <a:r>
              <a:rPr b="1" lang="en-US" sz="2800" spc="-1" strike="noStrike">
                <a:solidFill>
                  <a:srgbClr val="fffff7"/>
                </a:solidFill>
                <a:latin typeface="Arial"/>
                <a:ea typeface="David"/>
              </a:rPr>
              <a:t> -</a:t>
            </a:r>
            <a:r>
              <a:rPr b="1" lang="he-IL" sz="2800" spc="-1" strike="noStrike">
                <a:solidFill>
                  <a:srgbClr val="fffff7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ffff7"/>
                </a:solidFill>
                <a:latin typeface="Arial"/>
                <a:ea typeface="David"/>
              </a:rPr>
              <a:t>2050</a:t>
            </a:r>
            <a:r>
              <a:rPr b="1" lang="he-IL" sz="2800" spc="-1" strike="noStrike">
                <a:solidFill>
                  <a:srgbClr val="fffff7"/>
                </a:solidFill>
                <a:latin typeface="Arial"/>
                <a:ea typeface="David"/>
              </a:rPr>
              <a:t>   ל - </a:t>
            </a:r>
            <a:r>
              <a:rPr b="1" lang="he-IL" sz="3200" spc="-1" strike="noStrike" u="sng">
                <a:solidFill>
                  <a:srgbClr val="fffff7"/>
                </a:solidFill>
                <a:uFillTx/>
                <a:latin typeface="Arial"/>
                <a:ea typeface="David"/>
              </a:rPr>
              <a:t>5.5</a:t>
            </a:r>
            <a:r>
              <a:rPr b="1" lang="he-IL" sz="2800" spc="-1" strike="noStrike">
                <a:solidFill>
                  <a:srgbClr val="fffff7"/>
                </a:solidFill>
                <a:latin typeface="Arial"/>
                <a:ea typeface="David"/>
              </a:rPr>
              <a:t> מליון</a:t>
            </a:r>
            <a:r>
              <a:rPr b="1" lang="he-IL" sz="2400" spc="-1" strike="noStrike">
                <a:solidFill>
                  <a:srgbClr val="fffff7"/>
                </a:solidFill>
                <a:latin typeface="Arial"/>
              </a:rPr>
              <a:t>! 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8160" y="1876320"/>
            <a:ext cx="10058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cs typeface="David"/>
              </a:rPr>
              <a:t>הברכה העתיקה "בריאות ואריכות ימים..."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647640" y="-360"/>
            <a:ext cx="11049120" cy="11430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ABILITY ADJUSTED LIFE YEA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DALY)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3475080"/>
            <a:ext cx="7142040" cy="414504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8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rebrovascular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Disease - Stroke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8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hronic Obstructive  Lung  Disease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8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ower  Respiratory  Infection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8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uberculosi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8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War  Injurie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arrheal  Disease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80880" y="868320"/>
            <a:ext cx="9906120" cy="579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afd00"/>
                </a:solidFill>
                <a:uFillTx/>
                <a:latin typeface="Arial"/>
                <a:ea typeface="Levenim MT"/>
              </a:rPr>
              <a:t>LEADING  CAUSES  IN 2020 (Excluding Cancer)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  <a:ea typeface="Levenim MT"/>
              </a:rPr>
              <a:t>  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graphicFrame>
        <p:nvGraphicFramePr>
          <p:cNvPr id="217" name="Object 5"/>
          <p:cNvGraphicFramePr/>
          <p:nvPr/>
        </p:nvGraphicFramePr>
        <p:xfrm>
          <a:off x="7962840" y="4572000"/>
          <a:ext cx="1852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4572000"/>
                    <a:ext cx="1852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6"/>
          <p:cNvSpPr/>
          <p:nvPr/>
        </p:nvSpPr>
        <p:spPr>
          <a:xfrm>
            <a:off x="457200" y="1951200"/>
            <a:ext cx="8420040" cy="2159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schemic  Heart  Disease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jor  Depression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oad-Traffic   Accidents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spcBef>
                <a:spcPts val="1874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graphicFrame>
        <p:nvGraphicFramePr>
          <p:cNvPr id="220" name="Object 7"/>
          <p:cNvGraphicFramePr/>
          <p:nvPr/>
        </p:nvGraphicFramePr>
        <p:xfrm>
          <a:off x="8021520" y="3497400"/>
          <a:ext cx="1737000" cy="17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21520" y="3497400"/>
                    <a:ext cx="1737000" cy="1760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99192" dir="13818056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20"/>
          <p:cNvSpPr/>
          <p:nvPr/>
        </p:nvSpPr>
        <p:spPr>
          <a:xfrm>
            <a:off x="8286840" y="4006800"/>
            <a:ext cx="1200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Levenim MT"/>
              </a:rPr>
              <a:t>2020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5676840" y="19810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&gt;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20 000 000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 rot="19929000">
            <a:off x="-456480" y="3641400"/>
            <a:ext cx="11163240" cy="70344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203430" dir="16413063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FFERING ADJUSTED LIFE YEARS ?</a:t>
            </a: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009960" y="5410080"/>
          <a:ext cx="7288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5410080"/>
                    <a:ext cx="7288200" cy="1447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63504" dir="13016092" blurRad="0" rotWithShape="0">
                      <a:srgbClr val="000020"/>
                    </a:outerShdw>
                  </a:effectLst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ALLIATIVE CARE</a:t>
            </a:r>
            <a:r>
              <a:rPr b="1" lang="he-IL" sz="5400" spc="-1" strike="noStrike">
                <a:solidFill>
                  <a:srgbClr val="ff0000"/>
                </a:solidFill>
                <a:latin typeface="Arial"/>
                <a:cs typeface="Arial"/>
              </a:rPr>
              <a:t>טיפול תומך</a:t>
            </a:r>
            <a:r>
              <a:rPr b="1" lang="he-IL" sz="5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5400"/>
            </a:br>
            <a:r>
              <a:rPr b="1" lang="he-IL" sz="5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OLD DEFINITION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.H.O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.)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he-IL" sz="4800" spc="-1" strike="noStrike" u="sng">
                <a:solidFill>
                  <a:srgbClr val="fafd00"/>
                </a:solidFill>
                <a:uFillTx/>
                <a:latin typeface="Arial"/>
                <a:cs typeface="David"/>
              </a:rPr>
              <a:t>הגדרה  ישנה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240" y="1379520"/>
            <a:ext cx="10199520" cy="357336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t">
            <a:normAutofit fontScale="82000"/>
          </a:bodyPr>
          <a:p>
            <a:pPr marL="281160" indent="-281160" algn="ctr"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 algn="ctr">
              <a:lnSpc>
                <a:spcPct val="10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00"/>
                </a:solidFill>
                <a:latin typeface="Arial"/>
                <a:cs typeface="David"/>
              </a:rPr>
              <a:t>הטיפול הפעיל הכוללני של  חולים  שמחלתם אינה מגיבה לטיפול  מרפא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 algn="ctr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 Active  Total  Care  of  Patients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ose  Disease  is  Not  Responsiv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   Curative  Treatmen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50000">
              <a:srgbClr val="fafd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4480" y="76320"/>
            <a:ext cx="10287000" cy="86184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600" spc="-1" strike="noStrike">
                <a:solidFill>
                  <a:srgbClr val="fc0128"/>
                </a:solidFill>
                <a:latin typeface="Arial"/>
              </a:rPr>
              <a:t>הרחבת  האופק  הפליאטיבי</a:t>
            </a:r>
            <a:endParaRPr b="0" lang="en-US" sz="5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0" y="990720"/>
            <a:ext cx="10248840" cy="2104920"/>
          </a:xfrm>
          <a:prstGeom prst="rect">
            <a:avLst/>
          </a:prstGeom>
          <a:solidFill>
            <a:srgbClr val="fc0128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מדוע  עולה  הנושא  בתקופתנו ?</a:t>
            </a:r>
            <a:r>
              <a:rPr b="1" lang="en-US" sz="66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-114480" y="1828800"/>
            <a:ext cx="10287360" cy="327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lnSpc>
                <a:spcPct val="5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20"/>
                </a:solidFill>
                <a:latin typeface="Arial"/>
                <a:cs typeface="David"/>
              </a:rPr>
              <a:t>סיבה ראשונה: השינוי הדמוגרפי - 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20"/>
                </a:solidFill>
                <a:latin typeface="Arial"/>
                <a:cs typeface="David"/>
              </a:rPr>
              <a:t>הארכת תוחלת החיים הממוצעת </a:t>
            </a: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8160" y="3505320"/>
            <a:ext cx="10287000" cy="371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fc0128"/>
                </a:solidFill>
                <a:uFillTx/>
                <a:latin typeface="Arial"/>
                <a:cs typeface="David"/>
              </a:rPr>
              <a:t>הגורם  העיקרי</a:t>
            </a:r>
            <a:r>
              <a:rPr b="1" lang="he-IL" sz="6600" spc="-1" strike="noStrike">
                <a:solidFill>
                  <a:srgbClr val="fc0128"/>
                </a:solidFill>
                <a:latin typeface="Arial"/>
                <a:ea typeface="David"/>
              </a:rPr>
              <a:t>: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Arial"/>
                <a:ea typeface="David"/>
              </a:rPr>
              <a:t> </a:t>
            </a:r>
            <a:r>
              <a:rPr b="1" lang="he-IL" sz="6600" spc="-1" strike="noStrike">
                <a:solidFill>
                  <a:srgbClr val="fc0128"/>
                </a:solidFill>
                <a:latin typeface="Arial"/>
                <a:cs typeface="David"/>
              </a:rPr>
              <a:t>השיפור בטכנולוגיה הרפואית</a:t>
            </a:r>
            <a:r>
              <a:rPr b="1" lang="he-IL" sz="6600" spc="-1" strike="noStrike">
                <a:solidFill>
                  <a:srgbClr val="000020"/>
                </a:solidFill>
                <a:latin typeface="Arial"/>
                <a:ea typeface="David"/>
              </a:rPr>
              <a:t> 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50000">
              <a:srgbClr val="0033cc"/>
            </a:gs>
            <a:gs pos="100000">
              <a:srgbClr val="0000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Object 9"/>
          <p:cNvGraphicFramePr/>
          <p:nvPr/>
        </p:nvGraphicFramePr>
        <p:xfrm>
          <a:off x="3162240" y="5175360"/>
          <a:ext cx="3581640" cy="16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2240" y="5175360"/>
                    <a:ext cx="3581640" cy="169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1" name="Object 24"/>
          <p:cNvGraphicFramePr/>
          <p:nvPr/>
        </p:nvGraphicFramePr>
        <p:xfrm>
          <a:off x="4915080" y="4791240"/>
          <a:ext cx="990360" cy="12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15080" y="4791240"/>
                    <a:ext cx="990360" cy="1228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cece"/>
                    </a:outerShdw>
                  </a:effectLst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744040" cy="198144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234" name="Object 7"/>
          <p:cNvGraphicFramePr/>
          <p:nvPr/>
        </p:nvGraphicFramePr>
        <p:xfrm>
          <a:off x="495360" y="1981080"/>
          <a:ext cx="2057400" cy="175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360" y="1981080"/>
                    <a:ext cx="205740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600" dir="5400000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pic>
        <p:nvPicPr>
          <p:cNvPr id="236" name="Object 8" descr=""/>
          <p:cNvPicPr/>
          <p:nvPr/>
        </p:nvPicPr>
        <p:blipFill>
          <a:blip r:embed="rId7"/>
          <a:stretch/>
        </p:blipFill>
        <p:spPr>
          <a:xfrm>
            <a:off x="6438960" y="1676520"/>
            <a:ext cx="3848040" cy="231912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</p:pic>
      <p:sp>
        <p:nvSpPr>
          <p:cNvPr id="237" name="Text Box 10"/>
          <p:cNvSpPr/>
          <p:nvPr/>
        </p:nvSpPr>
        <p:spPr>
          <a:xfrm>
            <a:off x="38160" y="3124080"/>
            <a:ext cx="10134720" cy="2850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200" spc="-1" strike="noStrike">
                <a:solidFill>
                  <a:srgbClr val="fafd00"/>
                </a:solidFill>
                <a:latin typeface="Arial"/>
                <a:cs typeface="David"/>
              </a:rPr>
              <a:t>עליה נוספת בפלח האוכלוסייה עם תחלואה כרונית 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הגורמת מוגבלות, 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ריתוק למיטה וסבל</a:t>
            </a:r>
            <a:r>
              <a:rPr b="1" lang="he-IL" sz="4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114480" y="-228600"/>
            <a:ext cx="10287000" cy="278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afd00"/>
                </a:solidFill>
                <a:latin typeface="Arial"/>
                <a:cs typeface="David"/>
              </a:rPr>
              <a:t>השיפור בטכנולוגיה הרפואית </a:t>
            </a:r>
            <a:endParaRPr b="0" lang="en-US" sz="7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114480" y="1600200"/>
            <a:ext cx="10172520" cy="126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טיפול יעיל יותר במחלות אקוטיות, יותר שורדים וממשיכים לחיות 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4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50000">
              <a:srgbClr val="fafd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-114480" y="-228600"/>
            <a:ext cx="10820520" cy="95868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3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600" spc="-1" strike="noStrike">
                <a:solidFill>
                  <a:srgbClr val="fc0128"/>
                </a:solidFill>
                <a:latin typeface="Arial"/>
              </a:rPr>
              <a:t>הרחבת  האופק  הפליאטיבי </a:t>
            </a:r>
            <a:endParaRPr b="0" lang="en-US" sz="5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76320" y="457200"/>
            <a:ext cx="1024884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d01e5"/>
                </a:solidFill>
                <a:latin typeface="Arial"/>
                <a:cs typeface="David"/>
              </a:rPr>
              <a:t>גם בילדים!  ועוד לפני הלידה?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pic>
        <p:nvPicPr>
          <p:cNvPr id="242" name="Picture 10" descr="medicine003[1]"/>
          <p:cNvPicPr/>
          <p:nvPr/>
        </p:nvPicPr>
        <p:blipFill>
          <a:blip r:embed="rId1"/>
          <a:stretch/>
        </p:blipFill>
        <p:spPr>
          <a:xfrm>
            <a:off x="0" y="3657600"/>
            <a:ext cx="10325160" cy="32590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-114480" y="1355760"/>
            <a:ext cx="10287360" cy="36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גם בקצה האחר של תחילת  החיים ואפילו  לפני הלידה,         מאפשרת הרפואה מימוש הריונות שלא הגיעו לסיום בעבר, הפריות מבחנה  עם  הריון  מרובה  עוברים  וכתוצאה - </a:t>
            </a:r>
            <a:r>
              <a:rPr b="1" lang="he-IL" sz="4000" spc="-1" strike="noStrike">
                <a:solidFill>
                  <a:srgbClr val="fc0128"/>
                </a:solidFill>
                <a:latin typeface="Arial"/>
                <a:cs typeface="David"/>
              </a:rPr>
              <a:t>הגדלת אוכלוסיית  הפגים  במשקל  לידה  נמוך  מאד. </a:t>
            </a: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50000">
              <a:srgbClr val="fafd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-114480" y="-228600"/>
            <a:ext cx="10820520" cy="95868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3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600" spc="-1" strike="noStrike">
                <a:solidFill>
                  <a:srgbClr val="fc0128"/>
                </a:solidFill>
                <a:latin typeface="Arial"/>
              </a:rPr>
              <a:t>הרחבת  האופק  הפליאטיבי </a:t>
            </a:r>
            <a:endParaRPr b="0" lang="en-US" sz="5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6320" y="457200"/>
            <a:ext cx="1024884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d01e5"/>
                </a:solidFill>
                <a:latin typeface="Arial"/>
                <a:cs typeface="David"/>
              </a:rPr>
              <a:t>גם בילדים! ועוד לפני הלידה !!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2057400"/>
            <a:ext cx="10248840" cy="2652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20"/>
                </a:solidFill>
                <a:latin typeface="Arial"/>
                <a:cs typeface="David"/>
              </a:rPr>
              <a:t>מעריכים כי עד  חצי מהפגים  הנולדים במשקל נמוך מ- </a:t>
            </a:r>
            <a:r>
              <a:rPr b="1" lang="he-IL" sz="4000" spc="-1" strike="noStrike">
                <a:solidFill>
                  <a:srgbClr val="000020"/>
                </a:solidFill>
                <a:latin typeface="Arial"/>
                <a:ea typeface="David"/>
              </a:rPr>
              <a:t>1</a:t>
            </a:r>
            <a:r>
              <a:rPr b="1" lang="he-IL" sz="4000" spc="-1" strike="noStrike">
                <a:solidFill>
                  <a:srgbClr val="000020"/>
                </a:solidFill>
                <a:latin typeface="Arial"/>
                <a:ea typeface="David"/>
              </a:rPr>
              <a:t> ק"ג סובלים מבעיה מולדת  כחירשות, עיוורון, מחלת ריאות ו/או פגיעה באינטליגנציה.</a:t>
            </a: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0" y="4191120"/>
            <a:ext cx="102870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fc0128"/>
                </a:solidFill>
                <a:uFillTx/>
                <a:latin typeface="Arial"/>
                <a:cs typeface="David"/>
              </a:rPr>
              <a:t>סיכון יתר למוגבלויות  וסבל  קיים  החל  מהלידה</a:t>
            </a:r>
            <a:r>
              <a:rPr b="1" lang="he-IL" sz="4000" spc="-1" strike="noStrike">
                <a:solidFill>
                  <a:srgbClr val="fc0128"/>
                </a:solidFill>
                <a:latin typeface="Arial"/>
                <a:ea typeface="David"/>
              </a:rPr>
              <a:t> המוקדמת ומשך  שנים  רבות  אחר  כך,  דבר המחייב </a:t>
            </a: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c0128"/>
                </a:solidFill>
                <a:latin typeface="Arial"/>
                <a:ea typeface="David"/>
              </a:rPr>
              <a:t> </a:t>
            </a:r>
            <a:r>
              <a:rPr b="1" lang="he-IL" sz="4400" spc="-1" strike="noStrike" u="sng">
                <a:solidFill>
                  <a:srgbClr val="fc0128"/>
                </a:solidFill>
                <a:uFillTx/>
                <a:latin typeface="Arial"/>
                <a:cs typeface="David"/>
              </a:rPr>
              <a:t>טיפול</a:t>
            </a:r>
            <a:r>
              <a:rPr b="1" lang="en-US" sz="4400" spc="-1" strike="noStrike" u="sng">
                <a:solidFill>
                  <a:srgbClr val="fc0128"/>
                </a:solidFill>
                <a:uFillTx/>
                <a:latin typeface="Arial"/>
                <a:ea typeface="David"/>
              </a:rPr>
              <a:t> </a:t>
            </a:r>
            <a:r>
              <a:rPr b="1" lang="he-IL" sz="4400" spc="-1" strike="noStrike" u="sng">
                <a:solidFill>
                  <a:srgbClr val="fc0128"/>
                </a:solidFill>
                <a:uFillTx/>
                <a:latin typeface="Arial"/>
                <a:ea typeface="David"/>
              </a:rPr>
              <a:t> תומך</a:t>
            </a:r>
            <a:r>
              <a:rPr b="1" lang="en-US" sz="4400" spc="-1" strike="noStrike" u="sng">
                <a:solidFill>
                  <a:srgbClr val="fc0128"/>
                </a:solidFill>
                <a:uFillTx/>
                <a:latin typeface="Arial"/>
                <a:ea typeface="David"/>
              </a:rPr>
              <a:t> </a:t>
            </a:r>
            <a:r>
              <a:rPr b="1" lang="he-IL" sz="4400" spc="-1" strike="noStrike" u="sng">
                <a:solidFill>
                  <a:srgbClr val="fc0128"/>
                </a:solidFill>
                <a:uFillTx/>
                <a:latin typeface="Arial"/>
                <a:ea typeface="David"/>
              </a:rPr>
              <a:t> "מהרחם </a:t>
            </a:r>
            <a:r>
              <a:rPr b="1" lang="en-US" sz="4400" spc="-1" strike="noStrike" u="sng">
                <a:solidFill>
                  <a:srgbClr val="fc0128"/>
                </a:solidFill>
                <a:uFillTx/>
                <a:latin typeface="Arial"/>
                <a:ea typeface="David"/>
              </a:rPr>
              <a:t> </a:t>
            </a:r>
            <a:r>
              <a:rPr b="1" lang="he-IL" sz="4400" spc="-1" strike="noStrike" u="sng">
                <a:solidFill>
                  <a:srgbClr val="fc0128"/>
                </a:solidFill>
                <a:uFillTx/>
                <a:latin typeface="Arial"/>
                <a:cs typeface="David"/>
              </a:rPr>
              <a:t>לקבר</a:t>
            </a:r>
            <a:r>
              <a:rPr b="1" lang="he-IL" sz="4400" spc="-1" strike="noStrike">
                <a:solidFill>
                  <a:srgbClr val="fc0128"/>
                </a:solidFill>
                <a:latin typeface="Arial"/>
                <a:ea typeface="David"/>
              </a:rPr>
              <a:t>"</a:t>
            </a: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0128"/>
                </a:solidFill>
                <a:latin typeface="Arial"/>
                <a:ea typeface="David"/>
              </a:rPr>
              <a:t>PALLIATIVE CARE FROM THE WOMB TO THE TOMB</a:t>
            </a:r>
            <a:endParaRPr b="0" lang="en-US" sz="3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556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ERIATRIC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BOOM     BURDEN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49" name="Object 3"/>
          <p:cNvGraphicFramePr/>
          <p:nvPr/>
        </p:nvGraphicFramePr>
        <p:xfrm>
          <a:off x="0" y="1238400"/>
          <a:ext cx="1009188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8400"/>
                    <a:ext cx="1009188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4"/>
          <p:cNvSpPr/>
          <p:nvPr/>
        </p:nvSpPr>
        <p:spPr>
          <a:xfrm>
            <a:off x="685800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211720" y="6172200"/>
            <a:ext cx="96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3514680" y="6156360"/>
            <a:ext cx="102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298000" y="6172200"/>
            <a:ext cx="77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772080" y="3200400"/>
            <a:ext cx="3257280" cy="143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21 st.</a:t>
            </a: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0001"/>
                </a:solidFill>
                <a:latin typeface="Arial"/>
              </a:rPr>
              <a:t>CENTURY</a:t>
            </a: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-37440" y="3260880"/>
            <a:ext cx="2181600" cy="458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01"/>
                </a:solidFill>
                <a:latin typeface="Arial"/>
              </a:rPr>
              <a:t>POPULATION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687840" y="2743200"/>
            <a:ext cx="22939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DUCTIVE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14480" y="6248520"/>
            <a:ext cx="28843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arfinkel  D., 2006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2705040" y="1905120"/>
            <a:ext cx="4287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ILDREN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7507440" y="4495680"/>
            <a:ext cx="2320920" cy="45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2208240" y="1523880"/>
            <a:ext cx="344520" cy="4648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8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62" name="AutoShape 18"/>
          <p:cNvSpPr/>
          <p:nvPr/>
        </p:nvSpPr>
        <p:spPr>
          <a:xfrm rot="10380000">
            <a:off x="2274840" y="5562360"/>
            <a:ext cx="5797440" cy="649080"/>
          </a:xfrm>
          <a:prstGeom prst="triangle">
            <a:avLst>
              <a:gd name="adj" fmla="val 2204"/>
            </a:avLst>
          </a:prstGeom>
          <a:solidFill>
            <a:srgbClr val="00000c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561960" y="-380880"/>
            <a:ext cx="3981600" cy="243252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DISABILITY</a:t>
            </a: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SUFFERING</a:t>
            </a: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 rot="10800000">
            <a:off x="2162160" y="5790960"/>
            <a:ext cx="6943680" cy="457200"/>
          </a:xfrm>
          <a:prstGeom prst="parallelogram">
            <a:avLst>
              <a:gd name="adj" fmla="val 72070"/>
            </a:avLst>
          </a:prstGeom>
          <a:solidFill>
            <a:srgbClr val="00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Object 2"/>
          <p:cNvGraphicFramePr/>
          <p:nvPr/>
        </p:nvGraphicFramePr>
        <p:xfrm>
          <a:off x="7229520" y="1371600"/>
          <a:ext cx="28274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9520" y="1371600"/>
                    <a:ext cx="2827440" cy="2209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7" name="Object 3"/>
          <p:cNvGraphicFramePr/>
          <p:nvPr/>
        </p:nvGraphicFramePr>
        <p:xfrm>
          <a:off x="1709640" y="1600200"/>
          <a:ext cx="410364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9640" y="1600200"/>
                    <a:ext cx="4103640" cy="762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703" dir="5060257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9410760" cy="11430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GLOBAL BURDEN OF DISEASE</a:t>
            </a:r>
            <a:br>
              <a:rPr sz="4200"/>
            </a:b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Arial"/>
              </a:rPr>
              <a:t>הנטל  העולמי  של  התחלואה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270" name="Object 5"/>
          <p:cNvGraphicFramePr/>
          <p:nvPr/>
        </p:nvGraphicFramePr>
        <p:xfrm>
          <a:off x="1790640" y="2362320"/>
          <a:ext cx="3772080" cy="42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0640" y="2362320"/>
                    <a:ext cx="3772080" cy="4267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2300" dir="4563564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5408640" y="3886200"/>
          <a:ext cx="4630680" cy="236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08640" y="3886200"/>
                    <a:ext cx="4630680" cy="2362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0066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4" name="Object 7"/>
          <p:cNvGraphicFramePr/>
          <p:nvPr/>
        </p:nvGraphicFramePr>
        <p:xfrm>
          <a:off x="1195560" y="4173480"/>
          <a:ext cx="6176880" cy="268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5560" y="4173480"/>
                    <a:ext cx="6176880" cy="2683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276" name="Rectangle 8"/>
          <p:cNvSpPr/>
          <p:nvPr/>
        </p:nvSpPr>
        <p:spPr>
          <a:xfrm>
            <a:off x="7772400" y="5715000"/>
            <a:ext cx="203688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ETHICS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 rot="20040000">
            <a:off x="7000920" y="5135400"/>
            <a:ext cx="2130480" cy="579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fbff"/>
                </a:solidFill>
                <a:latin typeface="Arial"/>
                <a:ea typeface="Levenim MT"/>
              </a:rPr>
              <a:t>LAWS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 rot="18181200">
            <a:off x="5217120" y="4764600"/>
            <a:ext cx="2214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DICINE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 rot="19313400">
            <a:off x="5905080" y="4738320"/>
            <a:ext cx="2800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HUMANITY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1987560" y="2360520"/>
            <a:ext cx="195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Levenim MT"/>
              </a:rPr>
              <a:t>COST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0" y="3352680"/>
            <a:ext cx="10248840" cy="1099440"/>
          </a:xfrm>
          <a:prstGeom prst="rect">
            <a:avLst/>
          </a:prstGeom>
          <a:solidFill>
            <a:srgbClr val="fc0128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אז מה ניתן לעשות ?</a:t>
            </a:r>
            <a:r>
              <a:rPr b="1" lang="en-US" sz="66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92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1" dur="192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3" dur="192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192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18680" y="151920"/>
            <a:ext cx="9906120" cy="11430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כיצד  ניתן להקל  על </a:t>
            </a:r>
            <a:br>
              <a:rPr sz="6000"/>
            </a:b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הנטל  העולמי  של  התחלואה ?</a:t>
            </a:r>
            <a:endParaRPr b="0" lang="en-US" sz="6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0" y="1676520"/>
            <a:ext cx="10248840" cy="2745360"/>
          </a:xfrm>
          <a:prstGeom prst="rect">
            <a:avLst/>
          </a:prstGeom>
          <a:solidFill>
            <a:srgbClr val="fc0128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לטווח הארוך- השקעה בקידום בריאות עיכוב ומניעה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4400" spc="-1" strike="noStrike">
                <a:solidFill>
                  <a:srgbClr val="fafd00"/>
                </a:solidFill>
                <a:latin typeface="Arial"/>
                <a:cs typeface="David"/>
              </a:rPr>
              <a:t>הכי</a:t>
            </a:r>
            <a:r>
              <a:rPr b="0" lang="he-IL" sz="5400" spc="-1" strike="noStrike">
                <a:solidFill>
                  <a:srgbClr val="fafd00"/>
                </a:solidFill>
                <a:latin typeface="Arial"/>
                <a:ea typeface="David"/>
              </a:rPr>
              <a:t> 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David"/>
              </a:rPr>
              <a:t>COST  EFFECTIVE</a:t>
            </a:r>
            <a:r>
              <a:rPr b="0" lang="he-IL" sz="6600" spc="-1" strike="noStrike">
                <a:solidFill>
                  <a:srgbClr val="fafd00"/>
                </a:solidFill>
                <a:latin typeface="Arial"/>
                <a:ea typeface="David"/>
              </a:rPr>
              <a:t>   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38160" y="3889440"/>
            <a:ext cx="10248840" cy="4665960"/>
          </a:xfrm>
          <a:prstGeom prst="rect">
            <a:avLst/>
          </a:prstGeom>
          <a:solidFill>
            <a:srgbClr val="fc0128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afd00"/>
                </a:solidFill>
                <a:latin typeface="Arial"/>
                <a:cs typeface="David"/>
              </a:rPr>
              <a:t>לטווח הקרוב – השקעה בשיפור הטיפול  במוגבלות וסבל 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afd00"/>
                </a:solidFill>
                <a:latin typeface="Arial"/>
                <a:cs typeface="David"/>
              </a:rPr>
              <a:t>פיתוח הטיפול התומך  (פליאטיבי)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92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192" fill="hold"/>
                                        <p:tgtEl>
                                          <p:spTgt spid="2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192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192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647720"/>
            <a:ext cx="10287000" cy="146556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I  WANT  TO  DIE  YOUNG…..</a:t>
            </a:r>
            <a:endParaRPr b="0" lang="en-US" sz="5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95360" y="456840"/>
            <a:ext cx="10029600" cy="1523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T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HE  BEST  WAY  TO  DIE...? 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0" y="3627360"/>
            <a:ext cx="10287000" cy="179064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S  LATE  IN LIFE AS POSSIBLE !</a:t>
            </a: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pic>
        <p:nvPicPr>
          <p:cNvPr id="289" name="Object 6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3124080" cy="2514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</p:pic>
      <p:pic>
        <p:nvPicPr>
          <p:cNvPr id="290" name="Object 7" descr=""/>
          <p:cNvPicPr/>
          <p:nvPr/>
        </p:nvPicPr>
        <p:blipFill>
          <a:blip r:embed="rId2"/>
          <a:stretch/>
        </p:blipFill>
        <p:spPr>
          <a:xfrm>
            <a:off x="7924680" y="4505400"/>
            <a:ext cx="762120" cy="981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afd00"/>
            </a:outerShdw>
          </a:effectLst>
        </p:spPr>
      </p:pic>
      <p:sp>
        <p:nvSpPr>
          <p:cNvPr id="291" name="Text Box 8"/>
          <p:cNvSpPr/>
          <p:nvPr/>
        </p:nvSpPr>
        <p:spPr>
          <a:xfrm>
            <a:off x="544824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ntegue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203560" y="2957400"/>
            <a:ext cx="20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905280" y="367812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146320" y="2852640"/>
            <a:ext cx="4049640" cy="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6208560" y="2852640"/>
            <a:ext cx="1800" cy="2664000"/>
          </a:xfrm>
          <a:prstGeom prst="line">
            <a:avLst/>
          </a:prstGeom>
          <a:ln w="10800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>
            <a:off x="2146320" y="1773360"/>
            <a:ext cx="0" cy="38163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2146320" y="5589720"/>
            <a:ext cx="567036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3281400" y="5734080"/>
            <a:ext cx="210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Garamond"/>
                <a:cs typeface="Arial"/>
              </a:rPr>
              <a:t>זמן בחיים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299" name="Oval 9"/>
          <p:cNvSpPr/>
          <p:nvPr/>
        </p:nvSpPr>
        <p:spPr>
          <a:xfrm>
            <a:off x="5770440" y="5589720"/>
            <a:ext cx="97344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afd00"/>
            </a:solidFill>
            <a:miter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afd00"/>
                </a:solidFill>
                <a:latin typeface="Garamond"/>
                <a:cs typeface="Arial"/>
              </a:rPr>
              <a:t>מוות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770040" y="4724280"/>
            <a:ext cx="40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0" y="0"/>
            <a:ext cx="10287000" cy="20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5400" spc="-1" strike="noStrike">
                <a:solidFill>
                  <a:srgbClr val="ffff00"/>
                </a:solidFill>
                <a:latin typeface="Arial"/>
                <a:cs typeface="Arial"/>
              </a:rPr>
              <a:t>מוות  פתאומי – סיבה בלתי צפויה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2583000" y="2316240"/>
            <a:ext cx="2533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556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  AGING...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2090520"/>
            <a:ext cx="10285560" cy="1719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...”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GET SICK AND DIE”,  WHICH  ONCE  COVERED NO  MORE  THAN  A  FEW  WEEKS,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OW   OFTEN  GOES  ON  FOR  YEA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0600" y="6324480"/>
            <a:ext cx="9934560" cy="458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ynn J &amp; Cretin S.  Editorial, J Am Ger Soc  2000; 48: 1017- 8.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228600" y="4148280"/>
            <a:ext cx="10096560" cy="1719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 USUAL 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ND OF LIFE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HAS  COME  TO  BE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LIFE   WITH   SERIOUS   CHRONIC   ILLNESS  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FOR  A  LONG  TIME ......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" y="228240"/>
            <a:ext cx="10248840" cy="114300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LLIATIVE   CARE </a:t>
            </a:r>
            <a:r>
              <a:rPr b="1" lang="he-IL" sz="5400" spc="-1" strike="noStrike">
                <a:solidFill>
                  <a:srgbClr val="ff0000"/>
                </a:solidFill>
                <a:latin typeface="Arial"/>
                <a:cs typeface="David"/>
              </a:rPr>
              <a:t>טיפול  תומך</a:t>
            </a:r>
            <a:r>
              <a:rPr b="1" lang="he-IL" sz="4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EW DEFINITION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 (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W.H.O.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he-IL" sz="4000" spc="-1" strike="noStrike">
                <a:solidFill>
                  <a:srgbClr val="fafd00"/>
                </a:solidFill>
                <a:latin typeface="Times New Roman"/>
              </a:rPr>
              <a:t>2002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e-IL" sz="3600" spc="-1" strike="noStrike">
                <a:solidFill>
                  <a:srgbClr val="fafd00"/>
                </a:solidFill>
                <a:latin typeface="Times New Roman"/>
              </a:rPr>
              <a:t>הגדרה  חדשה</a:t>
            </a:r>
            <a:r>
              <a:rPr b="0" lang="he-IL" sz="36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8520" y="1600200"/>
            <a:ext cx="1032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גישה  המשפרת  את   איכות   החיים  של חולים   ומשפחותיהם   בהתמודדות   עם  מחלה מאיימת-חיים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  <a:p>
            <a:pPr marL="236520" indent="-23652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דרך   מניעה,  הערכה  וטיפול         בכאב  ובבעיות  אחרות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  <a:p>
            <a:pPr marL="236520" indent="-23652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      גופניות, פסיכולוגיות  ורוחניות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endParaRPr b="0" lang="en-US" sz="38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38160" y="5257800"/>
          <a:ext cx="1523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5257800"/>
                    <a:ext cx="1523880" cy="685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96762" dir="20206406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</p:spTree>
  </p:cSld>
  <p:transition spd="slow">
    <p:cut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eb000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ירידה  איטית, "שלב סופני" קצר </a:t>
            </a:r>
            <a:br>
              <a:rPr sz="6000"/>
            </a:b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(חולי  סרטן)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08" name="Picture 3" descr="Sready Decline copy"/>
          <p:cNvPicPr/>
          <p:nvPr/>
        </p:nvPicPr>
        <p:blipFill>
          <a:blip r:embed="rId1"/>
          <a:stretch/>
        </p:blipFill>
        <p:spPr>
          <a:xfrm>
            <a:off x="0" y="1447920"/>
            <a:ext cx="10287000" cy="5410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b0001"/>
            </a:outerShdw>
          </a:effectLst>
        </p:spPr>
      </p:pic>
      <p:sp>
        <p:nvSpPr>
          <p:cNvPr id="309" name="Text Box 5"/>
          <p:cNvSpPr/>
          <p:nvPr/>
        </p:nvSpPr>
        <p:spPr>
          <a:xfrm>
            <a:off x="-163440" y="1447920"/>
            <a:ext cx="2533680" cy="581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2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4076640" y="6400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0"/>
                </a:solidFill>
                <a:latin typeface="Arial"/>
              </a:rPr>
              <a:t>(Weeks -M</a:t>
            </a:r>
            <a:r>
              <a:rPr b="1" lang="en-US" sz="2400" spc="-1" strike="noStrike">
                <a:solidFill>
                  <a:srgbClr val="080800"/>
                </a:solidFill>
                <a:latin typeface="Arial"/>
                <a:ea typeface="Arial"/>
              </a:rPr>
              <a:t>onths)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74388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Years?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114840" y="75960"/>
            <a:ext cx="104778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eb000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ירידה איטית, משברים מחזוריים</a:t>
            </a:r>
            <a:r>
              <a:rPr b="1" lang="he-IL" sz="4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ומוות "פתאומי"</a:t>
            </a:r>
            <a:r>
              <a:rPr b="1" lang="he-IL" sz="4800" spc="-1" strike="noStrike">
                <a:solidFill>
                  <a:srgbClr val="ffff00"/>
                </a:solidFill>
                <a:latin typeface="Arial"/>
                <a:ea typeface="Arial"/>
              </a:rPr>
              <a:t> (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HF, COPD, AIDS</a:t>
            </a:r>
            <a:r>
              <a:rPr b="1" lang="he-IL" sz="4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13" name="Picture 3" descr="Slow Decline copy"/>
          <p:cNvPicPr/>
          <p:nvPr/>
        </p:nvPicPr>
        <p:blipFill>
          <a:blip r:embed="rId1"/>
          <a:stretch/>
        </p:blipFill>
        <p:spPr>
          <a:xfrm>
            <a:off x="0" y="1600200"/>
            <a:ext cx="10287000" cy="5257800"/>
          </a:xfrm>
          <a:prstGeom prst="rect">
            <a:avLst/>
          </a:prstGeom>
          <a:ln w="0">
            <a:noFill/>
          </a:ln>
          <a:effectLst>
            <a:outerShdw dist="109184" dir="19471693" blurRad="0" rotWithShape="0">
              <a:srgbClr val="eb0001"/>
            </a:outerShdw>
          </a:effectLst>
        </p:spPr>
      </p:pic>
      <p:sp>
        <p:nvSpPr>
          <p:cNvPr id="314" name="Text Box 4"/>
          <p:cNvSpPr/>
          <p:nvPr/>
        </p:nvSpPr>
        <p:spPr>
          <a:xfrm>
            <a:off x="754200" y="1706400"/>
            <a:ext cx="2533680" cy="581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2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15296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0"/>
                </a:solidFill>
                <a:latin typeface="Arial"/>
              </a:rPr>
              <a:t>(M</a:t>
            </a:r>
            <a:r>
              <a:rPr b="1" lang="en-US" sz="2400" spc="-1" strike="noStrike">
                <a:solidFill>
                  <a:srgbClr val="080800"/>
                </a:solidFill>
                <a:latin typeface="Arial"/>
                <a:ea typeface="Arial"/>
              </a:rPr>
              <a:t>onths – Years)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1002024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eb000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fff00"/>
                </a:solidFill>
                <a:latin typeface="Arial"/>
                <a:cs typeface="David"/>
              </a:rPr>
              <a:t>ירידה  מאד  איטית</a:t>
            </a:r>
            <a:br>
              <a:rPr sz="6600"/>
            </a:b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(אלצהיימר)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2146320" y="4349880"/>
          <a:ext cx="27687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6320" y="4349880"/>
                    <a:ext cx="2768760" cy="527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319" name="Line 4"/>
          <p:cNvSpPr/>
          <p:nvPr/>
        </p:nvSpPr>
        <p:spPr>
          <a:xfrm>
            <a:off x="2146320" y="1773360"/>
            <a:ext cx="0" cy="38163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2146320" y="5589720"/>
            <a:ext cx="6967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3086280" y="5734080"/>
            <a:ext cx="533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Garamond"/>
                <a:cs typeface="Arial"/>
              </a:rPr>
              <a:t>זמן בחיים (בדרך כלל – שנים)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22" name="Oval 7"/>
          <p:cNvSpPr/>
          <p:nvPr/>
        </p:nvSpPr>
        <p:spPr>
          <a:xfrm>
            <a:off x="8420040" y="5587920"/>
            <a:ext cx="166680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afd00"/>
            </a:solidFill>
            <a:miter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afd00"/>
                </a:solidFill>
                <a:latin typeface="Garamond"/>
                <a:cs typeface="Arial"/>
              </a:rPr>
              <a:t>מוות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677880" y="2468520"/>
            <a:ext cx="2533680" cy="581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graphicFrame>
        <p:nvGraphicFramePr>
          <p:cNvPr id="324" name="Object 9"/>
          <p:cNvGraphicFramePr/>
          <p:nvPr/>
        </p:nvGraphicFramePr>
        <p:xfrm>
          <a:off x="4530600" y="4840200"/>
          <a:ext cx="313848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0600" y="4840200"/>
                    <a:ext cx="3138480" cy="46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326" name="Line 10"/>
          <p:cNvSpPr/>
          <p:nvPr/>
        </p:nvSpPr>
        <p:spPr>
          <a:xfrm>
            <a:off x="7669080" y="5229360"/>
            <a:ext cx="1444680" cy="215640"/>
          </a:xfrm>
          <a:prstGeom prst="line">
            <a:avLst/>
          </a:prstGeom>
          <a:ln w="108000">
            <a:solidFill>
              <a:srgbClr val="eb000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9344160" cy="11430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00"/>
                </a:solidFill>
                <a:latin typeface="Times New Roman"/>
                <a:cs typeface="Levenim MT"/>
              </a:rPr>
              <a:t>מתי להתחיל טיפול פליאטיבי ???  </a:t>
            </a:r>
            <a:r>
              <a:rPr b="1" lang="he-IL" sz="3600" spc="-1" strike="noStrike">
                <a:solidFill>
                  <a:srgbClr val="fbfbff"/>
                </a:solidFill>
                <a:latin typeface="Times New Roman"/>
                <a:cs typeface="Levenim MT"/>
              </a:rPr>
              <a:t>התפיסה הישנה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336680" y="5715000"/>
            <a:ext cx="783576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lieve suffering (Palliative, Hospice)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114560" y="2971800"/>
            <a:ext cx="8057880" cy="1752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D I S E A S E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7574040" y="2971800"/>
            <a:ext cx="1598400" cy="1752480"/>
          </a:xfrm>
          <a:prstGeom prst="rect">
            <a:avLst/>
          </a:prstGeom>
          <a:solidFill>
            <a:srgbClr val="ff3300"/>
          </a:solidFill>
          <a:ln w="12600">
            <a:solidFill>
              <a:srgbClr val="fafd00"/>
            </a:solidFill>
            <a:miter/>
          </a:ln>
          <a:effectLst>
            <a:outerShdw dist="77353" dir="11362479" blurRad="0" rotWithShape="0">
              <a:srgbClr val="080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685800" y="1600200"/>
            <a:ext cx="7029360" cy="51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32" name="AutoShape 8"/>
          <p:cNvSpPr/>
          <p:nvPr/>
        </p:nvSpPr>
        <p:spPr>
          <a:xfrm rot="20512200">
            <a:off x="7800480" y="4266720"/>
            <a:ext cx="857520" cy="1371600"/>
          </a:xfrm>
          <a:prstGeom prst="upArrow">
            <a:avLst>
              <a:gd name="adj1" fmla="val 50000"/>
              <a:gd name="adj2" fmla="val 39987"/>
            </a:avLst>
          </a:prstGeom>
          <a:solidFill>
            <a:srgbClr val="00ffff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33" name="AutoShape 9"/>
          <p:cNvSpPr/>
          <p:nvPr/>
        </p:nvSpPr>
        <p:spPr>
          <a:xfrm rot="9775800">
            <a:off x="3009600" y="2057400"/>
            <a:ext cx="857160" cy="1371600"/>
          </a:xfrm>
          <a:prstGeom prst="upArrow">
            <a:avLst>
              <a:gd name="adj1" fmla="val 50000"/>
              <a:gd name="adj2" fmla="val 40004"/>
            </a:avLst>
          </a:prstGeom>
          <a:solidFill>
            <a:srgbClr val="00ffff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85680" y="4724280"/>
            <a:ext cx="2400480" cy="45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tion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8486640" y="4724280"/>
            <a:ext cx="128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ath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838080" y="1752480"/>
            <a:ext cx="7029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001"/>
                </a:solidFill>
                <a:latin typeface="Arial"/>
                <a:ea typeface="Arial"/>
              </a:rPr>
              <a:t>Curative / life-prolonging therapy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1032516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Times New Roman"/>
                <a:cs typeface="David"/>
              </a:rPr>
              <a:t>מתי להתחיל???</a:t>
            </a:r>
            <a:r>
              <a:rPr b="1" lang="he-IL" sz="4400" spc="-1" strike="noStrike">
                <a:solidFill>
                  <a:srgbClr val="ffff00"/>
                </a:solidFill>
                <a:latin typeface="Times New Roman"/>
                <a:ea typeface="Levenim MT"/>
              </a:rPr>
              <a:t>  התפיסה הנבונה</a:t>
            </a:r>
            <a:r>
              <a:rPr b="0" lang="he-IL" sz="40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952560" y="3141720"/>
            <a:ext cx="7772400" cy="1595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e80000"/>
              </a:gs>
            </a:gsLst>
            <a:lin ang="27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D I S E A S E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39" name="AutoShape 5"/>
          <p:cNvSpPr/>
          <p:nvPr/>
        </p:nvSpPr>
        <p:spPr>
          <a:xfrm rot="9775800">
            <a:off x="945360" y="1904400"/>
            <a:ext cx="2241720" cy="17334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 rot="20512200">
            <a:off x="6173640" y="4138200"/>
            <a:ext cx="1738440" cy="1652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-266760" y="4724280"/>
            <a:ext cx="2400480" cy="45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tion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7962840" y="4724280"/>
            <a:ext cx="1285920" cy="45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ath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43" name="Line 10"/>
          <p:cNvSpPr/>
          <p:nvPr/>
        </p:nvSpPr>
        <p:spPr>
          <a:xfrm flipV="1">
            <a:off x="952560" y="3141720"/>
            <a:ext cx="7858080" cy="15825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44" name="AutoShape 14"/>
          <p:cNvSpPr/>
          <p:nvPr/>
        </p:nvSpPr>
        <p:spPr>
          <a:xfrm>
            <a:off x="8724960" y="3141720"/>
            <a:ext cx="1285920" cy="1582560"/>
          </a:xfrm>
          <a:prstGeom prst="rtTriangle">
            <a:avLst/>
          </a:prstGeom>
          <a:solidFill>
            <a:srgbClr val="808080">
              <a:alpha val="72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8648640" y="3809880"/>
            <a:ext cx="990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Arial"/>
              </a:rPr>
              <a:t>אבל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46" name="AutoShape 16"/>
          <p:cNvSpPr/>
          <p:nvPr/>
        </p:nvSpPr>
        <p:spPr>
          <a:xfrm rot="20512200">
            <a:off x="9143640" y="4419360"/>
            <a:ext cx="857160" cy="1371600"/>
          </a:xfrm>
          <a:prstGeom prst="upArrow">
            <a:avLst>
              <a:gd name="adj1" fmla="val 50000"/>
              <a:gd name="adj2" fmla="val 40004"/>
            </a:avLst>
          </a:prstGeom>
          <a:solidFill>
            <a:srgbClr val="ff00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47" name="AutoShape 17"/>
          <p:cNvSpPr/>
          <p:nvPr/>
        </p:nvSpPr>
        <p:spPr>
          <a:xfrm rot="20512200">
            <a:off x="2323800" y="4495320"/>
            <a:ext cx="857160" cy="1371600"/>
          </a:xfrm>
          <a:prstGeom prst="upArrow">
            <a:avLst>
              <a:gd name="adj1" fmla="val 50000"/>
              <a:gd name="adj2" fmla="val 40004"/>
            </a:avLst>
          </a:prstGeom>
          <a:solidFill>
            <a:srgbClr val="ff00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1336680" y="5715000"/>
            <a:ext cx="867420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lieve suffering (Palliative, Hospice)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49" name="AutoShape 19"/>
          <p:cNvSpPr/>
          <p:nvPr/>
        </p:nvSpPr>
        <p:spPr>
          <a:xfrm rot="9775800">
            <a:off x="4559040" y="1925280"/>
            <a:ext cx="857160" cy="1658880"/>
          </a:xfrm>
          <a:prstGeom prst="upArrow">
            <a:avLst>
              <a:gd name="adj1" fmla="val 50000"/>
              <a:gd name="adj2" fmla="val 48383"/>
            </a:avLst>
          </a:prstGeom>
          <a:solidFill>
            <a:srgbClr val="ffff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 rot="9775800">
            <a:off x="7276680" y="1980720"/>
            <a:ext cx="293760" cy="1233720"/>
          </a:xfrm>
          <a:prstGeom prst="upArrow">
            <a:avLst>
              <a:gd name="adj1" fmla="val 50000"/>
              <a:gd name="adj2" fmla="val 104994"/>
            </a:avLst>
          </a:prstGeom>
          <a:solidFill>
            <a:srgbClr val="ffff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685800" y="1600200"/>
            <a:ext cx="7029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001"/>
                </a:solidFill>
                <a:latin typeface="Arial"/>
                <a:ea typeface="Arial"/>
              </a:rPr>
              <a:t>Curative / life-prolonging therapy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8520" y="76320"/>
            <a:ext cx="102870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00"/>
                </a:solidFill>
                <a:latin typeface="Arial"/>
                <a:cs typeface="Arial"/>
              </a:rPr>
              <a:t>תפיסת  בריאות עולמית   -    המטרה</a:t>
            </a:r>
            <a:r>
              <a:rPr b="1" lang="he-IL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LOBAL   HEALTH </a:t>
            </a:r>
            <a:r>
              <a:rPr b="1" lang="he-IL" sz="40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CARE – GOAL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53" name="Object 4"/>
          <p:cNvGraphicFramePr/>
          <p:nvPr/>
        </p:nvGraphicFramePr>
        <p:xfrm>
          <a:off x="353880" y="914400"/>
          <a:ext cx="8904600" cy="58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914400"/>
                    <a:ext cx="890460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Rectangle 6"/>
          <p:cNvSpPr/>
          <p:nvPr/>
        </p:nvSpPr>
        <p:spPr>
          <a:xfrm>
            <a:off x="1486080" y="4800600"/>
            <a:ext cx="5767200" cy="190188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fff00"/>
                </a:solidFill>
                <a:latin typeface="Times New Roman"/>
                <a:cs typeface="Levenim MT"/>
              </a:rPr>
              <a:t>רפואה מונעת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fff00"/>
                </a:solidFill>
                <a:latin typeface="Times New Roman"/>
                <a:cs typeface="Levenim MT"/>
              </a:rPr>
              <a:t>וקידום בריאות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2343240" y="3581280"/>
            <a:ext cx="4052880" cy="91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טיפול מרפא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3162240" y="2286000"/>
            <a:ext cx="2490840" cy="11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  <a:cs typeface="David"/>
              </a:rPr>
              <a:t>טיפול תומך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600360" y="1752480"/>
            <a:ext cx="149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evenim MT"/>
              </a:rPr>
              <a:t>DEATH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59" name="Line 12"/>
          <p:cNvSpPr/>
          <p:nvPr/>
        </p:nvSpPr>
        <p:spPr>
          <a:xfrm>
            <a:off x="6858000" y="4572000"/>
            <a:ext cx="1525680" cy="209700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60" name="Line 13"/>
          <p:cNvSpPr/>
          <p:nvPr/>
        </p:nvSpPr>
        <p:spPr>
          <a:xfrm flipH="1">
            <a:off x="464760" y="4581360"/>
            <a:ext cx="1438200" cy="208764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 flipV="1">
            <a:off x="1903320" y="4572000"/>
            <a:ext cx="4954680" cy="936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>
            <a:off x="428760" y="6705720"/>
            <a:ext cx="7972200" cy="0"/>
          </a:xfrm>
          <a:prstGeom prst="line">
            <a:avLst/>
          </a:prstGeom>
          <a:ln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7029360" y="1508040"/>
            <a:ext cx="3256200" cy="76284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64" name="AutoShape 17"/>
          <p:cNvSpPr/>
          <p:nvPr/>
        </p:nvSpPr>
        <p:spPr>
          <a:xfrm rot="8375400">
            <a:off x="7383240" y="3944880"/>
            <a:ext cx="1141200" cy="2664000"/>
          </a:xfrm>
          <a:custGeom>
            <a:avLst/>
            <a:gdLst>
              <a:gd name="textAreaLeft" fmla="*/ 184320 w 1141200"/>
              <a:gd name="textAreaRight" fmla="*/ 956880 w 1141200"/>
              <a:gd name="textAreaTop" fmla="*/ 430560 h 2664000"/>
              <a:gd name="textAreaBottom" fmla="*/ 223344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81" y="21600"/>
                </a:lnTo>
                <a:lnTo>
                  <a:pt x="1821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7159680" y="5159520"/>
            <a:ext cx="3127320" cy="100836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בריאים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6872400" y="3363840"/>
            <a:ext cx="2690640" cy="825120"/>
          </a:xfrm>
          <a:prstGeom prst="rect">
            <a:avLst/>
          </a:prstGeom>
          <a:solidFill>
            <a:srgbClr val="9900cc"/>
          </a:solidFill>
          <a:ln w="324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David"/>
              </a:rPr>
              <a:t>חולים</a:t>
            </a: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6080040" y="2259000"/>
            <a:ext cx="2035440" cy="1191240"/>
          </a:xfrm>
          <a:prstGeom prst="rect">
            <a:avLst/>
          </a:prstGeom>
          <a:solidFill>
            <a:srgbClr val="ff6600"/>
          </a:solidFill>
          <a:ln w="324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20"/>
                </a:solidFill>
                <a:latin typeface="Arial"/>
                <a:cs typeface="David"/>
              </a:rPr>
              <a:t>חולים מאד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68" name="AutoShape 22"/>
          <p:cNvSpPr/>
          <p:nvPr/>
        </p:nvSpPr>
        <p:spPr>
          <a:xfrm>
            <a:off x="3600360" y="914400"/>
            <a:ext cx="1768680" cy="1130400"/>
          </a:xfrm>
          <a:prstGeom prst="triangle">
            <a:avLst>
              <a:gd name="adj" fmla="val 47292"/>
            </a:avLst>
          </a:prstGeom>
          <a:solidFill>
            <a:srgbClr val="00002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3695760" y="1447920"/>
            <a:ext cx="149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bfbff"/>
                </a:solidFill>
                <a:latin typeface="Arial"/>
                <a:cs typeface="Arial"/>
              </a:rPr>
              <a:t>מוות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7800" y="-152280"/>
            <a:ext cx="10287000" cy="9144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e-IL" sz="4800" spc="-1" strike="noStrike">
                <a:solidFill>
                  <a:srgbClr val="ffff00"/>
                </a:solidFill>
                <a:latin typeface="Arial"/>
                <a:cs typeface="David"/>
              </a:rPr>
              <a:t>פירמידת בריאות בארצות המפותחות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David"/>
              </a:rPr>
              <a:t>:</a:t>
            </a:r>
            <a:r>
              <a:rPr b="1" lang="he-IL" sz="4800" spc="-1" strike="noStrike">
                <a:solidFill>
                  <a:srgbClr val="ffff00"/>
                </a:solidFill>
                <a:latin typeface="Arial"/>
                <a:ea typeface="David"/>
              </a:rPr>
              <a:t> הצפי</a:t>
            </a:r>
            <a:br>
              <a:rPr sz="48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ALTH IN  DEVELOPED  COUN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866960" y="5181480"/>
            <a:ext cx="3962520" cy="143316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52300" dir="836435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00"/>
                </a:solidFill>
                <a:latin typeface="Arial"/>
                <a:cs typeface="David"/>
              </a:rPr>
              <a:t>רפואה מונעת וקידום בריאות</a:t>
            </a: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7029360" y="1508040"/>
            <a:ext cx="3256200" cy="76284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73" name="AutoShape 5"/>
          <p:cNvSpPr/>
          <p:nvPr/>
        </p:nvSpPr>
        <p:spPr>
          <a:xfrm>
            <a:off x="0" y="1268280"/>
            <a:ext cx="10285560" cy="5329440"/>
          </a:xfrm>
          <a:custGeom>
            <a:avLst/>
            <a:gdLst>
              <a:gd name="textAreaLeft" fmla="*/ 2142720 w 10285560"/>
              <a:gd name="textAreaRight" fmla="*/ 8142840 w 10285560"/>
              <a:gd name="textAreaTop" fmla="*/ 1110240 h 5329440"/>
              <a:gd name="textAreaBottom" fmla="*/ 4219200 h 532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571680" y="1295280"/>
            <a:ext cx="4968720" cy="1941840"/>
          </a:xfrm>
          <a:prstGeom prst="rect">
            <a:avLst/>
          </a:prstGeom>
          <a:solidFill>
            <a:srgbClr val="565656"/>
          </a:solidFill>
          <a:ln w="6336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3300"/>
                </a:solidFill>
                <a:latin typeface="Arial"/>
                <a:cs typeface="David"/>
              </a:rPr>
              <a:t>ט י פ ו ל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3300"/>
                </a:solidFill>
                <a:latin typeface="Arial"/>
                <a:cs typeface="David"/>
              </a:rPr>
              <a:t>ת ו מ ך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5676840" y="3333600"/>
            <a:ext cx="2895840" cy="2285280"/>
          </a:xfrm>
          <a:prstGeom prst="rect">
            <a:avLst/>
          </a:prstGeom>
          <a:solidFill>
            <a:srgbClr val="9900cc"/>
          </a:solidFill>
          <a:ln w="324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afd00"/>
                </a:solidFill>
                <a:latin typeface="Arial"/>
                <a:cs typeface="David"/>
              </a:rPr>
              <a:t>חולים</a:t>
            </a: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5648400" y="1295280"/>
            <a:ext cx="4140000" cy="1941840"/>
          </a:xfrm>
          <a:prstGeom prst="rect">
            <a:avLst/>
          </a:prstGeom>
          <a:solidFill>
            <a:srgbClr val="565656"/>
          </a:solidFill>
          <a:ln w="6336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3300"/>
                </a:solidFill>
                <a:latin typeface="Arial"/>
                <a:cs typeface="David"/>
              </a:rPr>
              <a:t>חולים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3300"/>
                </a:solidFill>
                <a:latin typeface="Arial"/>
                <a:cs typeface="David"/>
              </a:rPr>
              <a:t>קשים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5648400" y="5133960"/>
            <a:ext cx="2924280" cy="1900080"/>
          </a:xfrm>
          <a:prstGeom prst="rect">
            <a:avLst/>
          </a:prstGeom>
          <a:solidFill>
            <a:srgbClr val="00ffff"/>
          </a:solidFill>
          <a:ln w="38160">
            <a:solidFill>
              <a:srgbClr val="ffff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בריאים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1790640" y="3330720"/>
            <a:ext cx="3810240" cy="1738440"/>
          </a:xfrm>
          <a:prstGeom prst="rect">
            <a:avLst/>
          </a:prstGeom>
          <a:solidFill>
            <a:srgbClr val="800080"/>
          </a:solidFill>
          <a:ln w="38160">
            <a:solidFill>
              <a:srgbClr val="ffff00"/>
            </a:solidFill>
            <a:miter/>
          </a:ln>
          <a:effectLst>
            <a:outerShdw dist="40186" dir="430364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טיפול 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מרפא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79" name="AutoShape 13"/>
          <p:cNvSpPr/>
          <p:nvPr/>
        </p:nvSpPr>
        <p:spPr>
          <a:xfrm>
            <a:off x="4915080" y="914400"/>
            <a:ext cx="1484280" cy="5934240"/>
          </a:xfrm>
          <a:prstGeom prst="upArrow">
            <a:avLst>
              <a:gd name="adj1" fmla="val 50000"/>
              <a:gd name="adj2" fmla="val 99951"/>
            </a:avLst>
          </a:prstGeom>
          <a:solidFill>
            <a:srgbClr val="fafd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5448240" y="1030320"/>
            <a:ext cx="304920" cy="5770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שיפור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טכנולוגיות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Sunset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6743880" y="138240"/>
          <a:ext cx="2808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3880" y="138240"/>
                    <a:ext cx="2808000" cy="1981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82013" dir="12287459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71680" y="304920"/>
            <a:ext cx="5943600" cy="1739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כולנו חייבים למות...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graphicFrame>
        <p:nvGraphicFramePr>
          <p:cNvPr id="385" name="Object 7"/>
          <p:cNvGraphicFramePr/>
          <p:nvPr/>
        </p:nvGraphicFramePr>
        <p:xfrm>
          <a:off x="2476440" y="3276720"/>
          <a:ext cx="5334120" cy="31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76440" y="3276720"/>
                    <a:ext cx="533412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8"/>
          <p:cNvSpPr/>
          <p:nvPr/>
        </p:nvSpPr>
        <p:spPr>
          <a:xfrm>
            <a:off x="3543480" y="2743200"/>
            <a:ext cx="3352680" cy="8982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David"/>
              </a:rPr>
              <a:t>מוגבלות?</a:t>
            </a: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6743880" y="4359240"/>
            <a:ext cx="2114280" cy="2104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afd00"/>
                </a:solidFill>
                <a:latin typeface="Arial"/>
                <a:cs typeface="David"/>
              </a:rPr>
              <a:t>ירידה שכלית?</a:t>
            </a:r>
            <a:endParaRPr b="0" lang="en-US" sz="4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3390840" y="6095880"/>
            <a:ext cx="3257640" cy="9169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סבל ?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0" y="1676520"/>
            <a:ext cx="10287000" cy="192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השאלה העיקרית היא -  איך ???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1333440" y="4572000"/>
            <a:ext cx="2057400" cy="173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כאב ?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77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770" fill="hold"/>
                                        <p:tgtEl>
                                          <p:spTgt spid="3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5" dur="77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7" dur="77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0"/>
                            </p:stCondLst>
                            <p:childTnLst>
                              <p:par>
                                <p:cTn id="6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385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385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7800" y="228240"/>
            <a:ext cx="10248840" cy="114300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LLIATIVE   CARE </a:t>
            </a:r>
            <a:r>
              <a:rPr b="1" lang="he-IL" sz="5400" spc="-1" strike="noStrike">
                <a:solidFill>
                  <a:srgbClr val="ff0000"/>
                </a:solidFill>
                <a:latin typeface="Arial"/>
                <a:cs typeface="David"/>
              </a:rPr>
              <a:t>טיפול  תומך</a:t>
            </a:r>
            <a:r>
              <a:rPr b="1" lang="he-IL" sz="4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EW DEFINITION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 (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W.H.O.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he-IL" sz="4000" spc="-1" strike="noStrike">
                <a:solidFill>
                  <a:srgbClr val="fafd00"/>
                </a:solidFill>
                <a:latin typeface="Times New Roman"/>
              </a:rPr>
              <a:t>2002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e-IL" sz="4000" spc="-1" strike="noStrike">
                <a:solidFill>
                  <a:srgbClr val="fafd00"/>
                </a:solidFill>
                <a:latin typeface="Times New Roman"/>
              </a:rPr>
              <a:t>הגדרה  חדשה</a:t>
            </a:r>
            <a:r>
              <a:rPr b="0" lang="he-IL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8520" y="1600200"/>
            <a:ext cx="10325160" cy="41148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t">
            <a:normAutofit fontScale="69000"/>
          </a:bodyPr>
          <a:p>
            <a:pPr marL="236520" indent="-23652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גישה  המשפרת  את   איכות   החיים  של חולים   ומשפחותיהם   בהתמודדות   עם  מחלה מאיימת-חיים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  <a:p>
            <a:pPr marL="236520" indent="-23652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דרך   מניעה,  הערכה  וטיפול         בכאב  ובבעיות  אחרות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  <a:p>
            <a:pPr marL="236520" indent="-23652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      גופניות, פסיכולוגיות  ורוחניות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endParaRPr b="0" lang="en-US" sz="38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38160" y="5257800"/>
          <a:ext cx="1523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5257800"/>
                    <a:ext cx="1523880" cy="685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96762" dir="20206406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</p:spTree>
  </p:cSld>
  <p:transition spd="slow">
    <p:cut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Object 3"/>
          <p:cNvGraphicFramePr/>
          <p:nvPr/>
        </p:nvGraphicFramePr>
        <p:xfrm>
          <a:off x="554040" y="3825720"/>
          <a:ext cx="4589640" cy="28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25720"/>
                    <a:ext cx="4589640" cy="2802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96762" dir="14806406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98" name="Object 5"/>
          <p:cNvGraphicFramePr/>
          <p:nvPr/>
        </p:nvGraphicFramePr>
        <p:xfrm>
          <a:off x="0" y="12600"/>
          <a:ext cx="514368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600"/>
                    <a:ext cx="514368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6"/>
          <p:cNvSpPr/>
          <p:nvPr/>
        </p:nvSpPr>
        <p:spPr>
          <a:xfrm>
            <a:off x="5448240" y="4267080"/>
            <a:ext cx="4103640" cy="91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איוב י' טז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68400" y="2536920"/>
            <a:ext cx="10210680" cy="131148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ותשב  ותת</a:t>
            </a: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80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פלא   בי</a:t>
            </a:r>
            <a:r>
              <a:rPr b="1" lang="en-US" sz="8000" spc="-1" strike="noStrike">
                <a:solidFill>
                  <a:srgbClr val="fafd00"/>
                </a:solidFill>
                <a:latin typeface="Times New Roman"/>
                <a:ea typeface="Levenim MT"/>
              </a:rPr>
              <a:t>   </a:t>
            </a:r>
            <a:endParaRPr b="0" lang="en-US" sz="8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38160" y="2514600"/>
            <a:ext cx="10210680" cy="131148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afd00"/>
                </a:solidFill>
                <a:latin typeface="Times New Roman"/>
                <a:ea typeface="Levenim MT"/>
              </a:rPr>
              <a:t>                     </a:t>
            </a:r>
            <a:r>
              <a:rPr b="1" lang="he-IL" sz="80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טי</a:t>
            </a:r>
            <a:r>
              <a:rPr b="1" lang="en-US" sz="8000" spc="-1" strike="noStrike">
                <a:solidFill>
                  <a:srgbClr val="fafd00"/>
                </a:solidFill>
                <a:latin typeface="Times New Roman"/>
                <a:ea typeface="Levenim MT"/>
              </a:rPr>
              <a:t>   </a:t>
            </a:r>
            <a:endParaRPr b="0" lang="en-US" sz="8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1181160" y="4952880"/>
            <a:ext cx="91058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Arial"/>
              </a:rPr>
              <a:t>דוגמה לסבל  האולטימטיבי....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3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50000">
              <a:srgbClr val="00004c"/>
            </a:gs>
            <a:gs pos="100000">
              <a:srgbClr val="0000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952560" y="2286000"/>
            <a:ext cx="858996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c0100"/>
                </a:solidFill>
                <a:latin typeface="Times New Roman"/>
                <a:ea typeface="Levenim MT"/>
              </a:rPr>
              <a:t> </a:t>
            </a:r>
            <a:r>
              <a:rPr b="1" lang="en-US" sz="5400" spc="-1" strike="noStrike">
                <a:solidFill>
                  <a:srgbClr val="fc0100"/>
                </a:solidFill>
                <a:latin typeface="Times New Roman"/>
                <a:ea typeface="Levenim MT"/>
              </a:rPr>
              <a:t>  </a:t>
            </a:r>
            <a:r>
              <a:rPr b="1" lang="he-IL" sz="5400" spc="-1" strike="noStrike">
                <a:solidFill>
                  <a:srgbClr val="fc0100"/>
                </a:solidFill>
                <a:latin typeface="Times New Roman"/>
                <a:ea typeface="Levenim MT"/>
              </a:rPr>
              <a:t> </a:t>
            </a:r>
            <a:r>
              <a:rPr b="1" lang="he-IL" sz="54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דר'</a:t>
            </a: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Levenim MT"/>
              </a:rPr>
              <a:t> </a:t>
            </a:r>
            <a:r>
              <a:rPr b="1" lang="he-IL" sz="5400" spc="-1" strike="noStrike">
                <a:solidFill>
                  <a:srgbClr val="fafd00"/>
                </a:solidFill>
                <a:latin typeface="Times New Roman"/>
                <a:ea typeface="Levenim MT"/>
              </a:rPr>
              <a:t> </a:t>
            </a: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Levenim MT"/>
              </a:rPr>
              <a:t> </a:t>
            </a:r>
            <a:r>
              <a:rPr b="1" lang="he-IL" sz="54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דורון</a:t>
            </a: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Levenim MT"/>
              </a:rPr>
              <a:t>  </a:t>
            </a:r>
            <a:r>
              <a:rPr b="1" lang="he-IL" sz="5400" spc="-1" strike="noStrike">
                <a:solidFill>
                  <a:srgbClr val="fafd00"/>
                </a:solidFill>
                <a:latin typeface="Times New Roman"/>
                <a:ea typeface="Levenim MT"/>
              </a:rPr>
              <a:t> גרפינקל</a:t>
            </a: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Levenim MT"/>
              </a:rPr>
              <a:t>	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4480" y="181080"/>
            <a:ext cx="10287000" cy="15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bfbff"/>
                </a:solidFill>
                <a:latin typeface="Arial"/>
                <a:cs typeface="Levenim MT"/>
              </a:rPr>
              <a:t>הרחבת אופק  הטיפול  התומך   נוכח  תחלואי  המאה  ה - </a:t>
            </a:r>
            <a:r>
              <a:rPr b="1" lang="he-IL" sz="5400" spc="-1" strike="noStrike">
                <a:solidFill>
                  <a:srgbClr val="fbfbff"/>
                </a:solidFill>
                <a:latin typeface="Arial"/>
                <a:ea typeface="Levenim MT"/>
              </a:rPr>
              <a:t>21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pic>
        <p:nvPicPr>
          <p:cNvPr id="65" name="Picture 4" descr="LOGOSHOH"/>
          <p:cNvPicPr/>
          <p:nvPr/>
        </p:nvPicPr>
        <p:blipFill>
          <a:blip r:embed="rId1"/>
          <a:stretch/>
        </p:blipFill>
        <p:spPr>
          <a:xfrm>
            <a:off x="3086280" y="4724280"/>
            <a:ext cx="4267080" cy="2210040"/>
          </a:xfrm>
          <a:prstGeom prst="rect">
            <a:avLst/>
          </a:prstGeom>
          <a:ln w="0">
            <a:noFill/>
          </a:ln>
          <a:effectLst>
            <a:outerShdw dist="117181" dir="19161632" blurRad="0" rotWithShape="0">
              <a:srgbClr val="5a5a00"/>
            </a:outerShdw>
          </a:effectLst>
        </p:spPr>
      </p:pic>
      <p:sp>
        <p:nvSpPr>
          <p:cNvPr id="66" name="Text Box 5"/>
          <p:cNvSpPr/>
          <p:nvPr/>
        </p:nvSpPr>
        <p:spPr>
          <a:xfrm>
            <a:off x="0" y="3124080"/>
            <a:ext cx="10287000" cy="279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fafd00"/>
                </a:solidFill>
                <a:latin typeface="David"/>
                <a:cs typeface="David"/>
              </a:rPr>
              <a:t>מנהל </a:t>
            </a:r>
            <a:r>
              <a:rPr b="1" lang="he-IL" sz="3600" spc="-1" strike="noStrike">
                <a:solidFill>
                  <a:srgbClr val="fafd00"/>
                </a:solidFill>
                <a:latin typeface="David"/>
                <a:ea typeface="David"/>
              </a:rPr>
              <a:t> מחלקת אבחון ושיקום  </a:t>
            </a:r>
            <a:r>
              <a:rPr b="1" lang="he-IL" sz="4000" spc="-1" strike="noStrike">
                <a:solidFill>
                  <a:srgbClr val="fafd00"/>
                </a:solidFill>
                <a:latin typeface="David"/>
                <a:cs typeface="David"/>
              </a:rPr>
              <a:t>והיחידה הפליאטיבית</a:t>
            </a:r>
            <a:r>
              <a:rPr b="1" lang="he-IL" sz="3600" spc="-1" strike="noStrike">
                <a:solidFill>
                  <a:srgbClr val="fafd00"/>
                </a:solidFill>
                <a:latin typeface="David"/>
                <a:ea typeface="David"/>
              </a:rPr>
              <a:t> 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800" spc="-1" strike="noStrike">
                <a:solidFill>
                  <a:srgbClr val="fafd00"/>
                </a:solidFill>
                <a:latin typeface="David"/>
                <a:cs typeface="David"/>
              </a:rPr>
              <a:t>שהם</a:t>
            </a:r>
            <a:r>
              <a:rPr b="1" lang="he-IL" sz="3600" spc="-1" strike="noStrike">
                <a:solidFill>
                  <a:srgbClr val="fafd00"/>
                </a:solidFill>
                <a:latin typeface="David"/>
                <a:ea typeface="David"/>
              </a:rPr>
              <a:t> - המרכז המשולב לרפואה גריאטרית,  פרדס -חנה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0" y="4724280"/>
            <a:ext cx="10248840" cy="2104920"/>
          </a:xfrm>
          <a:prstGeom prst="rect">
            <a:avLst/>
          </a:prstGeom>
          <a:solidFill>
            <a:srgbClr val="fc0128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מדוע  עולה  הנושא  בתקופתנו ?</a:t>
            </a:r>
            <a:r>
              <a:rPr b="1" lang="en-US" sz="66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6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92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192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192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192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-38160" y="1981080"/>
            <a:ext cx="10049040" cy="41148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t">
            <a:normAutofit fontScale="77000"/>
          </a:bodyPr>
          <a:p>
            <a:pPr marL="263880" indent="-263880" algn="ctr">
              <a:lnSpc>
                <a:spcPct val="12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An  Approach Which Improves th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Quality of  Life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 of Patients and  Their Families Facing Life-Threatening Illness, Through  Prevention, Assessment  and Treatment of  Pain  and  Other  Physical, Psychological  and  Spiritual  Problems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endParaRPr b="0" lang="en-US" sz="38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405" name="Object 6"/>
          <p:cNvGraphicFramePr/>
          <p:nvPr/>
        </p:nvGraphicFramePr>
        <p:xfrm>
          <a:off x="-38160" y="1181160"/>
          <a:ext cx="205740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1181160"/>
                    <a:ext cx="2057400" cy="1028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96762" dir="20206406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10325160" cy="114300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ALLIATIVE   CARE</a:t>
            </a:r>
            <a:r>
              <a:rPr b="1" lang="he-IL" sz="6000" spc="-1" strike="noStrike">
                <a:solidFill>
                  <a:srgbClr val="ff0000"/>
                </a:solidFill>
                <a:latin typeface="Arial"/>
              </a:rPr>
              <a:t>טיפול  תומך</a:t>
            </a:r>
            <a:r>
              <a:rPr b="1" lang="he-IL" sz="4400" spc="-1" strike="noStrike">
                <a:solidFill>
                  <a:srgbClr val="00cece"/>
                </a:solidFill>
                <a:latin typeface="Times New Roman"/>
              </a:rPr>
              <a:t>  </a:t>
            </a:r>
            <a:br>
              <a:rPr sz="4400"/>
            </a:br>
            <a:r>
              <a:rPr b="1" lang="en-US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EW DEFINITION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 (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W.H.O.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he-IL" sz="4000" spc="-1" strike="noStrike">
                <a:solidFill>
                  <a:srgbClr val="fafd00"/>
                </a:solidFill>
                <a:latin typeface="Times New Roman"/>
              </a:rPr>
              <a:t>2002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e-IL" sz="4000" spc="-1" strike="noStrike">
                <a:solidFill>
                  <a:srgbClr val="fafd00"/>
                </a:solidFill>
                <a:latin typeface="Times New Roman"/>
              </a:rPr>
              <a:t>הגדרה  חדשה</a:t>
            </a:r>
            <a:r>
              <a:rPr b="0" lang="he-IL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Object 2"/>
          <p:cNvGraphicFramePr/>
          <p:nvPr/>
        </p:nvGraphicFramePr>
        <p:xfrm>
          <a:off x="3571920" y="3657600"/>
          <a:ext cx="157176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3657600"/>
                    <a:ext cx="1571760" cy="3033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10" name="Object 3"/>
          <p:cNvGraphicFramePr/>
          <p:nvPr/>
        </p:nvGraphicFramePr>
        <p:xfrm>
          <a:off x="554040" y="5257800"/>
          <a:ext cx="1760400" cy="13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040" y="5257800"/>
                    <a:ext cx="1760400" cy="1370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96762" dir="14806406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sp>
        <p:nvSpPr>
          <p:cNvPr id="412" name="Line 4"/>
          <p:cNvSpPr/>
          <p:nvPr/>
        </p:nvSpPr>
        <p:spPr>
          <a:xfrm flipH="1">
            <a:off x="1676520" y="1600200"/>
            <a:ext cx="637920" cy="35053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graphicFrame>
        <p:nvGraphicFramePr>
          <p:cNvPr id="413" name="Object 5"/>
          <p:cNvGraphicFramePr/>
          <p:nvPr/>
        </p:nvGraphicFramePr>
        <p:xfrm>
          <a:off x="0" y="12600"/>
          <a:ext cx="5143680" cy="24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2600"/>
                    <a:ext cx="514368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Rectangle 6"/>
          <p:cNvSpPr/>
          <p:nvPr/>
        </p:nvSpPr>
        <p:spPr>
          <a:xfrm>
            <a:off x="7162920" y="4213080"/>
            <a:ext cx="2846160" cy="91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במדבר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4724280" y="4191120"/>
            <a:ext cx="2828880" cy="91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Levenim MT"/>
              </a:rPr>
              <a:t>‘</a:t>
            </a:r>
            <a:r>
              <a:rPr b="1" lang="he-IL" sz="54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יב‘ יג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 rot="370200">
            <a:off x="-1080" y="2293920"/>
            <a:ext cx="9219960" cy="1371600"/>
          </a:xfrm>
          <a:prstGeom prst="wedgeRoundRectCallout">
            <a:avLst>
              <a:gd name="adj1" fmla="val -4023"/>
              <a:gd name="adj2" fmla="val 112888"/>
              <a:gd name="adj3" fmla="val 16667"/>
            </a:avLst>
          </a:prstGeom>
          <a:noFill/>
          <a:ln w="64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18" name="Rectangle 9"/>
          <p:cNvSpPr/>
          <p:nvPr/>
        </p:nvSpPr>
        <p:spPr>
          <a:xfrm rot="465600">
            <a:off x="-5760" y="2432520"/>
            <a:ext cx="8742240" cy="253044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afd00"/>
                </a:solidFill>
                <a:latin typeface="Times New Roman"/>
                <a:cs typeface="Levenim MT"/>
              </a:rPr>
              <a:t>אל נא  רפא נא לה</a:t>
            </a:r>
            <a:r>
              <a:rPr b="1" lang="en-US" sz="8000" spc="-1" strike="noStrike">
                <a:solidFill>
                  <a:srgbClr val="fafd00"/>
                </a:solidFill>
                <a:latin typeface="Times New Roman"/>
                <a:ea typeface="Levenim MT"/>
              </a:rPr>
              <a:t>   </a:t>
            </a:r>
            <a:endParaRPr b="0" lang="en-US" sz="8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3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800"/>
                            </p:stCondLst>
                            <p:childTnLst>
                              <p:par>
                                <p:cTn id="7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300"/>
                            </p:stCondLst>
                            <p:childTnLst>
                              <p:par>
                                <p:cTn id="7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800"/>
                            </p:stCondLst>
                            <p:childTnLst>
                              <p:par>
                                <p:cTn id="74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300"/>
                            </p:stCondLst>
                            <p:childTnLst>
                              <p:par>
                                <p:cTn id="7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8160" y="304920"/>
            <a:ext cx="10248840" cy="823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c0128"/>
                </a:solidFill>
                <a:latin typeface="Times New Roman"/>
                <a:cs typeface="Levenim MT"/>
              </a:rPr>
              <a:t>אספקטים פליאטיבים בגריאטריה</a:t>
            </a: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8160" y="2209680"/>
            <a:ext cx="975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43080" y="1066680"/>
            <a:ext cx="9905760" cy="4597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     המטרה:  גישה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cs typeface="Times New Roman (Hebrew)"/>
              </a:rPr>
              <a:t>רציונאלית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cs typeface="Times New Roman (Hebrew)"/>
              </a:rPr>
              <a:t>לטיפו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במבוגרים  וקשישים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cs typeface="Times New Roman (Hebrew)"/>
              </a:rPr>
              <a:t>בבריאות  וחולי...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8160" y="1744560"/>
            <a:ext cx="1024884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34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גישה מונעת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(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PREVENTIVE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)&lt;-&gt;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רפאה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(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CURATIVE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)&lt;-&gt;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תומכת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PALLIATIVE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)</a:t>
            </a:r>
            <a:r>
              <a:rPr b="0" lang="he-IL" sz="2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76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גישה גריאטרית &lt; &gt; פליאטיבית ושילובן: הגדרות, מטרות, עקרונות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76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אספקטים פליאטיביים במחלות/תסמונות  רפואיות/גריאטריות  סגוליות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76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שפעת משפחה, חברה, תרבות, דת, רוחניות, מוסר, חוק, אתיקה, אנושיות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76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רפואה מבוססת על עובדות 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EBM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) ו -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NEW EBM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!  - האלמנט הכלכלי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43080" y="1004760"/>
            <a:ext cx="2209680" cy="5205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Times New Roman (Hebrew)"/>
              </a:rPr>
              <a:t>ב ח ו ל י</a:t>
            </a:r>
            <a:endParaRPr b="0" lang="en-US" sz="2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6210360" y="1143000"/>
            <a:ext cx="1295280" cy="3070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fafd00"/>
                </a:solidFill>
                <a:latin typeface="Arial"/>
                <a:ea typeface="Times New Roman (Hebrew)"/>
              </a:rPr>
              <a:t> </a:t>
            </a:r>
            <a:endParaRPr b="0" lang="en-US" sz="1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-266760" y="4343400"/>
            <a:ext cx="10553760" cy="307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David"/>
              </a:rPr>
              <a:t> הצוות הבין תחומי, התאמת צפיות 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David"/>
              </a:rPr>
              <a:t> המשכיות הטיפול: בית &lt;–&gt;</a:t>
            </a:r>
            <a:r>
              <a:rPr b="0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  <a:cs typeface="David"/>
              </a:rPr>
              <a:t>בי"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David"/>
              </a:rPr>
              <a:t>&lt;–&gt; מוסד לטיפול ארוך טוו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David"/>
              </a:rPr>
              <a:t> גישה רציונאלית לטיפול תרופת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David"/>
              </a:rPr>
              <a:t>POLYPHARMACY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David"/>
              </a:rPr>
              <a:t>,   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David"/>
              </a:rPr>
              <a:t> טיפול בכאב ותסמינים, טיפול בהפרעות שינה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David"/>
              </a:rPr>
              <a:t> מחלקה גריאטרית פליאטיבית בשהם -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cs typeface="David"/>
              </a:rPr>
              <a:t>הוספיס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0" y="0"/>
            <a:ext cx="10382400" cy="1678680"/>
          </a:xfrm>
          <a:prstGeom prst="rect">
            <a:avLst/>
          </a:prstGeom>
          <a:solidFill>
            <a:srgbClr val="000020"/>
          </a:solidFill>
          <a:ln w="0">
            <a:noFill/>
          </a:ln>
          <a:effectLst>
            <a:outerShdw dist="17819" dir="2700000" blurRad="0" rotWithShape="0">
              <a:srgbClr val="ff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000" spc="-1" strike="noStrike">
                <a:solidFill>
                  <a:srgbClr val="fbfbff"/>
                </a:solidFill>
                <a:latin typeface="Arial"/>
                <a:cs typeface="Levenim MT"/>
              </a:rPr>
              <a:t>שיפור התמודדות החולה ומשפחתו</a:t>
            </a:r>
            <a:endParaRPr b="0" lang="en-US" sz="5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bfbff"/>
                </a:solidFill>
                <a:latin typeface="Arial"/>
                <a:cs typeface="Levenim MT"/>
              </a:rPr>
              <a:t>עם מחלות קשות ומקצרות חיים</a:t>
            </a:r>
            <a:endParaRPr b="0" lang="en-US" sz="5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0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2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77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9" dur="770" fill="hold"/>
                                        <p:tgtEl>
                                          <p:spTgt spid="4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1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142920" y="1092240"/>
          <a:ext cx="10001160" cy="56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092240"/>
                    <a:ext cx="10001160" cy="56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4"/>
          <p:cNvSpPr/>
          <p:nvPr/>
        </p:nvSpPr>
        <p:spPr>
          <a:xfrm>
            <a:off x="5372280" y="6327720"/>
            <a:ext cx="86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276800" y="6327720"/>
            <a:ext cx="138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162240" y="6311880"/>
            <a:ext cx="103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510240" y="6327720"/>
            <a:ext cx="155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66840" y="315756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%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-114480" y="-1066680"/>
            <a:ext cx="10287360" cy="303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lnSpc>
                <a:spcPct val="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r" rtl="1">
              <a:lnSpc>
                <a:spcPct val="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afd00"/>
                </a:solidFill>
                <a:latin typeface="Arial"/>
                <a:cs typeface="David"/>
              </a:rPr>
              <a:t>סיבה ראשונה: השינוי הדמוגרפי - 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algn="ctr" rtl="1">
              <a:lnSpc>
                <a:spcPct val="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David"/>
              </a:rPr>
              <a:t>הארכת תוחלת החיים הממוצעת </a:t>
            </a:r>
            <a:endParaRPr b="0" lang="en-US" sz="48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81360" y="914040"/>
            <a:ext cx="596736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  <a:ea typeface="Arial"/>
              </a:rPr>
              <a:t>SURVIVAL  CURV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1720" y="533520"/>
            <a:ext cx="7972560" cy="129528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SURVIVAL  CURVES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0" y="1523880"/>
          <a:ext cx="1028700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10287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4"/>
          <p:cNvSpPr/>
          <p:nvPr/>
        </p:nvSpPr>
        <p:spPr>
          <a:xfrm>
            <a:off x="6477120" y="6167520"/>
            <a:ext cx="138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029200" y="6167520"/>
            <a:ext cx="97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510000" y="6151680"/>
            <a:ext cx="103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001000" y="6167520"/>
            <a:ext cx="79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61920" y="3233880"/>
            <a:ext cx="252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 %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-114480" y="-152280"/>
            <a:ext cx="102873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afd00"/>
                </a:solidFill>
                <a:latin typeface="Arial"/>
                <a:cs typeface="David"/>
              </a:rPr>
              <a:t>סיבה ראשונה: השינוי הדמוגרפי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-228600" y="1447920"/>
          <a:ext cx="1063008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447920"/>
                    <a:ext cx="106300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Line 3"/>
          <p:cNvSpPr/>
          <p:nvPr/>
        </p:nvSpPr>
        <p:spPr>
          <a:xfrm>
            <a:off x="2400480" y="4038480"/>
            <a:ext cx="716256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734160" y="6404040"/>
            <a:ext cx="138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086440" y="6404040"/>
            <a:ext cx="97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390840" y="6388200"/>
            <a:ext cx="103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8172360" y="6404040"/>
            <a:ext cx="79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80160" y="2860560"/>
            <a:ext cx="1716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%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72480" y="2743200"/>
            <a:ext cx="2228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POTHETIC21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ENTURY</a:t>
            </a:r>
            <a:endParaRPr b="0" lang="en-US" sz="2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-114480" y="-76320"/>
            <a:ext cx="102873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afd00"/>
                </a:solidFill>
                <a:latin typeface="Arial"/>
                <a:cs typeface="David"/>
              </a:rPr>
              <a:t>סיבה ראשונה: השינוי הדמוגרפי</a:t>
            </a:r>
            <a:endParaRPr b="0" lang="en-US" sz="6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0" y="853920"/>
            <a:ext cx="10287000" cy="1282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0128"/>
                </a:solidFill>
                <a:latin typeface="Arial"/>
                <a:ea typeface="David"/>
              </a:rPr>
              <a:t>HOW FAST HAS THE AVERAGE LIFESPAN INCREASED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David"/>
              </a:rPr>
              <a:t>IN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David"/>
              </a:rPr>
              <a:t> THE 20</a:t>
            </a:r>
            <a:r>
              <a:rPr b="1" lang="en-US" sz="4000" spc="-1" strike="noStrike" baseline="30000">
                <a:solidFill>
                  <a:srgbClr val="fc0128"/>
                </a:solidFill>
                <a:latin typeface="Arial"/>
                <a:ea typeface="David"/>
              </a:rPr>
              <a:t>TH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David"/>
              </a:rPr>
              <a:t>.  CENTURY </a:t>
            </a:r>
            <a:endParaRPr b="0" lang="en-US" sz="40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8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38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102870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מהו 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קצב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השינוי של העלייה בתוחלת החיים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RATE  OF  INCREASE  IN  LIFESPAN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6480" y="1266840"/>
          <a:ext cx="10185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1266840"/>
                    <a:ext cx="10185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Line 4"/>
          <p:cNvSpPr/>
          <p:nvPr/>
        </p:nvSpPr>
        <p:spPr>
          <a:xfrm>
            <a:off x="2438280" y="3886200"/>
            <a:ext cx="495324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819840" y="61722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991040" y="61722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581280" y="61722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8251920" y="6172200"/>
            <a:ext cx="7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-1800" y="3170160"/>
            <a:ext cx="2242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RVIVAL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%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3886200" y="3962520"/>
            <a:ext cx="0" cy="2133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5143680" y="3962520"/>
            <a:ext cx="0" cy="2133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7391520" y="3886200"/>
            <a:ext cx="0" cy="2209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3809880" y="6095880"/>
            <a:ext cx="0" cy="152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10" name="Line 14"/>
          <p:cNvSpPr/>
          <p:nvPr/>
        </p:nvSpPr>
        <p:spPr>
          <a:xfrm>
            <a:off x="5295960" y="6095880"/>
            <a:ext cx="0" cy="152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7124760" y="6095880"/>
            <a:ext cx="0" cy="152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8724960" y="6095880"/>
            <a:ext cx="0" cy="152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2438280" y="3886200"/>
            <a:ext cx="2743200" cy="0"/>
          </a:xfrm>
          <a:prstGeom prst="line">
            <a:avLst/>
          </a:prstGeom>
          <a:ln w="57240">
            <a:solidFill>
              <a:srgbClr val="ffcc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-38160" y="0"/>
            <a:ext cx="10318680" cy="1556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David"/>
              </a:rPr>
              <a:t>THE RATE OF INCREASE IN AVERAGE LIFESPAN HAD A 30 FOLD INCREASE IN THE 20</a:t>
            </a:r>
            <a:r>
              <a:rPr b="1" lang="en-US" sz="3200" spc="-1" strike="noStrike" baseline="30000">
                <a:solidFill>
                  <a:srgbClr val="fafd00"/>
                </a:solidFill>
                <a:latin typeface="Arial"/>
                <a:ea typeface="David"/>
              </a:rPr>
              <a:t>TH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David"/>
              </a:rPr>
              <a:t>. CENTURY!!</a:t>
            </a:r>
            <a:endParaRPr b="0" lang="en-US" sz="32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6480" y="5103720"/>
            <a:ext cx="10318680" cy="1739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David"/>
              </a:rPr>
              <a:t>THE MAIN HEALTH CONSEQUENCE OF THIS HUGE LEAP IN LIFE EXPECTANCY- MORE SUFFERING FROM AGE-RELATED DISEASES </a:t>
            </a:r>
            <a:endParaRPr b="0" lang="en-US" sz="3600" spc="-1" strike="noStrike" u="sng">
              <a:solidFill>
                <a:srgbClr val="fafd00"/>
              </a:solidFill>
              <a:uFillTx/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92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192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192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192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9160" y="304920"/>
            <a:ext cx="10115640" cy="1295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c0128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he-IL" sz="4800" spc="-1" strike="noStrike">
                <a:solidFill>
                  <a:srgbClr val="fafd00"/>
                </a:solidFill>
                <a:latin typeface="Levenim MT"/>
                <a:cs typeface="Levenim MT"/>
              </a:rPr>
              <a:t>מחלות  ומוגבלויות תלויות בגיל</a:t>
            </a:r>
            <a:r>
              <a:rPr b="1" lang="he-IL" sz="4400" spc="-1" strike="noStrike">
                <a:solidFill>
                  <a:srgbClr val="fafd00"/>
                </a:solidFill>
                <a:latin typeface="Levenim MT"/>
                <a:ea typeface="Levenim MT"/>
              </a:rPr>
              <a:t>  (</a:t>
            </a:r>
            <a:r>
              <a:rPr b="1" lang="en-US" sz="4400" spc="-1" strike="noStrike">
                <a:solidFill>
                  <a:srgbClr val="fafd00"/>
                </a:solidFill>
                <a:latin typeface="Levenim MT"/>
                <a:ea typeface="Levenim MT"/>
              </a:rPr>
              <a:t>(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AGE  ASSOCIATED  DISEASES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4280" y="1828800"/>
            <a:ext cx="9887040" cy="46483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c0128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THEROSCLEROSIS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ROKE, HEART ATTACK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, Vascular Disease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ANCER                       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OST   TYP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ATARACT                  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NILE  TYP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MENTIA                   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NILE, ALZHEI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PRESSION              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ONOPOLAR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IABETES  MELLITUS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YPE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 A L L 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GLAUCOM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cut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2T02:47:18Z</dcterms:created>
  <dc:creator>DORON</dc:creator>
  <dc:description/>
  <dc:language>en-US</dc:language>
  <cp:lastModifiedBy>דורון</cp:lastModifiedBy>
  <dcterms:modified xsi:type="dcterms:W3CDTF">2010-08-17T05:29:12Z</dcterms:modified>
  <cp:revision>478</cp:revision>
  <dc:subject/>
  <dc:title>ZINC 96</dc:title>
</cp:coreProperties>
</file>