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C6B-6F4E-4F55-9D37-1C02E59DB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BE1-4601-42BB-B81E-8789E0AF894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229B-6708-4C1E-9022-A9F5CDBC00C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43D-92FE-49C7-AB4E-393F1573EE5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F1F6-90A8-4CDB-83BB-0E58CBA5383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8C4-85AB-4DFB-8971-FB52A651E78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C51-7278-436F-999F-1A1304E00CB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8F2-0A3F-4036-B9E7-D2F38F91B2D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0323-8860-4F47-89ED-324D244794F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D29-65C0-46A7-8047-53B107CE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4A0-0B66-4944-A717-6AD49AC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15E-3A7F-42EB-9675-E6298457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F7E-6089-49C6-A419-DD578F47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AB15-4A21-4794-967B-7CD910FD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6FAE-96F1-4D94-B942-969C13CB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462-6B4E-48FF-82A2-44C4560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A1A9-E431-46EA-8B03-A202ACA5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959C-6DA2-41C4-8AB3-2B8FD7ED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35A-7807-44EF-8B49-5BDA0CE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4EB7-89B9-4EA2-B3D3-0441E9C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31B-CFD5-4767-95B4-CBB5E48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DEF-A639-4464-B1BB-A922D0B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A50B-A640-4838-9A1A-58D5D8F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654B-5DD2-4468-BEAB-DFCF0FF1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0272-955D-4F02-90F3-84C01E75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8DE-7A34-4F8B-ADE7-F3990291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957-AED2-402C-AF91-A34296ED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25D-ABB2-44C7-A81D-0DF6132F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1D7-3587-46C9-93BC-6B1F373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AD4-E3C2-4DA5-BF71-5E5FF43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42D-E0FD-4DC6-9B36-23BE7EF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C0B-68C5-40A8-B65B-67D8FFF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1AF-355F-4F0C-BE38-F1931B4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F354-5CE9-4699-B83A-9D5948B95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DB14-DEF0-4875-91B0-FBC74CA9E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5"/>
          <p:cNvGraphicFramePr/>
          <p:nvPr/>
        </p:nvGraphicFramePr>
        <p:xfrm>
          <a:off x="1828800" y="5105520"/>
          <a:ext cx="55627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105520"/>
                    <a:ext cx="5562720" cy="1523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18900000" blurRad="0" rotWithShape="0">
                      <a:srgbClr val="ccffff"/>
                    </a:outerShdw>
                  </a:effectLst>
                </p:spPr>
              </p:pic>
            </p:oleObj>
          </a:graphicData>
        </a:graphic>
      </p:graphicFrame>
      <p:sp>
        <p:nvSpPr>
          <p:cNvPr id="94" name="Rectangle 6"/>
          <p:cNvSpPr/>
          <p:nvPr/>
        </p:nvSpPr>
        <p:spPr>
          <a:xfrm>
            <a:off x="3276720" y="58672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מ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ח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ו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ז 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ד</a:t>
            </a:r>
            <a:r>
              <a:rPr b="1" i="1" lang="en-US" sz="5400" spc="-1" strike="noStrike">
                <a:solidFill>
                  <a:srgbClr val="333399"/>
                </a:solidFill>
                <a:latin typeface="David"/>
                <a:ea typeface="Guttman Haim-Condensed"/>
              </a:rPr>
              <a:t> </a:t>
            </a:r>
            <a:r>
              <a:rPr b="1" i="1" lang="he-IL" sz="5400" spc="-1" strike="noStrike">
                <a:solidFill>
                  <a:srgbClr val="333399"/>
                </a:solidFill>
                <a:latin typeface="David"/>
                <a:cs typeface="Guttman Haim-Condensed"/>
              </a:rPr>
              <a:t>ן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451240" y="5105520"/>
            <a:ext cx="4374720" cy="61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3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 לטיפול  בית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6" name="Object 13"/>
          <p:cNvGraphicFramePr/>
          <p:nvPr/>
        </p:nvGraphicFramePr>
        <p:xfrm>
          <a:off x="1219320" y="380880"/>
          <a:ext cx="5562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80880"/>
                    <a:ext cx="5562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Object 14" descr=""/>
          <p:cNvPicPr/>
          <p:nvPr/>
        </p:nvPicPr>
        <p:blipFill>
          <a:blip r:embed="rId5"/>
          <a:stretch/>
        </p:blipFill>
        <p:spPr>
          <a:xfrm>
            <a:off x="-76320" y="457200"/>
            <a:ext cx="845820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99" name="Text Box 16"/>
          <p:cNvSpPr/>
          <p:nvPr/>
        </p:nvSpPr>
        <p:spPr>
          <a:xfrm>
            <a:off x="0" y="4098960"/>
            <a:ext cx="9144000" cy="198324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00"/>
                </a:solidFill>
                <a:latin typeface="Arial"/>
                <a:cs typeface="David"/>
              </a:rPr>
              <a:t>ד"ר דורון גרפינקל  וד"ר ישראל ברגר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David"/>
                <a:ea typeface="David"/>
              </a:rPr>
              <a:t>   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Object 18" descr=""/>
          <p:cNvPicPr/>
          <p:nvPr/>
        </p:nvPicPr>
        <p:blipFill>
          <a:blip r:embed="rId6"/>
          <a:stretch/>
        </p:blipFill>
        <p:spPr>
          <a:xfrm>
            <a:off x="4648320" y="533520"/>
            <a:ext cx="4114800" cy="2743200"/>
          </a:xfrm>
          <a:prstGeom prst="rect">
            <a:avLst/>
          </a:prstGeom>
          <a:ln w="0">
            <a:noFill/>
          </a:ln>
          <a:effectLst>
            <a:outerShdw dist="169589" dir="20819777" blurRad="0" rotWithShape="0">
              <a:srgbClr val="000000"/>
            </a:outerShdw>
          </a:effectLst>
        </p:spPr>
      </p:pic>
      <p:sp>
        <p:nvSpPr>
          <p:cNvPr id="101" name="Text Box 19"/>
          <p:cNvSpPr/>
          <p:nvPr/>
        </p:nvSpPr>
        <p:spPr>
          <a:xfrm>
            <a:off x="0" y="2162160"/>
            <a:ext cx="9144000" cy="22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הזכות  הבסיסית 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ff"/>
                </a:solidFill>
                <a:latin typeface="Arial"/>
                <a:cs typeface="David"/>
              </a:rPr>
              <a:t>לחיות  ולמות  בבית  בכבוד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-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4775040"/>
            <a:ext cx="9144000" cy="1702440"/>
          </a:xfrm>
          <a:prstGeom prst="rect">
            <a:avLst/>
          </a:prstGeom>
          <a:noFill/>
          <a:ln w="0">
            <a:noFill/>
          </a:ln>
          <a:effectLst>
            <a:outerShdw dist="63360" dir="54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גם כאן פרט לחריגים, אין שום יתרון רפואי או אחר לבי"ח על פני הבית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0" y="228600"/>
          <a:ext cx="16765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676520" cy="2743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59" name="Text Box 6"/>
          <p:cNvSpPr/>
          <p:nvPr/>
        </p:nvSpPr>
        <p:spPr>
          <a:xfrm>
            <a:off x="0" y="1828800"/>
            <a:ext cx="9220320" cy="338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800" spc="-1" strike="noStrike">
                <a:solidFill>
                  <a:srgbClr val="ffffff"/>
                </a:solidFill>
                <a:latin typeface="Arial"/>
              </a:rPr>
              <a:t>חולה סרטן עם תיעוד למחלה מפושטת על-אף טיפולים מכסימליים, סוכם כבלתי ניתן לריפוי ומוצו כל אפשרויות הטיפול המרפא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VE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fffff"/>
                </a:solidFill>
                <a:latin typeface="Arial"/>
              </a:rPr>
              <a:t>ע"י אונקולוג 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4572000"/>
            <a:ext cx="8839080" cy="2104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דרוש הרבה טיפול פליאטיבי ומערכת    שתמשיך ותטפל בסימני הסבל הנלווים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 גם ברגעי תחילת המצוקה הנשימתית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0" y="45720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64" name="Text Box 7"/>
          <p:cNvSpPr/>
          <p:nvPr/>
        </p:nvSpPr>
        <p:spPr>
          <a:xfrm>
            <a:off x="-76320" y="1973160"/>
            <a:ext cx="9144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חול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שמבי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רצון כי גם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בזמן מצוקה נשימתית לא יופנה לבי"ח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כדי להמנ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מחיבור   למכונות הנשמ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 ניתן להסריט בוידאו.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מביע רצון לטיפול כוללני במסגרת הבית ללא הנשמה.     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0" y="609480"/>
          <a:ext cx="16765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1676520" cy="259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68" name="Text Box 10"/>
          <p:cNvSpPr/>
          <p:nvPr/>
        </p:nvSpPr>
        <p:spPr>
          <a:xfrm>
            <a:off x="0" y="1981080"/>
            <a:ext cx="9296280" cy="331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חולה במחלה כרונית קשה שאינה מגיבה                 יותר לתרופות (אירוע מוחי, פרקינסון וכד')  דמנציה קשה ואין תקשורת עם המשפחה. איבוד הכרה במסגרת הבית…            האבחנה המבדלת ארוכה…  בירורים???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0" y="46036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המשפחה מעונינת בטיפול פליאטיב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בלבד: 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i="1" lang="he-IL" sz="4000" spc="-1" strike="noStrike">
                <a:solidFill>
                  <a:srgbClr val="ffffff"/>
                </a:solidFill>
                <a:latin typeface="Arial"/>
                <a:cs typeface="David"/>
              </a:rPr>
              <a:t>גם אם יחלוף האירוע הנוכחי הרי תישאר מכסימום הרמה התפקודית שהייתה קודם"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1245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-152280" y="5738760"/>
            <a:ext cx="9144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כאן ממש קשה להעריך עלות/תועלת רפואית סיעודית של מחלקת אשפוז לעומת הבית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2" name="Object 8"/>
          <p:cNvGraphicFramePr/>
          <p:nvPr/>
        </p:nvGraphicFramePr>
        <p:xfrm>
          <a:off x="0" y="2057400"/>
          <a:ext cx="14479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1447920" cy="3276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74" name="Text Box 10"/>
          <p:cNvSpPr/>
          <p:nvPr/>
        </p:nvSpPr>
        <p:spPr>
          <a:xfrm>
            <a:off x="0" y="1219320"/>
            <a:ext cx="9220320" cy="257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חולה דמנטי שהפסיק לאכול והמשפחה ביקשה לא לפנות למסגרת סיעוד מורכב כי שם יאולצו להאכילו בזונדה (סירוב להאכלה מלאכותית הובע  ע"י החולה בעבר) .                               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-457200" y="3352680"/>
            <a:ext cx="9144000" cy="2378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האם בגלל שנשאר בבית נידון למוות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Arial"/>
              </a:rPr>
              <a:t>בסבל מפצעי לחץ, פטרת לוע ותסמיני תת-תזונה?                                             האם בבי"ח היה נמנע מתופעות אלו או סובל דווקא מתופעות קשות יותר של הזונדה, זיהומי בי"ח קשים יותר וכד'?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7632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1787400"/>
            <a:ext cx="9220320" cy="2908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חולה עם מחלה כרונית קשה והתלקחויות צפויות (שחמת כבד עם אשפוזים רבים עקב אנצפלופתיה כבדית והצטברות מיימת). החולה בהיותו בהכרה צלולה מתעקש להישאר בבית בעת ההחמרה הבאה.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-76320" y="2590920"/>
          <a:ext cx="10670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590920"/>
                    <a:ext cx="1067040" cy="243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80" name="Text Box 7"/>
          <p:cNvSpPr/>
          <p:nvPr/>
        </p:nvSpPr>
        <p:spPr>
          <a:xfrm>
            <a:off x="152280" y="4419720"/>
            <a:ext cx="88394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הרופא נדרש כאן למעקב צמוד, זמינות גבוהה ופליאציה למניעת סבל חריג      (כחנק מנוזלים מצטברים), כל הזמן    ובעיקר בשלב בו יכנס לתרדמת הבאה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7632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0" y="152280"/>
          <a:ext cx="1219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0" y="4878360"/>
            <a:ext cx="9144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ffffff"/>
                </a:solidFill>
                <a:latin typeface="Arial"/>
              </a:rPr>
              <a:t>קוריוז אבסורדי: הוספיס בית אינם  מקבלים לטיפול חולה בלי אבחנה ברורה של סרטן אולי כיוון שההוספיס נתמך ע"י האגודה למלחמה בסרטן? ...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(נכון ל-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0" y="1523880"/>
            <a:ext cx="9220320" cy="3726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. מצב לאחר הוצאת תהליך ממאיר ראשוני            עם ירידה כללית  קשה  במצב  הכללי,    מצב  הקרוי בגריאטריה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ONDITIONING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 או… חולה עם חשד גבוה לממאירות שסרב כל בירור או טיפול נוסף ומבקש לחזור הביתה למות…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Object 5" descr=""/>
          <p:cNvPicPr/>
          <p:nvPr/>
        </p:nvPicPr>
        <p:blipFill>
          <a:blip r:embed="rId1"/>
          <a:stretch/>
        </p:blipFill>
        <p:spPr>
          <a:xfrm>
            <a:off x="0" y="7632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04" name="Rectangle 6"/>
          <p:cNvSpPr/>
          <p:nvPr/>
        </p:nvSpPr>
        <p:spPr>
          <a:xfrm>
            <a:off x="76320" y="609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-76320" y="76320"/>
            <a:ext cx="22291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הזכות  לחיות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ולמות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cs typeface="David"/>
              </a:rPr>
              <a:t>בכבוד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29000" y="137160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 u="sng">
                <a:solidFill>
                  <a:srgbClr val="ccffff"/>
                </a:solidFill>
                <a:uFillTx/>
                <a:latin typeface="Arial"/>
                <a:cs typeface="David"/>
              </a:rPr>
              <a:t>ר ק ע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Object 13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2100240" cy="83808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ff0066"/>
            </a:outerShdw>
          </a:effectLst>
        </p:spPr>
      </p:pic>
      <p:sp>
        <p:nvSpPr>
          <p:cNvPr id="109" name="Text Box 14"/>
          <p:cNvSpPr/>
          <p:nvPr/>
        </p:nvSpPr>
        <p:spPr>
          <a:xfrm>
            <a:off x="0" y="251460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buClr>
                <a:srgbClr val="ffff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Arial"/>
                <a:ea typeface="David"/>
              </a:rPr>
              <a:t> 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קיימת עלייה משמעותית בתוחלת החיים בחולים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הסובלים ממחלות כרוניות וחשוכות  מרפא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ffffff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זמן היוותרות בחיים מרגע הקביעה שאין ריפוי        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מלא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E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)  ועד למות החולה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ולך ומתארך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buClr>
                <a:srgbClr val="ffffff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התוצאות:  התפתחות שירותי ההוספיס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ff"/>
                </a:solidFill>
                <a:latin typeface="Arial"/>
                <a:ea typeface="David"/>
              </a:rPr>
              <a:t>                       </a:t>
            </a:r>
            <a:r>
              <a:rPr b="1" lang="he-IL" sz="3600" spc="-1" strike="noStrike">
                <a:solidFill>
                  <a:srgbClr val="ffffff"/>
                </a:solidFill>
                <a:latin typeface="Arial"/>
                <a:cs typeface="David"/>
              </a:rPr>
              <a:t>והתפיסה הפליאטיבית</a:t>
            </a:r>
            <a:r>
              <a:rPr b="1" lang="he-IL" sz="3600" spc="-1" strike="noStrike">
                <a:solidFill>
                  <a:srgbClr val="ff0066"/>
                </a:solidFill>
                <a:latin typeface="Arial"/>
                <a:ea typeface="David"/>
              </a:rPr>
              <a:t> </a:t>
            </a:r>
            <a:r>
              <a:rPr b="1" lang="he-IL" sz="3600" spc="-1" strike="noStrike">
                <a:solidFill>
                  <a:srgbClr val="ff0066"/>
                </a:solidFill>
                <a:latin typeface="David"/>
                <a:ea typeface="David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251460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Object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12" name="Rectangle 4"/>
          <p:cNvSpPr/>
          <p:nvPr/>
        </p:nvSpPr>
        <p:spPr>
          <a:xfrm>
            <a:off x="228600" y="762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6320" y="196920"/>
            <a:ext cx="22287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914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גישה   הפליאטיבית  מחייבת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0" y="1981080"/>
            <a:ext cx="9144000" cy="190296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סיוע לחולה בכל מצב  -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גם כשאין ריפוי יש להקל סבל עד למוות 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3430440"/>
            <a:ext cx="9144000" cy="3108960"/>
          </a:xfrm>
          <a:prstGeom prst="rect">
            <a:avLst/>
          </a:prstGeom>
          <a:noFill/>
          <a:ln w="0">
            <a:noFill/>
          </a:ln>
          <a:effectLst>
            <a:outerShdw dist="63360" dir="54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להקל על מכלול הבעיות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גופניות, נפשיות, משפחתיות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חברתיות  וכלכליות -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המעיקות  על  סוף  חייו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David"/>
                <a:cs typeface="David"/>
              </a:rPr>
              <a:t>של החולה הסופני ומשפחתו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057400" cy="91440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ccffff"/>
            </a:outerShdw>
          </a:effectLst>
        </p:spPr>
      </p:pic>
      <p:sp>
        <p:nvSpPr>
          <p:cNvPr id="118" name="Rectangle 4"/>
          <p:cNvSpPr/>
          <p:nvPr/>
        </p:nvSpPr>
        <p:spPr>
          <a:xfrm>
            <a:off x="228600" y="762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3399"/>
                </a:solidFill>
                <a:latin typeface="David"/>
                <a:cs typeface="Levenim MT"/>
              </a:rPr>
              <a:t>מ ח ו ז   ד ן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6320" y="196920"/>
            <a:ext cx="22287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1600" spc="-1" strike="noStrike">
                <a:solidFill>
                  <a:srgbClr val="3399ff"/>
                </a:solidFill>
                <a:latin typeface="David"/>
                <a:ea typeface="Levenim MT"/>
              </a:rPr>
              <a:t> </a:t>
            </a:r>
            <a:r>
              <a:rPr b="1" lang="he-IL" sz="1400" spc="-1" strike="noStrike">
                <a:solidFill>
                  <a:srgbClr val="3399ff"/>
                </a:solidFill>
                <a:latin typeface="David"/>
                <a:cs typeface="Levenim MT"/>
              </a:rPr>
              <a:t>היחידה לטיפול בית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0" y="76320"/>
            <a:ext cx="9144000" cy="15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הזכות לקבלת טיפול בבי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</a:t>
            </a:r>
            <a:r>
              <a:rPr b="1" lang="he-IL" sz="54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גם לחולה סופני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0" y="16621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קיימים חולים המעדיפים להמשיך ולחיות  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בבית  גם  בנוכחות מחלה קשה ומגבילה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אשפוז בבית החולים / טיפול מחוץ לבית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עלול להוות פגיעה קשה באיכות החיים עבורם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-228600" y="4402080"/>
            <a:ext cx="914400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מערכת הבריאות אינה ערוכה באופן ברור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להתמודד עם מכלול הבעיות - רפואיות, אתיות וחוקיות הנובעות  מזכות אדם בסיסית להחליט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</a:t>
            </a:r>
            <a:r>
              <a:rPr b="1" lang="he-IL" sz="4000" spc="-1" strike="noStrike">
                <a:solidFill>
                  <a:srgbClr val="ffffff"/>
                </a:solidFill>
                <a:latin typeface="Times New Roman"/>
                <a:ea typeface="David"/>
              </a:rPr>
              <a:t>                   לגבי גופו, חייו ומקום מותו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 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7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9144000" cy="221004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ffff00"/>
            </a:outerShdw>
          </a:effectLst>
        </p:spPr>
      </p:pic>
      <p:sp>
        <p:nvSpPr>
          <p:cNvPr id="124" name="Text Box 8"/>
          <p:cNvSpPr/>
          <p:nvPr/>
        </p:nvSpPr>
        <p:spPr>
          <a:xfrm>
            <a:off x="0" y="-76320"/>
            <a:ext cx="9144000" cy="16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r>
              <a:rPr b="1" lang="he-IL" sz="6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לחץ לכוון בית החולים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0" y="3060720"/>
            <a:ext cx="883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גורמים מקצועיים לוחצים לעתים על המשפחה והחולה בכוון אשפוז כדי להוריד האחריות הכבדה של טיפול בחולה סופני ושל מוות בבית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6" name="Object 10"/>
          <p:cNvGraphicFramePr/>
          <p:nvPr/>
        </p:nvGraphicFramePr>
        <p:xfrm>
          <a:off x="-228600" y="304920"/>
          <a:ext cx="419112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3049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11"/>
          <p:cNvSpPr/>
          <p:nvPr/>
        </p:nvSpPr>
        <p:spPr>
          <a:xfrm>
            <a:off x="0" y="4889520"/>
            <a:ext cx="8763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לחץ כזה מופעל גם כשברור                             כי אין כל עדיפות לאשפוז על הטיפול בבית                                     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ea typeface="David"/>
              </a:rPr>
              <a:t>                  וגם בניגוד לרצון החולה ומשפחתו</a:t>
            </a:r>
            <a:r>
              <a:rPr b="1" lang="en-US" sz="4000" spc="-1" strike="noStrike">
                <a:solidFill>
                  <a:srgbClr val="ffffff"/>
                </a:solidFill>
                <a:latin typeface="David"/>
                <a:ea typeface="David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7"/>
          <p:cNvSpPr/>
          <p:nvPr/>
        </p:nvSpPr>
        <p:spPr>
          <a:xfrm>
            <a:off x="0" y="2527200"/>
            <a:ext cx="883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כאשר חולה נפטר בבית, אם לרופא מד"א אין פרטים מדויקים לגבי מחלת הנפטר, הוא עלול לסרב לחתום על תעודת פטירה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-76320" y="432756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במקרה כזה מחייב החוק הזמנת קצין משטרה וביצוע תחקיר לגבי אפשרות מוות לא טבעי, לפני שישחרר </a:t>
            </a:r>
            <a:r>
              <a:rPr b="1" lang="he-IL" sz="4000" spc="-1" strike="noStrike">
                <a:solidFill>
                  <a:srgbClr val="ffffff"/>
                </a:solidFill>
                <a:latin typeface="David"/>
                <a:cs typeface="David"/>
              </a:rPr>
              <a:t>הגופה לצורך רשיון קבורה !!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1" name="Picture 10" descr="PE01476_"/>
          <p:cNvPicPr/>
          <p:nvPr/>
        </p:nvPicPr>
        <p:blipFill>
          <a:blip r:embed="rId1"/>
          <a:stretch/>
        </p:blipFill>
        <p:spPr>
          <a:xfrm>
            <a:off x="1981080" y="838080"/>
            <a:ext cx="1905120" cy="1600200"/>
          </a:xfrm>
          <a:prstGeom prst="rect">
            <a:avLst/>
          </a:prstGeom>
          <a:ln w="0">
            <a:noFill/>
          </a:ln>
          <a:effectLst>
            <a:outerShdw dist="77353" dir="21037522" blurRad="0" rotWithShape="0">
              <a:srgbClr val="ffff00"/>
            </a:outerShdw>
          </a:effectLst>
        </p:spPr>
      </p:pic>
      <p:sp>
        <p:nvSpPr>
          <p:cNvPr id="132" name="Text Box 11"/>
          <p:cNvSpPr/>
          <p:nvPr/>
        </p:nvSpPr>
        <p:spPr>
          <a:xfrm>
            <a:off x="2590920" y="76320"/>
            <a:ext cx="655308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ea typeface="David"/>
              </a:rPr>
              <a:t>   </a:t>
            </a:r>
            <a:r>
              <a:rPr b="1" lang="he-IL" sz="6000" spc="-1" strike="noStrike" u="sng">
                <a:solidFill>
                  <a:srgbClr val="ffff00"/>
                </a:solidFill>
                <a:uFillTx/>
                <a:latin typeface="Arial"/>
                <a:cs typeface="David"/>
              </a:rPr>
              <a:t>הבושה והתסכול</a:t>
            </a:r>
            <a:r>
              <a:rPr b="1" lang="he-IL" sz="6000" spc="-1" strike="noStrike">
                <a:solidFill>
                  <a:srgbClr val="ffff00"/>
                </a:solidFill>
                <a:latin typeface="Arial"/>
                <a:ea typeface="David"/>
              </a:rPr>
              <a:t>…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             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0066"/>
            </a:outerShdw>
          </a:effectLst>
        </p:spPr>
      </p:pic>
      <p:sp>
        <p:nvSpPr>
          <p:cNvPr id="134" name="Rectangle 3"/>
          <p:cNvSpPr/>
          <p:nvPr/>
        </p:nvSpPr>
        <p:spPr>
          <a:xfrm>
            <a:off x="0" y="258840"/>
            <a:ext cx="914400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למות  בבית החולים או בבית</a:t>
            </a:r>
            <a:r>
              <a:rPr b="1" lang="he-IL" sz="7200" spc="-1" strike="noStrike">
                <a:solidFill>
                  <a:srgbClr val="ffff00"/>
                </a:solidFill>
                <a:latin typeface="Arial"/>
                <a:ea typeface="David"/>
              </a:rPr>
              <a:t>?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5715000" y="4038480"/>
          <a:ext cx="3124080" cy="15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038480"/>
                    <a:ext cx="3124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"/>
          <p:cNvGraphicFramePr/>
          <p:nvPr/>
        </p:nvGraphicFramePr>
        <p:xfrm>
          <a:off x="7508880" y="3733920"/>
          <a:ext cx="522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5">
                    <a:alphaModFix amt="50000"/>
                  </a:blip>
                  <a:stretch/>
                </p:blipFill>
                <p:spPr>
                  <a:xfrm>
                    <a:off x="7508880" y="3733920"/>
                    <a:ext cx="52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Object 8" descr=""/>
          <p:cNvPicPr/>
          <p:nvPr/>
        </p:nvPicPr>
        <p:blipFill>
          <a:blip r:embed="rId6"/>
          <a:stretch/>
        </p:blipFill>
        <p:spPr>
          <a:xfrm>
            <a:off x="990720" y="3733920"/>
            <a:ext cx="1904760" cy="2286000"/>
          </a:xfrm>
          <a:prstGeom prst="rect">
            <a:avLst/>
          </a:prstGeom>
          <a:ln w="0">
            <a:noFill/>
          </a:ln>
          <a:effectLst>
            <a:outerShdw dist="40186" dir="9703641" blurRad="0" rotWithShape="0">
              <a:srgbClr val="ccffff"/>
            </a:outerShdw>
          </a:effectLst>
        </p:spPr>
      </p:pic>
      <p:graphicFrame>
        <p:nvGraphicFramePr>
          <p:cNvPr id="140" name="Object 11"/>
          <p:cNvGraphicFramePr/>
          <p:nvPr/>
        </p:nvGraphicFramePr>
        <p:xfrm>
          <a:off x="2819520" y="2209680"/>
          <a:ext cx="3886200" cy="464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2209680"/>
                    <a:ext cx="3886200" cy="464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65719" dir="2133836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Object 12"/>
          <p:cNvGraphicFramePr/>
          <p:nvPr/>
        </p:nvGraphicFramePr>
        <p:xfrm>
          <a:off x="4114800" y="1828800"/>
          <a:ext cx="9907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1828800"/>
                    <a:ext cx="99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גורמים המשפיעים על ההחלטה לקבל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71440" y="1752480"/>
          <a:ext cx="8872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752480"/>
                    <a:ext cx="8872560" cy="5105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189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  <p:sp>
        <p:nvSpPr>
          <p:cNvPr id="147" name="Text Box 5"/>
          <p:cNvSpPr/>
          <p:nvPr/>
        </p:nvSpPr>
        <p:spPr>
          <a:xfrm>
            <a:off x="5105520" y="4976640"/>
            <a:ext cx="4130640" cy="20512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אבחנה ופרוגנוזה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ברורי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14400" y="4816440"/>
            <a:ext cx="2438280" cy="210492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עוצמת  התסמיני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514600" y="1981080"/>
            <a:ext cx="39974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20"/>
                </a:solidFill>
                <a:latin typeface="Arial"/>
                <a:cs typeface="David"/>
              </a:rPr>
              <a:t>נכונות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000020"/>
                </a:solidFill>
                <a:latin typeface="Arial"/>
                <a:cs typeface="David"/>
              </a:rPr>
              <a:t>החולה  והמשפחה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152280" y="4724280"/>
            <a:ext cx="8839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ffffff"/>
                </a:solidFill>
                <a:latin typeface="Arial"/>
              </a:rPr>
              <a:t>כאן ברור כי אין שום יתרון רפואי או אחר לבית חולים על פני הבית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1" name="Object 8"/>
          <p:cNvGraphicFramePr/>
          <p:nvPr/>
        </p:nvGraphicFramePr>
        <p:xfrm>
          <a:off x="0" y="0"/>
          <a:ext cx="1219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3124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fafd00"/>
                    </a:outerShdw>
                  </a:effectLst>
                </p:spPr>
              </p:pic>
            </p:oleObj>
          </a:graphicData>
        </a:graphic>
      </p:graphicFrame>
      <p:sp>
        <p:nvSpPr>
          <p:cNvPr id="153" name="Text Box 9"/>
          <p:cNvSpPr/>
          <p:nvPr/>
        </p:nvSpPr>
        <p:spPr>
          <a:xfrm>
            <a:off x="0" y="2209680"/>
            <a:ext cx="914400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חולה בהמתנה להשתלת אבר חיוני לחיים  (לב, ריאה, כבד)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r" rtl="1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Arial"/>
              </a:rPr>
              <a:t>   אין לרפואה מה להציע כרגע בשום מיקום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0" y="763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Arial"/>
                <a:cs typeface="David"/>
              </a:rPr>
              <a:t>דירוג רמת הקונפליקט האתי  בהחלטה לתת טיפול בבית</a:t>
            </a:r>
            <a:r>
              <a:rPr b="1" lang="he-IL" sz="5400" spc="-1" strike="noStrike">
                <a:solidFill>
                  <a:srgbClr val="ffff00"/>
                </a:solidFill>
                <a:latin typeface="Arial"/>
                <a:ea typeface="David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20:31:31Z</dcterms:created>
  <dc:creator>DR. Or Garfinkel</dc:creator>
  <dc:description/>
  <dc:language>en-US</dc:language>
  <cp:lastModifiedBy>דורון</cp:lastModifiedBy>
  <cp:lastPrinted>2001-02-05T13:44:17Z</cp:lastPrinted>
  <dcterms:modified xsi:type="dcterms:W3CDTF">2010-08-17T06:06:32Z</dcterms:modified>
  <cp:revision>81</cp:revision>
  <dc:subject/>
  <dc:title>ללא כותרת שקופית</dc:title>
</cp:coreProperties>
</file>