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4EA2-E75E-4B7B-A61B-38EE737CF0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9EB-884D-4B96-A519-C5F241189BF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5079-A312-47EC-B7E1-CCAFC897CD3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9DF4-FB8E-4D98-9A01-AE3D4D3EE21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3C7-7FDA-4C46-8E17-9718DE51E4E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2E5-CC07-4D03-95B4-55D960781A8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30A-6290-4CD7-ADF7-11F9C46280E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94E-B61C-4AE3-ABD1-41B69594074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19DD-503D-44FF-B756-43AFC5F2DEF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13F-48C0-4956-A59D-F082CCD9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C98-63EC-4F0A-A8D1-312A220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947-62D4-4643-BC7B-0791811B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0CD-9097-4125-A178-2466FFCE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911B-2D34-4E80-BD56-42A7BEA5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B84-A92C-4EB2-991C-074F7E33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EDAD-3C56-4ADF-8BA4-517EDA88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1E71-0916-4F82-A89A-BB5AFE0D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46D8-6DEA-4749-9075-52758CD2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137D-C68C-4F4E-AB3E-AFAB4AF0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C1B7-7422-4BF1-9552-BE819AA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841-4E7B-4951-8BFA-86A7BCE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A34-8575-4F0F-9FD9-E77888C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F03-9542-45AC-BC39-3F61FA6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2421-28FF-46B6-AE3D-AE4E7E7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B990-0495-45BE-8367-60E53463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79E0-025F-4290-8809-3A89250E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1CA-D6E1-42CF-BC68-943EBBD0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7A2-CE51-48EF-8BD9-25D0FC0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04B-13FF-4C3A-B668-EF18ADC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9A4-1DEC-4E7C-80EA-ADF336BD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AC9-F2FB-452D-B614-E114C71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053-E4F2-448F-A7D0-A3B053A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264-D068-4319-99D8-7245ADD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8BD9-A40B-4619-8806-F0FF627B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7864-ED31-4A2E-A715-E4D5FF953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5"/>
          <p:cNvGraphicFramePr/>
          <p:nvPr/>
        </p:nvGraphicFramePr>
        <p:xfrm>
          <a:off x="1828800" y="5105520"/>
          <a:ext cx="55627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105520"/>
                    <a:ext cx="5562720" cy="1523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18900000" blurRad="0" rotWithShape="0">
                      <a:srgbClr val="ccffff"/>
                    </a:outerShdw>
                  </a:effectLst>
                </p:spPr>
              </p:pic>
            </p:oleObj>
          </a:graphicData>
        </a:graphic>
      </p:graphicFrame>
      <p:sp>
        <p:nvSpPr>
          <p:cNvPr id="94" name="Rectangle 6"/>
          <p:cNvSpPr/>
          <p:nvPr/>
        </p:nvSpPr>
        <p:spPr>
          <a:xfrm>
            <a:off x="3276720" y="58672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מ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ח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ו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ז 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ד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ן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451240" y="5105520"/>
            <a:ext cx="4374720" cy="61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3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Object 13"/>
          <p:cNvGraphicFramePr/>
          <p:nvPr/>
        </p:nvGraphicFramePr>
        <p:xfrm>
          <a:off x="1219320" y="380880"/>
          <a:ext cx="5562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5562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Object 14" descr=""/>
          <p:cNvPicPr/>
          <p:nvPr/>
        </p:nvPicPr>
        <p:blipFill>
          <a:blip r:embed="rId5"/>
          <a:stretch/>
        </p:blipFill>
        <p:spPr>
          <a:xfrm>
            <a:off x="-76320" y="457200"/>
            <a:ext cx="845820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99" name="Text Box 16"/>
          <p:cNvSpPr/>
          <p:nvPr/>
        </p:nvSpPr>
        <p:spPr>
          <a:xfrm>
            <a:off x="0" y="4098960"/>
            <a:ext cx="9144000" cy="19832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David"/>
              </a:rPr>
              <a:t>ד"ר דורון גרפינקל  וד"ר ישראל ברגר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  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Object 18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4114800" cy="2743200"/>
          </a:xfrm>
          <a:prstGeom prst="rect">
            <a:avLst/>
          </a:prstGeom>
          <a:ln w="0">
            <a:noFill/>
          </a:ln>
          <a:effectLst>
            <a:outerShdw dist="169589" dir="20819777" blurRad="0" rotWithShape="0">
              <a:srgbClr val="000000"/>
            </a:outerShdw>
          </a:effectLst>
        </p:spPr>
      </p:pic>
      <p:sp>
        <p:nvSpPr>
          <p:cNvPr id="101" name="Text Box 19"/>
          <p:cNvSpPr/>
          <p:nvPr/>
        </p:nvSpPr>
        <p:spPr>
          <a:xfrm>
            <a:off x="0" y="2162160"/>
            <a:ext cx="9144000" cy="22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ff"/>
                </a:solidFill>
                <a:latin typeface="Arial"/>
                <a:cs typeface="David"/>
              </a:rPr>
              <a:t>הזכות  הבסיסית 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ff"/>
                </a:solidFill>
                <a:latin typeface="Arial"/>
                <a:cs typeface="David"/>
              </a:rPr>
              <a:t>לחיות  ולמות  בבית  בכבוד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-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4775040"/>
            <a:ext cx="9144000" cy="1702440"/>
          </a:xfrm>
          <a:prstGeom prst="rect">
            <a:avLst/>
          </a:prstGeom>
          <a:noFill/>
          <a:ln w="0">
            <a:noFill/>
          </a:ln>
          <a:effectLst>
            <a:outerShdw dist="633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ffffff"/>
                </a:solidFill>
                <a:latin typeface="Arial"/>
              </a:rPr>
              <a:t>גם כאן פרט לחריגים, אין שום יתרון רפואי או אחר לבי"ח על פני הבית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0" y="228600"/>
          <a:ext cx="16765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676520" cy="2743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59" name="Text Box 6"/>
          <p:cNvSpPr/>
          <p:nvPr/>
        </p:nvSpPr>
        <p:spPr>
          <a:xfrm>
            <a:off x="0" y="1828800"/>
            <a:ext cx="9220320" cy="3382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800" spc="-1" strike="noStrike">
                <a:solidFill>
                  <a:srgbClr val="ffffff"/>
                </a:solidFill>
                <a:latin typeface="Arial"/>
              </a:rPr>
              <a:t>חולה סרטן עם תיעוד למחלה מפושטת על-אף טיפולים מכסימליים, סוכם כבלתי ניתן לריפוי ומוצו כל אפשרויות הטיפול המרפא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VE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fffff"/>
                </a:solidFill>
                <a:latin typeface="Arial"/>
              </a:rPr>
              <a:t>ע"י אונקולוג 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4572000"/>
            <a:ext cx="8839080" cy="2104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דרוש הרבה טיפול פליאטיבי ומערכת    שתמשיך ותטפל בסימני הסבל הנלווים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 גם ברגעי תחילת המצוקה הנשימתית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0" y="45720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64" name="Text Box 7"/>
          <p:cNvSpPr/>
          <p:nvPr/>
        </p:nvSpPr>
        <p:spPr>
          <a:xfrm>
            <a:off x="-76320" y="1973160"/>
            <a:ext cx="9144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חולה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שמבי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רצון כי גם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בזמן מצוקה נשימתית לא יופנה לבי"ח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 כדי להמנ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מחיבור   למכונות הנשמה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 ניתן להסריט בוידאו.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מביע רצון לטיפול כוללני במסגרת הבית ללא הנשמה.     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0" y="609480"/>
          <a:ext cx="16765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1676520" cy="259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68" name="Text Box 10"/>
          <p:cNvSpPr/>
          <p:nvPr/>
        </p:nvSpPr>
        <p:spPr>
          <a:xfrm>
            <a:off x="0" y="1981080"/>
            <a:ext cx="9296280" cy="3310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חולה במחלה כרונית קשה שאינה מגיבה                 יותר לתרופות (אירוע מוחי, פרקינסון וכד')  דמנציה קשה ואין תקשורת עם המשפחה. איבוד הכרה במסגרת הבית…            האבחנה המבדלת ארוכה…  בירורים???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0" y="4603680"/>
            <a:ext cx="9144000" cy="2653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המשפחה מעונינת בטיפול פליאטיב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בלבד: 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i="1" lang="he-IL" sz="4000" spc="-1" strike="noStrike">
                <a:solidFill>
                  <a:srgbClr val="ffffff"/>
                </a:solidFill>
                <a:latin typeface="Arial"/>
                <a:cs typeface="David"/>
              </a:rPr>
              <a:t>גם אם יחלוף האירוע הנוכחי הרי תישאר מכסימום הרמה התפקודית שהייתה קודם"    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124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-152280" y="5738760"/>
            <a:ext cx="9144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כאן ממש קשה להעריך עלות/תועלת רפואית סיעודית של מחלקת אשפוז לעומת הבית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2" name="Object 8"/>
          <p:cNvGraphicFramePr/>
          <p:nvPr/>
        </p:nvGraphicFramePr>
        <p:xfrm>
          <a:off x="0" y="2057400"/>
          <a:ext cx="14479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1447920" cy="327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74" name="Text Box 10"/>
          <p:cNvSpPr/>
          <p:nvPr/>
        </p:nvSpPr>
        <p:spPr>
          <a:xfrm>
            <a:off x="0" y="1219320"/>
            <a:ext cx="9220320" cy="257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חולה דמנטי שהפסיק לאכול והמשפחה ביקשה לא לפנות למסגרת סיעוד מורכב כי שם יאולצו להאכילו בזונדה (סירוב להאכלה מלאכותית הובע  ע"י החולה בעבר) .                                   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-457200" y="3352680"/>
            <a:ext cx="9144000" cy="237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האם בגלל שנשאר בבית נידון למוות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בסבל מפצעי לחץ, פטרת לוע ותסמיני תת-תזונה?                                             האם בבי"ח היה נמנע מתופעות אלו או סובל דווקא מתופעות קשות יותר של הזונדה, זיהומי בי"ח קשים יותר וכד'?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7632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1787400"/>
            <a:ext cx="9220320" cy="2908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חולה עם מחלה כרונית קשה והתלקחויות צפויות (שחמת כבד עם אשפוזים רבים עקב אנצפלופתיה כבדית והצטברות מיימת). החולה בהיותו בהכרה צלולה מתעקש להישאר בבית בעת ההחמרה הבאה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-76320" y="2590920"/>
          <a:ext cx="10670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590920"/>
                    <a:ext cx="1067040" cy="243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80" name="Text Box 7"/>
          <p:cNvSpPr/>
          <p:nvPr/>
        </p:nvSpPr>
        <p:spPr>
          <a:xfrm>
            <a:off x="152280" y="4419720"/>
            <a:ext cx="8839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ffffff"/>
                </a:solidFill>
                <a:latin typeface="Arial"/>
              </a:rPr>
              <a:t>הרופא נדרש כאן למעקב צמוד, זמינות גבוהה ופליאציה למניעת סבל חריג      (כחנק מנוזלים מצטברים), כל הזמן    ובעיקר בשלב בו יכנס לתרדמת הבאה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7632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0" y="152280"/>
          <a:ext cx="12193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0" y="4878360"/>
            <a:ext cx="91440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קוריוז אבסורדי: הוספיס בית אינם  מקבלים לטיפול חולה בלי אבחנה ברורה של סרטן אולי כיוון שההוספיס נתמך ע"י האגודה למלחמה בסרטן? ...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(נכון ל-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0" y="1523880"/>
            <a:ext cx="9220320" cy="3726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מצב לאחר הוצאת תהליך ממאיר ראשוני            עם ירידה כללית  קשה  במצב  הכללי,    מצב  הקרוי בגריאטריה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ONDITIONING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 או… חולה עם חשד גבוה לממאירות שסרב כל בירור או טיפול נוסף ומבקש לחזור הביתה למות…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Object 5" descr=""/>
          <p:cNvPicPr/>
          <p:nvPr/>
        </p:nvPicPr>
        <p:blipFill>
          <a:blip r:embed="rId1"/>
          <a:stretch/>
        </p:blipFill>
        <p:spPr>
          <a:xfrm>
            <a:off x="0" y="76320"/>
            <a:ext cx="2057400" cy="91440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sp>
        <p:nvSpPr>
          <p:cNvPr id="104" name="Rectangle 6"/>
          <p:cNvSpPr/>
          <p:nvPr/>
        </p:nvSpPr>
        <p:spPr>
          <a:xfrm>
            <a:off x="76320" y="609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David"/>
                <a:cs typeface="Levenim MT"/>
              </a:rPr>
              <a:t>מ ח ו ז   ד 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-76320" y="76320"/>
            <a:ext cx="22291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1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לטיפול בי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0" y="76212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הזכות  לחיות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ולמות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בכבוד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בבי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29000" y="137160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ccffff"/>
                </a:solidFill>
                <a:uFillTx/>
                <a:latin typeface="Arial"/>
                <a:cs typeface="David"/>
              </a:rPr>
              <a:t>ר ק ע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Object 13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2100240" cy="8380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f0066"/>
            </a:outerShdw>
          </a:effectLst>
        </p:spPr>
      </p:pic>
      <p:sp>
        <p:nvSpPr>
          <p:cNvPr id="109" name="Text Box 14"/>
          <p:cNvSpPr/>
          <p:nvPr/>
        </p:nvSpPr>
        <p:spPr>
          <a:xfrm>
            <a:off x="0" y="251460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buClr>
                <a:srgbClr val="ffff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Arial"/>
                <a:ea typeface="David"/>
              </a:rPr>
              <a:t> 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קיימת עלייה משמעותית בתוחלת החיים בחולים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    הסובלים ממחלות כרוניות וחשוכות  מרפא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ffffff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זמן היוותרות בחיים מרגע הקביעה שאין ריפוי        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    מלא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E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)  ועד למות החולה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הולך ומתארך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ffffff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התוצאות:  התפתחות שירותי ההוספיס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                   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והתפיסה הפליאטיבית</a:t>
            </a:r>
            <a:r>
              <a:rPr b="1" lang="he-IL" sz="3600" spc="-1" strike="noStrike">
                <a:solidFill>
                  <a:srgbClr val="ff0066"/>
                </a:solidFill>
                <a:latin typeface="Arial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Object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91440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sp>
        <p:nvSpPr>
          <p:cNvPr id="112" name="Rectangle 4"/>
          <p:cNvSpPr/>
          <p:nvPr/>
        </p:nvSpPr>
        <p:spPr>
          <a:xfrm>
            <a:off x="228600" y="762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David"/>
                <a:cs typeface="Levenim MT"/>
              </a:rPr>
              <a:t>מ ח ו ז   ד 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6320" y="196920"/>
            <a:ext cx="22287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1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לטיפול בי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914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גישה   הפליאטיבית  מחייבת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0" y="1981080"/>
            <a:ext cx="9144000" cy="190296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סיוע לחולה בכל מצב  -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גם כשאין ריפוי יש להקל סבל עד למוות 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3430440"/>
            <a:ext cx="9144000" cy="3108960"/>
          </a:xfrm>
          <a:prstGeom prst="rect">
            <a:avLst/>
          </a:prstGeom>
          <a:noFill/>
          <a:ln w="0">
            <a:noFill/>
          </a:ln>
          <a:effectLst>
            <a:outerShdw dist="63360" dir="54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להקל על מכלול הבעיות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גופניות, נפשיות, משפחתיות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חברתיות  וכלכליות -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המעיקות  על  סוף  חייו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של החולה הסופני ומשפחתו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91440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sp>
        <p:nvSpPr>
          <p:cNvPr id="118" name="Rectangle 4"/>
          <p:cNvSpPr/>
          <p:nvPr/>
        </p:nvSpPr>
        <p:spPr>
          <a:xfrm>
            <a:off x="228600" y="762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David"/>
                <a:cs typeface="Levenim MT"/>
              </a:rPr>
              <a:t>מ ח ו ז   ד 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6320" y="196920"/>
            <a:ext cx="22287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1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לטיפול בי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76320"/>
            <a:ext cx="9144000" cy="15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הזכות לקבלת טיפול בבי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    </a:t>
            </a:r>
            <a:r>
              <a:rPr b="1" lang="he-IL" sz="54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גם לחולה סופני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0" y="16621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קיימים חולים המעדיפים להמשיך ולחיות  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בבית  גם  בנוכחות מחלה קשה ומגבילה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אשפוז בבית החולים / טיפול מחוץ לבית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עלול להוות פגיעה קשה באיכות החיים עבורם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-228600" y="4402080"/>
            <a:ext cx="914400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מערכת הבריאות אינה ערוכה באופן ברור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להתמודד עם מכלול הבעיות - רפואיות, אתיות וחוקיות הנובעות  מזכות אדם בסיסית להחליט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Times New Roman"/>
                <a:ea typeface="David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Times New Roman"/>
                <a:ea typeface="David"/>
              </a:rPr>
              <a:t>                   לגבי גופו, חייו ומקום מותו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 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7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9144000" cy="221004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fff00"/>
            </a:outerShdw>
          </a:effectLst>
        </p:spPr>
      </p:pic>
      <p:sp>
        <p:nvSpPr>
          <p:cNvPr id="124" name="Text Box 8"/>
          <p:cNvSpPr/>
          <p:nvPr/>
        </p:nvSpPr>
        <p:spPr>
          <a:xfrm>
            <a:off x="0" y="-76320"/>
            <a:ext cx="9144000" cy="16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60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לחץ לכוון בית החולים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    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0" y="3060720"/>
            <a:ext cx="883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גורמים מקצועיים לוחצים לעתים על המשפחה והחולה בכוון אשפוז כדי להוריד האחריות הכבדה של טיפול בחולה סופני ושל מוות בבית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Object 10"/>
          <p:cNvGraphicFramePr/>
          <p:nvPr/>
        </p:nvGraphicFramePr>
        <p:xfrm>
          <a:off x="-228600" y="304920"/>
          <a:ext cx="419112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3049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11"/>
          <p:cNvSpPr/>
          <p:nvPr/>
        </p:nvSpPr>
        <p:spPr>
          <a:xfrm>
            <a:off x="0" y="4889520"/>
            <a:ext cx="876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לחץ כזה מופעל גם כשברור                             כי אין כל עדיפות לאשפוז על הטיפול בבית                                    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וגם בניגוד לרצון החולה ומשפחתו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7"/>
          <p:cNvSpPr/>
          <p:nvPr/>
        </p:nvSpPr>
        <p:spPr>
          <a:xfrm>
            <a:off x="0" y="2527200"/>
            <a:ext cx="883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כאשר חולה נפטר בבית, אם לרופא מד"א אין פרטים מדויקים לגבי מחלת הנפטר, הוא עלול לסרב לחתום על תעודת פטירה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-76320" y="432756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במקרה כזה מחייב החוק הזמנת קצין משטרה וביצוע תחקיר לגבי אפשרות מוות לא טבעי, לפני שישחרר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הגופה לצורך רשיון קבורה !!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1" name="Picture 10" descr="PE01476_"/>
          <p:cNvPicPr/>
          <p:nvPr/>
        </p:nvPicPr>
        <p:blipFill>
          <a:blip r:embed="rId1"/>
          <a:stretch/>
        </p:blipFill>
        <p:spPr>
          <a:xfrm>
            <a:off x="1981080" y="838080"/>
            <a:ext cx="1905120" cy="1600200"/>
          </a:xfrm>
          <a:prstGeom prst="rect">
            <a:avLst/>
          </a:prstGeom>
          <a:ln w="0">
            <a:noFill/>
          </a:ln>
          <a:effectLst>
            <a:outerShdw dist="77353" dir="21037522" blurRad="0" rotWithShape="0">
              <a:srgbClr val="ffff00"/>
            </a:outerShdw>
          </a:effectLst>
        </p:spPr>
      </p:pic>
      <p:sp>
        <p:nvSpPr>
          <p:cNvPr id="132" name="Text Box 11"/>
          <p:cNvSpPr/>
          <p:nvPr/>
        </p:nvSpPr>
        <p:spPr>
          <a:xfrm>
            <a:off x="2590920" y="76320"/>
            <a:ext cx="655308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ea typeface="David"/>
              </a:rPr>
              <a:t>   </a:t>
            </a:r>
            <a:r>
              <a:rPr b="1" lang="he-IL" sz="60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בושה והתסכול</a:t>
            </a:r>
            <a:r>
              <a:rPr b="1" lang="he-IL" sz="6000" spc="-1" strike="noStrike">
                <a:solidFill>
                  <a:srgbClr val="ffff00"/>
                </a:solidFill>
                <a:latin typeface="Arial"/>
                <a:ea typeface="David"/>
              </a:rPr>
              <a:t>…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      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</p:pic>
      <p:sp>
        <p:nvSpPr>
          <p:cNvPr id="134" name="Rectangle 3"/>
          <p:cNvSpPr/>
          <p:nvPr/>
        </p:nvSpPr>
        <p:spPr>
          <a:xfrm>
            <a:off x="0" y="258840"/>
            <a:ext cx="914400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למות  בבית החולים או בבית</a:t>
            </a:r>
            <a:r>
              <a:rPr b="1" lang="he-IL" sz="7200" spc="-1" strike="noStrike">
                <a:solidFill>
                  <a:srgbClr val="ffff00"/>
                </a:solidFill>
                <a:latin typeface="Arial"/>
                <a:ea typeface="David"/>
              </a:rPr>
              <a:t>?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5715000" y="4038480"/>
          <a:ext cx="3124080" cy="15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038480"/>
                    <a:ext cx="3124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7508880" y="3733920"/>
          <a:ext cx="522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508880" y="373392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Object 8" descr=""/>
          <p:cNvPicPr/>
          <p:nvPr/>
        </p:nvPicPr>
        <p:blipFill>
          <a:blip r:embed="rId6"/>
          <a:stretch/>
        </p:blipFill>
        <p:spPr>
          <a:xfrm>
            <a:off x="990720" y="3733920"/>
            <a:ext cx="1904760" cy="2286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ccffff"/>
            </a:outerShdw>
          </a:effectLst>
        </p:spPr>
      </p:pic>
      <p:graphicFrame>
        <p:nvGraphicFramePr>
          <p:cNvPr id="140" name="Object 11"/>
          <p:cNvGraphicFramePr/>
          <p:nvPr/>
        </p:nvGraphicFramePr>
        <p:xfrm>
          <a:off x="2819520" y="2209680"/>
          <a:ext cx="3886200" cy="464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2209680"/>
                    <a:ext cx="3886200" cy="464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65719" dir="21338369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Object 12"/>
          <p:cNvGraphicFramePr/>
          <p:nvPr/>
        </p:nvGraphicFramePr>
        <p:xfrm>
          <a:off x="4114800" y="1828800"/>
          <a:ext cx="9907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1828800"/>
                    <a:ext cx="99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גורמים המשפיעים על ההחלטה לקבל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71440" y="1752480"/>
          <a:ext cx="8872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752480"/>
                    <a:ext cx="8872560" cy="5105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189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147" name="Text Box 5"/>
          <p:cNvSpPr/>
          <p:nvPr/>
        </p:nvSpPr>
        <p:spPr>
          <a:xfrm>
            <a:off x="5105520" y="4976640"/>
            <a:ext cx="4130640" cy="20512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אבחנה ופרוגנוזה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ברורי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14400" y="4816440"/>
            <a:ext cx="2438280" cy="210492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עוצמת  התסמיני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514600" y="1981080"/>
            <a:ext cx="39974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20"/>
                </a:solidFill>
                <a:latin typeface="Arial"/>
                <a:cs typeface="David"/>
              </a:rPr>
              <a:t>נכונו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החולה  והמשפחה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7"/>
          <p:cNvSpPr/>
          <p:nvPr/>
        </p:nvSpPr>
        <p:spPr>
          <a:xfrm>
            <a:off x="152280" y="4724280"/>
            <a:ext cx="8839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ffffff"/>
                </a:solidFill>
                <a:latin typeface="Arial"/>
              </a:rPr>
              <a:t>כאן ברור כי אין שום יתרון רפואי או אחר לבית חולים על פני הבית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1" name="Object 8"/>
          <p:cNvGraphicFramePr/>
          <p:nvPr/>
        </p:nvGraphicFramePr>
        <p:xfrm>
          <a:off x="0" y="0"/>
          <a:ext cx="1219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3124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53" name="Text Box 9"/>
          <p:cNvSpPr/>
          <p:nvPr/>
        </p:nvSpPr>
        <p:spPr>
          <a:xfrm>
            <a:off x="0" y="2209680"/>
            <a:ext cx="914400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80000"/>
              </a:lnSpc>
              <a:spcBef>
                <a:spcPts val="27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חולה בהמתנה להשתלת אבר חיוני לחיים  (לב, ריאה, כבד)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 אין לרפואה מה להציע כרגע בשום מיקום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20:31:31Z</dcterms:created>
  <dc:creator>DR. Or Garfinkel</dc:creator>
  <dc:description/>
  <dc:language>en-US</dc:language>
  <cp:lastModifiedBy>דורון</cp:lastModifiedBy>
  <cp:lastPrinted>2001-02-05T13:44:17Z</cp:lastPrinted>
  <dcterms:modified xsi:type="dcterms:W3CDTF">2010-08-17T06:06:32Z</dcterms:modified>
  <cp:revision>81</cp:revision>
  <dc:subject/>
  <dc:title>ללא כותרת שקופית</dc:title>
</cp:coreProperties>
</file>