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18.jpeg" ContentType="image/jpeg"/>
  <Override PartName="/ppt/media/image19.jpeg" ContentType="image/jpeg"/>
  <Override PartName="/ppt/media/image11.png" ContentType="image/png"/>
  <Override PartName="/ppt/media/image6.wmf" ContentType="image/x-wmf"/>
  <Override PartName="/ppt/media/image20.jpeg" ContentType="image/jpeg"/>
  <Override PartName="/ppt/media/image12.wmf" ContentType="image/x-wmf"/>
  <Override PartName="/ppt/media/image9.wmf" ContentType="image/x-wmf"/>
  <Override PartName="/ppt/media/type.wav" ContentType="audio/x-wav"/>
  <Override PartName="/ppt/media/image7.wmf" ContentType="image/x-wmf"/>
  <Override PartName="/ppt/media/image30.jpeg" ContentType="image/jpeg"/>
  <Override PartName="/ppt/media/image31.png" ContentType="image/png"/>
  <Override PartName="/ppt/media/image32.jpeg" ContentType="image/jpeg"/>
  <Override PartName="/ppt/media/image8.wmf" ContentType="image/x-wmf"/>
  <Override PartName="/ppt/media/image33.jpeg" ContentType="image/jpeg"/>
  <Override PartName="/ppt/media/image27.jpeg" ContentType="image/jpeg"/>
  <Override PartName="/ppt/media/image28.wmf" ContentType="image/x-wmf"/>
  <Override PartName="/ppt/media/image10.png" ContentType="image/png"/>
  <Override PartName="/ppt/media/image35.jpeg" ContentType="image/jpeg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1.wmf" ContentType="image/x-wmf"/>
  <Override PartName="/ppt/media/image13.jpeg" ContentType="image/jpe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9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-36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88584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he-IL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A04F8A-CACA-4A8A-A234-CB1201FE35C5}" type="slidenum">
              <a:rPr b="0" i="1" lang="he-I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860400" y="851040"/>
            <a:ext cx="513720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D32235-9292-4773-88FD-883B69FDA278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A0C0F6-FFE1-4488-AC4D-68FA012A74DA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5E59CB-1221-4032-BA64-14C4039E0C70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60400" y="851040"/>
            <a:ext cx="5137200" cy="3425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5"/>
          <p:cNvSpPr/>
          <p:nvPr/>
        </p:nvSpPr>
        <p:spPr>
          <a:xfrm>
            <a:off x="3886200" y="9306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D0E5D6-51E1-4FE3-B124-DF042A4C4754}" type="slidenum">
              <a:rPr b="0" i="1" lang="he-IL" sz="1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58960" y="851040"/>
            <a:ext cx="5140080" cy="3425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645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000-9181-46D9-9DA0-B5106809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092-21DC-4961-B4AF-118A7A17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2F4-8ABE-4AA9-B21E-3F33B311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FE9-3075-4CF4-8CAC-BC75592B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C88-9945-4998-BEEC-87DB5A07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DAB-2106-493A-BE1B-9EE58454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2C4-7944-42D6-B2C5-E575F7B0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AF8-2640-4B9A-93FB-ED2E81FD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85560" y="3427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2AC-42DC-4420-B269-DDCBA5DA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B49-F906-471B-85D8-BF0FB78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92B-2F81-4F01-AFC6-2A39E895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A2C-8794-4B73-BCAE-3210415D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afd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9584-E900-4B36-A6C8-3080B7CE3394}" type="slidenum">
              <a:rPr b="0" lang="he-IL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3880"/>
            <a:ext cx="102726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733400"/>
            <a:ext cx="102726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590400" y="52560"/>
            <a:ext cx="141948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ommunabuilder.tapuz.co.il/UsersFolders/uzichitman/images/7443_435190_2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news.msn.co.il/NR/rdonlyres/2A5DC095-10AA-4A57-8ACC-333D92A4FC43/23551/Raful041123Dots5ZFull1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bazz.co.il/fs_images/a_big_141_1892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hot.net.il/sip_storage/vod/images/MV019242-P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202.org.il/Pictures/pgishot/mitle/mit30e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267120" y="228240"/>
            <a:ext cx="10820520" cy="114300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LLIATIVE  CARE </a:t>
            </a:r>
            <a:r>
              <a:rPr b="1" lang="he-IL" sz="5400" spc="-1" strike="noStrike">
                <a:solidFill>
                  <a:srgbClr val="ff0000"/>
                </a:solidFill>
                <a:latin typeface="Arial"/>
                <a:cs typeface="David"/>
              </a:rPr>
              <a:t>טיפול פליאטיבי</a:t>
            </a:r>
            <a:r>
              <a:rPr b="1" lang="he-IL" sz="5400" spc="-1" strike="noStrike">
                <a:solidFill>
                  <a:srgbClr val="ff00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f0000"/>
                </a:solidFill>
                <a:latin typeface="Arial"/>
                <a:ea typeface="David"/>
              </a:rPr>
              <a:t>-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W.H.O.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he-IL" sz="4000" spc="-1" strike="noStrike">
                <a:solidFill>
                  <a:srgbClr val="fafd00"/>
                </a:solidFill>
                <a:latin typeface="Times New Roman"/>
              </a:rPr>
              <a:t>2002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) </a:t>
            </a:r>
            <a:r>
              <a:rPr b="1" lang="he-IL" sz="4800" spc="-1" strike="noStrike">
                <a:solidFill>
                  <a:srgbClr val="fafd00"/>
                </a:solidFill>
                <a:latin typeface="Times New Roman"/>
              </a:rPr>
              <a:t>הגדרה  חדשה</a:t>
            </a:r>
            <a:r>
              <a:rPr b="0" lang="he-IL" sz="44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8520" y="1600200"/>
            <a:ext cx="10325160" cy="41148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t">
            <a:normAutofit fontScale="69000"/>
          </a:bodyPr>
          <a:p>
            <a:pPr marL="236520" indent="-23652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גישה  המשפרת  את   איכות   החיים  של חולים   ומשפחותיהם   בהתמודדות   עם  מחלה מאיימת-חיים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  <a:p>
            <a:pPr marL="236520" indent="-23652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דרך   מניעה,  הערכה  וטיפול         בכאב  ובבעיות  אחרות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  <a:p>
            <a:pPr marL="236520" indent="-23652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      גופניות, פסיכולוגיות  ורוחניות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endParaRPr b="0" lang="en-US" sz="3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1866960" y="4038480"/>
            <a:ext cx="3505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203560" y="2957400"/>
            <a:ext cx="20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05280" y="367812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2146320" y="2852640"/>
            <a:ext cx="4049640" cy="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6208560" y="2852640"/>
            <a:ext cx="0" cy="1643040"/>
          </a:xfrm>
          <a:prstGeom prst="line">
            <a:avLst/>
          </a:prstGeom>
          <a:ln w="5724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2146320" y="1773360"/>
            <a:ext cx="0" cy="38163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146320" y="5589720"/>
            <a:ext cx="764532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281400" y="5734080"/>
            <a:ext cx="210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Garamond"/>
                <a:cs typeface="Arial"/>
              </a:rPr>
              <a:t>זמן בחיי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70040" y="4724280"/>
            <a:ext cx="40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8160" y="-76320"/>
            <a:ext cx="10287000" cy="24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5400" spc="-1" strike="noStrike">
                <a:solidFill>
                  <a:srgbClr val="ffff00"/>
                </a:solidFill>
                <a:latin typeface="Arial"/>
                <a:cs typeface="Arial"/>
              </a:rPr>
              <a:t>התפיסה  הפשטנית הנאיבית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5000" spc="-1" strike="noStrike">
                <a:solidFill>
                  <a:srgbClr val="ffff00"/>
                </a:solidFill>
                <a:latin typeface="Arial"/>
                <a:ea typeface="Arial"/>
              </a:rPr>
              <a:t> "</a:t>
            </a:r>
            <a:r>
              <a:rPr b="1" i="1" lang="he-IL" sz="4800" spc="-1" strike="noStrike">
                <a:solidFill>
                  <a:srgbClr val="ffff00"/>
                </a:solidFill>
                <a:latin typeface="Arial"/>
                <a:cs typeface="Arial"/>
              </a:rPr>
              <a:t>המחלה האידיאלית והרופא האידיאלי"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708280" y="2316240"/>
            <a:ext cx="2282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104840" y="25909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Arc 13"/>
          <p:cNvSpPr/>
          <p:nvPr/>
        </p:nvSpPr>
        <p:spPr>
          <a:xfrm flipH="1" flipV="1" rot="4129800">
            <a:off x="6612480" y="2579760"/>
            <a:ext cx="739800" cy="1849320"/>
          </a:xfrm>
          <a:prstGeom prst="pie">
            <a:avLst/>
          </a:prstGeom>
          <a:noFill/>
          <a:ln w="57240">
            <a:solidFill>
              <a:srgbClr val="ff00ff"/>
            </a:solidFill>
            <a:prstDash val="dashDot"/>
            <a:round/>
          </a:ln>
          <a:effectLst>
            <a:outerShdw dist="12600" dir="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7723080" y="2819520"/>
            <a:ext cx="2068560" cy="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5753160" y="2979720"/>
            <a:ext cx="547560" cy="1612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ח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ל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 rot="19478400">
            <a:off x="6645960" y="3449520"/>
            <a:ext cx="1447560" cy="15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רופא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מטפל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ומרפא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7581960" y="2286000"/>
            <a:ext cx="2590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משיך בריא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5565600" y="5091120"/>
            <a:ext cx="1178280" cy="4597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20"/>
                </a:solidFill>
                <a:latin typeface="Arial"/>
                <a:cs typeface="Levenim MT"/>
              </a:rPr>
              <a:t>מוות</a:t>
            </a:r>
            <a:r>
              <a:rPr b="1" lang="he-IL" sz="2400" spc="-1" strike="noStrike">
                <a:solidFill>
                  <a:srgbClr val="000020"/>
                </a:solidFill>
                <a:latin typeface="Arial"/>
                <a:ea typeface="Levenim MT"/>
              </a:rPr>
              <a:t>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210360" y="4197240"/>
            <a:ext cx="0" cy="755640"/>
          </a:xfrm>
          <a:prstGeom prst="line">
            <a:avLst/>
          </a:prstGeom>
          <a:ln w="5724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203560" y="2957400"/>
            <a:ext cx="20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905280" y="367812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5141880" y="2852640"/>
            <a:ext cx="1800" cy="1033560"/>
          </a:xfrm>
          <a:prstGeom prst="line">
            <a:avLst/>
          </a:prstGeom>
          <a:ln w="5724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104840" y="1773360"/>
            <a:ext cx="0" cy="38163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46320" y="5589720"/>
            <a:ext cx="764532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972480" y="5734080"/>
            <a:ext cx="2103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Garamond"/>
                <a:cs typeface="Arial"/>
              </a:rPr>
              <a:t>זמן בחיי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770040" y="4724280"/>
            <a:ext cx="40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8160" y="25909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5448240" y="2819520"/>
            <a:ext cx="3581640" cy="0"/>
          </a:xfrm>
          <a:prstGeom prst="line">
            <a:avLst/>
          </a:prstGeom>
          <a:ln w="57240">
            <a:solidFill>
              <a:srgbClr val="000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824360" y="2514600"/>
            <a:ext cx="547920" cy="1612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ח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ל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448240" y="1828800"/>
            <a:ext cx="3962520" cy="4503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20"/>
                </a:solidFill>
                <a:latin typeface="Arial"/>
                <a:cs typeface="David"/>
              </a:rPr>
              <a:t>אין ריפוי מלא !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5219640" y="2286000"/>
            <a:ext cx="4191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לא ממשיך בריא לגמר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 flipV="1">
            <a:off x="1104840" y="2819520"/>
            <a:ext cx="3276720" cy="3312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1104840" y="5589720"/>
            <a:ext cx="764532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333440" y="2316240"/>
            <a:ext cx="2282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Freeform 24"/>
          <p:cNvSpPr/>
          <p:nvPr/>
        </p:nvSpPr>
        <p:spPr>
          <a:xfrm>
            <a:off x="4305240" y="2819520"/>
            <a:ext cx="838440" cy="75960"/>
          </a:xfrm>
          <a:prstGeom prst="pie">
            <a:avLst/>
          </a:prstGeom>
          <a:noFill/>
          <a:ln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Freeform 25"/>
          <p:cNvSpPr/>
          <p:nvPr/>
        </p:nvSpPr>
        <p:spPr>
          <a:xfrm>
            <a:off x="5372280" y="3352680"/>
            <a:ext cx="838080" cy="114480"/>
          </a:xfrm>
          <a:prstGeom prst="pie">
            <a:avLst/>
          </a:prstGeom>
          <a:noFill/>
          <a:ln w="540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Arc 26"/>
          <p:cNvSpPr/>
          <p:nvPr/>
        </p:nvSpPr>
        <p:spPr>
          <a:xfrm flipH="1" flipV="1" rot="5142000">
            <a:off x="5077440" y="3418560"/>
            <a:ext cx="425520" cy="293400"/>
          </a:xfrm>
          <a:prstGeom prst="pie">
            <a:avLst/>
          </a:pr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Freeform 27"/>
          <p:cNvSpPr/>
          <p:nvPr/>
        </p:nvSpPr>
        <p:spPr>
          <a:xfrm>
            <a:off x="6210360" y="3457440"/>
            <a:ext cx="2485800" cy="1114560"/>
          </a:xfrm>
          <a:prstGeom prst="pie">
            <a:avLst/>
          </a:prstGeom>
          <a:noFill/>
          <a:ln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Line 28"/>
          <p:cNvSpPr/>
          <p:nvPr/>
        </p:nvSpPr>
        <p:spPr>
          <a:xfrm>
            <a:off x="3390840" y="3581280"/>
            <a:ext cx="2895840" cy="914400"/>
          </a:xfrm>
          <a:prstGeom prst="line">
            <a:avLst/>
          </a:prstGeom>
          <a:ln w="10800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Arc 32"/>
          <p:cNvSpPr/>
          <p:nvPr/>
        </p:nvSpPr>
        <p:spPr>
          <a:xfrm flipH="1" flipV="1" rot="5400000">
            <a:off x="7757280" y="4334760"/>
            <a:ext cx="355680" cy="220320"/>
          </a:xfrm>
          <a:prstGeom prst="pie">
            <a:avLst/>
          </a:pr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Rectangle 33"/>
          <p:cNvSpPr/>
          <p:nvPr/>
        </p:nvSpPr>
        <p:spPr>
          <a:xfrm>
            <a:off x="228600" y="76320"/>
            <a:ext cx="10248840" cy="1555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cs typeface="Guttman-Toledo"/>
              </a:rPr>
              <a:t>השינוי בתפיסת בריאות וחולי ההתפכחות במאה ה - </a:t>
            </a: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21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Text Box 34"/>
          <p:cNvSpPr/>
          <p:nvPr/>
        </p:nvSpPr>
        <p:spPr>
          <a:xfrm rot="1085400">
            <a:off x="2362680" y="4096440"/>
            <a:ext cx="5438880" cy="15562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c0128"/>
                </a:solidFill>
                <a:latin typeface="Arial"/>
                <a:ea typeface="David"/>
              </a:rPr>
              <a:t>&lt;&lt;&lt;&lt;&lt; איכות  החיים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Line 35"/>
          <p:cNvSpPr/>
          <p:nvPr/>
        </p:nvSpPr>
        <p:spPr>
          <a:xfrm>
            <a:off x="6515280" y="4510080"/>
            <a:ext cx="2180880" cy="747720"/>
          </a:xfrm>
          <a:prstGeom prst="line">
            <a:avLst/>
          </a:prstGeom>
          <a:ln w="10800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Text Box 37"/>
          <p:cNvSpPr/>
          <p:nvPr/>
        </p:nvSpPr>
        <p:spPr>
          <a:xfrm>
            <a:off x="8877240" y="4800600"/>
            <a:ext cx="91440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676767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AutoShape 38"/>
          <p:cNvSpPr/>
          <p:nvPr/>
        </p:nvSpPr>
        <p:spPr>
          <a:xfrm>
            <a:off x="770040" y="1752480"/>
            <a:ext cx="4678200" cy="685800"/>
          </a:xfrm>
          <a:prstGeom prst="leftArrow">
            <a:avLst>
              <a:gd name="adj1" fmla="val 50000"/>
              <a:gd name="adj2" fmla="val 170538"/>
            </a:avLst>
          </a:prstGeom>
          <a:solidFill>
            <a:srgbClr val="fafd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-343080" y="5029200"/>
            <a:ext cx="4419720" cy="16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הו מצב בריאותי </a:t>
            </a:r>
            <a:r>
              <a:rPr b="1" lang="he-IL" sz="3600" spc="-1" strike="noStrike">
                <a:solidFill>
                  <a:srgbClr val="fafd00"/>
                </a:solidFill>
                <a:latin typeface="Garamond"/>
                <a:ea typeface="Arial"/>
              </a:rPr>
              <a:t>0%</a:t>
            </a:r>
            <a:r>
              <a:rPr b="1" lang="he-IL" sz="1200" spc="-1" strike="noStrike">
                <a:solidFill>
                  <a:srgbClr val="fafd00"/>
                </a:solidFill>
                <a:latin typeface="Garamond"/>
                <a:ea typeface="Arial"/>
              </a:rPr>
              <a:t> </a:t>
            </a:r>
            <a:r>
              <a:rPr b="1" lang="he-IL" sz="3600" spc="-1" strike="noStrike">
                <a:solidFill>
                  <a:srgbClr val="fafd00"/>
                </a:solidFill>
                <a:latin typeface="Garamond"/>
                <a:ea typeface="Arial"/>
              </a:rPr>
              <a:t>? מוות?  גרוע ממוות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8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18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34"/>
          <p:cNvGraphicFramePr/>
          <p:nvPr/>
        </p:nvGraphicFramePr>
        <p:xfrm>
          <a:off x="0" y="0"/>
          <a:ext cx="10287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87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-38160" y="1143000"/>
            <a:ext cx="10287000" cy="80614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David"/>
              </a:rPr>
              <a:t>  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אינה  "תוספת"  לגישות  קיימות,          לא עוד זרם, התמחות או גישה שונה.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מדובר בתפיסת עולם בסיסית, מרכזית המשליכה על  כולנו  "מהרחם  לקבר", מעבר לנושאי בריאות  וחולי:  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ea typeface="David"/>
              </a:rPr>
              <a:t>  גם תכנון איכות החיים והמוות בשיתוף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ea typeface="David"/>
              </a:rPr>
              <a:t> כל פרט ומשפחתו,  וגם השלכות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ea typeface="David"/>
              </a:rPr>
              <a:t> חברתיות, כלכליות ואתיות משמעותיות.</a:t>
            </a:r>
            <a:r>
              <a:rPr b="1" lang="he-IL" sz="5400" spc="-1" strike="noStrike">
                <a:solidFill>
                  <a:srgbClr val="fc0128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14480" y="-304920"/>
            <a:ext cx="10287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fc0128"/>
                </a:solidFill>
                <a:latin typeface="Arial"/>
                <a:cs typeface="David"/>
              </a:rPr>
              <a:t>התפיסה הפליאטיבית</a:t>
            </a:r>
            <a:endParaRPr b="0" lang="en-US" sz="8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267120" y="228240"/>
            <a:ext cx="10820520" cy="114300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91919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LLIATIVE     CARE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EW DEFINITION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 (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W.H.O.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he-IL" sz="4000" spc="-1" strike="noStrike">
                <a:solidFill>
                  <a:srgbClr val="fafd00"/>
                </a:solidFill>
                <a:latin typeface="Times New Roman"/>
              </a:rPr>
              <a:t>2002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8520" y="1600200"/>
            <a:ext cx="10325160" cy="411480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fc0128"/>
            </a:outerShdw>
          </a:effectLst>
        </p:spPr>
        <p:txBody>
          <a:bodyPr lIns="92160" rIns="92160" tIns="46080" bIns="46080" anchor="t">
            <a:normAutofit fontScale="69000"/>
          </a:bodyPr>
          <a:p>
            <a:pPr marL="236520" indent="-23652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גישה  המשפרת  את   איכות   החיים  של חולים   ומשפחותיהם   בהתמודדות   עם  מחלה מאיימת-חיים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  <a:p>
            <a:pPr marL="236520" indent="-23652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דרך   מניעה,  הערכה  וטיפול         בכאב  ובבעיות  אחרות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  <a:p>
            <a:pPr marL="236520" indent="-236520"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      גופניות, פסיכולוגיות  ורוחניות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endParaRPr b="0" lang="en-US" sz="3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-38160" y="1676520"/>
            <a:ext cx="8420040" cy="1434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  <a:cs typeface="David"/>
              </a:rPr>
              <a:t>שאינה מרפאה או מאריכת תוחלת חיים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3390840" y="2438280"/>
            <a:ext cx="3733920" cy="1067040"/>
          </a:xfrm>
          <a:prstGeom prst="ellipse">
            <a:avLst/>
          </a:prstGeom>
          <a:noFill/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009960" y="2514600"/>
            <a:ext cx="7543800" cy="1434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00"/>
                </a:solidFill>
                <a:latin typeface="Arial"/>
                <a:cs typeface="David"/>
              </a:rPr>
              <a:t>שיתוף:צוות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David"/>
              </a:rPr>
              <a:t>&lt; &gt;</a:t>
            </a:r>
            <a:r>
              <a:rPr b="1" lang="he-IL" sz="4400" spc="-1" strike="noStrike">
                <a:solidFill>
                  <a:srgbClr val="ffff00"/>
                </a:solidFill>
                <a:latin typeface="Arial"/>
                <a:ea typeface="David"/>
              </a:rPr>
              <a:t> מטופל </a:t>
            </a:r>
            <a:r>
              <a:rPr b="1" lang="he-IL" sz="3200" spc="-1" strike="noStrike">
                <a:solidFill>
                  <a:srgbClr val="ffff00"/>
                </a:solidFill>
                <a:latin typeface="Arial"/>
                <a:ea typeface="David"/>
              </a:rPr>
              <a:t>&lt; &gt;</a:t>
            </a:r>
            <a:r>
              <a:rPr b="1" lang="he-IL" sz="4400" spc="-1" strike="noStrike">
                <a:solidFill>
                  <a:srgbClr val="ffff00"/>
                </a:solidFill>
                <a:latin typeface="Arial"/>
                <a:ea typeface="David"/>
              </a:rPr>
              <a:t> משפחה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1866960" y="4038480"/>
            <a:ext cx="3505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0" y="5257800"/>
            <a:ext cx="10287000" cy="1312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התייחסות  כוללנית מאד של צוות בין תחומי לבעיות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57160" y="251460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-266760" y="304920"/>
            <a:ext cx="10744200" cy="1921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Times New Roman"/>
                <a:cs typeface="David"/>
              </a:rPr>
              <a:t>ע י ק ר י    התפיסה   הפליאטיבית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0" y="1600200"/>
            <a:ext cx="10287000" cy="22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קביעת אבחנה מדויקת  </a:t>
            </a:r>
            <a:r>
              <a:rPr b="1" lang="he-IL" sz="4000" spc="-1" strike="noStrike" u="sng">
                <a:solidFill>
                  <a:srgbClr val="fafd00"/>
                </a:solidFill>
                <a:uFillTx/>
                <a:latin typeface="Arial"/>
                <a:cs typeface="David"/>
              </a:rPr>
              <a:t>אינה  חיונית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,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אין מקום לבירורים או טיפול במחלה ספציפית,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אלא אם יתרמו להקלת סבל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160" y="3276720"/>
            <a:ext cx="10287000" cy="420588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David"/>
              </a:rPr>
              <a:t>התייחסות   גם  </a:t>
            </a:r>
            <a:r>
              <a:rPr b="1" lang="he-IL" sz="4800" spc="-1" strike="noStrike" u="sng">
                <a:solidFill>
                  <a:srgbClr val="fafd00"/>
                </a:solidFill>
                <a:uFillTx/>
                <a:latin typeface="Arial"/>
                <a:cs typeface="David"/>
              </a:rPr>
              <a:t>למערכות   התמיכה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  <a:ea typeface="David"/>
              </a:rPr>
              <a:t> המשפחתית והחברתית, התמקדות  על  </a:t>
            </a:r>
            <a:r>
              <a:rPr b="1" lang="he-IL" sz="5400" spc="-1" strike="noStrike" u="sng">
                <a:solidFill>
                  <a:srgbClr val="fafd00"/>
                </a:solidFill>
                <a:uFillTx/>
                <a:latin typeface="Arial"/>
                <a:cs typeface="David"/>
              </a:rPr>
              <a:t>איכות החיים ושמירת כבוד האדם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  <a:ea typeface="David"/>
              </a:rPr>
              <a:t> והתלבטויות חוקיות, מוסריות ואתיות בנושא הארכת חיים לעומת </a:t>
            </a:r>
            <a:r>
              <a:rPr b="1" lang="he-IL" sz="4800" spc="-1" strike="noStrike" u="sng">
                <a:solidFill>
                  <a:srgbClr val="fafd00"/>
                </a:solidFill>
                <a:uFillTx/>
                <a:latin typeface="Arial"/>
                <a:cs typeface="David"/>
              </a:rPr>
              <a:t>הקלת סבל</a:t>
            </a:r>
            <a:r>
              <a:rPr b="1" lang="he-IL" sz="4800" spc="-1" strike="noStrike">
                <a:solidFill>
                  <a:srgbClr val="fafd00"/>
                </a:solidFill>
                <a:latin typeface="Arial"/>
                <a:ea typeface="David"/>
              </a:rPr>
              <a:t> .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857160" y="251460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5210280"/>
            <a:ext cx="10287000" cy="190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4400" spc="-1" strike="noStrike">
                <a:solidFill>
                  <a:srgbClr val="fafd00"/>
                </a:solidFill>
                <a:latin typeface="Arial"/>
                <a:cs typeface="David"/>
              </a:rPr>
              <a:t>מודעות לעובדה כי רופא אינו מטפל יחיד  - עירוב </a:t>
            </a:r>
            <a:r>
              <a:rPr b="1" lang="he-IL" sz="4400" spc="-1" strike="noStrike" u="sng">
                <a:solidFill>
                  <a:srgbClr val="fafd00"/>
                </a:solidFill>
                <a:uFillTx/>
                <a:latin typeface="Arial"/>
                <a:cs typeface="David"/>
              </a:rPr>
              <a:t>צוות בין תחומי</a:t>
            </a:r>
            <a:r>
              <a:rPr b="1" lang="he-IL" sz="4400" spc="-1" strike="noStrike">
                <a:solidFill>
                  <a:srgbClr val="fafd00"/>
                </a:solidFill>
                <a:latin typeface="Arial"/>
                <a:ea typeface="David"/>
              </a:rPr>
              <a:t> לטיפול בחולה ובמשפחתו.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8160" y="1676520"/>
            <a:ext cx="10287000" cy="250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*  </a:t>
            </a:r>
            <a:r>
              <a:rPr b="1" lang="he-IL" sz="4400" spc="-1" strike="noStrike">
                <a:solidFill>
                  <a:srgbClr val="fafd00"/>
                </a:solidFill>
                <a:latin typeface="Arial"/>
                <a:cs typeface="David"/>
              </a:rPr>
              <a:t>חשיבות  עליונה  לנושא  תיאום   ציפיות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afd00"/>
                </a:solidFill>
                <a:latin typeface="Arial"/>
                <a:cs typeface="David"/>
              </a:rPr>
              <a:t>בין החולה ומשפחתו  - לבין הצוות המטפל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14480" y="3200400"/>
            <a:ext cx="10287000" cy="25059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afd00"/>
                </a:solidFill>
                <a:latin typeface="Arial"/>
                <a:ea typeface="David"/>
              </a:rPr>
              <a:t>* חשיבות רבה לנושא המשכיות הטיפול (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David"/>
              </a:rPr>
              <a:t>CONTINUITY</a:t>
            </a:r>
            <a:r>
              <a:rPr b="1" lang="he-IL" sz="4400" spc="-1" strike="noStrike">
                <a:solidFill>
                  <a:srgbClr val="fafd00"/>
                </a:solidFill>
                <a:latin typeface="Arial"/>
                <a:ea typeface="David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afd00"/>
                </a:solidFill>
                <a:latin typeface="Arial"/>
                <a:ea typeface="David"/>
              </a:rPr>
              <a:t> בית &gt; בית חולים &gt; מחלקות אשפוז כרוני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-266760" y="228600"/>
            <a:ext cx="10744200" cy="1921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Times New Roman"/>
                <a:cs typeface="David"/>
              </a:rPr>
              <a:t>ע י ק ר י    התפיסה   הפליאטיבית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1032516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c012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Times New Roman"/>
                <a:cs typeface="David"/>
              </a:rPr>
              <a:t>מתי להתחיל???</a:t>
            </a:r>
            <a:r>
              <a:rPr b="1" lang="he-IL" sz="4400" spc="-1" strike="noStrike">
                <a:solidFill>
                  <a:srgbClr val="ffff00"/>
                </a:solidFill>
                <a:latin typeface="Times New Roman"/>
                <a:ea typeface="Levenim MT"/>
              </a:rPr>
              <a:t>  </a:t>
            </a:r>
            <a:r>
              <a:rPr b="1" lang="he-IL" sz="6000" spc="-1" strike="noStrike">
                <a:solidFill>
                  <a:srgbClr val="ffff00"/>
                </a:solidFill>
                <a:latin typeface="Times New Roman"/>
                <a:cs typeface="David"/>
              </a:rPr>
              <a:t>התפיסה הנבונה</a:t>
            </a:r>
            <a:r>
              <a:rPr b="0" lang="he-IL" sz="4000" spc="-1" strike="noStrike">
                <a:solidFill>
                  <a:srgbClr val="00cec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952560" y="3141720"/>
            <a:ext cx="7772400" cy="1595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e80000"/>
              </a:gs>
            </a:gsLst>
            <a:lin ang="27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D I S E A S E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rot="9775800">
            <a:off x="945360" y="1904400"/>
            <a:ext cx="2241720" cy="17334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 rot="20512200">
            <a:off x="6173640" y="4138200"/>
            <a:ext cx="1738440" cy="1652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 flipV="1">
            <a:off x="952560" y="3141720"/>
            <a:ext cx="7858080" cy="15825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8724960" y="3141720"/>
            <a:ext cx="1285920" cy="1582560"/>
          </a:xfrm>
          <a:prstGeom prst="rtTriangle">
            <a:avLst/>
          </a:prstGeom>
          <a:solidFill>
            <a:srgbClr val="808080">
              <a:alpha val="72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8648640" y="3809880"/>
            <a:ext cx="990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Arial"/>
              </a:rPr>
              <a:t>אבל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 rot="20512200">
            <a:off x="9143640" y="4419360"/>
            <a:ext cx="857160" cy="1371600"/>
          </a:xfrm>
          <a:prstGeom prst="upArrow">
            <a:avLst>
              <a:gd name="adj1" fmla="val 50000"/>
              <a:gd name="adj2" fmla="val 40004"/>
            </a:avLst>
          </a:prstGeom>
          <a:solidFill>
            <a:srgbClr val="ff00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AutoShape 14"/>
          <p:cNvSpPr/>
          <p:nvPr/>
        </p:nvSpPr>
        <p:spPr>
          <a:xfrm rot="9775800">
            <a:off x="4559040" y="1925280"/>
            <a:ext cx="857160" cy="1658880"/>
          </a:xfrm>
          <a:prstGeom prst="upArrow">
            <a:avLst>
              <a:gd name="adj1" fmla="val 50000"/>
              <a:gd name="adj2" fmla="val 48383"/>
            </a:avLst>
          </a:prstGeom>
          <a:solidFill>
            <a:srgbClr val="ffff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AutoShape 15"/>
          <p:cNvSpPr/>
          <p:nvPr/>
        </p:nvSpPr>
        <p:spPr>
          <a:xfrm rot="9775800">
            <a:off x="7276680" y="1980720"/>
            <a:ext cx="293760" cy="1233720"/>
          </a:xfrm>
          <a:prstGeom prst="upArrow">
            <a:avLst>
              <a:gd name="adj1" fmla="val 50000"/>
              <a:gd name="adj2" fmla="val 104994"/>
            </a:avLst>
          </a:prstGeom>
          <a:solidFill>
            <a:srgbClr val="ffff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190440" y="1600200"/>
            <a:ext cx="7524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001"/>
                </a:solidFill>
                <a:latin typeface="Arial"/>
                <a:ea typeface="Arial"/>
              </a:rPr>
              <a:t>CURATIVE / life - prolonging therapy</a:t>
            </a:r>
            <a:r>
              <a:rPr b="1" lang="he-IL" sz="2800" spc="-1" strike="noStrike">
                <a:solidFill>
                  <a:srgbClr val="eb0001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eb0001"/>
                </a:solidFill>
                <a:latin typeface="Arial"/>
                <a:ea typeface="Arial"/>
              </a:rPr>
              <a:t> &amp; PREVENTIVE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AutoShape 18"/>
          <p:cNvSpPr/>
          <p:nvPr/>
        </p:nvSpPr>
        <p:spPr>
          <a:xfrm rot="20512200">
            <a:off x="3847680" y="4419360"/>
            <a:ext cx="857160" cy="1371600"/>
          </a:xfrm>
          <a:prstGeom prst="upArrow">
            <a:avLst>
              <a:gd name="adj1" fmla="val 50000"/>
              <a:gd name="adj2" fmla="val 40004"/>
            </a:avLst>
          </a:prstGeom>
          <a:solidFill>
            <a:srgbClr val="ff00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1336680" y="5715000"/>
            <a:ext cx="867420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lieve suffering (Palliative, Hospice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AutoShape 20"/>
          <p:cNvSpPr/>
          <p:nvPr/>
        </p:nvSpPr>
        <p:spPr>
          <a:xfrm rot="20512200">
            <a:off x="2041560" y="4719600"/>
            <a:ext cx="330120" cy="914400"/>
          </a:xfrm>
          <a:prstGeom prst="upArrow">
            <a:avLst>
              <a:gd name="adj1" fmla="val 50000"/>
              <a:gd name="adj2" fmla="val 69248"/>
            </a:avLst>
          </a:prstGeom>
          <a:solidFill>
            <a:srgbClr val="ff0000"/>
          </a:solidFill>
          <a:ln w="47520">
            <a:solidFill>
              <a:srgbClr val="333333"/>
            </a:solidFill>
            <a:miter/>
          </a:ln>
          <a:effectLst>
            <a:outerShdw dist="53966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Arc 21"/>
          <p:cNvSpPr/>
          <p:nvPr/>
        </p:nvSpPr>
        <p:spPr>
          <a:xfrm>
            <a:off x="119160" y="4648320"/>
            <a:ext cx="8682120" cy="2209680"/>
          </a:xfrm>
          <a:prstGeom prst="pie">
            <a:avLst/>
          </a:prstGeom>
          <a:gradFill rotWithShape="0">
            <a:gsLst>
              <a:gs pos="0">
                <a:srgbClr val="333333">
                  <a:alpha val="0"/>
                </a:srgbClr>
              </a:gs>
              <a:gs pos="100000">
                <a:srgbClr val="676767"/>
              </a:gs>
            </a:gsLst>
            <a:path path="rect">
              <a:fillToRect l="50000" t="50000" r="50000" b="50000"/>
            </a:path>
          </a:gradFill>
          <a:ln w="295200">
            <a:solidFill>
              <a:srgbClr val="000020"/>
            </a:solidFill>
            <a:round/>
          </a:ln>
          <a:effectLst>
            <a:outerShdw dist="17819" dir="2700000" blurRad="0" rotWithShape="0">
              <a:srgbClr val="ff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 rot="644400">
            <a:off x="2933280" y="5105160"/>
            <a:ext cx="449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80800"/>
                </a:solidFill>
                <a:latin typeface="Arial"/>
                <a:cs typeface="David"/>
              </a:rPr>
              <a:t>איכות חיים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-719280" y="4648320"/>
            <a:ext cx="44960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80800"/>
                </a:solidFill>
                <a:latin typeface="Arial"/>
                <a:cs typeface="David"/>
              </a:rPr>
              <a:t>איכות חיים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8124840" y="4754520"/>
            <a:ext cx="1285920" cy="10688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  <a:cs typeface="David"/>
              </a:rPr>
              <a:t>מ ו ו ת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4"/>
          <p:cNvSpPr/>
          <p:nvPr/>
        </p:nvSpPr>
        <p:spPr>
          <a:xfrm>
            <a:off x="685800" y="1523880"/>
            <a:ext cx="4533840" cy="8254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b0001"/>
                </a:solidFill>
                <a:latin typeface="Arial"/>
                <a:cs typeface="Arial"/>
              </a:rPr>
              <a:t>טיפול מונע, מרפא, "מאריך חיים</a:t>
            </a:r>
            <a:r>
              <a:rPr b="1" lang="he-IL" sz="2400" spc="-1" strike="noStrike">
                <a:solidFill>
                  <a:srgbClr val="eb0001"/>
                </a:solidFill>
                <a:latin typeface="Arial"/>
                <a:ea typeface="Arial"/>
              </a:rPr>
              <a:t>"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0" y="0"/>
            <a:ext cx="10477440" cy="23464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c0128"/>
                </a:solidFill>
                <a:latin typeface="Impact"/>
                <a:cs typeface="Guttman-Toledo"/>
              </a:rPr>
              <a:t>השינוי ההיסטורי בתפיסת בריאות חולי </a:t>
            </a: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 ממתי להפנים תפיסה פליאטיבית?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722160" y="2057400"/>
            <a:ext cx="2962440" cy="106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  <a:ea typeface="David"/>
              </a:rPr>
              <a:t>    מחלה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AutoShape 25"/>
          <p:cNvSpPr/>
          <p:nvPr/>
        </p:nvSpPr>
        <p:spPr>
          <a:xfrm>
            <a:off x="4543560" y="2057400"/>
            <a:ext cx="1285920" cy="1066680"/>
          </a:xfrm>
          <a:prstGeom prst="rtTriangle">
            <a:avLst/>
          </a:prstGeom>
          <a:solidFill>
            <a:srgbClr val="808080">
              <a:alpha val="72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4467240" y="2468520"/>
            <a:ext cx="990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Arial"/>
              </a:rPr>
              <a:t>אבל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723960" y="3352680"/>
            <a:ext cx="6477120" cy="1067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e80000"/>
              </a:gs>
            </a:gsLst>
            <a:lin ang="27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מ  ח  ל  ה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AutoShape 30"/>
          <p:cNvSpPr/>
          <p:nvPr/>
        </p:nvSpPr>
        <p:spPr>
          <a:xfrm>
            <a:off x="7201080" y="3352680"/>
            <a:ext cx="1087200" cy="1051200"/>
          </a:xfrm>
          <a:prstGeom prst="rtTriangle">
            <a:avLst/>
          </a:prstGeom>
          <a:solidFill>
            <a:srgbClr val="808080">
              <a:alpha val="72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6972480" y="373392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Arial"/>
              </a:rPr>
              <a:t>אבל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 flipV="1">
            <a:off x="733320" y="3352680"/>
            <a:ext cx="6467760" cy="1067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AutoShape 33"/>
          <p:cNvSpPr/>
          <p:nvPr/>
        </p:nvSpPr>
        <p:spPr>
          <a:xfrm rot="16200000">
            <a:off x="2813760" y="2241720"/>
            <a:ext cx="1066680" cy="696960"/>
          </a:xfrm>
          <a:prstGeom prst="rtTriangle">
            <a:avLst/>
          </a:prstGeom>
          <a:solidFill>
            <a:srgbClr val="ff6600">
              <a:alpha val="72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3019320" y="2057040"/>
            <a:ext cx="676440" cy="1066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36"/>
          <p:cNvSpPr/>
          <p:nvPr/>
        </p:nvSpPr>
        <p:spPr>
          <a:xfrm>
            <a:off x="6743880" y="1676520"/>
            <a:ext cx="2286000" cy="97164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מאות קודמות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" name="Text Box 37"/>
          <p:cNvSpPr/>
          <p:nvPr/>
        </p:nvSpPr>
        <p:spPr>
          <a:xfrm>
            <a:off x="7505640" y="2774880"/>
            <a:ext cx="1819440" cy="1434600"/>
          </a:xfrm>
          <a:prstGeom prst="rect">
            <a:avLst/>
          </a:prstGeom>
          <a:solidFill>
            <a:srgbClr val="f7f7ff"/>
          </a:solidFill>
          <a:ln w="442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c0128"/>
                </a:solidFill>
                <a:latin typeface="Arial"/>
                <a:cs typeface="David"/>
              </a:rPr>
              <a:t>מאה </a:t>
            </a:r>
            <a:r>
              <a:rPr b="1" lang="he-IL" sz="4400" spc="-1" strike="noStrike">
                <a:solidFill>
                  <a:srgbClr val="fc0128"/>
                </a:solidFill>
                <a:latin typeface="Arial"/>
                <a:ea typeface="David"/>
              </a:rPr>
              <a:t>20</a:t>
            </a:r>
            <a:r>
              <a:rPr b="1" lang="he-IL" sz="3600" spc="-1" strike="noStrike">
                <a:solidFill>
                  <a:srgbClr val="fc0128"/>
                </a:solidFill>
                <a:latin typeface="Arial"/>
                <a:ea typeface="David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3019320" y="2743200"/>
            <a:ext cx="1285920" cy="4597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dddddd"/>
                </a:solidFill>
                <a:latin typeface="Arial"/>
                <a:cs typeface="Arial"/>
              </a:rPr>
              <a:t>מ ו ו ת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" name="Text Box 39"/>
          <p:cNvSpPr/>
          <p:nvPr/>
        </p:nvSpPr>
        <p:spPr>
          <a:xfrm>
            <a:off x="6524640" y="4114800"/>
            <a:ext cx="1285920" cy="4597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dddddd"/>
                </a:solidFill>
                <a:latin typeface="Arial"/>
                <a:cs typeface="Arial"/>
              </a:rPr>
              <a:t>מ ו ו ת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" name="Text Box 40"/>
          <p:cNvSpPr/>
          <p:nvPr/>
        </p:nvSpPr>
        <p:spPr>
          <a:xfrm>
            <a:off x="8420040" y="3689280"/>
            <a:ext cx="1819440" cy="1434600"/>
          </a:xfrm>
          <a:prstGeom prst="rect">
            <a:avLst/>
          </a:prstGeom>
          <a:solidFill>
            <a:srgbClr val="fc0128"/>
          </a:solidFill>
          <a:ln w="442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7f7ff"/>
                </a:solidFill>
                <a:latin typeface="Arial"/>
                <a:cs typeface="David"/>
              </a:rPr>
              <a:t>מאה </a:t>
            </a:r>
            <a:r>
              <a:rPr b="1" lang="he-IL" sz="4400" spc="-1" strike="noStrike">
                <a:solidFill>
                  <a:srgbClr val="f7f7ff"/>
                </a:solidFill>
                <a:latin typeface="Arial"/>
                <a:ea typeface="David"/>
              </a:rPr>
              <a:t>21</a:t>
            </a:r>
            <a:r>
              <a:rPr b="1" lang="he-IL" sz="3600" spc="-1" strike="noStrike">
                <a:solidFill>
                  <a:srgbClr val="f7f7ff"/>
                </a:solidFill>
                <a:latin typeface="Arial"/>
                <a:ea typeface="David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AutoShape 44"/>
          <p:cNvSpPr/>
          <p:nvPr/>
        </p:nvSpPr>
        <p:spPr>
          <a:xfrm>
            <a:off x="571680" y="6324480"/>
            <a:ext cx="9219960" cy="700200"/>
          </a:xfrm>
          <a:prstGeom prst="rightArrow">
            <a:avLst>
              <a:gd name="adj1" fmla="val 50000"/>
              <a:gd name="adj2" fmla="val 329190"/>
            </a:avLst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Text Box 45"/>
          <p:cNvSpPr/>
          <p:nvPr/>
        </p:nvSpPr>
        <p:spPr>
          <a:xfrm>
            <a:off x="4991040" y="6324480"/>
            <a:ext cx="4267440" cy="642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  <a:cs typeface="David"/>
              </a:rPr>
              <a:t>מ ש ך    ה ח י י 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Text Box 46"/>
          <p:cNvSpPr/>
          <p:nvPr/>
        </p:nvSpPr>
        <p:spPr>
          <a:xfrm>
            <a:off x="733320" y="5943600"/>
            <a:ext cx="9353520" cy="5205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Arial"/>
              </a:rPr>
              <a:t> טיפול מקל סבל ממוקד איכות חיים – פליאטיבי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8267760" y="4576680"/>
            <a:ext cx="771480" cy="1290600"/>
          </a:xfrm>
          <a:prstGeom prst="rect">
            <a:avLst/>
          </a:prstGeom>
          <a:solidFill>
            <a:srgbClr val="333333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7f7ff"/>
                </a:solidFill>
                <a:latin typeface="Arial"/>
              </a:rPr>
              <a:t>מ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7f7ff"/>
                </a:solidFill>
                <a:latin typeface="Arial"/>
              </a:rPr>
              <a:t>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7f7ff"/>
                </a:solidFill>
                <a:latin typeface="Arial"/>
              </a:rPr>
              <a:t>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7f7ff"/>
                </a:solidFill>
                <a:latin typeface="Arial"/>
              </a:rPr>
              <a:t>ת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Rectangle 49"/>
          <p:cNvSpPr/>
          <p:nvPr/>
        </p:nvSpPr>
        <p:spPr>
          <a:xfrm>
            <a:off x="722160" y="4576680"/>
            <a:ext cx="7534440" cy="1290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c0128"/>
              </a:gs>
            </a:gsLst>
            <a:lin ang="189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  <a:cs typeface="Arial"/>
              </a:rPr>
              <a:t>מ   ח   ל   ה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Line 50"/>
          <p:cNvSpPr/>
          <p:nvPr/>
        </p:nvSpPr>
        <p:spPr>
          <a:xfrm flipV="1">
            <a:off x="723960" y="4576680"/>
            <a:ext cx="5410080" cy="106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AutoShape 51"/>
          <p:cNvSpPr/>
          <p:nvPr/>
        </p:nvSpPr>
        <p:spPr>
          <a:xfrm>
            <a:off x="9039240" y="4576680"/>
            <a:ext cx="1285920" cy="1290600"/>
          </a:xfrm>
          <a:prstGeom prst="rtTriangle">
            <a:avLst/>
          </a:prstGeom>
          <a:solidFill>
            <a:srgbClr val="808080">
              <a:alpha val="72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AutoShape 53"/>
          <p:cNvSpPr/>
          <p:nvPr/>
        </p:nvSpPr>
        <p:spPr>
          <a:xfrm>
            <a:off x="6134040" y="4576680"/>
            <a:ext cx="3124440" cy="136692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0128"/>
          </a:solidFill>
          <a:ln w="6048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רק    פליאטיב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       הוספיס 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Text Box 54"/>
          <p:cNvSpPr/>
          <p:nvPr/>
        </p:nvSpPr>
        <p:spPr>
          <a:xfrm>
            <a:off x="8039160" y="5211720"/>
            <a:ext cx="1905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Arial"/>
              </a:rPr>
              <a:t>א   ב   ל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1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0" y="1235160"/>
            <a:ext cx="9944280" cy="7417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afd00"/>
                </a:solidFill>
                <a:latin typeface="Arial"/>
                <a:cs typeface="David"/>
              </a:rPr>
              <a:t>המחקר הפליאטיבי חייב להתמקד במציאת דרכים לנבא מראש, בצורה מדויקת יותר -     את זמן המוות,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David"/>
              </a:rPr>
              <a:t>    </a:t>
            </a:r>
            <a:r>
              <a:rPr b="1" lang="he-IL" sz="4400" spc="-1" strike="noStrike">
                <a:solidFill>
                  <a:srgbClr val="fafd00"/>
                </a:solidFill>
                <a:latin typeface="Arial"/>
                <a:cs typeface="David"/>
              </a:rPr>
              <a:t>את משך הזמן ועוצמות המוגבלות והסבל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afd00"/>
                </a:solidFill>
                <a:latin typeface="Arial"/>
                <a:ea typeface="David"/>
              </a:rPr>
              <a:t> בחודש, בטרימסטר ובשנה האחרונה לחיים...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afd00"/>
                </a:solidFill>
                <a:latin typeface="Arial"/>
                <a:cs typeface="David"/>
              </a:rPr>
              <a:t>זאת, בהתבסס על האבחנות הידועות ועוצמת המוגבלות והסבל בכל תקופה נתונה בחיים...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-266760" y="228600"/>
            <a:ext cx="10744200" cy="10069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Times New Roman"/>
                <a:cs typeface="David"/>
              </a:rPr>
              <a:t>ולמי    ניתנה   הנבואה???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8160" y="2438280"/>
            <a:ext cx="10287000" cy="405504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ffffff"/>
                </a:solidFill>
                <a:uFillTx/>
                <a:latin typeface="Arial"/>
                <a:cs typeface="David"/>
              </a:rPr>
              <a:t>דר' דורון גרפינקל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cs typeface="David"/>
              </a:rPr>
              <a:t>מנהל מחלקת אבחון ושיקום ויחידה פליאטיבית שהם –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David"/>
              </a:rPr>
              <a:t> המרכז המשולב לרפואת הגיל השלישי, פרדס חנה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ffffff"/>
                </a:solidFill>
                <a:uFillTx/>
                <a:latin typeface="Arial"/>
                <a:cs typeface="David"/>
              </a:rPr>
              <a:t>דר' אמיתי אוברמן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 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  <a:cs typeface="David"/>
              </a:rPr>
              <a:t>מנהל בפועל, המחלקה הגריאטרית,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  <a:cs typeface="David"/>
              </a:rPr>
              <a:t>המרכז הרפואי ע"ש ברוך פדה, פוריה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1523880"/>
            <a:ext cx="1040148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160" y="380880"/>
            <a:ext cx="10287000" cy="2227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Arial"/>
                <a:cs typeface="David"/>
              </a:rPr>
              <a:t>העמקת התפיסה הפליאטיבית במאה ה-</a:t>
            </a:r>
            <a:r>
              <a:rPr b="1" lang="he-IL" sz="4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ea typeface="David"/>
              </a:rPr>
              <a:t>21</a:t>
            </a:r>
            <a:r>
              <a:rPr b="1" lang="he-IL" sz="4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3800" spc="-1" strike="noStrike">
                <a:solidFill>
                  <a:srgbClr val="fafd00"/>
                </a:solidFill>
                <a:latin typeface="Arial"/>
                <a:cs typeface="David"/>
              </a:rPr>
              <a:t>הזכות למטופל, החובה למטפל וההישג</a:t>
            </a:r>
            <a:r>
              <a:rPr b="1" lang="he-IL" sz="3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3800" spc="-1" strike="noStrike">
                <a:solidFill>
                  <a:srgbClr val="fafd00"/>
                </a:solidFill>
                <a:latin typeface="Arial"/>
                <a:cs typeface="David"/>
              </a:rPr>
              <a:t>לחברה ולמדינה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10201320" cy="4419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0" y="1523880"/>
            <a:ext cx="10287000" cy="224316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I  WANT  TO  DIE  YOUNG…..   </a:t>
            </a:r>
            <a:endParaRPr b="0" lang="en-US" sz="5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  HEALTHY</a:t>
            </a:r>
            <a:endParaRPr b="0" lang="en-US" sz="5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44" name="Object 4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3124080" cy="2514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</p:pic>
      <p:pic>
        <p:nvPicPr>
          <p:cNvPr id="245" name="Object 5" descr=""/>
          <p:cNvPicPr/>
          <p:nvPr/>
        </p:nvPicPr>
        <p:blipFill>
          <a:blip r:embed="rId2"/>
          <a:stretch/>
        </p:blipFill>
        <p:spPr>
          <a:xfrm>
            <a:off x="7924680" y="4505400"/>
            <a:ext cx="762120" cy="98100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afd00"/>
            </a:outerShdw>
          </a:effectLst>
        </p:spPr>
      </p:pic>
      <p:sp>
        <p:nvSpPr>
          <p:cNvPr id="246" name="Text Box 6"/>
          <p:cNvSpPr/>
          <p:nvPr/>
        </p:nvSpPr>
        <p:spPr>
          <a:xfrm>
            <a:off x="-266760" y="44280"/>
            <a:ext cx="1018548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8800" spc="-1" strike="noStrike">
                <a:solidFill>
                  <a:srgbClr val="fc0128"/>
                </a:solidFill>
                <a:latin typeface="Arial"/>
                <a:cs typeface="David"/>
              </a:rPr>
              <a:t>אז,  איך מתים ???</a:t>
            </a:r>
            <a:r>
              <a:rPr b="1" i="1" lang="en-US" sz="8800" spc="-1" strike="noStrike">
                <a:solidFill>
                  <a:srgbClr val="fc0128"/>
                </a:solidFill>
                <a:latin typeface="Arial"/>
                <a:ea typeface="David"/>
              </a:rPr>
              <a:t>    </a:t>
            </a:r>
            <a:r>
              <a:rPr b="1" i="1" lang="he-IL" sz="8800" spc="-1" strike="noStrike">
                <a:solidFill>
                  <a:srgbClr val="fc0128"/>
                </a:solidFill>
                <a:latin typeface="Arial"/>
                <a:cs typeface="David"/>
              </a:rPr>
              <a:t>או, איך כדאי למות ???</a:t>
            </a:r>
            <a:endParaRPr b="0" lang="en-US" sz="8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8420040" y="6172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NTEGU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0" y="3932280"/>
            <a:ext cx="10287000" cy="1861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afd00"/>
                </a:solidFill>
                <a:latin typeface="Arial"/>
              </a:rPr>
              <a:t>AS LATE IN LIFE AS POSSIBLE !</a:t>
            </a:r>
            <a:endParaRPr b="0" lang="en-US" sz="5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203560" y="2957400"/>
            <a:ext cx="20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905280" y="367812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2146320" y="2852640"/>
            <a:ext cx="4130640" cy="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6195960" y="2852640"/>
            <a:ext cx="1800" cy="2664000"/>
          </a:xfrm>
          <a:prstGeom prst="line">
            <a:avLst/>
          </a:prstGeom>
          <a:ln w="10800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2146320" y="1773360"/>
            <a:ext cx="0" cy="38163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2146320" y="5589720"/>
            <a:ext cx="567036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3281400" y="5734080"/>
            <a:ext cx="210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Garamond"/>
                <a:cs typeface="Arial"/>
              </a:rPr>
              <a:t>זמן בחיי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5711760" y="5589720"/>
            <a:ext cx="9730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afd00"/>
            </a:solidFill>
            <a:miter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afd00"/>
                </a:solidFill>
                <a:latin typeface="Garamond"/>
                <a:cs typeface="Arial"/>
              </a:rPr>
              <a:t>מוות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770040" y="4724280"/>
            <a:ext cx="40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190440" y="0"/>
            <a:ext cx="10287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Arial"/>
              </a:rPr>
              <a:t>מוות פתאומי – גורם בלתי צפוי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-23760" y="2060640"/>
            <a:ext cx="2533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-495360" y="2376360"/>
            <a:ext cx="105537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8000" spc="-1" strike="noStrike">
                <a:solidFill>
                  <a:srgbClr val="fafd00"/>
                </a:solidFill>
                <a:latin typeface="Arial"/>
                <a:cs typeface="David"/>
              </a:rPr>
              <a:t>אז,  איך באמת  מתים</a:t>
            </a:r>
            <a:r>
              <a:rPr b="1" i="1" lang="he-IL" sz="8800" spc="-1" strike="noStrike">
                <a:solidFill>
                  <a:srgbClr val="fafd00"/>
                </a:solidFill>
                <a:latin typeface="Arial"/>
                <a:ea typeface="David"/>
              </a:rPr>
              <a:t> ???</a:t>
            </a:r>
            <a:endParaRPr b="0" lang="en-US" sz="8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1104840" y="25909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62" name="Picture 15" descr="7443_435190_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84840" y="1773360"/>
            <a:ext cx="3602160" cy="29509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fc0128"/>
            </a:outerShdw>
          </a:effectLst>
        </p:spPr>
      </p:pic>
      <p:sp>
        <p:nvSpPr>
          <p:cNvPr id="263" name="Text Box 17"/>
          <p:cNvSpPr/>
          <p:nvPr/>
        </p:nvSpPr>
        <p:spPr>
          <a:xfrm rot="20038800">
            <a:off x="6397200" y="4519080"/>
            <a:ext cx="4079880" cy="2647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או :       נפל בקרב.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נהרג בתאונת דרכים.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תאונת אימונים.. עבודה..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0" y="3505320"/>
            <a:ext cx="6276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afd00"/>
                </a:solidFill>
                <a:latin typeface="Arial"/>
                <a:cs typeface="David"/>
              </a:rPr>
              <a:t>רק  כ- </a:t>
            </a:r>
            <a:r>
              <a:rPr b="1" lang="he-IL" sz="6600" spc="-1" strike="noStrike">
                <a:solidFill>
                  <a:srgbClr val="fafd00"/>
                </a:solidFill>
                <a:latin typeface="Arial"/>
                <a:ea typeface="David"/>
              </a:rPr>
              <a:t>10%</a:t>
            </a:r>
            <a:r>
              <a:rPr b="1" lang="he-IL" sz="6600" spc="-1" strike="noStrike">
                <a:solidFill>
                  <a:srgbClr val="fafd00"/>
                </a:solidFill>
                <a:latin typeface="Arial"/>
                <a:ea typeface="David"/>
              </a:rPr>
              <a:t>     חווים מוות פתאומי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6896160" y="344340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bfc"/>
                </a:solidFill>
                <a:latin typeface="Arial"/>
                <a:cs typeface="David"/>
              </a:rPr>
              <a:t>עוזי חיטמן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c012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203560" y="2957400"/>
            <a:ext cx="20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905280" y="367812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770040" y="4724280"/>
            <a:ext cx="40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69" name="Picture 18" descr="image019"/>
          <p:cNvPicPr/>
          <p:nvPr/>
        </p:nvPicPr>
        <p:blipFill>
          <a:blip r:embed="rId1"/>
          <a:stretch/>
        </p:blipFill>
        <p:spPr>
          <a:xfrm>
            <a:off x="0" y="66600"/>
            <a:ext cx="5181480" cy="6943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1" descr="Raful041123Dots5ZFull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38760" y="66600"/>
            <a:ext cx="5486400" cy="4124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5" descr="a_big_141_18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62440" y="365760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6"/>
          <p:cNvSpPr/>
          <p:nvPr/>
        </p:nvSpPr>
        <p:spPr>
          <a:xfrm>
            <a:off x="495360" y="685800"/>
            <a:ext cx="3962520" cy="1068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דדו                  גנדי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Text Box 27"/>
          <p:cNvSpPr/>
          <p:nvPr/>
        </p:nvSpPr>
        <p:spPr>
          <a:xfrm>
            <a:off x="-190440" y="3276720"/>
            <a:ext cx="4495680" cy="106884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   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התקף לב?     רצח לאומני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5372280" y="457200"/>
            <a:ext cx="190476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b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cs typeface="David"/>
              </a:rPr>
              <a:t>רפול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Text Box 29"/>
          <p:cNvSpPr/>
          <p:nvPr/>
        </p:nvSpPr>
        <p:spPr>
          <a:xfrm>
            <a:off x="8344080" y="3962520"/>
            <a:ext cx="2209680" cy="1264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bfc"/>
                </a:solidFill>
                <a:latin typeface="Arial"/>
                <a:cs typeface="David"/>
              </a:rPr>
              <a:t>יצחק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bfc"/>
                </a:solidFill>
                <a:latin typeface="Arial"/>
                <a:cs typeface="David"/>
              </a:rPr>
              <a:t>רבין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6667560" y="6095880"/>
            <a:ext cx="4495680" cy="70344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c0128"/>
                </a:solidFill>
                <a:latin typeface="Arial"/>
                <a:cs typeface="David"/>
              </a:rPr>
              <a:t>רצח   פוליטי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  <a:ea typeface="David"/>
              </a:rPr>
              <a:t>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Text Box 33"/>
          <p:cNvSpPr/>
          <p:nvPr/>
        </p:nvSpPr>
        <p:spPr>
          <a:xfrm>
            <a:off x="190440" y="-168120"/>
            <a:ext cx="1028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Arial"/>
              </a:rPr>
              <a:t>מוות פתאומי – גורם בלתי צפוי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Text Box 34"/>
          <p:cNvSpPr/>
          <p:nvPr/>
        </p:nvSpPr>
        <p:spPr>
          <a:xfrm>
            <a:off x="5753160" y="2514600"/>
            <a:ext cx="4495680" cy="106884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   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הים לקח אותו בסערה...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Text Box 35"/>
          <p:cNvSpPr/>
          <p:nvPr/>
        </p:nvSpPr>
        <p:spPr>
          <a:xfrm rot="21090600">
            <a:off x="1029600" y="1922760"/>
            <a:ext cx="6153120" cy="2647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  <a:cs typeface="David"/>
              </a:rPr>
              <a:t>הפנמה פסיכולוגית:"מת כמו גיבור.."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  <a:ea typeface="David"/>
              </a:rPr>
              <a:t>  אין סבל משמעותי או סבל קצרצר.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  <a:cs typeface="David"/>
              </a:rPr>
              <a:t>שום סבל לנפטר ולמשפחה</a:t>
            </a:r>
            <a:r>
              <a:rPr b="1" lang="he-IL" sz="3200" spc="-1" strike="noStrike" u="sng">
                <a:solidFill>
                  <a:srgbClr val="ff0000"/>
                </a:solidFill>
                <a:uFillTx/>
                <a:latin typeface="Arial"/>
                <a:ea typeface="David"/>
              </a:rPr>
              <a:t> לפני המוות!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312840" y="4191120"/>
            <a:ext cx="5364000" cy="1922400"/>
          </a:xfrm>
          <a:prstGeom prst="rect">
            <a:avLst/>
          </a:prstGeom>
          <a:solidFill>
            <a:srgbClr val="fc0128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בכולם, לא "הספיקו" ולא היה צורך בטיפול פליאטיבי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8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2203560" y="2957400"/>
            <a:ext cx="20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3905280" y="367812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6276960" y="2852640"/>
            <a:ext cx="390600" cy="2664000"/>
          </a:xfrm>
          <a:prstGeom prst="line">
            <a:avLst/>
          </a:prstGeom>
          <a:ln w="10800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2146320" y="1773360"/>
            <a:ext cx="0" cy="38163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>
            <a:off x="2146320" y="5589720"/>
            <a:ext cx="567036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770040" y="4724280"/>
            <a:ext cx="40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-190440" y="-31680"/>
            <a:ext cx="1066788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Arial"/>
              </a:rPr>
              <a:t>מוות  די מהיר מגורם קטלני - נדיר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00"/>
                </a:solidFill>
                <a:latin typeface="Arial"/>
                <a:ea typeface="Arial"/>
              </a:rPr>
              <a:t>(תאונה, אירוע וסקולארי, חיידק אלים...)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2146320" y="2819520"/>
            <a:ext cx="4130640" cy="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3281400" y="5638680"/>
            <a:ext cx="210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Garamond"/>
                <a:cs typeface="Arial"/>
              </a:rPr>
              <a:t>זמן בחיי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Oval 21"/>
          <p:cNvSpPr/>
          <p:nvPr/>
        </p:nvSpPr>
        <p:spPr>
          <a:xfrm>
            <a:off x="6286680" y="5562720"/>
            <a:ext cx="9730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afd00"/>
            </a:solidFill>
            <a:miter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afd00"/>
                </a:solidFill>
                <a:latin typeface="Garamond"/>
                <a:cs typeface="Arial"/>
              </a:rPr>
              <a:t>מוות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-23760" y="1981080"/>
            <a:ext cx="2533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1104840" y="25909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Line 24"/>
          <p:cNvSpPr/>
          <p:nvPr/>
        </p:nvSpPr>
        <p:spPr>
          <a:xfrm>
            <a:off x="6210360" y="2852640"/>
            <a:ext cx="0" cy="2737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>
            <a:off x="6286680" y="5589720"/>
            <a:ext cx="228600" cy="480960"/>
          </a:xfrm>
          <a:prstGeom prst="triangle">
            <a:avLst>
              <a:gd name="adj" fmla="val 50000"/>
            </a:avLst>
          </a:prstGeom>
          <a:solidFill>
            <a:srgbClr val="fafd00"/>
          </a:solidFill>
          <a:ln w="1908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295960" y="6070680"/>
            <a:ext cx="2044800" cy="8254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Arial"/>
              </a:rPr>
              <a:t>ימים - שבועות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6" name="Picture 28" descr="MV019242-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6680" y="1600200"/>
            <a:ext cx="2470320" cy="2085840"/>
          </a:xfrm>
          <a:prstGeom prst="rect">
            <a:avLst/>
          </a:prstGeom>
          <a:ln w="0">
            <a:noFill/>
          </a:ln>
          <a:effectLst>
            <a:outerShdw dist="36147" dir="8100000" blurRad="0" rotWithShape="0">
              <a:srgbClr val="ff0000"/>
            </a:outerShdw>
          </a:effectLst>
        </p:spPr>
      </p:pic>
      <p:sp>
        <p:nvSpPr>
          <p:cNvPr id="297" name="Text Box 30"/>
          <p:cNvSpPr/>
          <p:nvPr/>
        </p:nvSpPr>
        <p:spPr>
          <a:xfrm>
            <a:off x="7816680" y="3672000"/>
            <a:ext cx="2470320" cy="5205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</a:rPr>
              <a:t>מאיר אריאל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Text Box 31"/>
          <p:cNvSpPr/>
          <p:nvPr/>
        </p:nvSpPr>
        <p:spPr>
          <a:xfrm rot="21090600">
            <a:off x="350280" y="2956320"/>
            <a:ext cx="6315120" cy="1068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  <a:cs typeface="David"/>
              </a:rPr>
              <a:t>כבר אין הרואיקה ... כבר יש סבל קצר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312840" y="4191120"/>
            <a:ext cx="5364000" cy="1922400"/>
          </a:xfrm>
          <a:prstGeom prst="rect">
            <a:avLst/>
          </a:prstGeom>
          <a:solidFill>
            <a:srgbClr val="fafd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00"/>
                </a:solidFill>
                <a:latin typeface="Arial"/>
                <a:cs typeface="David"/>
              </a:rPr>
              <a:t>כנראה, לא "הספיקו" או מעט טיפול פליאטיבי ???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385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5" dur="385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7" dur="38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9" dur="38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fc012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0" descr="mit30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440" y="1143000"/>
            <a:ext cx="9944280" cy="5486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12397_S"/>
          <p:cNvPicPr/>
          <p:nvPr/>
        </p:nvPicPr>
        <p:blipFill>
          <a:blip r:embed="rId3"/>
          <a:stretch/>
        </p:blipFill>
        <p:spPr>
          <a:xfrm>
            <a:off x="190440" y="914400"/>
            <a:ext cx="2438640" cy="231624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000020"/>
            </a:outerShdw>
          </a:effectLst>
        </p:spPr>
      </p:pic>
      <p:pic>
        <p:nvPicPr>
          <p:cNvPr id="302" name="Picture 14" descr="155px-Moshe_Levi"/>
          <p:cNvPicPr/>
          <p:nvPr/>
        </p:nvPicPr>
        <p:blipFill>
          <a:blip r:embed="rId4"/>
          <a:stretch/>
        </p:blipFill>
        <p:spPr>
          <a:xfrm>
            <a:off x="7277040" y="914400"/>
            <a:ext cx="2514600" cy="2171880"/>
          </a:xfrm>
          <a:prstGeom prst="rect">
            <a:avLst/>
          </a:prstGeom>
          <a:ln w="0">
            <a:noFill/>
          </a:ln>
          <a:effectLst>
            <a:outerShdw dist="80486" dir="4289040" blurRad="0" rotWithShape="0">
              <a:srgbClr val="000020"/>
            </a:outerShdw>
          </a:effectLst>
        </p:spPr>
      </p:pic>
      <p:pic>
        <p:nvPicPr>
          <p:cNvPr id="303" name="Picture 20" descr="Raful041123Dots5ZFull1"/>
          <p:cNvPicPr/>
          <p:nvPr/>
        </p:nvPicPr>
        <p:blipFill>
          <a:blip r:embed="rId5"/>
          <a:stretch/>
        </p:blipFill>
        <p:spPr>
          <a:xfrm>
            <a:off x="3730680" y="914400"/>
            <a:ext cx="2556000" cy="23162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2"/>
          <p:cNvSpPr/>
          <p:nvPr/>
        </p:nvSpPr>
        <p:spPr>
          <a:xfrm>
            <a:off x="3543480" y="2651040"/>
            <a:ext cx="2743200" cy="181044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ר  פ  ו  ל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מוות פתאומי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David"/>
              </a:rPr>
              <a:t>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7201080" y="2362320"/>
            <a:ext cx="2743200" cy="2297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משה   לו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אירוע מוחי </a:t>
            </a:r>
            <a:r>
              <a:rPr b="1" lang="he-IL" sz="3200" spc="-1" strike="noStrike" u="sng">
                <a:solidFill>
                  <a:srgbClr val="fc0128"/>
                </a:solidFill>
                <a:uFillTx/>
                <a:latin typeface="Arial"/>
                <a:cs typeface="David"/>
              </a:rPr>
              <a:t>חוזר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David"/>
              </a:rPr>
              <a:t> מהלך   מהיר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10134720" cy="11430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eb000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Arial"/>
              </a:rPr>
              <a:t>איך נפטרו רמטכ"לים אחרים  שלנו?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114480" y="2590920"/>
            <a:ext cx="2743200" cy="229788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מוטה   גור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ס ר ט ן          מהלך   ממושך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Oval 27"/>
          <p:cNvSpPr/>
          <p:nvPr/>
        </p:nvSpPr>
        <p:spPr>
          <a:xfrm>
            <a:off x="3924360" y="2955960"/>
            <a:ext cx="2362320" cy="2225520"/>
          </a:xfrm>
          <a:prstGeom prst="ellipse">
            <a:avLst/>
          </a:prstGeom>
          <a:noFill/>
          <a:ln w="54000">
            <a:solidFill>
              <a:srgbClr val="fc0128"/>
            </a:solidFill>
            <a:miter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c0128"/>
                </a:solidFill>
                <a:latin typeface="Arial"/>
                <a:ea typeface="David"/>
              </a:rPr>
              <a:t>10%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92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3" dur="192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5" dur="192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7" dur="192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eb000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ירידה  איטית, "שלב סופני" קצר </a:t>
            </a:r>
            <a:br>
              <a:rPr sz="6000"/>
            </a:b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(חולי  סרטן)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10" name="Picture 3" descr="Sready Decline copy"/>
          <p:cNvPicPr/>
          <p:nvPr/>
        </p:nvPicPr>
        <p:blipFill>
          <a:blip r:embed="rId1"/>
          <a:stretch/>
        </p:blipFill>
        <p:spPr>
          <a:xfrm>
            <a:off x="0" y="1447920"/>
            <a:ext cx="10287000" cy="5410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b0001"/>
            </a:outerShdw>
          </a:effectLst>
        </p:spPr>
      </p:pic>
      <p:sp>
        <p:nvSpPr>
          <p:cNvPr id="311" name="Text Box 4"/>
          <p:cNvSpPr/>
          <p:nvPr/>
        </p:nvSpPr>
        <p:spPr>
          <a:xfrm>
            <a:off x="-83880" y="14479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2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4076640" y="6400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0"/>
                </a:solidFill>
                <a:latin typeface="Arial"/>
              </a:rPr>
              <a:t>(Weeks -M</a:t>
            </a:r>
            <a:r>
              <a:rPr b="1" lang="en-US" sz="2400" spc="-1" strike="noStrike">
                <a:solidFill>
                  <a:srgbClr val="080800"/>
                </a:solidFill>
                <a:latin typeface="Arial"/>
                <a:ea typeface="Arial"/>
              </a:rPr>
              <a:t>onths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902988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Years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>
            <a:off x="2244600" y="2209680"/>
            <a:ext cx="7623360" cy="3980160"/>
          </a:xfrm>
          <a:prstGeom prst="line">
            <a:avLst/>
          </a:prstGeom>
          <a:ln w="108000">
            <a:solidFill>
              <a:srgbClr val="eb000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0" y="2390760"/>
            <a:ext cx="10287000" cy="228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600" spc="-1" strike="noStrike">
                <a:solidFill>
                  <a:srgbClr val="fafd00"/>
                </a:solidFill>
                <a:latin typeface="Arial"/>
                <a:cs typeface="David"/>
              </a:rPr>
              <a:t>אז מהם צורות המוות השכיחות יותר</a:t>
            </a:r>
            <a:r>
              <a:rPr b="1" lang="he-IL" sz="56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he-IL" sz="8800" spc="-1" strike="noStrike">
                <a:solidFill>
                  <a:srgbClr val="fafd00"/>
                </a:solidFill>
                <a:latin typeface="Arial"/>
                <a:ea typeface="Arial"/>
              </a:rPr>
              <a:t>???</a:t>
            </a:r>
            <a:endParaRPr b="0" lang="en-US" sz="8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495360" y="3200400"/>
            <a:ext cx="53352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fc012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9839520" cy="11430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eb000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ירידה  הדרגתית איטית עד למוות </a:t>
            </a:r>
            <a:r>
              <a:rPr b="1" lang="he-IL" sz="6000" spc="-1" strike="noStrike">
                <a:solidFill>
                  <a:srgbClr val="ffff00"/>
                </a:solidFill>
                <a:latin typeface="Arial"/>
                <a:ea typeface="David"/>
              </a:rPr>
              <a:t>"שלב סופני"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(סרטן)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18" name="Picture 5" descr="חייםברלב"/>
          <p:cNvPicPr/>
          <p:nvPr/>
        </p:nvPicPr>
        <p:blipFill>
          <a:blip r:embed="rId1"/>
          <a:stretch/>
        </p:blipFill>
        <p:spPr>
          <a:xfrm>
            <a:off x="1752480" y="1447920"/>
            <a:ext cx="1974960" cy="2181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12397_S"/>
          <p:cNvPicPr/>
          <p:nvPr/>
        </p:nvPicPr>
        <p:blipFill>
          <a:blip r:embed="rId2"/>
          <a:stretch/>
        </p:blipFill>
        <p:spPr>
          <a:xfrm>
            <a:off x="0" y="1447920"/>
            <a:ext cx="1752480" cy="218124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000020"/>
            </a:outerShdw>
          </a:effectLst>
        </p:spPr>
      </p:pic>
      <p:pic>
        <p:nvPicPr>
          <p:cNvPr id="320" name="Picture 8" descr="yehuditnaot"/>
          <p:cNvPicPr/>
          <p:nvPr/>
        </p:nvPicPr>
        <p:blipFill>
          <a:blip r:embed="rId3"/>
          <a:stretch/>
        </p:blipFill>
        <p:spPr>
          <a:xfrm>
            <a:off x="6743880" y="1447920"/>
            <a:ext cx="3286080" cy="2209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גולדה מאיר"/>
          <p:cNvPicPr/>
          <p:nvPr/>
        </p:nvPicPr>
        <p:blipFill>
          <a:blip r:embed="rId4"/>
          <a:stretch/>
        </p:blipFill>
        <p:spPr>
          <a:xfrm>
            <a:off x="3695760" y="1447920"/>
            <a:ext cx="3048120" cy="22096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1"/>
          <p:cNvSpPr/>
          <p:nvPr/>
        </p:nvSpPr>
        <p:spPr>
          <a:xfrm>
            <a:off x="0" y="31240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495360" y="4038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38160" y="3124080"/>
            <a:ext cx="1562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מוטה   גור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52480" y="3124080"/>
            <a:ext cx="1791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חיים  בר-לב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Text Box 21"/>
          <p:cNvSpPr/>
          <p:nvPr/>
        </p:nvSpPr>
        <p:spPr>
          <a:xfrm>
            <a:off x="4229280" y="3124080"/>
            <a:ext cx="1790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גולדה  מאיר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Text Box 22"/>
          <p:cNvSpPr/>
          <p:nvPr/>
        </p:nvSpPr>
        <p:spPr>
          <a:xfrm>
            <a:off x="7620120" y="2895480"/>
            <a:ext cx="1790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אביבה  נאות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3009960" y="4038480"/>
            <a:ext cx="38862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ניסוח המקובל בתקשורת: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נפטר/ה לאחר מחלה קשה..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לאמור: הרבה סבל ?!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29" name="Picture 32" descr="dud_a2"/>
          <p:cNvPicPr/>
          <p:nvPr/>
        </p:nvPicPr>
        <p:blipFill>
          <a:blip r:embed="rId5"/>
          <a:stretch/>
        </p:blipFill>
        <p:spPr>
          <a:xfrm>
            <a:off x="158760" y="3657600"/>
            <a:ext cx="2927520" cy="2602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3" descr="225px-Poly1"/>
          <p:cNvPicPr/>
          <p:nvPr/>
        </p:nvPicPr>
        <p:blipFill>
          <a:blip r:embed="rId6"/>
          <a:stretch/>
        </p:blipFill>
        <p:spPr>
          <a:xfrm>
            <a:off x="6885000" y="3657600"/>
            <a:ext cx="3287880" cy="26780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4"/>
          <p:cNvSpPr/>
          <p:nvPr/>
        </p:nvSpPr>
        <p:spPr>
          <a:xfrm>
            <a:off x="958680" y="3809880"/>
            <a:ext cx="1791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בני אמדורסקי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Text Box 35"/>
          <p:cNvSpPr/>
          <p:nvPr/>
        </p:nvSpPr>
        <p:spPr>
          <a:xfrm>
            <a:off x="6896160" y="3809880"/>
            <a:ext cx="3048120" cy="8254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ישראל פוליאקוב (פולי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3" name="Text Box 36"/>
          <p:cNvSpPr/>
          <p:nvPr/>
        </p:nvSpPr>
        <p:spPr>
          <a:xfrm>
            <a:off x="38160" y="6172200"/>
            <a:ext cx="1024884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האם הם ומשפחתם קיבלו טיפול פליאטיבי הולם??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1047744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eb000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00"/>
                </a:solidFill>
                <a:latin typeface="Arial"/>
                <a:cs typeface="David"/>
              </a:rPr>
              <a:t>ירידה איטית, משברים מחזוריים ומוות פתאומי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r>
              <a:rPr b="1" lang="he-IL" sz="48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1" lang="he-IL" sz="4000" spc="-1" strike="noStrike">
                <a:solidFill>
                  <a:srgbClr val="ffff00"/>
                </a:solidFill>
                <a:latin typeface="Arial"/>
                <a:cs typeface="David"/>
              </a:rPr>
              <a:t>אי ספיקת לב, ריאות, כליה, כבד,</a:t>
            </a:r>
            <a:r>
              <a:rPr b="1" lang="he-IL" sz="4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IDS</a:t>
            </a:r>
            <a:r>
              <a:rPr b="1" lang="he-IL" sz="4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335" name="Picture 3" descr="Slow Decline copy"/>
          <p:cNvPicPr/>
          <p:nvPr/>
        </p:nvPicPr>
        <p:blipFill>
          <a:blip r:embed="rId1"/>
          <a:stretch/>
        </p:blipFill>
        <p:spPr>
          <a:xfrm>
            <a:off x="0" y="1447920"/>
            <a:ext cx="10287000" cy="5638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754200" y="1706400"/>
            <a:ext cx="2533680" cy="581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2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537228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0"/>
                </a:solidFill>
                <a:latin typeface="Arial"/>
              </a:rPr>
              <a:t>(M</a:t>
            </a:r>
            <a:r>
              <a:rPr b="1" lang="en-US" sz="2400" spc="-1" strike="noStrike">
                <a:solidFill>
                  <a:srgbClr val="080800"/>
                </a:solidFill>
                <a:latin typeface="Arial"/>
                <a:ea typeface="Arial"/>
              </a:rPr>
              <a:t>onths – Years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 rot="5400000">
            <a:off x="-3073320" y="4088160"/>
            <a:ext cx="610812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1333440" y="3581280"/>
            <a:ext cx="7162920" cy="457200"/>
          </a:xfrm>
          <a:prstGeom prst="line">
            <a:avLst/>
          </a:prstGeom>
          <a:ln w="108000">
            <a:solidFill>
              <a:srgbClr val="eb000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8496360" y="4038480"/>
            <a:ext cx="457200" cy="533520"/>
          </a:xfrm>
          <a:prstGeom prst="line">
            <a:avLst/>
          </a:prstGeom>
          <a:ln w="108000">
            <a:solidFill>
              <a:srgbClr val="eb000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Line 9"/>
          <p:cNvSpPr/>
          <p:nvPr/>
        </p:nvSpPr>
        <p:spPr>
          <a:xfrm flipV="1">
            <a:off x="8953560" y="4114800"/>
            <a:ext cx="609480" cy="457200"/>
          </a:xfrm>
          <a:prstGeom prst="line">
            <a:avLst/>
          </a:prstGeom>
          <a:ln w="108000">
            <a:solidFill>
              <a:srgbClr val="eb000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9639360" y="4114800"/>
            <a:ext cx="380880" cy="990720"/>
          </a:xfrm>
          <a:prstGeom prst="line">
            <a:avLst/>
          </a:prstGeom>
          <a:ln w="108000">
            <a:solidFill>
              <a:srgbClr val="eb000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 rot="20041800">
            <a:off x="378720" y="3332880"/>
            <a:ext cx="1024884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האם החולים והמשפחות מקבלים טיפול פליאטיבי הולם??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1002024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eb000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ffff00"/>
                </a:solidFill>
                <a:latin typeface="Arial"/>
                <a:cs typeface="David"/>
              </a:rPr>
              <a:t>ירידה  מאד  איטית עד למוות</a:t>
            </a:r>
            <a:br>
              <a:rPr sz="6600"/>
            </a:b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(שיטיון, אלצהיימר)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graphicFrame>
        <p:nvGraphicFramePr>
          <p:cNvPr id="345" name="Object 3"/>
          <p:cNvGraphicFramePr/>
          <p:nvPr/>
        </p:nvGraphicFramePr>
        <p:xfrm>
          <a:off x="2146320" y="4349880"/>
          <a:ext cx="27687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6320" y="4349880"/>
                    <a:ext cx="2768760" cy="527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347" name="Line 4"/>
          <p:cNvSpPr/>
          <p:nvPr/>
        </p:nvSpPr>
        <p:spPr>
          <a:xfrm>
            <a:off x="2146320" y="1773360"/>
            <a:ext cx="0" cy="38163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2146320" y="5589720"/>
            <a:ext cx="6967440" cy="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3086280" y="5734080"/>
            <a:ext cx="533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Garamond"/>
                <a:cs typeface="Arial"/>
              </a:rPr>
              <a:t>זמן בחיים (בדרך כלל – שנים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Oval 7"/>
          <p:cNvSpPr/>
          <p:nvPr/>
        </p:nvSpPr>
        <p:spPr>
          <a:xfrm>
            <a:off x="8420040" y="5587920"/>
            <a:ext cx="166680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afd00"/>
            </a:solidFill>
            <a:miter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afd00"/>
                </a:solidFill>
                <a:latin typeface="Garamond"/>
                <a:cs typeface="Arial"/>
              </a:rPr>
              <a:t>מוות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677880" y="2468520"/>
            <a:ext cx="2533680" cy="581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Object 9"/>
          <p:cNvGraphicFramePr/>
          <p:nvPr/>
        </p:nvGraphicFramePr>
        <p:xfrm>
          <a:off x="4530600" y="4840200"/>
          <a:ext cx="313848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0600" y="4840200"/>
                    <a:ext cx="3138480" cy="46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sp>
        <p:nvSpPr>
          <p:cNvPr id="354" name="Line 10"/>
          <p:cNvSpPr/>
          <p:nvPr/>
        </p:nvSpPr>
        <p:spPr>
          <a:xfrm>
            <a:off x="7669080" y="5229360"/>
            <a:ext cx="1444680" cy="215640"/>
          </a:xfrm>
          <a:prstGeom prst="line">
            <a:avLst/>
          </a:prstGeom>
          <a:ln w="108000">
            <a:solidFill>
              <a:srgbClr val="eb000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4533840" y="4572000"/>
            <a:ext cx="5639040" cy="461880"/>
          </a:xfrm>
          <a:prstGeom prst="line">
            <a:avLst/>
          </a:prstGeom>
          <a:ln w="108000">
            <a:solidFill>
              <a:srgbClr val="eb000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 rot="20041800">
            <a:off x="226440" y="3326400"/>
            <a:ext cx="1024884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האם החולים והמשפחות מקבלים טיפול פליאטיבי הולם??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-360" y="1938240"/>
            <a:ext cx="10285560" cy="1719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txBody>
          <a:bodyPr lIns="92160" rIns="92160" tIns="46080" bIns="46080" anchor="t">
            <a:normAutofit fontScale="70000"/>
          </a:bodyPr>
          <a:p>
            <a:pPr marL="240120" indent="-240120" algn="r" rtl="1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Arial"/>
              </a:rPr>
              <a:t>.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..יותר מ 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80%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מאתנו יסבלו לפחות מאחת המחלות הבאות בשנה האחרונה לחיינו...:  מחלת לב מגבילה, מחלת ריאות כרונית, סרטן, אירוע מוחי  או שיטיון (אלצהיימר)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4757760"/>
            <a:ext cx="10287000" cy="1719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  מחלות אלו קטלניות. ברם, לרוב יגרמו לחולה להיות מוגבל, שביר וסובל – משך שנים רבות לפני המוות...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228600" y="120600"/>
            <a:ext cx="10248840" cy="22870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cs typeface="Guttman-Toledo"/>
              </a:rPr>
              <a:t>השינוי בתפיסת חולי וסוף החיים ההתפכחות במאה ה - </a:t>
            </a: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21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28600" y="152280"/>
            <a:ext cx="10248840" cy="1555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cs typeface="Guttman-Toledo"/>
              </a:rPr>
              <a:t>השינוי בתפיסת בריאות וחולי משך ההיסטוריה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9080" y="1844640"/>
            <a:ext cx="1026792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משך כל שנות ההיסטוריה, איחולים לאושר אולטימטיבי התמצו בברכות העתיקות: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" עד מאה ועשרים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",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ו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"בריאות ואריכות ימים"...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9080" y="4952880"/>
            <a:ext cx="10267920" cy="17866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Arial"/>
                <a:ea typeface="David"/>
              </a:rPr>
              <a:t>                                                         -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 זבנג וגמרנו!                 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ובמקביל התפתח דימוי הרופא ההרואי- מאבחן... בחסד! כירורג... ידי זהב.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ומי לא רוצה להיות הגיבור? המושיע? שליח האל וקרוב לאל?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-95400" y="1600200"/>
            <a:ext cx="103442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שינוי ההיסטורי בתפיסה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קביל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באופן מפתיע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לשינוי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שאני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ומטפלים אחרים עברנו בסוף המאה ה –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20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ובתחילת המילניום השלישי...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8160" y="2862360"/>
            <a:ext cx="10267920" cy="159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תפיסה הפשטנית:  אדם בריא רוב חייו... חולה במחלה אחת.. נבדק   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ומאובחן ע"י רופא אחד &gt;&gt; מקבל טיפול יעיל &gt;&gt;&gt; חוזר לבריאות שלמה!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-38160" y="3960720"/>
            <a:ext cx="10267920" cy="18003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David"/>
              </a:rPr>
              <a:t>דוגמאות:  דלקת ריאות... פצע.. שבר ברגל... ניתוח תוספתן... כריתת שאת...   ניתוח וסקולרי (תיקון צנרת - לב, גפיים, קרוטיד..) השתלות (מפרקים, כליה, לב, ריאות, כבד, לבלב.. והשמיים הם הגבול...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14480" y="6292800"/>
            <a:ext cx="1026792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תפיסה הפטריארכאלית: רופא מטפל יחיד,  מרפא! 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cs typeface="David"/>
              </a:rPr>
              <a:t>שאר המטפלים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???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   ברקע...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8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38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(צילום: AP)"/>
          <p:cNvPicPr/>
          <p:nvPr/>
        </p:nvPicPr>
        <p:blipFill>
          <a:blip r:embed="rId1"/>
          <a:stretch/>
        </p:blipFill>
        <p:spPr>
          <a:xfrm>
            <a:off x="-3314880" y="-609480"/>
            <a:ext cx="13601880" cy="74674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3695760" y="5530680"/>
            <a:ext cx="2971800" cy="169128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c0128"/>
                </a:solidFill>
                <a:latin typeface="Arial"/>
                <a:cs typeface="David"/>
              </a:rPr>
              <a:t>יצחק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David"/>
              </a:rPr>
              <a:t> </a:t>
            </a:r>
            <a:r>
              <a:rPr b="1" lang="he-IL" sz="4000" spc="-1" strike="noStrike">
                <a:solidFill>
                  <a:srgbClr val="fc0128"/>
                </a:solidFill>
                <a:latin typeface="Arial"/>
                <a:cs typeface="David"/>
              </a:rPr>
              <a:t>רבין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c0128"/>
                </a:solidFill>
                <a:latin typeface="Arial"/>
                <a:cs typeface="David"/>
              </a:rPr>
              <a:t>מוות  פתאומי</a:t>
            </a:r>
            <a:r>
              <a:rPr b="1" lang="he-IL" sz="4000" spc="-1" strike="noStrike">
                <a:solidFill>
                  <a:srgbClr val="fc0128"/>
                </a:solidFill>
                <a:latin typeface="Arial"/>
                <a:ea typeface="David"/>
              </a:rPr>
              <a:t>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6743880" y="5235480"/>
            <a:ext cx="3581280" cy="217404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הנשיא שמעון פרס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יבדל לחיים ארוכי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ו ב ר י א י 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-495360" y="-54000"/>
            <a:ext cx="1752840" cy="68356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6819840" y="5235480"/>
            <a:ext cx="3581640" cy="217404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הנשיא שמעון פרס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יבדל לחיים ארוכי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ו ב ר י א י 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-266760" y="152280"/>
            <a:ext cx="10668240" cy="1068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היו זמנים..כש</a:t>
            </a:r>
            <a:r>
              <a:rPr b="1" lang="he-IL" sz="3200" spc="-1" strike="noStrike" u="sng">
                <a:solidFill>
                  <a:srgbClr val="fafd00"/>
                </a:solidFill>
                <a:uFillTx/>
                <a:latin typeface="Arial"/>
                <a:cs typeface="David"/>
              </a:rPr>
              <a:t>כל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 המנהיגים היו בחיים.. חיים, בריאים ופעילים..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(צילום: AP)"/>
          <p:cNvPicPr/>
          <p:nvPr/>
        </p:nvPicPr>
        <p:blipFill>
          <a:blip r:embed="rId1"/>
          <a:stretch/>
        </p:blipFill>
        <p:spPr>
          <a:xfrm>
            <a:off x="-3314880" y="-609480"/>
            <a:ext cx="13601880" cy="74674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3"/>
          <p:cNvSpPr/>
          <p:nvPr/>
        </p:nvSpPr>
        <p:spPr>
          <a:xfrm>
            <a:off x="3695760" y="5530680"/>
            <a:ext cx="2971800" cy="169128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c0128"/>
                </a:solidFill>
                <a:latin typeface="Arial"/>
                <a:cs typeface="David"/>
              </a:rPr>
              <a:t>יצחק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David"/>
              </a:rPr>
              <a:t> </a:t>
            </a:r>
            <a:r>
              <a:rPr b="1" lang="he-IL" sz="4000" spc="-1" strike="noStrike">
                <a:solidFill>
                  <a:srgbClr val="fc0128"/>
                </a:solidFill>
                <a:latin typeface="Arial"/>
                <a:cs typeface="David"/>
              </a:rPr>
              <a:t>רבין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c0128"/>
                </a:solidFill>
                <a:latin typeface="Arial"/>
                <a:cs typeface="David"/>
              </a:rPr>
              <a:t>מוות  פתאומי</a:t>
            </a:r>
            <a:r>
              <a:rPr b="1" lang="he-IL" sz="4000" spc="-1" strike="noStrike">
                <a:solidFill>
                  <a:srgbClr val="fc0128"/>
                </a:solidFill>
                <a:latin typeface="Arial"/>
                <a:ea typeface="David"/>
              </a:rPr>
              <a:t>  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6743880" y="5235480"/>
            <a:ext cx="3581280" cy="217404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הנשיא שמעון פרס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יבדל לחיים ארוכי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ו ב ר י א י 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114480" y="5029200"/>
            <a:ext cx="3581280" cy="2365920"/>
          </a:xfrm>
          <a:prstGeom prst="rect">
            <a:avLst/>
          </a:prstGeom>
          <a:gradFill rotWithShape="0">
            <a:gsLst>
              <a:gs pos="0">
                <a:srgbClr val="080808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80001"/>
                </a:solidFill>
                <a:latin typeface="Arial"/>
                <a:cs typeface="David"/>
              </a:rPr>
              <a:t>אריאל שרון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80001"/>
                </a:solidFill>
                <a:latin typeface="Arial"/>
                <a:ea typeface="David"/>
              </a:rPr>
              <a:t> 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80001"/>
                </a:solidFill>
                <a:latin typeface="Arial"/>
                <a:cs typeface="David"/>
              </a:rPr>
              <a:t>ב ח י י ם</a:t>
            </a:r>
            <a:r>
              <a:rPr b="1" lang="he-IL" sz="3600" spc="-1" strike="noStrike">
                <a:solidFill>
                  <a:srgbClr val="fc0128"/>
                </a:solidFill>
                <a:latin typeface="Arial"/>
                <a:ea typeface="David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-266760" y="152280"/>
            <a:ext cx="10668240" cy="1068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היו זמנים..כש</a:t>
            </a:r>
            <a:r>
              <a:rPr b="1" lang="he-IL" sz="3200" spc="-1" strike="noStrike" u="sng">
                <a:solidFill>
                  <a:srgbClr val="fafd00"/>
                </a:solidFill>
                <a:uFillTx/>
                <a:latin typeface="Arial"/>
                <a:cs typeface="David"/>
              </a:rPr>
              <a:t>כל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 המנהיגים היו בחיים.. חיים, בריאים ופעילים..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-266760" y="3124080"/>
            <a:ext cx="10591920" cy="10688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כמו כולנו, עסוקים בנושאים שברומו של עולם, מי חושב על תחלואה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tmp291CItem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Oval 3"/>
          <p:cNvSpPr/>
          <p:nvPr/>
        </p:nvSpPr>
        <p:spPr>
          <a:xfrm>
            <a:off x="3772080" y="5410080"/>
            <a:ext cx="1828800" cy="1600200"/>
          </a:xfrm>
          <a:prstGeom prst="ellipse">
            <a:avLst/>
          </a:prstGeom>
          <a:noFill/>
          <a:ln w="139680">
            <a:solidFill>
              <a:srgbClr val="fafd00"/>
            </a:solidFill>
            <a:miter/>
          </a:ln>
          <a:effectLst>
            <a:outerShdw dist="96762" dir="20206406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0" y="289080"/>
            <a:ext cx="10287000" cy="2104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c0128"/>
                </a:solidFill>
                <a:latin typeface="Arial"/>
                <a:cs typeface="David"/>
              </a:rPr>
              <a:t>התקשורת (בלי משים?) משתמשת במושגים השמורים בדרך כלל למי שכבר אינו בחיים..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0" y="272880"/>
            <a:ext cx="10477440" cy="16470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cs typeface="Guttman-Toledo"/>
              </a:rPr>
              <a:t>ממתי ליישם תפיסה פליאטיבית?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6" name="AutoShape 28"/>
          <p:cNvSpPr/>
          <p:nvPr/>
        </p:nvSpPr>
        <p:spPr>
          <a:xfrm rot="16380600">
            <a:off x="4211640" y="-1827000"/>
            <a:ext cx="768240" cy="8658000"/>
          </a:xfrm>
          <a:prstGeom prst="pie">
            <a:avLst/>
          </a:prstGeom>
          <a:solidFill>
            <a:srgbClr val="ff99cc"/>
          </a:solidFill>
          <a:ln w="12600">
            <a:solidFill>
              <a:srgbClr val="fafd00"/>
            </a:solidFill>
            <a:miter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00" spc="-1" strike="noStrike">
                <a:solidFill>
                  <a:srgbClr val="fc0128"/>
                </a:solidFill>
                <a:latin typeface="Arial"/>
                <a:ea typeface="David"/>
              </a:rPr>
              <a:t>                                                                                                                                   </a:t>
            </a: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ט י פ ו ל     מ ו נ ע</a:t>
            </a: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7" name="Text Box 29"/>
          <p:cNvSpPr/>
          <p:nvPr/>
        </p:nvSpPr>
        <p:spPr>
          <a:xfrm>
            <a:off x="266760" y="2666880"/>
            <a:ext cx="575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b0001"/>
                </a:solidFill>
                <a:latin typeface="Arial"/>
                <a:cs typeface="Arial"/>
              </a:rPr>
              <a:t>טיפול מרפא, "מאריך חיים</a:t>
            </a:r>
            <a:r>
              <a:rPr b="1" lang="he-IL" sz="2400" spc="-1" strike="noStrike">
                <a:solidFill>
                  <a:srgbClr val="eb0001"/>
                </a:solidFill>
                <a:latin typeface="Arial"/>
                <a:ea typeface="Arial"/>
              </a:rPr>
              <a:t>"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8" name="Rectangle 31"/>
          <p:cNvSpPr/>
          <p:nvPr/>
        </p:nvSpPr>
        <p:spPr>
          <a:xfrm>
            <a:off x="8267760" y="3129120"/>
            <a:ext cx="771480" cy="1290600"/>
          </a:xfrm>
          <a:prstGeom prst="rect">
            <a:avLst/>
          </a:prstGeom>
          <a:solidFill>
            <a:srgbClr val="333333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7f7ff"/>
                </a:solidFill>
                <a:latin typeface="Arial"/>
              </a:rPr>
              <a:t>מ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7f7ff"/>
                </a:solidFill>
                <a:latin typeface="Arial"/>
              </a:rPr>
              <a:t>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7f7ff"/>
                </a:solidFill>
                <a:latin typeface="Arial"/>
              </a:rPr>
              <a:t>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7f7ff"/>
                </a:solidFill>
                <a:latin typeface="Arial"/>
              </a:rPr>
              <a:t>ת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9" name="Rectangle 32"/>
          <p:cNvSpPr/>
          <p:nvPr/>
        </p:nvSpPr>
        <p:spPr>
          <a:xfrm>
            <a:off x="1181160" y="3129120"/>
            <a:ext cx="7075440" cy="1290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c0128"/>
              </a:gs>
            </a:gsLst>
            <a:lin ang="189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  <a:cs typeface="Arial"/>
              </a:rPr>
              <a:t>מ   ח   ל   ה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Line 33"/>
          <p:cNvSpPr/>
          <p:nvPr/>
        </p:nvSpPr>
        <p:spPr>
          <a:xfrm flipV="1">
            <a:off x="1181160" y="3129120"/>
            <a:ext cx="4876920" cy="1056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AutoShape 34"/>
          <p:cNvSpPr/>
          <p:nvPr/>
        </p:nvSpPr>
        <p:spPr>
          <a:xfrm>
            <a:off x="9039240" y="3129120"/>
            <a:ext cx="1285920" cy="1290600"/>
          </a:xfrm>
          <a:prstGeom prst="rtTriangle">
            <a:avLst/>
          </a:prstGeom>
          <a:solidFill>
            <a:srgbClr val="808080">
              <a:alpha val="72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8039160" y="4419720"/>
            <a:ext cx="1905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Arial"/>
              </a:rPr>
              <a:t>א   ב   ל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3" name="AutoShape 37"/>
          <p:cNvSpPr/>
          <p:nvPr/>
        </p:nvSpPr>
        <p:spPr>
          <a:xfrm>
            <a:off x="6058080" y="3124080"/>
            <a:ext cx="3124080" cy="136692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0128"/>
          </a:solidFill>
          <a:ln w="6048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רק    פליאטיב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       הוספיס 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AutoShape 38"/>
          <p:cNvSpPr/>
          <p:nvPr/>
        </p:nvSpPr>
        <p:spPr>
          <a:xfrm>
            <a:off x="571680" y="5853240"/>
            <a:ext cx="9219960" cy="699840"/>
          </a:xfrm>
          <a:prstGeom prst="rightArrow">
            <a:avLst>
              <a:gd name="adj1" fmla="val 50000"/>
              <a:gd name="adj2" fmla="val 329360"/>
            </a:avLst>
          </a:prstGeom>
          <a:solidFill>
            <a:srgbClr val="fafd00"/>
          </a:solidFill>
          <a:ln w="1260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4991040" y="5853240"/>
            <a:ext cx="4267440" cy="642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  <a:cs typeface="David"/>
              </a:rPr>
              <a:t>מ ש ך    ה ח י י 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647640" y="5105520"/>
            <a:ext cx="9353520" cy="5205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Arial"/>
              </a:rPr>
              <a:t>טיפול מקל סבל ממוקד איכות חיים – פליאטיבי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Rectangle 41"/>
          <p:cNvSpPr/>
          <p:nvPr/>
        </p:nvSpPr>
        <p:spPr>
          <a:xfrm>
            <a:off x="0" y="3129120"/>
            <a:ext cx="1181160" cy="1290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c0128"/>
                </a:solidFill>
                <a:latin typeface="Arial"/>
                <a:cs typeface="David"/>
              </a:rPr>
              <a:t>בריאות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c0128"/>
                </a:solidFill>
                <a:latin typeface="Arial"/>
                <a:ea typeface="David"/>
              </a:rPr>
              <a:t>?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" name="AutoShape 42"/>
          <p:cNvSpPr/>
          <p:nvPr/>
        </p:nvSpPr>
        <p:spPr>
          <a:xfrm>
            <a:off x="114480" y="914400"/>
            <a:ext cx="533160" cy="3429000"/>
          </a:xfrm>
          <a:prstGeom prst="downArrow">
            <a:avLst>
              <a:gd name="adj1" fmla="val 50000"/>
              <a:gd name="adj2" fmla="val 160787"/>
            </a:avLst>
          </a:prstGeom>
          <a:solidFill>
            <a:srgbClr val="ff99cc"/>
          </a:solidFill>
          <a:ln w="442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ל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י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ד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c0128"/>
                </a:solidFill>
                <a:latin typeface="Arial"/>
                <a:cs typeface="David"/>
              </a:rPr>
              <a:t>ה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AutoShape 43"/>
          <p:cNvSpPr/>
          <p:nvPr/>
        </p:nvSpPr>
        <p:spPr>
          <a:xfrm>
            <a:off x="8801280" y="990720"/>
            <a:ext cx="380880" cy="3429000"/>
          </a:xfrm>
          <a:prstGeom prst="downArrow">
            <a:avLst>
              <a:gd name="adj1" fmla="val 50000"/>
              <a:gd name="adj2" fmla="val 225071"/>
            </a:avLst>
          </a:prstGeom>
          <a:solidFill>
            <a:srgbClr val="000020"/>
          </a:solidFill>
          <a:ln w="442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מ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ו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ת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0" name="AutoShape 44"/>
          <p:cNvSpPr/>
          <p:nvPr/>
        </p:nvSpPr>
        <p:spPr>
          <a:xfrm>
            <a:off x="5448240" y="990720"/>
            <a:ext cx="1143000" cy="3429000"/>
          </a:xfrm>
          <a:prstGeom prst="downArrow">
            <a:avLst>
              <a:gd name="adj1" fmla="val 50000"/>
              <a:gd name="adj2" fmla="val 75000"/>
            </a:avLst>
          </a:prstGeom>
          <a:blipFill rotWithShape="0">
            <a:blip r:embed="rId1"/>
            <a:srcRect/>
            <a:stretch/>
          </a:blipFill>
          <a:ln w="442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רק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פ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ל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י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א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ט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י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ב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י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128"/>
            </a:gs>
            <a:gs pos="100000">
              <a:srgbClr val="00002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-17640" y="304920"/>
          <a:ext cx="10571400" cy="4724280"/>
        </p:xfrm>
        <a:graphic>
          <a:graphicData uri="http://schemas.openxmlformats.org/drawingml/2006/table">
            <a:tbl>
              <a:tblPr/>
              <a:tblGrid>
                <a:gridCol w="2170440"/>
                <a:gridCol w="3502800"/>
                <a:gridCol w="2208240"/>
                <a:gridCol w="2474640"/>
                <a:gridCol w="216000"/>
              </a:tblGrid>
              <a:tr h="20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ההיבט הרוחני </a:t>
                      </a:r>
                      <a:r>
                        <a:rPr b="1" lang="en-US" sz="2400" spc="-1" strike="noStrike">
                          <a:solidFill>
                            <a:srgbClr val="fc0128"/>
                          </a:solidFill>
                          <a:latin typeface="Times New Roman"/>
                          <a:ea typeface="David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fc0128"/>
                          </a:solidFill>
                          <a:latin typeface="Times New Roman"/>
                          <a:ea typeface="David"/>
                        </a:rPr>
                        <a:t>PIRITUALITY</a:t>
                      </a: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ea typeface="David"/>
                        </a:rPr>
                        <a:t> בטיפול פליאטיבי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דילמות בסוף החיים וחוק החולה  הנוטה למות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אספקטים משפטיים ומנהליים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היבטים ביו-פסיכו-סוציאליים בטיפול פליאטיבי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טיפול פליאטיבי במחלות שאינן סרטן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טיפול פליאטיבי בילדים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דילמות בסוף החיים וחוק החולה הנוטה למות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אספקטים הלכתיים ואתיים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רפואה משולבת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טיפול פליאטיבי באונקולוגיה - עדכונים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חינוך</a:t>
                      </a:r>
                      <a:endParaRPr b="0" lang="en-US" sz="32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c0128"/>
                          </a:solidFill>
                          <a:latin typeface="Times New Roman"/>
                          <a:ea typeface="David"/>
                        </a:rPr>
                        <a:t> פליאטיבי</a:t>
                      </a: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ea typeface="David"/>
                        </a:rPr>
                        <a:t> 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התמודדות צוות מטפל   במצבי סוף החיים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טיפול פליאטיבי בבית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400" spc="-1" strike="noStrike">
                          <a:solidFill>
                            <a:srgbClr val="fc0128"/>
                          </a:solidFill>
                          <a:latin typeface="Times New Roman"/>
                          <a:cs typeface="David"/>
                        </a:rPr>
                        <a:t>טיפול תרופתי   בסוף החיים</a:t>
                      </a: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afd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392" name="Rectangle 72"/>
          <p:cNvSpPr/>
          <p:nvPr/>
        </p:nvSpPr>
        <p:spPr>
          <a:xfrm>
            <a:off x="2171880" y="304920"/>
            <a:ext cx="3504960" cy="335268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3" name="Rectangle 73"/>
          <p:cNvSpPr/>
          <p:nvPr/>
        </p:nvSpPr>
        <p:spPr>
          <a:xfrm>
            <a:off x="2171880" y="304920"/>
            <a:ext cx="3504960" cy="4724280"/>
          </a:xfrm>
          <a:prstGeom prst="rect">
            <a:avLst/>
          </a:prstGeom>
          <a:noFill/>
          <a:ln w="604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" name="Rectangle 74"/>
          <p:cNvSpPr/>
          <p:nvPr/>
        </p:nvSpPr>
        <p:spPr>
          <a:xfrm>
            <a:off x="7886880" y="304920"/>
            <a:ext cx="2400120" cy="4724280"/>
          </a:xfrm>
          <a:prstGeom prst="rect">
            <a:avLst/>
          </a:prstGeom>
          <a:noFill/>
          <a:ln w="60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Rectangle 75"/>
          <p:cNvSpPr/>
          <p:nvPr/>
        </p:nvSpPr>
        <p:spPr>
          <a:xfrm>
            <a:off x="38160" y="1981080"/>
            <a:ext cx="2057400" cy="1676520"/>
          </a:xfrm>
          <a:prstGeom prst="rect">
            <a:avLst/>
          </a:prstGeom>
          <a:noFill/>
          <a:ln w="60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Rectangle 76"/>
          <p:cNvSpPr/>
          <p:nvPr/>
        </p:nvSpPr>
        <p:spPr>
          <a:xfrm>
            <a:off x="5753160" y="1981080"/>
            <a:ext cx="2057400" cy="1676520"/>
          </a:xfrm>
          <a:prstGeom prst="rect">
            <a:avLst/>
          </a:prstGeom>
          <a:noFill/>
          <a:ln w="6048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Oval 79"/>
          <p:cNvSpPr/>
          <p:nvPr/>
        </p:nvSpPr>
        <p:spPr>
          <a:xfrm>
            <a:off x="5676840" y="304920"/>
            <a:ext cx="2362320" cy="167616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Oval 80"/>
          <p:cNvSpPr/>
          <p:nvPr/>
        </p:nvSpPr>
        <p:spPr>
          <a:xfrm>
            <a:off x="38160" y="152280"/>
            <a:ext cx="2133720" cy="198144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Oval 81"/>
          <p:cNvSpPr/>
          <p:nvPr/>
        </p:nvSpPr>
        <p:spPr>
          <a:xfrm>
            <a:off x="5676840" y="3429000"/>
            <a:ext cx="2362320" cy="1676520"/>
          </a:xfrm>
          <a:prstGeom prst="ellipse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Oval 82"/>
          <p:cNvSpPr/>
          <p:nvPr/>
        </p:nvSpPr>
        <p:spPr>
          <a:xfrm>
            <a:off x="38160" y="3505320"/>
            <a:ext cx="2057400" cy="1676160"/>
          </a:xfrm>
          <a:prstGeom prst="ellipse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AutoShape 83"/>
          <p:cNvSpPr/>
          <p:nvPr/>
        </p:nvSpPr>
        <p:spPr>
          <a:xfrm>
            <a:off x="800280" y="4800600"/>
            <a:ext cx="8839080" cy="2057400"/>
          </a:xfrm>
          <a:prstGeom prst="sun">
            <a:avLst>
              <a:gd name="adj" fmla="val 25000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הרחבת  האופק הפליאטיב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8520" y="1638360"/>
            <a:ext cx="10287000" cy="461016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fc0128"/>
            </a:outerShdw>
          </a:effectLst>
        </p:spPr>
        <p:txBody>
          <a:bodyPr lIns="92160" rIns="92160" tIns="46080" bIns="46080" anchor="t">
            <a:normAutofit fontScale="82000"/>
          </a:bodyPr>
          <a:p>
            <a:pPr marL="281160" indent="-281160" algn="ctr" rtl="1">
              <a:lnSpc>
                <a:spcPct val="85000"/>
              </a:lnSpc>
              <a:spcBef>
                <a:spcPts val="1001"/>
              </a:spcBef>
              <a:buClr>
                <a:srgbClr val="fafd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00"/>
                </a:solidFill>
                <a:latin typeface="Arial"/>
                <a:ea typeface="David"/>
              </a:rPr>
              <a:t> רובנו נזדקק לטיפול פליאטיבי בחלק האחרון         של חיינו, משך  תקופה  שאורכה  יעלה :                        ככל   שנתקדם  בלוח השנה, יעלה הגיל שלנו  וישתפר הטיפול  הכוללני  וה"מציל חיים". 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 algn="ctr" rtl="1">
              <a:lnSpc>
                <a:spcPct val="85000"/>
              </a:lnSpc>
              <a:spcBef>
                <a:spcPts val="1100"/>
              </a:spcBef>
              <a:buClr>
                <a:srgbClr val="fafd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00"/>
                </a:solidFill>
                <a:latin typeface="Arial"/>
                <a:ea typeface="David"/>
              </a:rPr>
              <a:t> מודל הבריאות  והחולי  יתבסס  בעיקרו  על תפיסה הפליאטיבית. </a:t>
            </a:r>
            <a:r>
              <a:rPr b="1" lang="he-IL" sz="4000" spc="-1" strike="noStrike" u="sng">
                <a:solidFill>
                  <a:srgbClr val="ffff00"/>
                </a:solidFill>
                <a:uFillTx/>
                <a:latin typeface="Arial"/>
                <a:cs typeface="David"/>
              </a:rPr>
              <a:t>ה</a:t>
            </a:r>
            <a:r>
              <a:rPr b="1" lang="he-IL" sz="4400" spc="-1" strike="noStrike" u="sng">
                <a:solidFill>
                  <a:srgbClr val="ffff00"/>
                </a:solidFill>
                <a:uFillTx/>
                <a:latin typeface="Arial"/>
                <a:cs typeface="David"/>
              </a:rPr>
              <a:t>טיפול  המונע  וה"מרפא"    ימשיכו לשמש ככלי חשוב אך משני -      לדחיית הגיל בו נתחיל ולקיצור משך התקופה בה נזדקק לטיפול פליאטיבי -  ועד למוות</a:t>
            </a:r>
            <a:r>
              <a:rPr b="1" lang="he-IL" sz="4400" spc="-1" strike="noStrike">
                <a:solidFill>
                  <a:srgbClr val="ffff00"/>
                </a:solidFill>
                <a:latin typeface="Arial"/>
                <a:ea typeface="David"/>
              </a:rPr>
              <a:t>.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851440" y="3894120"/>
            <a:ext cx="20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114480" y="-108000"/>
            <a:ext cx="102870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Arial"/>
                <a:cs typeface="David"/>
              </a:rPr>
              <a:t>התפיסה הפליאטיבית במאה ה- </a:t>
            </a:r>
            <a:r>
              <a:rPr b="1" lang="he-IL" sz="6000" spc="-1" strike="noStrike">
                <a:solidFill>
                  <a:srgbClr val="fc0128"/>
                </a:solidFill>
                <a:latin typeface="Arial"/>
                <a:ea typeface="David"/>
              </a:rPr>
              <a:t>21</a:t>
            </a:r>
            <a:r>
              <a:rPr b="1" lang="he-IL" sz="6000" spc="-1" strike="noStrike">
                <a:solidFill>
                  <a:srgbClr val="fc0128"/>
                </a:solidFill>
                <a:latin typeface="Arial"/>
                <a:ea typeface="David"/>
              </a:rPr>
              <a:t> סיכום הצפי לעתיד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38160" y="2209680"/>
            <a:ext cx="975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38160" y="1739880"/>
            <a:ext cx="10248840" cy="74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5000"/>
              </a:lnSpc>
              <a:spcBef>
                <a:spcPts val="1349"/>
              </a:spcBef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  על גיבורים שנפלו בקרב נהוג לאמור: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"במותם  ציוו  לנו  את  החיים"...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15000"/>
              </a:lnSpc>
              <a:spcBef>
                <a:spcPts val="1349"/>
              </a:spcBef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 במאה ה -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21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הגבורה שלנו  וחוכמת קובעי המדיניות תהיה כאשר נגיע לרוב גדול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1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     באוכלוסייה אשר:  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"בחייהם  ציוו  לנו  את  מותם..." (צוואה בחיים וכד')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15000"/>
              </a:lnSpc>
              <a:spcBef>
                <a:spcPts val="1349"/>
              </a:spcBef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 הבשלות ההיסטורית והחכמה האנושית מוצאת ביטוי בסוג הביטוח שאנו מחפשים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1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    תהליך האינסטינקט הבסיסי להגן על יקירנו בעתיד  ועל עצמנו בהווה  עובר שינוי: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15000"/>
              </a:lnSpc>
              <a:spcBef>
                <a:spcPts val="1349"/>
              </a:spcBef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ביטוח חיים &gt;&gt;&gt;ביטוח בריאות&gt;&gt;&gt; אובדן כושר עבודה (מוגבלות) &gt;&gt;&gt;ביטוח סיעודי...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1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   ולמה לא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"ביטוח מוות מכובד ללא סבל"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??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  <a:ea typeface="David"/>
              </a:rPr>
              <a:t>   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0" y="4924440"/>
            <a:ext cx="10287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5000"/>
              </a:lnSpc>
              <a:buClr>
                <a:srgbClr val="fc0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52280" y="84240"/>
            <a:ext cx="10249200" cy="24663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cs typeface="Guttman-Toledo"/>
              </a:rPr>
              <a:t>העמקת התפיסה הפליאטיבית</a:t>
            </a: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c0128"/>
                </a:solidFill>
                <a:latin typeface="Impact"/>
                <a:cs typeface="Guttman-Toledo"/>
              </a:rPr>
              <a:t>הזכות למטופל, החובה למטפל והרווח לחברה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85560" y="3427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pic>
        <p:nvPicPr>
          <p:cNvPr id="410" name="Picture 2" descr="StairwayToHeaven-small"/>
          <p:cNvPicPr/>
          <p:nvPr/>
        </p:nvPicPr>
        <p:blipFill>
          <a:blip r:embed="rId1"/>
          <a:stretch/>
        </p:blipFill>
        <p:spPr>
          <a:xfrm>
            <a:off x="0" y="-92160"/>
            <a:ext cx="10287000" cy="6875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250px-Edengan"/>
          <p:cNvPicPr/>
          <p:nvPr/>
        </p:nvPicPr>
        <p:blipFill>
          <a:blip r:embed="rId2"/>
          <a:stretch/>
        </p:blipFill>
        <p:spPr>
          <a:xfrm>
            <a:off x="4152960" y="-76320"/>
            <a:ext cx="2362320" cy="15624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"/>
          <p:cNvSpPr/>
          <p:nvPr/>
        </p:nvSpPr>
        <p:spPr>
          <a:xfrm>
            <a:off x="-190440" y="5486400"/>
            <a:ext cx="8534520" cy="2288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fafd00"/>
                </a:solidFill>
                <a:latin typeface="Arial"/>
                <a:cs typeface="David"/>
              </a:rPr>
              <a:t>ב ר י א ו ת     ש ל מ ה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4305240" y="-92160"/>
            <a:ext cx="19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גן  עדן</a:t>
            </a:r>
            <a:r>
              <a:rPr b="1" lang="he-IL" sz="4000" spc="-1" strike="noStrike">
                <a:solidFill>
                  <a:srgbClr val="fafd00"/>
                </a:solidFill>
                <a:latin typeface="Arial"/>
                <a:ea typeface="David"/>
              </a:rPr>
              <a:t>...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2933640" y="609480"/>
            <a:ext cx="25146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fc0128"/>
                </a:solidFill>
                <a:latin typeface="Webdings"/>
                <a:ea typeface="Webdings"/>
              </a:rPr>
              <a:t></a:t>
            </a:r>
            <a:endParaRPr b="0" lang="en-US" sz="19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23960" y="2057400"/>
            <a:ext cx="289548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fc0128"/>
                </a:solidFill>
                <a:latin typeface="Webdings"/>
                <a:ea typeface="Webdings"/>
              </a:rPr>
              <a:t></a:t>
            </a:r>
            <a:endParaRPr b="0" lang="en-US" sz="19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16" name="Object 13"/>
          <p:cNvGraphicFramePr/>
          <p:nvPr/>
        </p:nvGraphicFramePr>
        <p:xfrm>
          <a:off x="8964720" y="0"/>
          <a:ext cx="1284120" cy="12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64720" y="0"/>
                    <a:ext cx="1284120" cy="1262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82013" dir="12287459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18" name="Text Box 16"/>
          <p:cNvSpPr/>
          <p:nvPr/>
        </p:nvSpPr>
        <p:spPr>
          <a:xfrm>
            <a:off x="4152960" y="1158840"/>
            <a:ext cx="5981760" cy="299664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כולנו חייבים למות..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השאלה היא אם בדרך לגן עדן  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ea typeface="David"/>
              </a:rPr>
              <a:t>                   לא נחווה גיהינום...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2933640" y="3733920"/>
            <a:ext cx="7124760" cy="106884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17819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האם נקבל טיפול פליאטיבי הולם בדרך לגן עדן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42600" y="38862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22" name="Picture 4" descr="intro"/>
          <p:cNvPicPr/>
          <p:nvPr/>
        </p:nvPicPr>
        <p:blipFill>
          <a:blip r:embed="rId1">
            <a:lum contrast="26000"/>
          </a:blip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5"/>
          <p:cNvSpPr/>
          <p:nvPr/>
        </p:nvSpPr>
        <p:spPr>
          <a:xfrm>
            <a:off x="0" y="609480"/>
            <a:ext cx="102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c0128"/>
                </a:solidFill>
                <a:latin typeface="Arial"/>
                <a:cs typeface="David"/>
              </a:rPr>
              <a:t>בריאות כבר לא נקבל אז לפחות קצת אהבה, חינם!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3314880" y="2590920"/>
            <a:ext cx="1295280" cy="1181520"/>
          </a:xfrm>
          <a:prstGeom prst="rect">
            <a:avLst/>
          </a:prstGeom>
          <a:gradFill rotWithShape="0">
            <a:gsLst>
              <a:gs pos="0">
                <a:srgbClr val="fbfb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c0128"/>
                </a:solidFill>
                <a:latin typeface="Arial"/>
                <a:cs typeface="David"/>
              </a:rPr>
              <a:t>קומפוטאהבה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203560" y="2957400"/>
            <a:ext cx="20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05280" y="367812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2146320" y="2852640"/>
            <a:ext cx="4049640" cy="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6208560" y="2852640"/>
            <a:ext cx="0" cy="1643040"/>
          </a:xfrm>
          <a:prstGeom prst="line">
            <a:avLst/>
          </a:prstGeom>
          <a:ln w="5724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146320" y="1773360"/>
            <a:ext cx="0" cy="381636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146320" y="5589720"/>
            <a:ext cx="764532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926400" y="5562720"/>
            <a:ext cx="210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Garamond"/>
                <a:cs typeface="Arial"/>
              </a:rPr>
              <a:t>זמן בחיי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770040" y="4724280"/>
            <a:ext cx="40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8160" y="-76320"/>
            <a:ext cx="10287000" cy="24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5400" spc="-1" strike="noStrike">
                <a:solidFill>
                  <a:srgbClr val="ffff00"/>
                </a:solidFill>
                <a:latin typeface="Arial"/>
                <a:cs typeface="Arial"/>
              </a:rPr>
              <a:t>התפיסה ההיסטורית הפשטנית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5000" spc="-1" strike="noStrike">
                <a:solidFill>
                  <a:srgbClr val="ffff00"/>
                </a:solidFill>
                <a:latin typeface="Arial"/>
                <a:ea typeface="Arial"/>
              </a:rPr>
              <a:t> "</a:t>
            </a:r>
            <a:r>
              <a:rPr b="1" i="1" lang="he-IL" sz="4800" spc="-1" strike="noStrike">
                <a:solidFill>
                  <a:srgbClr val="ffff00"/>
                </a:solidFill>
                <a:latin typeface="Arial"/>
                <a:cs typeface="Arial"/>
              </a:rPr>
              <a:t>המחלה האידיאלית והרופא האידיאלי"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708280" y="2316240"/>
            <a:ext cx="2282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צב בריאותי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104840" y="25909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Arc 14"/>
          <p:cNvSpPr/>
          <p:nvPr/>
        </p:nvSpPr>
        <p:spPr>
          <a:xfrm flipH="1" flipV="1" rot="4129800">
            <a:off x="6612480" y="2579760"/>
            <a:ext cx="739800" cy="1849320"/>
          </a:xfrm>
          <a:prstGeom prst="pie">
            <a:avLst/>
          </a:prstGeom>
          <a:noFill/>
          <a:ln w="57240">
            <a:solidFill>
              <a:srgbClr val="ff00ff"/>
            </a:solidFill>
            <a:prstDash val="dashDot"/>
            <a:round/>
          </a:ln>
          <a:effectLst>
            <a:outerShdw dist="12600" dir="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7723080" y="2819520"/>
            <a:ext cx="2068560" cy="0"/>
          </a:xfrm>
          <a:prstGeom prst="line">
            <a:avLst/>
          </a:prstGeom>
          <a:ln w="57240">
            <a:solidFill>
              <a:srgbClr val="eb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5753160" y="2979720"/>
            <a:ext cx="547560" cy="1612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ח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ל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rtl="1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 rot="19478400">
            <a:off x="6645960" y="3449520"/>
            <a:ext cx="1447560" cy="15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רופא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מטפל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afd00"/>
                </a:solidFill>
                <a:latin typeface="Arial"/>
                <a:cs typeface="David"/>
              </a:rPr>
              <a:t>ומרפא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7581960" y="2286000"/>
            <a:ext cx="2590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0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afd00"/>
                </a:solidFill>
                <a:latin typeface="Garamond"/>
                <a:cs typeface="Arial"/>
              </a:rPr>
              <a:t>ממשיך בריא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38160" y="5638680"/>
            <a:ext cx="10287000" cy="15570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התקדמות בטכנולוגיות רפואיות במאה ה- 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he-IL" sz="2400" spc="-1" strike="noStrike">
                <a:solidFill>
                  <a:srgbClr val="fafd00"/>
                </a:solidFill>
                <a:latin typeface="Arial"/>
              </a:rPr>
              <a:t> גרמה לאופוריה מסוימת ולאמונת שווא שניתן לרפא הכל או לפחות הרוב (אנטיביוטיקה תחסל כל המחלות הזיהומיות, החיסונים ימנעו, טיפולי מעקפים והשתלות יצילו ויאריכו החיים...).</a:t>
            </a: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5565600" y="5091120"/>
            <a:ext cx="1178280" cy="4597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20"/>
                </a:solidFill>
                <a:latin typeface="Arial"/>
                <a:cs typeface="Levenim MT"/>
              </a:rPr>
              <a:t>מוות</a:t>
            </a:r>
            <a:r>
              <a:rPr b="1" lang="he-IL" sz="2400" spc="-1" strike="noStrike">
                <a:solidFill>
                  <a:srgbClr val="000020"/>
                </a:solidFill>
                <a:latin typeface="Arial"/>
                <a:ea typeface="Levenim MT"/>
              </a:rPr>
              <a:t>?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6210360" y="4197240"/>
            <a:ext cx="0" cy="755640"/>
          </a:xfrm>
          <a:prstGeom prst="line">
            <a:avLst/>
          </a:prstGeom>
          <a:ln w="57240">
            <a:solidFill>
              <a:srgbClr val="00002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38160" y="1554120"/>
            <a:ext cx="10287000" cy="1068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מטרת על ברפואה – הקטנת תמותה</a:t>
            </a:r>
            <a:r>
              <a:rPr b="1" lang="he-IL" sz="2400" spc="-1" strike="noStrike">
                <a:solidFill>
                  <a:srgbClr val="fc0128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ORTALITY</a:t>
            </a:r>
            <a:r>
              <a:rPr b="1" lang="he-IL" sz="2400" spc="-1" strike="noStrike">
                <a:solidFill>
                  <a:srgbClr val="fc0128"/>
                </a:solidFill>
                <a:latin typeface="Arial"/>
              </a:rPr>
              <a:t>) </a:t>
            </a: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ודחיית זמן המוות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744040" cy="198144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85" name="Object 5"/>
          <p:cNvGraphicFramePr/>
          <p:nvPr/>
        </p:nvGraphicFramePr>
        <p:xfrm>
          <a:off x="1486080" y="2133720"/>
          <a:ext cx="20574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2133720"/>
                    <a:ext cx="20574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600" dir="5400000" blurRad="0" rotWithShape="0">
                      <a:srgbClr val="ffff00"/>
                    </a:outerShdw>
                  </a:effectLst>
                </p:spPr>
              </p:pic>
            </p:oleObj>
          </a:graphicData>
        </a:graphic>
      </p:graphicFrame>
      <p:pic>
        <p:nvPicPr>
          <p:cNvPr id="87" name="Object 6" descr=""/>
          <p:cNvPicPr/>
          <p:nvPr/>
        </p:nvPicPr>
        <p:blipFill>
          <a:blip r:embed="rId3"/>
          <a:stretch/>
        </p:blipFill>
        <p:spPr>
          <a:xfrm>
            <a:off x="876240" y="1676520"/>
            <a:ext cx="3848040" cy="231912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</p:pic>
      <p:sp>
        <p:nvSpPr>
          <p:cNvPr id="88" name="Text Box 8"/>
          <p:cNvSpPr/>
          <p:nvPr/>
        </p:nvSpPr>
        <p:spPr>
          <a:xfrm>
            <a:off x="38160" y="-77760"/>
            <a:ext cx="1028700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cs typeface="Guttman-Toledo"/>
              </a:rPr>
              <a:t>ההתפכחות במאה ה – </a:t>
            </a: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21</a:t>
            </a: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: פרדוקס הטכנולוגיה הרפואית 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14480" y="1676520"/>
            <a:ext cx="101725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טיפול יעיל יותר במחלות אקוטיות, יותר שורדים וממשיכים לחיות,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אכן הצלחנו להקטין תמותה (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TALITY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ea typeface="David"/>
              </a:rPr>
              <a:t>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381560" y="5318280"/>
          <a:ext cx="3581280" cy="169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81560" y="5318280"/>
                    <a:ext cx="3581280" cy="169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92" name="Object 12"/>
          <p:cNvGraphicFramePr/>
          <p:nvPr/>
        </p:nvGraphicFramePr>
        <p:xfrm>
          <a:off x="6134040" y="5089680"/>
          <a:ext cx="990720" cy="1228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34040" y="5089680"/>
                    <a:ext cx="990720" cy="1228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cece"/>
                    </a:outerShdw>
                  </a:effectLst>
                </p:spPr>
              </p:pic>
            </p:oleObj>
          </a:graphicData>
        </a:graphic>
      </p:graphicFrame>
      <p:sp>
        <p:nvSpPr>
          <p:cNvPr id="94" name="Text Box 13"/>
          <p:cNvSpPr/>
          <p:nvPr/>
        </p:nvSpPr>
        <p:spPr>
          <a:xfrm>
            <a:off x="-38160" y="2971800"/>
            <a:ext cx="10134720" cy="31899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200" spc="-1" strike="noStrike">
                <a:solidFill>
                  <a:srgbClr val="fafd00"/>
                </a:solidFill>
                <a:latin typeface="Arial"/>
                <a:cs typeface="David"/>
              </a:rPr>
              <a:t>אך התחלואה (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David"/>
              </a:rPr>
              <a:t>MORBIDITY</a:t>
            </a:r>
            <a:r>
              <a:rPr b="1" lang="he-IL" sz="4200" spc="-1" strike="noStrike">
                <a:solidFill>
                  <a:srgbClr val="fafd00"/>
                </a:solidFill>
                <a:latin typeface="Arial"/>
                <a:ea typeface="David"/>
              </a:rPr>
              <a:t>) עלתה!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200" spc="-1" strike="noStrike">
                <a:solidFill>
                  <a:srgbClr val="fafd00"/>
                </a:solidFill>
                <a:latin typeface="Arial"/>
                <a:cs typeface="David"/>
              </a:rPr>
              <a:t>עליה ענקית בפלח האוכלוסייה עם תחלואה כרונית 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הגורמת מוגבלות, 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ריתוק למיטה וסבל</a:t>
            </a:r>
            <a:r>
              <a:rPr b="1" lang="he-IL" sz="4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0" y="5319720"/>
            <a:ext cx="10287000" cy="22921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0000"/>
                </a:solidFill>
                <a:latin typeface="Arial"/>
                <a:cs typeface="David"/>
              </a:rPr>
              <a:t>אריכות ימים לרוב אינה קשורה בבריאות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0000"/>
                </a:solidFill>
                <a:latin typeface="Arial"/>
                <a:ea typeface="David"/>
              </a:rPr>
              <a:t> אלא בחולי, מוגבלות וסבל... איכות חיים ?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32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8520" y="1676160"/>
            <a:ext cx="10287000" cy="51814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c0128"/>
            </a:outerShdw>
          </a:effectLst>
        </p:spPr>
        <p:txBody>
          <a:bodyPr lIns="90360" rIns="90360" tIns="44280" bIns="44280" anchor="t">
            <a:normAutofit fontScale="83000"/>
          </a:bodyPr>
          <a:p>
            <a:pPr marL="2844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fafd00"/>
                </a:solidFill>
                <a:latin typeface="Arial"/>
                <a:ea typeface="David"/>
              </a:rPr>
              <a:t>  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הסתיידות   עורקים</a:t>
            </a:r>
            <a:r>
              <a:rPr b="1" lang="he-IL" sz="1200" spc="-1" strike="noStrike">
                <a:solidFill>
                  <a:srgbClr val="fafd00"/>
                </a:solidFill>
                <a:latin typeface="Arial"/>
                <a:ea typeface="David"/>
              </a:rPr>
              <a:t>     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- 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חלה כלילית ואי ספיקת לב, אירוע מוחי (שיתוק),      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                                      מגיעת כליות,</a:t>
            </a:r>
            <a:r>
              <a:rPr b="1" lang="he-IL" sz="2000" spc="-1" strike="noStrike">
                <a:solidFill>
                  <a:srgbClr val="fafd00"/>
                </a:solidFill>
                <a:latin typeface="Arial"/>
                <a:ea typeface="David"/>
              </a:rPr>
              <a:t> 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בעיות כלי דם ברגליים            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00" spc="-1" strike="noStrike">
                <a:solidFill>
                  <a:srgbClr val="fafd00"/>
                </a:solidFill>
                <a:latin typeface="Arial"/>
                <a:ea typeface="David"/>
              </a:rPr>
              <a:t> 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ס  ר  ט  ן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                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ס  ו  כ  ר  ת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- ( סוג   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2</a:t>
            </a: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)      </a:t>
            </a:r>
            <a:r>
              <a:rPr b="1" lang="he-IL" sz="3200" spc="-1" strike="noStrike">
                <a:solidFill>
                  <a:srgbClr val="fafd00"/>
                </a:solidFill>
                <a:latin typeface="Arial"/>
                <a:cs typeface="David"/>
              </a:rPr>
              <a:t>מחלות ריאה כרוניות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ea typeface="David"/>
              </a:rPr>
              <a:t>           שיטיון  (דמנציה) - אלצהיימר                         ד י כ א ו ן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אוסטאופורוזיס ומחלות פרקים (אוסטאוארתרוזיס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נ פ י ל ו ת , מחלות תנועה (פרקינסון 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פגיעה  במנגנון  החיסון  / הפרעה  בריפוי  פצעים  ושברים  &gt;&gt; זיהומים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מחלות  עיניים (קטרקט, גלאוקומה, ניוון רשתית) &gt;&gt;עיוורון        חירשות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afd00"/>
                </a:solidFill>
                <a:latin typeface="Arial"/>
                <a:cs typeface="David"/>
              </a:rPr>
              <a:t>אי שליטה בסוגרים /  הגדלת ערמונית     פצעי  לחץ       ריתוק למיטה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 rot="1304400">
            <a:off x="1022400" y="2912040"/>
            <a:ext cx="7205760" cy="3447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80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1000" spc="-1" strike="noStrike">
                <a:solidFill>
                  <a:srgbClr val="fc0100"/>
                </a:solidFill>
                <a:latin typeface="Arial"/>
                <a:cs typeface="David"/>
              </a:rPr>
              <a:t>ת  ר  ו  פ  ו  ת</a:t>
            </a:r>
            <a:endParaRPr b="0" lang="en-US" sz="1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0" y="456840"/>
            <a:ext cx="10439280" cy="685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afd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c0128"/>
                </a:solidFill>
                <a:latin typeface="Times New Roman"/>
              </a:rPr>
              <a:t>"</a:t>
            </a:r>
            <a:r>
              <a:rPr b="1" lang="he-IL" sz="5400" spc="-1" strike="noStrike">
                <a:solidFill>
                  <a:srgbClr val="fc0128"/>
                </a:solidFill>
                <a:latin typeface="Times New Roman"/>
                <a:cs typeface="David"/>
              </a:rPr>
              <a:t>הצד הרע" של החיים - הסבל עקב המחלות הכרוניות והמוגבלויות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 rot="20380800">
            <a:off x="-393120" y="2741760"/>
            <a:ext cx="11511000" cy="30200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80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fc0100"/>
                </a:solidFill>
                <a:latin typeface="Arial"/>
                <a:cs typeface="David"/>
              </a:rPr>
              <a:t>בכולם טיפול פליאטיבי</a:t>
            </a:r>
            <a:endParaRPr b="0" lang="en-US" sz="9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523880"/>
            <a:ext cx="10134720" cy="776916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David"/>
                <a:ea typeface="David"/>
              </a:rPr>
              <a:t>"בריאות ואריכות ימים"....  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David"/>
                <a:cs typeface="David"/>
              </a:rPr>
              <a:t>לרוב, אריכות חיים כרוכה בפחות בריאות...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he-IL" sz="4800" spc="-1" strike="noStrike">
                <a:solidFill>
                  <a:srgbClr val="fafd00"/>
                </a:solidFill>
                <a:latin typeface="David"/>
                <a:cs typeface="David"/>
              </a:rPr>
              <a:t>ככל  שנשרוד וככל שהרפואה "תציל" יותר ממחלות חדות  (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CUTE</a:t>
            </a:r>
            <a:r>
              <a:rPr b="1" lang="he-IL" sz="4800" spc="-1" strike="noStrike">
                <a:solidFill>
                  <a:srgbClr val="fafd00"/>
                </a:solidFill>
                <a:latin typeface="David"/>
                <a:ea typeface="David"/>
              </a:rPr>
              <a:t>), 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afd00"/>
                </a:solidFill>
                <a:latin typeface="David"/>
                <a:ea typeface="David"/>
              </a:rPr>
              <a:t> כך עולה הסיכוי של כל אחד מאתנו      לסבול זמן רב יותר - ממחלה כרונית שאין לה "ריפוי" ומשילוב מספר מחלות כאלו.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150840"/>
            <a:ext cx="10248840" cy="1555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c0128"/>
                </a:solidFill>
                <a:latin typeface="Impact"/>
                <a:cs typeface="Guttman-Toledo"/>
              </a:rPr>
              <a:t>השינוי בתפיסת בריאות וגיל ההתפכחות במאה ה - </a:t>
            </a:r>
            <a:r>
              <a:rPr b="1" lang="he-IL" sz="6000" spc="-1" strike="noStrike">
                <a:solidFill>
                  <a:srgbClr val="fc0128"/>
                </a:solidFill>
                <a:latin typeface="Impact"/>
                <a:ea typeface="Guttman-Toledo"/>
              </a:rPr>
              <a:t>21</a:t>
            </a: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2324160" y="5181480"/>
            <a:ext cx="3247920" cy="106740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52300" dir="836435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David"/>
              </a:rPr>
              <a:t>עיכוב, מניעה וקידום בריאות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029360" y="1508040"/>
            <a:ext cx="3256200" cy="76284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600880" y="4959360"/>
            <a:ext cx="2133360" cy="172944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c0128"/>
                </a:solidFill>
                <a:latin typeface="Arial"/>
                <a:cs typeface="Arial"/>
              </a:rPr>
              <a:t>ב ר י א י 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486080" y="3330720"/>
            <a:ext cx="4114800" cy="1738440"/>
          </a:xfrm>
          <a:prstGeom prst="rect">
            <a:avLst/>
          </a:prstGeom>
          <a:solidFill>
            <a:srgbClr val="800080"/>
          </a:solidFill>
          <a:ln w="38160">
            <a:solidFill>
              <a:srgbClr val="ffff00"/>
            </a:solidFill>
            <a:miter/>
          </a:ln>
          <a:effectLst>
            <a:outerShdw dist="40186" dir="430364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ט י פ ו ל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מ ר פ א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10287000" cy="9144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ff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Times New Roman"/>
                <a:cs typeface="David"/>
              </a:rPr>
              <a:t>מצב בריאות במאה ה-</a:t>
            </a:r>
            <a:r>
              <a:rPr b="1" lang="he-IL" sz="5400" spc="-1" strike="noStrike">
                <a:solidFill>
                  <a:srgbClr val="fafd00"/>
                </a:solidFill>
                <a:latin typeface="Times New Roman"/>
                <a:ea typeface="David"/>
              </a:rPr>
              <a:t>21</a:t>
            </a:r>
            <a:r>
              <a:rPr b="1" lang="he-IL" sz="5400" spc="-1" strike="noStrike">
                <a:solidFill>
                  <a:srgbClr val="fafd00"/>
                </a:solidFill>
                <a:latin typeface="Times New Roman"/>
                <a:ea typeface="David"/>
              </a:rPr>
              <a:t>  - המציאות</a:t>
            </a:r>
            <a:endParaRPr b="0" lang="en-US" sz="5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572080" y="3352680"/>
            <a:ext cx="3124080" cy="2130480"/>
          </a:xfrm>
          <a:prstGeom prst="rect">
            <a:avLst/>
          </a:prstGeom>
          <a:solidFill>
            <a:srgbClr val="9900cc"/>
          </a:solidFill>
          <a:ln w="2556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afd00"/>
                </a:solidFill>
                <a:latin typeface="Arial"/>
                <a:cs typeface="David"/>
              </a:rPr>
              <a:t>ח  ו ל י ם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0" y="1066680"/>
            <a:ext cx="5648400" cy="3410280"/>
          </a:xfrm>
          <a:prstGeom prst="rect">
            <a:avLst/>
          </a:prstGeom>
          <a:solidFill>
            <a:srgbClr val="70707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  <a:cs typeface="David"/>
              </a:rPr>
              <a:t>ט י פ ו ל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  <a:cs typeface="David"/>
              </a:rPr>
              <a:t>פ ל י א ט י ב י</a:t>
            </a:r>
            <a:endParaRPr b="0" lang="en-US" sz="6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5648400" y="1066680"/>
            <a:ext cx="4637160" cy="2311560"/>
          </a:xfrm>
          <a:prstGeom prst="rect">
            <a:avLst/>
          </a:prstGeom>
          <a:solidFill>
            <a:srgbClr val="707070"/>
          </a:solidFill>
          <a:ln w="3240">
            <a:solidFill>
              <a:srgbClr val="fafd00"/>
            </a:solidFill>
            <a:miter/>
          </a:ln>
          <a:effectLst>
            <a:outerShdw dist="40186" dir="1096358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8"/>
                </a:solidFill>
                <a:latin typeface="Arial"/>
                <a:cs typeface="David"/>
              </a:rPr>
              <a:t>ח ו ל י ם</a:t>
            </a:r>
            <a:r>
              <a:rPr b="1" lang="he-IL" sz="7200" spc="-1" strike="noStrike">
                <a:solidFill>
                  <a:srgbClr val="000008"/>
                </a:solidFill>
                <a:latin typeface="Arial"/>
                <a:ea typeface="David"/>
              </a:rPr>
              <a:t> 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8"/>
                </a:solidFill>
                <a:latin typeface="Arial"/>
                <a:ea typeface="David"/>
              </a:rPr>
              <a:t> </a:t>
            </a:r>
            <a:r>
              <a:rPr b="1" lang="he-IL" sz="7200" spc="-1" strike="noStrike">
                <a:solidFill>
                  <a:srgbClr val="000008"/>
                </a:solidFill>
                <a:latin typeface="Arial"/>
                <a:cs typeface="David"/>
              </a:rPr>
              <a:t>ק ש י ם</a:t>
            </a:r>
            <a:endParaRPr b="0" lang="en-US" sz="7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2324160" y="6248520"/>
            <a:ext cx="5410080" cy="609480"/>
          </a:xfrm>
          <a:prstGeom prst="pie">
            <a:avLst/>
          </a:prstGeom>
          <a:solidFill>
            <a:srgbClr val="ff99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9069480" y="1981080"/>
            <a:ext cx="1484280" cy="4876920"/>
          </a:xfrm>
          <a:prstGeom prst="upArrow">
            <a:avLst>
              <a:gd name="adj1" fmla="val 50000"/>
              <a:gd name="adj2" fmla="val 82143"/>
            </a:avLst>
          </a:prstGeom>
          <a:solidFill>
            <a:srgbClr val="fafd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9414000" y="3581280"/>
            <a:ext cx="530280" cy="21049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AG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4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900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71120" y="1981080"/>
            <a:ext cx="4295880" cy="41148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2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1028880" y="5958000"/>
            <a:ext cx="533160" cy="67140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</p:pic>
      <p:pic>
        <p:nvPicPr>
          <p:cNvPr id="115" name="Object 4" descr=""/>
          <p:cNvPicPr/>
          <p:nvPr/>
        </p:nvPicPr>
        <p:blipFill>
          <a:blip r:embed="rId2"/>
          <a:stretch/>
        </p:blipFill>
        <p:spPr>
          <a:xfrm>
            <a:off x="1492200" y="5729400"/>
            <a:ext cx="914400" cy="823680"/>
          </a:xfrm>
          <a:prstGeom prst="rect">
            <a:avLst/>
          </a:prstGeom>
          <a:ln w="0">
            <a:noFill/>
          </a:ln>
          <a:effectLst>
            <a:outerShdw dist="40186" dir="17296359" blurRad="0" rotWithShape="0">
              <a:srgbClr val="fafd00"/>
            </a:outerShdw>
          </a:effectLst>
        </p:spPr>
      </p:pic>
      <p:sp>
        <p:nvSpPr>
          <p:cNvPr id="116" name="Text Box 6"/>
          <p:cNvSpPr/>
          <p:nvPr/>
        </p:nvSpPr>
        <p:spPr>
          <a:xfrm>
            <a:off x="3206880" y="533412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8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Object 12" descr=""/>
          <p:cNvPicPr/>
          <p:nvPr/>
        </p:nvPicPr>
        <p:blipFill>
          <a:blip r:embed="rId3"/>
          <a:stretch/>
        </p:blipFill>
        <p:spPr>
          <a:xfrm>
            <a:off x="2209680" y="5486400"/>
            <a:ext cx="984240" cy="838080"/>
          </a:xfrm>
          <a:prstGeom prst="rect">
            <a:avLst/>
          </a:prstGeom>
          <a:ln w="0">
            <a:noFill/>
          </a:ln>
          <a:effectLst>
            <a:outerShdw dist="52300" dir="15363565" blurRad="0" rotWithShape="0">
              <a:srgbClr val="ffffff"/>
            </a:outerShdw>
          </a:effectLst>
        </p:spPr>
      </p:pic>
      <p:pic>
        <p:nvPicPr>
          <p:cNvPr id="118" name="Object 13" descr=""/>
          <p:cNvPicPr/>
          <p:nvPr/>
        </p:nvPicPr>
        <p:blipFill>
          <a:blip r:embed="rId4"/>
          <a:stretch/>
        </p:blipFill>
        <p:spPr>
          <a:xfrm>
            <a:off x="2895480" y="5181480"/>
            <a:ext cx="1212840" cy="914400"/>
          </a:xfrm>
          <a:prstGeom prst="rect">
            <a:avLst/>
          </a:prstGeom>
          <a:ln w="0">
            <a:noFill/>
          </a:ln>
          <a:effectLst>
            <a:outerShdw dist="52300" dir="9963564" blurRad="0" rotWithShape="0">
              <a:srgbClr val="000020"/>
            </a:outerShdw>
          </a:effectLst>
        </p:spPr>
      </p:pic>
      <p:pic>
        <p:nvPicPr>
          <p:cNvPr id="119" name="Object 14" descr=""/>
          <p:cNvPicPr/>
          <p:nvPr/>
        </p:nvPicPr>
        <p:blipFill>
          <a:blip r:embed="rId5"/>
          <a:stretch/>
        </p:blipFill>
        <p:spPr>
          <a:xfrm>
            <a:off x="3657600" y="4800600"/>
            <a:ext cx="1219320" cy="11430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sp>
        <p:nvSpPr>
          <p:cNvPr id="120" name="Text Box 15"/>
          <p:cNvSpPr/>
          <p:nvPr/>
        </p:nvSpPr>
        <p:spPr>
          <a:xfrm>
            <a:off x="3809880" y="525780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9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21" name="Object 16" descr=""/>
          <p:cNvPicPr/>
          <p:nvPr/>
        </p:nvPicPr>
        <p:blipFill>
          <a:blip r:embed="rId6"/>
          <a:stretch/>
        </p:blipFill>
        <p:spPr>
          <a:xfrm>
            <a:off x="4572000" y="4022640"/>
            <a:ext cx="2247840" cy="230184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000020"/>
            </a:outerShdw>
          </a:effectLst>
        </p:spPr>
      </p:pic>
      <p:sp>
        <p:nvSpPr>
          <p:cNvPr id="122" name="Text Box 17"/>
          <p:cNvSpPr/>
          <p:nvPr/>
        </p:nvSpPr>
        <p:spPr>
          <a:xfrm>
            <a:off x="5067360" y="4967280"/>
            <a:ext cx="1441440" cy="58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23" name="Object 21" descr=""/>
          <p:cNvPicPr/>
          <p:nvPr/>
        </p:nvPicPr>
        <p:blipFill>
          <a:blip r:embed="rId7"/>
          <a:stretch/>
        </p:blipFill>
        <p:spPr>
          <a:xfrm>
            <a:off x="6515280" y="3200400"/>
            <a:ext cx="3227040" cy="3048120"/>
          </a:xfrm>
          <a:prstGeom prst="rect">
            <a:avLst/>
          </a:prstGeom>
          <a:ln w="0">
            <a:noFill/>
          </a:ln>
          <a:effectLst>
            <a:outerShdw dist="134955" dir="7872880" blurRad="0" rotWithShape="0">
              <a:srgbClr val="fafd00"/>
            </a:outerShdw>
          </a:effectLst>
        </p:spPr>
      </p:pic>
      <p:sp>
        <p:nvSpPr>
          <p:cNvPr id="124" name="Text Box 24"/>
          <p:cNvSpPr/>
          <p:nvPr/>
        </p:nvSpPr>
        <p:spPr>
          <a:xfrm>
            <a:off x="6210360" y="4572000"/>
            <a:ext cx="3505320" cy="52056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1st.  CENTURY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-38160" y="1523880"/>
            <a:ext cx="10287000" cy="3385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afd00"/>
                </a:solidFill>
                <a:latin typeface="Arial"/>
                <a:cs typeface="David"/>
              </a:rPr>
              <a:t>חשוב להפנים כי התפיסה המקובלת ברפואה ובחברה משך המאות הקודמות,  הייתה שגויה, שטחית ובלתי מספקת</a:t>
            </a:r>
            <a:r>
              <a:rPr b="1" lang="he-IL" sz="5400" spc="-1" strike="noStrike">
                <a:solidFill>
                  <a:srgbClr val="fafd00"/>
                </a:solidFill>
                <a:latin typeface="Arial"/>
                <a:ea typeface="David"/>
              </a:rPr>
              <a:t>. 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8801280" y="3718080"/>
            <a:ext cx="152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0" spc="-1" strike="noStrike">
                <a:solidFill>
                  <a:srgbClr val="fc0128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857680" y="548640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09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18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492200" y="5943600"/>
            <a:ext cx="984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7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419040" y="640080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.C</a:t>
            </a:r>
            <a:r>
              <a:rPr b="1" lang="en-US" sz="2400" spc="-1" strike="noStrike">
                <a:solidFill>
                  <a:srgbClr val="00002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0" y="469800"/>
            <a:ext cx="10477440" cy="1408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c0128"/>
                </a:solidFill>
                <a:latin typeface="Impact"/>
                <a:cs typeface="Guttman-Toledo"/>
              </a:rPr>
              <a:t>השינוי בתפיסת הרפואה במאה ה-</a:t>
            </a:r>
            <a:r>
              <a:rPr b="1" lang="he-IL" sz="5400" spc="-1" strike="noStrike">
                <a:solidFill>
                  <a:srgbClr val="fc0128"/>
                </a:solidFill>
                <a:latin typeface="Impact"/>
                <a:ea typeface="Guttman-Toledo"/>
              </a:rPr>
              <a:t>21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2T02:47:18Z</dcterms:created>
  <dc:creator>DORON</dc:creator>
  <dc:description/>
  <cp:keywords/>
  <dc:language>en-US</dc:language>
  <cp:lastModifiedBy>chen</cp:lastModifiedBy>
  <dcterms:modified xsi:type="dcterms:W3CDTF">2010-08-18T14:45:35Z</dcterms:modified>
  <cp:revision>500</cp:revision>
  <dc:subject/>
  <dc:title>ZINC 96</dc:title>
</cp:coreProperties>
</file>