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AFB-36D0-46F2-8F06-291B52BB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EEE-FEE9-47AC-8888-6A3E6DE8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7CC-0969-42CD-B868-415D2F46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D2E-2D1F-4BF9-B31E-2F811A0A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E3BB-B037-4DD6-A993-E5DF29C5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A4B-A256-48D4-86A8-9406B57C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666-0D11-4677-BC94-ED1569AD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D69-B2D2-4B28-B839-CBF0E4D0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D82-E3B2-4431-B853-29983E1B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9F2-A655-499C-8EDD-4C644F3B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02F-5077-4A5B-A2C5-9DE62521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2C2-F9D5-4288-A135-7BD8E140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3A7A-D402-4820-9FA9-8BF26C170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0066"/>
                </a:solidFill>
                <a:latin typeface="Miriam"/>
                <a:cs typeface="David"/>
              </a:rPr>
              <a:t>תוכנית למניעת נפילות בבית בקרב אוכלוסיית הקשישים</a:t>
            </a:r>
            <a:r>
              <a:rPr b="1" lang="en-US" sz="4400" spc="-1" strike="noStrike">
                <a:solidFill>
                  <a:srgbClr val="000000"/>
                </a:solidFill>
                <a:latin typeface="Miriam"/>
                <a:ea typeface="Miria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Object 20" descr=""/>
          <p:cNvPicPr/>
          <p:nvPr/>
        </p:nvPicPr>
        <p:blipFill>
          <a:blip r:embed="rId1"/>
          <a:stretch/>
        </p:blipFill>
        <p:spPr>
          <a:xfrm>
            <a:off x="1752480" y="2031840"/>
            <a:ext cx="6159600" cy="4064040"/>
          </a:xfrm>
          <a:prstGeom prst="rect">
            <a:avLst/>
          </a:prstGeom>
          <a:ln w="0">
            <a:noFill/>
          </a:ln>
          <a:effectLst>
            <a:outerShdw dist="52300" dir="20763565" blurRad="0" rotWithShape="0">
              <a:srgbClr val="fff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0" y="152280"/>
            <a:ext cx="9144000" cy="1008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ת ו צ א ו ת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75" name="Object 6" descr=""/>
          <p:cNvPicPr/>
          <p:nvPr/>
        </p:nvPicPr>
        <p:blipFill>
          <a:blip r:embed="rId1"/>
          <a:stretch/>
        </p:blipFill>
        <p:spPr>
          <a:xfrm>
            <a:off x="1066680" y="5465880"/>
            <a:ext cx="2051280" cy="1239840"/>
          </a:xfrm>
          <a:prstGeom prst="rect">
            <a:avLst/>
          </a:prstGeom>
          <a:ln w="0">
            <a:noFill/>
          </a:ln>
        </p:spPr>
      </p:pic>
      <p:pic>
        <p:nvPicPr>
          <p:cNvPr id="76" name="Object 7" descr=""/>
          <p:cNvPicPr/>
          <p:nvPr/>
        </p:nvPicPr>
        <p:blipFill>
          <a:blip r:embed="rId2"/>
          <a:stretch/>
        </p:blipFill>
        <p:spPr>
          <a:xfrm>
            <a:off x="8229600" y="5181480"/>
            <a:ext cx="990720" cy="1676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0" y="990720"/>
            <a:ext cx="9144000" cy="743184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e-IL" sz="4400" spc="-1" strike="noStrike">
                <a:solidFill>
                  <a:srgbClr val="000000"/>
                </a:solidFill>
                <a:latin typeface="Miriam"/>
              </a:rPr>
              <a:t>גיל ממוצע של הנבדקים </a:t>
            </a:r>
            <a:r>
              <a:rPr b="1" lang="he-IL" sz="4400" spc="-1" strike="noStrike">
                <a:solidFill>
                  <a:srgbClr val="000000"/>
                </a:solidFill>
                <a:latin typeface="Miriam"/>
              </a:rPr>
              <a:t>74</a:t>
            </a:r>
            <a:r>
              <a:rPr b="1" lang="he-IL" sz="4400" spc="-1" strike="noStrike">
                <a:solidFill>
                  <a:srgbClr val="000000"/>
                </a:solidFill>
                <a:latin typeface="Miriam"/>
              </a:rPr>
              <a:t>, מתוכם </a:t>
            </a:r>
            <a:r>
              <a:rPr b="1" lang="he-IL" sz="4400" spc="-1" strike="noStrike">
                <a:solidFill>
                  <a:srgbClr val="000000"/>
                </a:solidFill>
                <a:latin typeface="Miriam"/>
              </a:rPr>
              <a:t>14</a:t>
            </a:r>
            <a:r>
              <a:rPr b="1" lang="he-IL" sz="4400" spc="-1" strike="noStrike">
                <a:solidFill>
                  <a:srgbClr val="000000"/>
                </a:solidFill>
                <a:latin typeface="Miriam"/>
              </a:rPr>
              <a:t> נשים,</a:t>
            </a:r>
            <a:r>
              <a:rPr b="1" lang="he-IL" sz="4400" spc="-1" strike="noStrike">
                <a:solidFill>
                  <a:srgbClr val="000000"/>
                </a:solidFill>
                <a:latin typeface="Miriam"/>
              </a:rPr>
              <a:t>3</a:t>
            </a:r>
            <a:r>
              <a:rPr b="1" lang="he-IL" sz="4400" spc="-1" strike="noStrike">
                <a:solidFill>
                  <a:srgbClr val="000000"/>
                </a:solidFill>
                <a:latin typeface="Miriam"/>
              </a:rPr>
              <a:t> גברים </a:t>
            </a:r>
            <a:r>
              <a:rPr b="1" lang="he-IL" sz="3200" spc="-1" strike="noStrike">
                <a:solidFill>
                  <a:srgbClr val="000000"/>
                </a:solidFill>
                <a:latin typeface="Miriam"/>
              </a:rPr>
              <a:t>(</a:t>
            </a:r>
            <a:r>
              <a:rPr b="1" lang="he-IL" sz="3200" spc="-1" strike="noStrike">
                <a:solidFill>
                  <a:srgbClr val="000000"/>
                </a:solidFill>
                <a:latin typeface="Miriam"/>
              </a:rPr>
              <a:t>4</a:t>
            </a:r>
            <a:r>
              <a:rPr b="1" lang="he-IL" sz="3200" spc="-1" strike="noStrike">
                <a:solidFill>
                  <a:srgbClr val="000000"/>
                </a:solidFill>
                <a:latin typeface="Miriam"/>
              </a:rPr>
              <a:t> שאלונים מולאו לגבי שני בני הזוג</a:t>
            </a:r>
            <a:r>
              <a:rPr b="1" lang="en-US" sz="3200" spc="-1" strike="noStrike">
                <a:solidFill>
                  <a:srgbClr val="000000"/>
                </a:solidFill>
                <a:latin typeface="Miriam"/>
              </a:rPr>
              <a:t>)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ff0066"/>
                </a:solidFill>
                <a:uFillTx/>
                <a:latin typeface="Miriam"/>
              </a:rPr>
              <a:t>בוצעו </a:t>
            </a:r>
            <a:r>
              <a:rPr b="1" lang="he-IL" sz="4000" spc="-1" strike="noStrike" u="sng">
                <a:solidFill>
                  <a:srgbClr val="ff0066"/>
                </a:solidFill>
                <a:uFillTx/>
                <a:latin typeface="Miriam"/>
              </a:rPr>
              <a:t>21</a:t>
            </a:r>
            <a:r>
              <a:rPr b="1" lang="he-IL" sz="4000" spc="-1" strike="noStrike" u="sng">
                <a:solidFill>
                  <a:srgbClr val="ff0066"/>
                </a:solidFill>
                <a:uFillTx/>
                <a:latin typeface="Miriam"/>
              </a:rPr>
              <a:t> ביקורי בית ונמצאו מפגעים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Miriam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Miriam"/>
              </a:rPr>
              <a:t> 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riam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Davi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   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בחדרי שינה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   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בדרכי הגישה אל הבית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   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בסלון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   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במטבח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   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במקלחת  (מתוך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12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  מקלחות שהיו בשימוש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)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David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David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   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באמבטיה (ב-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9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 בתים הייתה רק אמבטיה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)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Davi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David"/>
              </a:rPr>
              <a:t>14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David"/>
              </a:rPr>
              <a:t>  </a:t>
            </a:r>
            <a:r>
              <a:rPr b="1" lang="he-IL" sz="4000" spc="-1" strike="noStrike">
                <a:solidFill>
                  <a:srgbClr val="000000"/>
                </a:solidFill>
                <a:latin typeface="David"/>
              </a:rPr>
              <a:t>בשירותים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.</a:t>
            </a: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78" name="Object 9" descr=""/>
          <p:cNvPicPr/>
          <p:nvPr/>
        </p:nvPicPr>
        <p:blipFill>
          <a:blip r:embed="rId3"/>
          <a:stretch/>
        </p:blipFill>
        <p:spPr>
          <a:xfrm>
            <a:off x="152280" y="3048120"/>
            <a:ext cx="2743200" cy="167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026"/>
          <p:cNvSpPr/>
          <p:nvPr/>
        </p:nvSpPr>
        <p:spPr>
          <a:xfrm>
            <a:off x="0" y="137160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Miriam"/>
                <a:ea typeface="Miriam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אחד  לא נפל כלל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נפלו "הרבה פעמים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" 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13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נפלו יותר מפעמיים (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77%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)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0" name="Text Box 1027"/>
          <p:cNvSpPr/>
          <p:nvPr/>
        </p:nvSpPr>
        <p:spPr>
          <a:xfrm>
            <a:off x="0" y="152280"/>
            <a:ext cx="9144000" cy="1008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  <a:ea typeface="Levenim MT"/>
              </a:rPr>
              <a:t>       </a:t>
            </a:r>
            <a:r>
              <a:rPr b="1" lang="he-IL" sz="6000" spc="-1" strike="noStrike">
                <a:solidFill>
                  <a:srgbClr val="ff0066"/>
                </a:solidFill>
                <a:latin typeface="Times New Roman"/>
                <a:cs typeface="Levenim MT"/>
              </a:rPr>
              <a:t>נפילות קודמות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1" name="Text Box 1028"/>
          <p:cNvSpPr/>
          <p:nvPr/>
        </p:nvSpPr>
        <p:spPr>
          <a:xfrm>
            <a:off x="6095880" y="838080"/>
            <a:ext cx="2438640" cy="825120"/>
          </a:xfrm>
          <a:prstGeom prst="rect">
            <a:avLst/>
          </a:prstGeom>
          <a:noFill/>
          <a:ln w="0">
            <a:noFill/>
          </a:ln>
          <a:effectLst>
            <a:outerShdw dist="52300" dir="2076356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כמות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Times New Roman"/>
                <a:ea typeface="Levenim MT"/>
              </a:rPr>
              <a:t>: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2" name="Text Box 1029"/>
          <p:cNvSpPr/>
          <p:nvPr/>
        </p:nvSpPr>
        <p:spPr>
          <a:xfrm>
            <a:off x="0" y="4343400"/>
            <a:ext cx="69343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David"/>
              </a:rPr>
              <a:t>        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נפצעו עקב הנפילה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     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אושפזו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       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נשארו עם פגיעה תפקודית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כולם    דיווחו על ירידה בביטחון העצמי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" name="Text Box 1030"/>
          <p:cNvSpPr/>
          <p:nvPr/>
        </p:nvSpPr>
        <p:spPr>
          <a:xfrm>
            <a:off x="3352680" y="3747960"/>
            <a:ext cx="2743200" cy="825120"/>
          </a:xfrm>
          <a:prstGeom prst="rect">
            <a:avLst/>
          </a:prstGeom>
          <a:noFill/>
          <a:ln w="0">
            <a:noFill/>
          </a:ln>
          <a:effectLst>
            <a:outerShdw dist="52300" dir="2076356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סיבוכים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Times New Roman"/>
                <a:ea typeface="Levenim MT"/>
              </a:rPr>
              <a:t>: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4" name="Text Box 1031"/>
          <p:cNvSpPr/>
          <p:nvPr/>
        </p:nvSpPr>
        <p:spPr>
          <a:xfrm>
            <a:off x="6324480" y="3048120"/>
            <a:ext cx="2133720" cy="825120"/>
          </a:xfrm>
          <a:prstGeom prst="rect">
            <a:avLst/>
          </a:prstGeom>
          <a:noFill/>
          <a:ln w="0">
            <a:noFill/>
          </a:ln>
          <a:effectLst>
            <a:outerShdw dist="52300" dir="2076356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מיקום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Times New Roman"/>
                <a:ea typeface="Levenim MT"/>
              </a:rPr>
              <a:t>: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5" name="Text Box 1032"/>
          <p:cNvSpPr/>
          <p:nvPr/>
        </p:nvSpPr>
        <p:spPr>
          <a:xfrm>
            <a:off x="0" y="3124080"/>
            <a:ext cx="6553080" cy="1191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David"/>
              </a:rPr>
              <a:t>בחצי מהמקרים התאונה הייתה בבית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86" name="Object 1034" descr=""/>
          <p:cNvPicPr/>
          <p:nvPr/>
        </p:nvPicPr>
        <p:blipFill>
          <a:blip r:embed="rId1"/>
          <a:stretch/>
        </p:blipFill>
        <p:spPr>
          <a:xfrm>
            <a:off x="6781680" y="4343400"/>
            <a:ext cx="2100240" cy="1692360"/>
          </a:xfrm>
          <a:prstGeom prst="rect">
            <a:avLst/>
          </a:prstGeom>
          <a:ln w="0">
            <a:noFill/>
          </a:ln>
        </p:spPr>
      </p:pic>
      <p:pic>
        <p:nvPicPr>
          <p:cNvPr id="87" name="Object 1035" descr=""/>
          <p:cNvPicPr/>
          <p:nvPr/>
        </p:nvPicPr>
        <p:blipFill>
          <a:blip r:embed="rId2"/>
          <a:stretch/>
        </p:blipFill>
        <p:spPr>
          <a:xfrm>
            <a:off x="0" y="4114800"/>
            <a:ext cx="4219560" cy="14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289080"/>
            <a:ext cx="9144000" cy="100836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מ ג ב ל ו ת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89" name="Object 0" descr=""/>
          <p:cNvPicPr/>
          <p:nvPr/>
        </p:nvPicPr>
        <p:blipFill>
          <a:blip r:embed="rId1"/>
          <a:stretch/>
        </p:blipFill>
        <p:spPr>
          <a:xfrm>
            <a:off x="533520" y="4343400"/>
            <a:ext cx="1857240" cy="2514600"/>
          </a:xfrm>
          <a:prstGeom prst="rect">
            <a:avLst/>
          </a:prstGeom>
          <a:ln w="0">
            <a:noFill/>
          </a:ln>
          <a:effectLst>
            <a:outerShdw dist="77353" dir="562478" blurRad="0" rotWithShape="0">
              <a:srgbClr val="ffff00"/>
            </a:outerShdw>
          </a:effectLst>
        </p:spPr>
      </p:pic>
      <p:sp>
        <p:nvSpPr>
          <p:cNvPr id="90" name="Text Box 6"/>
          <p:cNvSpPr/>
          <p:nvPr/>
        </p:nvSpPr>
        <p:spPr>
          <a:xfrm>
            <a:off x="0" y="1447920"/>
            <a:ext cx="9144000" cy="6141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f0066"/>
              </a:buClr>
              <a:buSzPct val="15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avid"/>
              </a:rPr>
              <a:t>  </a:t>
            </a:r>
            <a:r>
              <a:rPr b="1" lang="he-IL" sz="4800" spc="-1" strike="noStrike">
                <a:solidFill>
                  <a:srgbClr val="000000"/>
                </a:solidFill>
                <a:latin typeface="David"/>
              </a:rPr>
              <a:t>מספר קטן של משתתפים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66"/>
              </a:buClr>
              <a:buSzPct val="15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66"/>
              </a:buClr>
              <a:buSzPct val="15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David"/>
              </a:rPr>
              <a:t>  </a:t>
            </a:r>
            <a:r>
              <a:rPr b="1" lang="he-IL" sz="4800" spc="-1" strike="noStrike">
                <a:solidFill>
                  <a:srgbClr val="000000"/>
                </a:solidFill>
                <a:latin typeface="David"/>
              </a:rPr>
              <a:t>קושי לבחון, להעריך  ולהוכיח  חד משמעית האם ההתערבות אכן  מצמצמת בפועל את מספר  הנפילות</a:t>
            </a:r>
            <a:r>
              <a:rPr b="1" lang="en-US" sz="4800" spc="-1" strike="noStrike">
                <a:solidFill>
                  <a:srgbClr val="000000"/>
                </a:solidFill>
                <a:latin typeface="David"/>
              </a:rPr>
              <a:t> ?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66"/>
              </a:buClr>
              <a:buSzPct val="15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buClr>
                <a:srgbClr val="ff0066"/>
              </a:buClr>
              <a:buSzPct val="120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0" y="289080"/>
            <a:ext cx="9144000" cy="10083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לקחים ומסקנות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76320" y="3657600"/>
            <a:ext cx="1042920" cy="196848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</p:pic>
      <p:pic>
        <p:nvPicPr>
          <p:cNvPr id="93" name="Object 5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1117440" cy="194472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</p:pic>
      <p:sp>
        <p:nvSpPr>
          <p:cNvPr id="94" name="Text Box 7"/>
          <p:cNvSpPr/>
          <p:nvPr/>
        </p:nvSpPr>
        <p:spPr>
          <a:xfrm>
            <a:off x="0" y="1785960"/>
            <a:ext cx="9144000" cy="6675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f0066"/>
              </a:buClr>
              <a:buSzPct val="150000"/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David"/>
              </a:rPr>
              <a:t>   </a:t>
            </a:r>
            <a:r>
              <a:rPr b="1" lang="he-IL" sz="4400" spc="-1" strike="noStrike">
                <a:solidFill>
                  <a:srgbClr val="000000"/>
                </a:solidFill>
                <a:latin typeface="David"/>
              </a:rPr>
              <a:t>יש להרחיב את מערך ההדרכה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66"/>
              </a:buClr>
              <a:buSzPct val="150000"/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David"/>
              </a:rPr>
              <a:t>   </a:t>
            </a:r>
            <a:r>
              <a:rPr b="1" lang="he-IL" sz="4400" spc="-1" strike="noStrike">
                <a:solidFill>
                  <a:srgbClr val="000000"/>
                </a:solidFill>
                <a:latin typeface="David"/>
              </a:rPr>
              <a:t>רצוי להכין חומר הסבר ומידע כתוב למסירה לקשישים על ידי התלמידים </a:t>
            </a:r>
            <a:r>
              <a:rPr b="1" lang="he-IL" sz="4000" spc="-1" strike="noStrike">
                <a:solidFill>
                  <a:srgbClr val="000000"/>
                </a:solidFill>
                <a:latin typeface="David"/>
              </a:rPr>
              <a:t>(שירותים קהילתיים, ארגונים/חנויות   המספקים אביזרי עזר לבית</a:t>
            </a:r>
            <a:r>
              <a:rPr b="1" lang="en-US" sz="4000" spc="-1" strike="noStrike">
                <a:solidFill>
                  <a:srgbClr val="000000"/>
                </a:solidFill>
                <a:latin typeface="David"/>
              </a:rPr>
              <a:t>)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66"/>
              </a:buClr>
              <a:buSzPct val="150000"/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David"/>
              </a:rPr>
              <a:t> </a:t>
            </a:r>
            <a:r>
              <a:rPr b="1" lang="he-IL" sz="4400" spc="-1" strike="noStrike">
                <a:solidFill>
                  <a:srgbClr val="000000"/>
                </a:solidFill>
                <a:latin typeface="David"/>
              </a:rPr>
              <a:t>יש להכשיר מזכירה לגיוס הקשישים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buClr>
                <a:srgbClr val="ff0066"/>
              </a:buClr>
              <a:buSzPct val="120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80880" y="39625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Object 6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5562720" cy="1295280"/>
          </a:xfrm>
          <a:prstGeom prst="rect">
            <a:avLst/>
          </a:prstGeom>
          <a:ln w="0">
            <a:noFill/>
          </a:ln>
          <a:effectLst>
            <a:outerShdw dist="63504" dir="19383909" blurRad="0" rotWithShape="0">
              <a:srgbClr val="ffccff">
                <a:alpha val="50000"/>
              </a:srgbClr>
            </a:outerShdw>
          </a:effectLst>
        </p:spPr>
      </p:pic>
      <p:sp>
        <p:nvSpPr>
          <p:cNvPr id="45" name="Rectangle 7"/>
          <p:cNvSpPr/>
          <p:nvPr/>
        </p:nvSpPr>
        <p:spPr>
          <a:xfrm>
            <a:off x="2514600" y="5334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מ ח ו ז</a:t>
            </a:r>
            <a:r>
              <a:rPr b="1" i="1" lang="en-US" sz="4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   </a:t>
            </a:r>
            <a:r>
              <a:rPr b="1" i="1" lang="he-IL" sz="44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ד ן</a:t>
            </a:r>
            <a:r>
              <a:rPr b="1" i="1" lang="en-US" sz="4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*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52280" y="990720"/>
            <a:ext cx="8839440" cy="25628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0066"/>
                </a:solidFill>
                <a:latin typeface="David"/>
              </a:rPr>
              <a:t>גבריאלה סליזק</a:t>
            </a:r>
            <a:r>
              <a:rPr b="1" lang="he-IL" sz="5400" spc="-1" strike="noStrike" baseline="30000">
                <a:solidFill>
                  <a:srgbClr val="ff0066"/>
                </a:solidFill>
                <a:latin typeface="Arial"/>
              </a:rPr>
              <a:t>1</a:t>
            </a:r>
            <a:r>
              <a:rPr b="1" lang="he-IL" sz="5400" spc="-1" strike="noStrike" baseline="30000">
                <a:solidFill>
                  <a:srgbClr val="ff0066"/>
                </a:solidFill>
                <a:latin typeface="Arial"/>
              </a:rPr>
              <a:t>   </a:t>
            </a:r>
            <a:r>
              <a:rPr b="1" lang="he-IL" sz="5400" spc="-1" strike="noStrike">
                <a:solidFill>
                  <a:srgbClr val="ff0066"/>
                </a:solidFill>
                <a:latin typeface="David"/>
              </a:rPr>
              <a:t>יעל זילברשלג</a:t>
            </a:r>
            <a:r>
              <a:rPr b="1" lang="he-IL" sz="5400" spc="-1" strike="noStrike" baseline="30000">
                <a:solidFill>
                  <a:srgbClr val="ff0066"/>
                </a:solidFill>
                <a:latin typeface="Arial"/>
              </a:rPr>
              <a:t>1</a:t>
            </a:r>
            <a:r>
              <a:rPr b="1" lang="he-IL" sz="5400" spc="-1" strike="noStrike">
                <a:solidFill>
                  <a:srgbClr val="ff0066"/>
                </a:solidFill>
                <a:latin typeface="David"/>
              </a:rPr>
              <a:t>,  אירית אילן</a:t>
            </a:r>
            <a:r>
              <a:rPr b="1" lang="he-IL" sz="5400" spc="-1" strike="noStrike" baseline="30000">
                <a:solidFill>
                  <a:srgbClr val="ff0066"/>
                </a:solidFill>
                <a:latin typeface="David"/>
              </a:rPr>
              <a:t>2</a:t>
            </a:r>
            <a:r>
              <a:rPr b="1" lang="he-IL" sz="5400" spc="-1" strike="noStrike">
                <a:solidFill>
                  <a:srgbClr val="ff0066"/>
                </a:solidFill>
                <a:latin typeface="David"/>
              </a:rPr>
              <a:t>  וד"ר דורון גרפינקל</a:t>
            </a:r>
            <a:r>
              <a:rPr b="1" lang="he-IL" sz="5400" spc="-1" strike="noStrike" baseline="30000">
                <a:solidFill>
                  <a:srgbClr val="ff0066"/>
                </a:solidFill>
                <a:latin typeface="David"/>
              </a:rPr>
              <a:t>1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ff"/>
                </a:solidFill>
                <a:latin typeface="David"/>
                <a:cs typeface="Guttman Haim-Condensed"/>
              </a:rPr>
              <a:t>היחידה לטיפול בית ו</a:t>
            </a:r>
            <a:r>
              <a:rPr b="1" lang="he-IL" sz="4400" spc="-1" strike="noStrike" baseline="30000">
                <a:solidFill>
                  <a:srgbClr val="3333ff"/>
                </a:solidFill>
                <a:latin typeface="Arial"/>
                <a:ea typeface="Guttman Haim-Condensed"/>
              </a:rPr>
              <a:t>2</a:t>
            </a:r>
            <a:r>
              <a:rPr b="1" lang="he-IL" sz="4400" spc="-1" strike="noStrike">
                <a:solidFill>
                  <a:srgbClr val="3333ff"/>
                </a:solidFill>
                <a:latin typeface="David"/>
                <a:cs typeface="Guttman Haim-Condensed"/>
              </a:rPr>
              <a:t>היחידה לקידום בריאות</a:t>
            </a:r>
            <a:r>
              <a:rPr b="1" i="1" lang="en-US" sz="36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1523880"/>
            <a:ext cx="9144000" cy="608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SzPct val="155000"/>
              <a:buFont typeface="Web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העלייה המשמעותית בתוחלת החיים טומנת בחובה גם עלייה במחלות הזקנה ובתופעות הקשורות בגי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 ASSOCIAT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EA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SzPct val="155000"/>
              <a:buFont typeface="Web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נטיית יתר ליפול מהווה תופעה תלויה בגיל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55000"/>
              <a:buFont typeface="Web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מעריכים כי שליש מהאוכלוסייה מעל גיל 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  <a:ea typeface="Levenim MT"/>
              </a:rPr>
              <a:t>65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  חווה לפחות נפילה אחת בשנה,  כלומר מדובר בבעיה מרכזית בעלת היקף רחב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80880" y="425520"/>
            <a:ext cx="8763120" cy="10994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נפילות - </a:t>
            </a:r>
            <a:r>
              <a:rPr b="1" lang="he-IL" sz="60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שכיחות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0" name="Object 5" descr=""/>
          <p:cNvPicPr/>
          <p:nvPr/>
        </p:nvPicPr>
        <p:blipFill>
          <a:blip r:embed="rId1"/>
          <a:stretch/>
        </p:blipFill>
        <p:spPr>
          <a:xfrm>
            <a:off x="-1066680" y="5410080"/>
            <a:ext cx="3886200" cy="132264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ff00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380880" y="76320"/>
            <a:ext cx="8763120" cy="4572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152280"/>
            <a:ext cx="8763120" cy="10994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נפילות -  </a:t>
            </a:r>
            <a:r>
              <a:rPr b="1" lang="he-IL" sz="60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תוצאות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3" name="Object 6" descr=""/>
          <p:cNvPicPr/>
          <p:nvPr/>
        </p:nvPicPr>
        <p:blipFill>
          <a:blip r:embed="rId1"/>
          <a:stretch/>
        </p:blipFill>
        <p:spPr>
          <a:xfrm>
            <a:off x="166680" y="2687760"/>
            <a:ext cx="1433520" cy="24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0" y="1208160"/>
            <a:ext cx="9144000" cy="6683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2251"/>
              </a:spcBef>
              <a:buClr>
                <a:srgbClr val="ff0066"/>
              </a:buClr>
              <a:buSzPct val="155000"/>
              <a:buFont typeface="Web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נפילות מהוות גורם השישי לתמותת קשישים בארצות המפותחו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85000"/>
              </a:lnSpc>
              <a:spcBef>
                <a:spcPts val="2251"/>
              </a:spcBef>
              <a:buClr>
                <a:srgbClr val="ff0066"/>
              </a:buClr>
              <a:buSzPct val="155000"/>
              <a:buFont typeface="Web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נפילה עלולה לפגוע קשה באיכות חיי הפרט, לגרו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למוגבלות  תפקודית  משמעותית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ולהשלכות  נפשיות,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 ירידה בביטחון העצמי,     במצב הרוח  ובפעילות  היום  יומיו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                   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תוך צמצום בפעילות ובמעורבות  החברתי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85000"/>
              </a:lnSpc>
              <a:spcBef>
                <a:spcPts val="1500"/>
              </a:spcBef>
              <a:buClr>
                <a:srgbClr val="ff0066"/>
              </a:buClr>
              <a:buSzPct val="155000"/>
              <a:buFont typeface="Web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מוגבלות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בחיי היום יום קיימת ביותר מ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שליש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 מהחולים בהם גורמת הנפילה לשבר צוואר הירך וכרבע מהם נזקקים לאשפוז/שיקום ארוך טוו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iriam"/>
                <a:ea typeface="Miriam"/>
              </a:rPr>
              <a:t>                                </a:t>
            </a: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623960"/>
            <a:ext cx="9144000" cy="6959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500"/>
              </a:spcBef>
              <a:buClr>
                <a:srgbClr val="ff0066"/>
              </a:buClr>
              <a:buSzPct val="155000"/>
              <a:buFont typeface="Web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buClr>
                <a:srgbClr val="ff0066"/>
              </a:buClr>
              <a:buSzPct val="180000"/>
              <a:buFont typeface="Tahoma (Hebrew)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כפועל יוצא, גם ההשלכות הכלכליות והחברתיות הן קשות, שכן עלויות הטיפול בחולים אלו הכפילו עצמן תוך עשר שנים והן מוערכות כיום בכ - 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7000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 דולר לשנה לאדם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buClr>
                <a:srgbClr val="ff0066"/>
              </a:buClr>
              <a:buSzPct val="180000"/>
              <a:buFont typeface="Tahoma (Hebrew)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נפילות וסיבוכיהן גורמות לשימוש יתר בשירותי הבריאות בבית החולים ובקהילה, יותר ביקורים אצל רופא, יותר ייעוצים ואשפוזי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76320"/>
            <a:ext cx="8763120" cy="4572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7" name="Object 5" descr=""/>
          <p:cNvPicPr/>
          <p:nvPr/>
        </p:nvPicPr>
        <p:blipFill>
          <a:blip r:embed="rId1"/>
          <a:stretch/>
        </p:blipFill>
        <p:spPr>
          <a:xfrm>
            <a:off x="0" y="380880"/>
            <a:ext cx="1981080" cy="2057400"/>
          </a:xfrm>
          <a:prstGeom prst="rect">
            <a:avLst/>
          </a:prstGeom>
          <a:ln w="0">
            <a:noFill/>
          </a:ln>
          <a:effectLst>
            <a:outerShdw dist="63504" dir="19383909" blurRad="0" rotWithShape="0">
              <a:srgbClr val="ffff00"/>
            </a:outerShdw>
          </a:effectLst>
        </p:spPr>
      </p:pic>
      <p:sp>
        <p:nvSpPr>
          <p:cNvPr id="58" name="Text Box 6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נפילות - </a:t>
            </a:r>
            <a:r>
              <a:rPr b="1" lang="he-IL" sz="60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השלכות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9" name="Object 7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8380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2666880"/>
          </a:xfrm>
          <a:prstGeom prst="rect">
            <a:avLst/>
          </a:prstGeom>
          <a:ln w="0">
            <a:noFill/>
          </a:ln>
          <a:effectLst>
            <a:outerShdw dist="136842" dir="17506406" blurRad="0" rotWithShape="0">
              <a:srgbClr val="000000"/>
            </a:outerShdw>
          </a:effectLst>
        </p:spPr>
      </p:pic>
      <p:sp>
        <p:nvSpPr>
          <p:cNvPr id="61" name="Text Box 5"/>
          <p:cNvSpPr/>
          <p:nvPr/>
        </p:nvSpPr>
        <p:spPr>
          <a:xfrm>
            <a:off x="0" y="792000"/>
            <a:ext cx="9144000" cy="10386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200" spc="-1" strike="noStrike">
                <a:solidFill>
                  <a:srgbClr val="ff0066"/>
                </a:solidFill>
                <a:latin typeface="Times New Roman"/>
                <a:cs typeface="Levenim MT"/>
              </a:rPr>
              <a:t>דרכים אפשריות  לפתרון</a:t>
            </a:r>
            <a:endParaRPr b="0" lang="en-US" sz="6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2222640"/>
            <a:ext cx="914400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buClr>
                <a:srgbClr val="ff6600"/>
              </a:buClr>
              <a:buSzPct val="150000"/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איתור  מדדים  פשוטים  לאבחון מוקדם של מבוגרים הנמצאים בקבוצת  “סיכון גבוה” לנפילות ומציאת אמצעים יעילים וזולים למניעתן, עשוי למנוע חלק מהנפילות , להקטין הסיבוכים ו/או לדחות הופעתם לגיל מבוגר יותר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1523880" y="304920"/>
            <a:ext cx="5715000" cy="1008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מטרת העבודה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64" name="Object 6" descr=""/>
          <p:cNvPicPr/>
          <p:nvPr/>
        </p:nvPicPr>
        <p:blipFill>
          <a:blip r:embed="rId1"/>
          <a:stretch/>
        </p:blipFill>
        <p:spPr>
          <a:xfrm>
            <a:off x="0" y="1828800"/>
            <a:ext cx="2057400" cy="1701720"/>
          </a:xfrm>
          <a:prstGeom prst="rect">
            <a:avLst/>
          </a:prstGeom>
          <a:ln w="0">
            <a:noFill/>
          </a:ln>
          <a:effectLst>
            <a:outerShdw dist="81185" dir="19278031" blurRad="0" rotWithShape="0">
              <a:srgbClr val="000000"/>
            </a:outerShdw>
          </a:effectLst>
        </p:spPr>
      </p:pic>
      <p:sp>
        <p:nvSpPr>
          <p:cNvPr id="65" name="Text Box 7"/>
          <p:cNvSpPr/>
          <p:nvPr/>
        </p:nvSpPr>
        <p:spPr>
          <a:xfrm>
            <a:off x="0" y="1341360"/>
            <a:ext cx="9144000" cy="975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buClr>
                <a:srgbClr val="ff0066"/>
              </a:buClr>
              <a:buSzPct val="160000"/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Miriam"/>
              </a:rPr>
              <a:t>העלאת המודעות בקרב קשישים באשר למפגעים ביתיים  ולהשלכות של הנפילות</a:t>
            </a:r>
            <a:r>
              <a:rPr b="1" lang="en-US" sz="6000" spc="-1" strike="noStrike">
                <a:solidFill>
                  <a:srgbClr val="000000"/>
                </a:solidFill>
                <a:latin typeface="Miriam"/>
              </a:rPr>
              <a:t>  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3750"/>
              </a:spcBef>
              <a:buClr>
                <a:srgbClr val="ff0066"/>
              </a:buClr>
              <a:buSzPct val="160000"/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Miriam"/>
              </a:rPr>
              <a:t>צמצום של מספר הנפילות על ידי התאמת סביבת המגורים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095880" y="304920"/>
            <a:ext cx="2743200" cy="19227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נבדקים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962520" y="2575080"/>
            <a:ext cx="3276360" cy="10083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אמצעים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0" y="3352680"/>
            <a:ext cx="9144000" cy="50306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SzPct val="130000"/>
              <a:buFont typeface="Webding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riam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iriam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Miriam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Miriam"/>
              </a:rPr>
              <a:t>  </a:t>
            </a:r>
            <a:r>
              <a:rPr b="1" lang="he-IL" sz="4000" spc="-1" strike="noStrike">
                <a:solidFill>
                  <a:srgbClr val="000000"/>
                </a:solidFill>
                <a:latin typeface="Miriam"/>
              </a:rPr>
              <a:t>תלמידי כיתה י' מבית הספר</a:t>
            </a:r>
            <a:r>
              <a:rPr b="1" lang="en-US" sz="4000" spc="-1" strike="noStrike">
                <a:solidFill>
                  <a:srgbClr val="000000"/>
                </a:solidFill>
                <a:latin typeface="Miriam"/>
              </a:rPr>
              <a:t> "</a:t>
            </a:r>
            <a:r>
              <a:rPr b="1" lang="he-IL" sz="4000" spc="-1" strike="noStrike">
                <a:solidFill>
                  <a:srgbClr val="000000"/>
                </a:solidFill>
                <a:latin typeface="Miriam"/>
              </a:rPr>
              <a:t>בליך" ברמת גן הפועלים במסגרת "מחויבות אישית</a:t>
            </a:r>
            <a:r>
              <a:rPr b="1" lang="en-US" sz="4000" spc="-1" strike="noStrike">
                <a:solidFill>
                  <a:srgbClr val="000000"/>
                </a:solidFill>
                <a:latin typeface="Miriam"/>
              </a:rPr>
              <a:t>"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66"/>
              </a:buClr>
              <a:buSzPct val="130000"/>
              <a:buFont typeface="Webding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riam"/>
              </a:rPr>
              <a:t>    </a:t>
            </a:r>
            <a:r>
              <a:rPr b="1" lang="he-IL" sz="4000" spc="-1" strike="noStrike">
                <a:solidFill>
                  <a:srgbClr val="000000"/>
                </a:solidFill>
                <a:latin typeface="Miriam"/>
              </a:rPr>
              <a:t>מרפאה בעיסוק ועובדת סוציאלית המדריכות את התלמידים ומלוות התוכנית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66"/>
              </a:buClr>
              <a:buSzPct val="130000"/>
              <a:buFont typeface="Webding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riam"/>
              </a:rPr>
              <a:t>   </a:t>
            </a:r>
            <a:r>
              <a:rPr b="1" lang="he-IL" sz="4000" spc="-1" strike="noStrike">
                <a:solidFill>
                  <a:srgbClr val="000000"/>
                </a:solidFill>
                <a:latin typeface="Miriam"/>
              </a:rPr>
              <a:t>מזכירה המגייסת את הקשישים לתוכנית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69" name="Object 7" descr=""/>
          <p:cNvPicPr/>
          <p:nvPr/>
        </p:nvPicPr>
        <p:blipFill>
          <a:blip r:embed="rId1"/>
          <a:stretch/>
        </p:blipFill>
        <p:spPr>
          <a:xfrm>
            <a:off x="0" y="76320"/>
            <a:ext cx="1508040" cy="1981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</p:pic>
      <p:sp>
        <p:nvSpPr>
          <p:cNvPr id="70" name="Text Box 8"/>
          <p:cNvSpPr/>
          <p:nvPr/>
        </p:nvSpPr>
        <p:spPr>
          <a:xfrm>
            <a:off x="0" y="106668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SzPct val="130000"/>
              <a:buFont typeface="MS Outlook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riam"/>
                <a:ea typeface="Miriam"/>
              </a:rPr>
              <a:t>   </a:t>
            </a:r>
            <a:r>
              <a:rPr b="1" lang="he-IL" sz="4400" spc="-1" strike="noStrike">
                <a:solidFill>
                  <a:srgbClr val="000000"/>
                </a:solidFill>
                <a:latin typeface="Miriam"/>
              </a:rPr>
              <a:t>מבוגרים עצמאיים מעל גיל </a:t>
            </a:r>
            <a:r>
              <a:rPr b="1" lang="he-IL" sz="4400" spc="-1" strike="noStrike">
                <a:solidFill>
                  <a:srgbClr val="000000"/>
                </a:solidFill>
                <a:latin typeface="Miriam"/>
              </a:rPr>
              <a:t>65</a:t>
            </a:r>
            <a:r>
              <a:rPr b="1" lang="he-IL" sz="4400" spc="-1" strike="noStrike">
                <a:solidFill>
                  <a:srgbClr val="000000"/>
                </a:solidFill>
                <a:latin typeface="Miriam"/>
              </a:rPr>
              <a:t> חברי מכבי המתגוררים בביתם באזור רמת גן</a:t>
            </a:r>
            <a:r>
              <a:rPr b="1" lang="en-US" sz="2400" spc="-1" strike="noStrike">
                <a:solidFill>
                  <a:srgbClr val="000000"/>
                </a:solidFill>
                <a:latin typeface="Miriam"/>
                <a:ea typeface="Miriam"/>
              </a:rPr>
              <a:t> </a:t>
            </a: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228600"/>
            <a:ext cx="8991720" cy="10083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ff0066"/>
                </a:solidFill>
                <a:uFillTx/>
                <a:latin typeface="Times New Roman"/>
                <a:cs typeface="Levenim MT"/>
              </a:rPr>
              <a:t>שיטת ההתערבות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72" name="Object 6" descr=""/>
          <p:cNvPicPr/>
          <p:nvPr/>
        </p:nvPicPr>
        <p:blipFill>
          <a:blip r:embed="rId1"/>
          <a:stretch/>
        </p:blipFill>
        <p:spPr>
          <a:xfrm>
            <a:off x="-22320" y="4800600"/>
            <a:ext cx="3984840" cy="220968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fffff"/>
            </a:outerShdw>
          </a:effectLst>
        </p:spPr>
      </p:pic>
      <p:sp>
        <p:nvSpPr>
          <p:cNvPr id="73" name="Text Box 7"/>
          <p:cNvSpPr/>
          <p:nvPr/>
        </p:nvSpPr>
        <p:spPr>
          <a:xfrm>
            <a:off x="0" y="1160640"/>
            <a:ext cx="9144000" cy="65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buClr>
                <a:srgbClr val="ff0066"/>
              </a:buClr>
              <a:buSzPct val="16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he-IL" sz="5400" spc="-1" strike="noStrike">
                <a:solidFill>
                  <a:srgbClr val="000000"/>
                </a:solidFill>
                <a:latin typeface="Miriam"/>
              </a:rPr>
              <a:t>הדרכה לתלמידים</a:t>
            </a:r>
            <a:r>
              <a:rPr b="1" lang="en-US" sz="5400" spc="-1" strike="noStrike">
                <a:solidFill>
                  <a:srgbClr val="000000"/>
                </a:solidFill>
                <a:latin typeface="Miriam"/>
              </a:rPr>
              <a:t> 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66"/>
              </a:buClr>
              <a:buSzPct val="16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iriam"/>
              </a:rPr>
              <a:t>  </a:t>
            </a:r>
            <a:r>
              <a:rPr b="1" lang="he-IL" sz="5400" spc="-1" strike="noStrike">
                <a:solidFill>
                  <a:srgbClr val="000000"/>
                </a:solidFill>
                <a:latin typeface="Miriam"/>
              </a:rPr>
              <a:t>גיוס הקשישים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66"/>
              </a:buClr>
              <a:buSzPct val="16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iriam"/>
              </a:rPr>
              <a:t>  </a:t>
            </a:r>
            <a:r>
              <a:rPr b="1" lang="he-IL" sz="5400" spc="-1" strike="noStrike">
                <a:solidFill>
                  <a:srgbClr val="000000"/>
                </a:solidFill>
                <a:latin typeface="Miriam"/>
              </a:rPr>
              <a:t>ביקורי הבית של התלמידים </a:t>
            </a:r>
            <a:r>
              <a:rPr b="1" lang="he-IL" sz="4800" spc="-1" strike="noStrike">
                <a:solidFill>
                  <a:srgbClr val="000000"/>
                </a:solidFill>
                <a:latin typeface="Miriam"/>
              </a:rPr>
              <a:t>(שאלון, הדרכה לקשיש, היזון חוזר</a:t>
            </a:r>
            <a:r>
              <a:rPr b="1" lang="en-US" sz="4800" spc="-1" strike="noStrike">
                <a:solidFill>
                  <a:srgbClr val="000000"/>
                </a:solidFill>
                <a:latin typeface="Miriam"/>
              </a:rPr>
              <a:t>)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66"/>
              </a:buClr>
              <a:buSzPct val="16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iriam"/>
              </a:rPr>
              <a:t> </a:t>
            </a:r>
            <a:r>
              <a:rPr b="1" lang="he-IL" sz="5400" spc="-1" strike="noStrike">
                <a:solidFill>
                  <a:srgbClr val="000000"/>
                </a:solidFill>
                <a:latin typeface="Miriam"/>
              </a:rPr>
              <a:t>מעקב ובקרה</a:t>
            </a:r>
            <a:r>
              <a:rPr b="1" lang="en-US" sz="5400" spc="-1" strike="noStrike">
                <a:solidFill>
                  <a:srgbClr val="000000"/>
                </a:solidFill>
                <a:latin typeface="Miriam"/>
              </a:rPr>
              <a:t> 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66"/>
              </a:buClr>
              <a:buSzPct val="16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Miriam"/>
              </a:rPr>
              <a:t>סיכום והיזון חוזר תלמיד-צוות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0:29:40Z</dcterms:created>
  <dc:creator>קופ"ח מכבי</dc:creator>
  <dc:description/>
  <dc:language>en-US</dc:language>
  <cp:lastModifiedBy>דורון</cp:lastModifiedBy>
  <cp:lastPrinted>2001-01-16T07:44:11Z</cp:lastPrinted>
  <dcterms:modified xsi:type="dcterms:W3CDTF">2010-08-17T08:12:13Z</dcterms:modified>
  <cp:revision>41</cp:revision>
  <dc:subject/>
  <dc:title>בדיקות סריקה (SCREENING) לחדות ראיה ושמיעה באוכלוסייה מעל גיל 65</dc:title>
</cp:coreProperties>
</file>