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CAMERA.WAV" ContentType="audio/x-wav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1B2-3567-4B14-ABE2-BACBDDA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EAF-A556-4985-A8F3-DD4520C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2C5-ECBB-4B17-853A-E31306A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31C-C5C8-4779-ADC8-B64B4D83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688-17EC-40E6-B8B0-466EB304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83F-BD83-4F5D-BFCF-2E2A1894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C3A-4988-4827-B16F-5FD9E99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6D2-5F35-44D2-9D08-206F20E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008-83D6-4B42-987C-33632E8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6AA-8FE9-4803-A124-8AA0327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C7B-D6D1-42B2-A520-78215B52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555-3A4C-474F-BD4C-92DA8563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 rtl="1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 rtl="1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 rtl="1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2970-708E-4D9F-8E84-121CEACADAF9}" type="slidenum">
              <a:rPr b="0" lang="ar-SA" sz="2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2811600"/>
            <a:ext cx="9144000" cy="794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bfb"/>
                </a:solidFill>
                <a:latin typeface="Arial"/>
              </a:rPr>
              <a:t>Doron Garfinkel, M.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4481640"/>
            <a:ext cx="9144000" cy="13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UTRITION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D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ONGEVITY  CONFERENC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, Danone Institute Israel, March 26, 2001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198000"/>
            <a:ext cx="9144000" cy="149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ICRONUTRIENT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 THE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LDERLY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Age-related deficiencies in microelements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457200" y="2187720"/>
          <a:ext cx="685800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87720"/>
                    <a:ext cx="685800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3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15840" y="15840"/>
            <a:ext cx="8150400" cy="155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NHIBITION OF AGING  PROCESSES ...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6440" y="2651040"/>
            <a:ext cx="8931240" cy="34419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9" name="Object 6"/>
          <p:cNvGraphicFramePr/>
          <p:nvPr/>
        </p:nvGraphicFramePr>
        <p:xfrm rot="10800000">
          <a:off x="685800" y="5997240"/>
          <a:ext cx="7763040" cy="9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685800" y="5997240"/>
                    <a:ext cx="776304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4876920" y="914400"/>
          <a:ext cx="236196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914400"/>
                    <a:ext cx="2361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12"/>
          <p:cNvSpPr/>
          <p:nvPr/>
        </p:nvSpPr>
        <p:spPr>
          <a:xfrm>
            <a:off x="2440080" y="2440080"/>
            <a:ext cx="31208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YES,  I  SEE !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Z I N C  !!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6794640" y="1206360"/>
            <a:ext cx="507960" cy="330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6413400" y="825120"/>
            <a:ext cx="127080" cy="482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5917680" y="659880"/>
            <a:ext cx="127080" cy="584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H="1" flipV="1">
            <a:off x="5168520" y="825480"/>
            <a:ext cx="406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 flipV="1">
            <a:off x="4711680" y="1358640"/>
            <a:ext cx="711360" cy="40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807240" y="2006640"/>
            <a:ext cx="635040" cy="177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4787640" y="2070000"/>
            <a:ext cx="711000" cy="355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5340240" y="3282840"/>
            <a:ext cx="13968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5181480" y="838080"/>
          <a:ext cx="236232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838080"/>
                    <a:ext cx="2362320" cy="2286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20503642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5" name="Object 27"/>
          <p:cNvGraphicFramePr/>
          <p:nvPr/>
        </p:nvGraphicFramePr>
        <p:xfrm>
          <a:off x="5334120" y="990720"/>
          <a:ext cx="2361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990720"/>
                    <a:ext cx="2361960" cy="2286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20503642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30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210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2"/>
          <p:cNvGraphicFramePr/>
          <p:nvPr/>
        </p:nvGraphicFramePr>
        <p:xfrm>
          <a:off x="2008080" y="1828800"/>
          <a:ext cx="51181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828800"/>
                    <a:ext cx="5118120" cy="4952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13502" dir="17793904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Rectangle 3"/>
          <p:cNvSpPr/>
          <p:nvPr/>
        </p:nvSpPr>
        <p:spPr>
          <a:xfrm>
            <a:off x="839880" y="4040280"/>
            <a:ext cx="8226360" cy="15519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afd00"/>
                </a:solidFill>
                <a:latin typeface="Arial"/>
              </a:rPr>
              <a:t>why   zinc  ?</a:t>
            </a:r>
            <a:endParaRPr b="0" lang="en-US" sz="9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200400" y="-152280"/>
            <a:ext cx="2057400" cy="1917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39080" cy="175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INHIBITION   OF   </a:t>
            </a:r>
            <a:br>
              <a:rPr sz="5400"/>
            </a:b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AGING    PROCESSES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413160" y="364176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440" y="2743200"/>
            <a:ext cx="91411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ICH   STARTS  AT   WEANING   AND   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TINUES  THROUGHOUT  LIFE ,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AN  SLOW   DOWN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  AGING   PROCESS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0" y="5029200"/>
          <a:ext cx="3505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29200"/>
                    <a:ext cx="350532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7353" dir="10237521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6" name="Object 6"/>
          <p:cNvGraphicFramePr/>
          <p:nvPr/>
        </p:nvGraphicFramePr>
        <p:xfrm>
          <a:off x="0" y="4952880"/>
          <a:ext cx="90676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2880"/>
                    <a:ext cx="906768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9383909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98" name="Text Box 7"/>
          <p:cNvSpPr/>
          <p:nvPr/>
        </p:nvSpPr>
        <p:spPr>
          <a:xfrm>
            <a:off x="0" y="190512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UNDERFEEDING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39080" cy="1676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INHIBITION   OF   </a:t>
            </a:r>
            <a:br>
              <a:rPr sz="5400"/>
            </a:b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AGING    PROCESSES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413160" y="364176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440" y="2363760"/>
            <a:ext cx="9141120" cy="3929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PRECISE  MECHANISM  BY  WHICH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 UNDERFEEDING   REGIMENS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OLONGS    MAXIMAL    LIFESPAN ,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                    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MAINS   UNKNOW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INHIBITION   OF   </a:t>
            </a:r>
            <a:br>
              <a:rPr sz="5400"/>
            </a:b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    AGING    PROCESSES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413160" y="364176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440" y="1752480"/>
            <a:ext cx="91411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ESTRICTED  DIETS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VE  HIGHER  CONCENTRATIONS  OF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IN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4362480"/>
            <a:ext cx="91440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 THEIR   ALTERED    COMPOSITION 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S   A  BENEFICIAL   EFFECT  ON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INC   BIOAVAILABIL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067680" cy="13892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7840" dir="54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* * *</a:t>
            </a:r>
            <a:endParaRPr b="0" lang="en-US" sz="6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7315200" y="3733920"/>
          <a:ext cx="18288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1828800" cy="304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2374481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190512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S   AGING  INEVITABLE ?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 INTRACELLULAR    ZINC  DEFICIENCY HYPOTHESIS  OF  AG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0" y="4419720"/>
            <a:ext cx="9144000" cy="164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.  GARFINKEL 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  HYPOTHESE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: 117 - 137 , 1986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440" y="1830240"/>
            <a:ext cx="9064800" cy="1551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9600" spc="-1" strike="noStrike">
                <a:solidFill>
                  <a:srgbClr val="fafd00"/>
                </a:solidFill>
                <a:latin typeface="Arial"/>
              </a:rPr>
              <a:t>why    zinc  ?</a:t>
            </a:r>
            <a:endParaRPr b="0" lang="en-US" sz="9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981080" y="2057400"/>
          <a:ext cx="4419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4419720" cy="487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8100000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sp>
        <p:nvSpPr>
          <p:cNvPr id="214" name="Rectangle 4"/>
          <p:cNvSpPr/>
          <p:nvPr/>
        </p:nvSpPr>
        <p:spPr>
          <a:xfrm>
            <a:off x="3048120" y="1440"/>
            <a:ext cx="1977840" cy="155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230040"/>
            <a:ext cx="9144000" cy="124668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ZINC  METALLOENZYM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PARTIAL   LIST  -  OUT OF  200)  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90520" y="1754280"/>
            <a:ext cx="8091360" cy="484380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COHOL  DEHYDROGEN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DOL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KALINE  PHOSPHAT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KALINE  PROTE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BONIC   ANHYDR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BOXYPEPTIDASES   A, B, 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PEPTID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LYCERALDEHYDE  PHOSPHATE DEHYDROGEN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UCINE  AMINOPEPTID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OSPHOGLUCOMUT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OSPHOLIPASE  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YRUVATE  CARBOXYL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NAL  REDUCTAS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230040"/>
            <a:ext cx="9066240" cy="124668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ZINC  METALLOENZYM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ORMATION   HANDLING  ENZYM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89080" y="1600200"/>
            <a:ext cx="8094600" cy="520380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1981080"/>
            <a:ext cx="9066240" cy="37447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NA   POLYMERASE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NA   POLYMERASE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REVERSE   TRANSCRIPTASE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d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HYMIDINE   KINASE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c0128"/>
                </a:solidFill>
                <a:latin typeface="Times New Roman"/>
              </a:rPr>
              <a:t>ZINC   FINGERS</a:t>
            </a:r>
            <a:endParaRPr b="0" lang="en-US" sz="72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752120"/>
            <a:ext cx="9144000" cy="175284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RANSCRIPTION   FACTORS  ACTIVATE   GENES  USING  SMALL  PROJECTIONS  KNOWN  AS   ZINC   FINGERS THAT  ARE  PERFECTLY  SUITED      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O   DNA   RECOGNITION  . . .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373392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ZINC   FINGERS   PLAY  A  KEY  PART  IN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GULATING THE   ACTIVITY  OF  GENES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  MANY  SPECIES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ROM   YEAST   TO  HUMANS.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-76320" y="579132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. Rhodes &amp; A. Klug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ientific American, February 1993, pp. 32-39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06768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EALTH  PROMO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 ROLE  OF  NUTRITION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90" name="Object 5" descr=""/>
          <p:cNvPicPr/>
          <p:nvPr/>
        </p:nvPicPr>
        <p:blipFill>
          <a:blip r:embed="rId1"/>
          <a:stretch/>
        </p:blipFill>
        <p:spPr>
          <a:xfrm>
            <a:off x="2057400" y="5565600"/>
            <a:ext cx="984240" cy="9874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000020"/>
            </a:outerShdw>
          </a:effectLst>
        </p:spPr>
      </p:pic>
      <p:pic>
        <p:nvPicPr>
          <p:cNvPr id="91" name="Object 6" descr=""/>
          <p:cNvPicPr/>
          <p:nvPr/>
        </p:nvPicPr>
        <p:blipFill>
          <a:blip r:embed="rId2"/>
          <a:stretch/>
        </p:blipFill>
        <p:spPr>
          <a:xfrm>
            <a:off x="685800" y="5958000"/>
            <a:ext cx="625320" cy="671400"/>
          </a:xfrm>
          <a:prstGeom prst="rect">
            <a:avLst/>
          </a:prstGeom>
          <a:ln w="0">
            <a:noFill/>
          </a:ln>
          <a:effectLst>
            <a:outerShdw dist="36147" dir="13500000" blurRad="0" rotWithShape="0">
              <a:srgbClr val="fafd00"/>
            </a:outerShdw>
          </a:effectLst>
        </p:spPr>
      </p:pic>
      <p:pic>
        <p:nvPicPr>
          <p:cNvPr id="92" name="Object 7" descr=""/>
          <p:cNvPicPr/>
          <p:nvPr/>
        </p:nvPicPr>
        <p:blipFill>
          <a:blip r:embed="rId3"/>
          <a:stretch/>
        </p:blipFill>
        <p:spPr>
          <a:xfrm>
            <a:off x="1295280" y="5805360"/>
            <a:ext cx="812880" cy="824040"/>
          </a:xfrm>
          <a:prstGeom prst="rect">
            <a:avLst/>
          </a:prstGeom>
          <a:ln w="0">
            <a:noFill/>
          </a:ln>
          <a:effectLst>
            <a:outerShdw dist="63504" dir="13983909" blurRad="0" rotWithShape="0">
              <a:srgbClr val="fafd00"/>
            </a:outerShdw>
          </a:effectLst>
        </p:spPr>
      </p:pic>
      <p:pic>
        <p:nvPicPr>
          <p:cNvPr id="93" name="Object 8" descr=""/>
          <p:cNvPicPr/>
          <p:nvPr/>
        </p:nvPicPr>
        <p:blipFill>
          <a:blip r:embed="rId4"/>
          <a:stretch/>
        </p:blipFill>
        <p:spPr>
          <a:xfrm>
            <a:off x="3048120" y="5261040"/>
            <a:ext cx="1212840" cy="129204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fc0128"/>
            </a:outerShdw>
          </a:effectLst>
        </p:spPr>
      </p:pic>
      <p:pic>
        <p:nvPicPr>
          <p:cNvPr id="94" name="Object 9" descr=""/>
          <p:cNvPicPr/>
          <p:nvPr/>
        </p:nvPicPr>
        <p:blipFill>
          <a:blip r:embed="rId5"/>
          <a:stretch/>
        </p:blipFill>
        <p:spPr>
          <a:xfrm>
            <a:off x="4114800" y="4876920"/>
            <a:ext cx="1371600" cy="16002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fafd00"/>
            </a:outerShdw>
          </a:effectLst>
        </p:spPr>
      </p:pic>
      <p:pic>
        <p:nvPicPr>
          <p:cNvPr id="95" name="Object 11" descr=""/>
          <p:cNvPicPr/>
          <p:nvPr/>
        </p:nvPicPr>
        <p:blipFill>
          <a:blip r:embed="rId6"/>
          <a:stretch/>
        </p:blipFill>
        <p:spPr>
          <a:xfrm>
            <a:off x="76320" y="6095880"/>
            <a:ext cx="457200" cy="609840"/>
          </a:xfrm>
          <a:prstGeom prst="rect">
            <a:avLst/>
          </a:prstGeom>
          <a:ln w="0">
            <a:noFill/>
          </a:ln>
          <a:effectLst>
            <a:outerShdw dist="45929" dir="19571123" blurRad="0" rotWithShape="0">
              <a:srgbClr val="fc0128"/>
            </a:outerShdw>
          </a:effectLst>
        </p:spPr>
      </p:pic>
      <p:sp>
        <p:nvSpPr>
          <p:cNvPr id="96" name="Text Box 13"/>
          <p:cNvSpPr/>
          <p:nvPr/>
        </p:nvSpPr>
        <p:spPr>
          <a:xfrm>
            <a:off x="3011400" y="5562720"/>
            <a:ext cx="110340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th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114800" y="548640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 th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92240" y="6400800"/>
            <a:ext cx="8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76320" y="16765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 PREVIOUS CENTURIES,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0" name="Object 28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667240" cy="274320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fafd00"/>
            </a:outerShdw>
          </a:effectLst>
        </p:spPr>
      </p:pic>
      <p:sp>
        <p:nvSpPr>
          <p:cNvPr id="101" name="Text Box 29"/>
          <p:cNvSpPr/>
          <p:nvPr/>
        </p:nvSpPr>
        <p:spPr>
          <a:xfrm>
            <a:off x="5715000" y="52578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 th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 rot="21558000">
            <a:off x="2520" y="2209320"/>
            <a:ext cx="9136080" cy="2929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CIENCIES OF SPECIFIC NUTRITIONAL ELEMENTS  WERE  RESPONSIBLE  FOR  SIGNIFICANT  MORTALITY AND MORBIDITY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 GENERAL  POPULATION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Euro"/>
              </a:rPr>
              <a:t>ZINC   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 Euro"/>
              </a:rPr>
              <a:t>AN  ESSENTIAL  FACTOR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2361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OR   GROWTH, 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ND  NORMAL  FUN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OF  EVERY  LIVING  CELL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4191120" y="2971800"/>
          <a:ext cx="358128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71800"/>
                    <a:ext cx="3581280" cy="389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150840" y="-642960"/>
            <a:ext cx="9064440" cy="2374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S  THERE  AN  AGE-RELATED</a:t>
            </a:r>
            <a:r>
              <a:rPr b="1" lang="en-US" sz="9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ZINC  DEFICIENCY ?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1523880" y="2666880"/>
          <a:ext cx="2438640" cy="427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666880"/>
                    <a:ext cx="2438640" cy="427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36147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31" name="Rectangle 5"/>
          <p:cNvSpPr/>
          <p:nvPr/>
        </p:nvSpPr>
        <p:spPr>
          <a:xfrm>
            <a:off x="4727520" y="4114800"/>
            <a:ext cx="7743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440" y="2211480"/>
            <a:ext cx="9106200" cy="352116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5000"/>
              </a:lnSpc>
              <a:buClr>
                <a:srgbClr val="fafd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T  PRESENT,  THERE   IS    NO   SIMPLE    AND      RELIABLE   INDEX   OF   ZINC    STATUS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afd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THERE   IS    SELDOM    A   CORRELATION   BETWEEN   ZINC  CONCENTRATIONS   IN  HAIR OR    TOENAILS, ERYTHROCYTES , PLASMA OR  URINE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52280" y="76320"/>
            <a:ext cx="8991720" cy="155124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ROBLEMS IN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SSESSING  ZINC  STATU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0" y="507348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NE   OF   THESE   MEASUREMENTS    PROVIDES  A   SENSITIVE   INDICATION   OF   ZINC   STATU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55760" y="428760"/>
            <a:ext cx="8276760" cy="82008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SSESSING  ZINC  STATU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160020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pparently Normal Children with Poor Growth but No Evidence of Zinc Deficiency, Zinc Supplementation Induced a Significant Increase in Height with No Significant Change in Plasma Zinc Levels..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3352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Miriam"/>
              </a:rPr>
              <a:t>Walravens PA et al. Am J Clin Nutr 1983; 38:195-2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472428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ggesting  an  Undetected  Zinc  Deficiency in  Those  “Normal”  Children.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440" y="3781440"/>
            <a:ext cx="9106200" cy="27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S   A  THERAPEUTIC  TRIAL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F  ZINC  ADMINISTRATION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rit.  Med.  J.  1981  (Editorial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5760" y="428760"/>
            <a:ext cx="8276760" cy="82008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SSESSING  ZINC  STATU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-152280" y="2222640"/>
            <a:ext cx="9144000" cy="1361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CORNERSTONE   OF  THE  DEFINITION  AND   DETECTION   OF    ZINC   DEFICIENC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1024"/>
          <p:cNvGraphicFramePr/>
          <p:nvPr/>
        </p:nvGraphicFramePr>
        <p:xfrm>
          <a:off x="76320" y="380880"/>
          <a:ext cx="3124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3124080" cy="571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Rectangle 3"/>
          <p:cNvSpPr/>
          <p:nvPr/>
        </p:nvSpPr>
        <p:spPr>
          <a:xfrm>
            <a:off x="38160" y="2746440"/>
            <a:ext cx="9105840" cy="252612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  WE   ALL    DEVELOP                                                                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  AGE - RELATED  ZINC   DEFICIENCY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  ITS  DETECTION  IS  IMPOSSIBLE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396720"/>
            <a:ext cx="9091440" cy="82008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TESTING  THE  HYPOTHESIS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0" y="4572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 CAN  PERFORM  THERAPEUTIC  TRIALS      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 ASSESS   EFECTS  OF  ZINC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LEMENTATION  ON  MEASURABLE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 - RELATED   PROCESS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6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244440"/>
            <a:ext cx="9066240" cy="109440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THE    SUBJECTS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181480" y="4419720"/>
          <a:ext cx="3886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419720"/>
                    <a:ext cx="388620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Rectangle 5"/>
          <p:cNvSpPr/>
          <p:nvPr/>
        </p:nvSpPr>
        <p:spPr>
          <a:xfrm>
            <a:off x="1440" y="2133720"/>
            <a:ext cx="9064800" cy="25268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HEALTHY   MALES  AND  FEMALES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GED  40 - 65 , WHO  PARTICIPATE IN  A  LONGITUDINAL  STUDY  OF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T  LEAST  5  YEAR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0" y="563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STARTED  1989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T THE  WOLFSON MEDICAL CENTER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80880" y="244440"/>
            <a:ext cx="8685360" cy="109440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</a:rPr>
              <a:t>THE   COMPOUND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 rot="20040000">
            <a:off x="7334280" y="3828600"/>
            <a:ext cx="1778040" cy="1089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676767"/>
            </a:solidFill>
            <a:miter/>
          </a:ln>
          <a:effectLst>
            <a:outerShdw dist="137587" dir="7421404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38240" y="2652840"/>
            <a:ext cx="9005760" cy="411084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ZINC   SULFATE    300 mg                                 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(68 mg  ELEMENTAL  ZINC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A  PLACEBO  IDENTICAL 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IN  APPEARAN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82440" y="2749680"/>
            <a:ext cx="520920" cy="520560"/>
          </a:xfrm>
          <a:custGeom>
            <a:avLst/>
            <a:gdLst>
              <a:gd name="textAreaLeft" fmla="*/ 118800 w 520920"/>
              <a:gd name="textAreaRight" fmla="*/ 402120 w 520920"/>
              <a:gd name="textAreaTop" fmla="*/ 118800 h 520560"/>
              <a:gd name="textAreaBottom" fmla="*/ 4017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919191"/>
            </a:solidFill>
            <a:miter/>
          </a:ln>
          <a:effectLst>
            <a:outerShdw dist="85328" dir="2000609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82440" y="4730760"/>
            <a:ext cx="520920" cy="520560"/>
          </a:xfrm>
          <a:custGeom>
            <a:avLst/>
            <a:gdLst>
              <a:gd name="textAreaLeft" fmla="*/ 118800 w 520920"/>
              <a:gd name="textAreaRight" fmla="*/ 402120 w 520920"/>
              <a:gd name="textAreaTop" fmla="*/ 118800 h 520560"/>
              <a:gd name="textAreaBottom" fmla="*/ 4017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919191"/>
            </a:solidFill>
            <a:miter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0" y="0"/>
          <a:ext cx="3071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718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1" name="Object 3"/>
          <p:cNvGraphicFramePr/>
          <p:nvPr/>
        </p:nvGraphicFramePr>
        <p:xfrm>
          <a:off x="4419720" y="5181480"/>
          <a:ext cx="2209680" cy="16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181480"/>
                    <a:ext cx="2209680" cy="1675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fc0128"/>
                    </a:outerShdw>
                  </a:effectLst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067680" cy="939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7840" dir="54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9067680" cy="1905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FFECTS   OF   PROLONGED 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ZINC   SUPPLEMENTATION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2357280"/>
            <a:ext cx="914400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ON  THE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GE - RELATED   DECLINE 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OF  THE  IMMUNE  SYSTEM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440" y="458640"/>
            <a:ext cx="9064800" cy="161280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IMMUNITY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ND    </a:t>
            </a: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ZINC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440" y="2119320"/>
            <a:ext cx="9064800" cy="3745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fef9"/>
                </a:solidFill>
                <a:latin typeface="Arial"/>
              </a:rPr>
              <a:t>ZINC  DEFICIENCY IS  ASSOCIATED WITH IMPAIRED T-CELL  FUNCTION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fef9"/>
                </a:solidFill>
                <a:latin typeface="Arial"/>
              </a:rPr>
              <a:t>ZINC  ADMINISTRATION  IMPROVES CELL - MEDIATED    IMMUNITY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fef9"/>
                </a:solidFill>
                <a:latin typeface="Arial"/>
              </a:rPr>
              <a:t>IN   THE   ELDERLY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06768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TECTING 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PECIFIC  NUTRITIONAL  DEFICIENCIE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05" name="Object 14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514600" cy="25146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06" name="Text Box 15"/>
          <p:cNvSpPr/>
          <p:nvPr/>
        </p:nvSpPr>
        <p:spPr>
          <a:xfrm>
            <a:off x="3048120" y="3048120"/>
            <a:ext cx="24382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0th. Centur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 rot="21558000">
            <a:off x="101520" y="2341440"/>
            <a:ext cx="9118800" cy="15620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                                  NIGHT BLINDNESS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ACIN                                                  PELLAGRA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AMINE                                             BERI BERI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52280" y="17064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Arial"/>
              </a:rPr>
              <a:t>DEFICIENCY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           </a:t>
            </a:r>
            <a:r>
              <a:rPr b="1" lang="en-US" sz="3200" spc="-1" strike="noStrike" u="sng">
                <a:solidFill>
                  <a:srgbClr val="fc0128"/>
                </a:solidFill>
                <a:uFillTx/>
                <a:latin typeface="Arial"/>
              </a:rPr>
              <a:t>DISEAS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-152280" y="76320"/>
            <a:ext cx="9372600" cy="6426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EALTH  PROMOTION IN 20th. CENTUR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52280" y="4038480"/>
            <a:ext cx="9144000" cy="33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C                                            SCURV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D                                             RICKE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IDOXINE, IRON, FOLIC AC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ANEMIA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ODINE                                           HYPOTHYROIDIS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ORIDE                                             CARIES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8991360" cy="1905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MMUNOLOGICAL  STUD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                 METHOD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2895480"/>
            <a:ext cx="9067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LUTATHION  REDUCTASE, GLUTATHION PEROXYDASE,  CATALASE  AND   SUPER  OXIDE   DISMUTASE  (SOD)  -  IN  RBC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480" y="4648320"/>
            <a:ext cx="291960" cy="368280"/>
          </a:xfrm>
          <a:custGeom>
            <a:avLst/>
            <a:gdLst>
              <a:gd name="textAreaLeft" fmla="*/ 90000 w 291960"/>
              <a:gd name="textAreaRight" fmla="*/ 201960 w 291960"/>
              <a:gd name="textAreaTop" fmla="*/ 140760 h 368280"/>
              <a:gd name="textAreaBottom" fmla="*/ 281520 h 368280"/>
            </a:gdLst>
            <a:ahLst/>
            <a:rect l="textAreaLeft" t="textAreaTop" r="textAreaRight" b="textAreaBottom"/>
            <a:pathLst>
              <a:path w="292100" h="368300">
                <a:moveTo>
                  <a:pt x="0" y="140678"/>
                </a:moveTo>
                <a:lnTo>
                  <a:pt x="111573" y="140679"/>
                </a:lnTo>
                <a:lnTo>
                  <a:pt x="146050" y="0"/>
                </a:lnTo>
                <a:lnTo>
                  <a:pt x="180527" y="140679"/>
                </a:lnTo>
                <a:lnTo>
                  <a:pt x="292100" y="140678"/>
                </a:lnTo>
                <a:lnTo>
                  <a:pt x="201835" y="227621"/>
                </a:lnTo>
                <a:lnTo>
                  <a:pt x="236314" y="368299"/>
                </a:lnTo>
                <a:lnTo>
                  <a:pt x="146050" y="281354"/>
                </a:lnTo>
                <a:lnTo>
                  <a:pt x="55786" y="368299"/>
                </a:lnTo>
                <a:lnTo>
                  <a:pt x="90265" y="22762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480" y="2971800"/>
            <a:ext cx="291960" cy="368280"/>
          </a:xfrm>
          <a:custGeom>
            <a:avLst/>
            <a:gdLst>
              <a:gd name="textAreaLeft" fmla="*/ 90000 w 291960"/>
              <a:gd name="textAreaRight" fmla="*/ 201960 w 291960"/>
              <a:gd name="textAreaTop" fmla="*/ 140760 h 368280"/>
              <a:gd name="textAreaBottom" fmla="*/ 281520 h 368280"/>
            </a:gdLst>
            <a:ahLst/>
            <a:rect l="textAreaLeft" t="textAreaTop" r="textAreaRight" b="textAreaBottom"/>
            <a:pathLst>
              <a:path w="292100" h="368300">
                <a:moveTo>
                  <a:pt x="0" y="140678"/>
                </a:moveTo>
                <a:lnTo>
                  <a:pt x="111573" y="140679"/>
                </a:lnTo>
                <a:lnTo>
                  <a:pt x="146050" y="0"/>
                </a:lnTo>
                <a:lnTo>
                  <a:pt x="180527" y="140679"/>
                </a:lnTo>
                <a:lnTo>
                  <a:pt x="292100" y="140678"/>
                </a:lnTo>
                <a:lnTo>
                  <a:pt x="201835" y="227621"/>
                </a:lnTo>
                <a:lnTo>
                  <a:pt x="236314" y="368299"/>
                </a:lnTo>
                <a:lnTo>
                  <a:pt x="146050" y="281354"/>
                </a:lnTo>
                <a:lnTo>
                  <a:pt x="55786" y="368299"/>
                </a:lnTo>
                <a:lnTo>
                  <a:pt x="90265" y="22762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480" y="6108840"/>
            <a:ext cx="291960" cy="291960"/>
          </a:xfrm>
          <a:custGeom>
            <a:avLst/>
            <a:gdLst>
              <a:gd name="textAreaLeft" fmla="*/ 90000 w 291960"/>
              <a:gd name="textAreaRight" fmla="*/ 201960 w 291960"/>
              <a:gd name="textAreaTop" fmla="*/ 111600 h 291960"/>
              <a:gd name="textAreaBottom" fmla="*/ 223200 h 291960"/>
            </a:gdLst>
            <a:ahLst/>
            <a:rect l="textAreaLeft" t="textAreaTop" r="textAreaRight" b="textAreaBottom"/>
            <a:pathLst>
              <a:path w="292100" h="292100">
                <a:moveTo>
                  <a:pt x="0" y="111572"/>
                </a:moveTo>
                <a:lnTo>
                  <a:pt x="111573" y="111573"/>
                </a:lnTo>
                <a:lnTo>
                  <a:pt x="146050" y="0"/>
                </a:lnTo>
                <a:lnTo>
                  <a:pt x="180527" y="111573"/>
                </a:lnTo>
                <a:lnTo>
                  <a:pt x="292100" y="111572"/>
                </a:lnTo>
                <a:lnTo>
                  <a:pt x="201835" y="180527"/>
                </a:lnTo>
                <a:lnTo>
                  <a:pt x="236314" y="292099"/>
                </a:lnTo>
                <a:lnTo>
                  <a:pt x="146050" y="223143"/>
                </a:lnTo>
                <a:lnTo>
                  <a:pt x="55786" y="292099"/>
                </a:lnTo>
                <a:lnTo>
                  <a:pt x="90265" y="180527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0" y="216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BORATORY    TESTS 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0" y="4618080"/>
            <a:ext cx="9067680" cy="2384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AGNESIUM, CERULOPLASMIN, COPPER,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ETA  CAROTEN &amp; VITAMIN  E - IN SERUM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ZINC in PLASMA, RBC &amp; MONONUCLEA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4071960" y="2786040"/>
          <a:ext cx="487692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2786040"/>
                    <a:ext cx="4876920" cy="2962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Rectangle 3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440" y="108000"/>
            <a:ext cx="9064800" cy="1569960"/>
          </a:xfrm>
          <a:prstGeom prst="rect">
            <a:avLst/>
          </a:prstGeom>
          <a:noFill/>
          <a:ln w="0">
            <a:noFill/>
          </a:ln>
          <a:effectLst>
            <a:outerShdw dist="63504" dir="139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IMMUNOLOGICAL  STUDY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METHODS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440" y="1906560"/>
            <a:ext cx="9064800" cy="2831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AYED - TYPE   HYPERSENSITIVITY (DTH)  SKIN    REACTIONS   T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7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GEN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RE   ASSESED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Y  MULTITEST :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019920" y="4419720"/>
            <a:ext cx="519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;;;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berculin,   Diphteria,   Tetanus,    Proteus,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ptococcus,   Candida   &amp;   Trichophyt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523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FFECT  OF  ZINC  SUPPLEMENTATION   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ON  PLASMA,  RBC  &amp; MNC   ZINC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646200" y="2265480"/>
          <a:ext cx="794052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2265480"/>
                    <a:ext cx="794052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4"/>
          <p:cNvSpPr/>
          <p:nvPr/>
        </p:nvSpPr>
        <p:spPr>
          <a:xfrm>
            <a:off x="6248520" y="2666880"/>
            <a:ext cx="1827000" cy="641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Z I N C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72200" y="2286000"/>
            <a:ext cx="197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ece"/>
                </a:solidFill>
                <a:latin typeface="Arial"/>
              </a:rPr>
              <a:t>PLACEBO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727280" y="2651040"/>
            <a:ext cx="16938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SM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g / d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2946240" y="4952880"/>
            <a:ext cx="130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335480" y="44197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N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1803960" y="6080040"/>
            <a:ext cx="13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 = 0.01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52388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FFECT  OF  ZINC  SUPPLEMENTATION   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ON   DTH   SKIN   RESPONSES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152280" y="2070000"/>
          <a:ext cx="896004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70000"/>
                    <a:ext cx="896004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4"/>
          <p:cNvSpPr/>
          <p:nvPr/>
        </p:nvSpPr>
        <p:spPr>
          <a:xfrm>
            <a:off x="4529160" y="3076560"/>
            <a:ext cx="1328760" cy="63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ZINC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927520" y="3970440"/>
            <a:ext cx="1787400" cy="454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PLACEBO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2786040" y="1996920"/>
            <a:ext cx="5214960" cy="1063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OSITIVE  RESPONS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2643120" y="585792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  &lt;  .001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52388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FFECT  OF  ZINC  SUPPLEMENTATION   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      ON   DTH   SKIN   RESPONSES 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512640" y="2424240"/>
          <a:ext cx="79390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2424240"/>
                    <a:ext cx="79390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4"/>
          <p:cNvSpPr/>
          <p:nvPr/>
        </p:nvSpPr>
        <p:spPr>
          <a:xfrm>
            <a:off x="3733920" y="3168720"/>
            <a:ext cx="1752480" cy="6411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Z I N C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2438280" y="4267080"/>
            <a:ext cx="1676520" cy="45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PLACEBO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2571840" y="1785960"/>
            <a:ext cx="4714920" cy="1554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 INDURATIO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28200" y="3641760"/>
            <a:ext cx="1267200" cy="824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2428920" y="537372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  &lt; </a:t>
            </a:r>
            <a:r>
              <a:rPr b="1" lang="en-US" sz="1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001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b1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1828800"/>
            <a:ext cx="9109080" cy="4965840"/>
          </a:xfrm>
          <a:prstGeom prst="rect">
            <a:avLst/>
          </a:prstGeom>
          <a:noFill/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440" y="306360"/>
            <a:ext cx="9064800" cy="118620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fc0128"/>
                </a:solidFill>
                <a:latin typeface="Arial"/>
              </a:rPr>
              <a:t>CONCLUSIONS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4648320"/>
            <a:ext cx="9066240" cy="252612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a00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LONGED   ZINC   SUPPLEMENTATION IN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ULTS   IS   REFLECTED  IN  INCREASED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LASMA  ZINC  CONCENTRATION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0" y="213372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LONGED   ZINC  SUPPLEMENTATION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AY  INHIBIT   THE   AGE- RELATED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CLINE  IN  CELLULAR  IMMUNITY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AT  LEAST  AS  RELATED  TO   DTH SKIN  TESTS)</a:t>
            </a:r>
            <a:endParaRPr b="0" lang="en-US" sz="2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06768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2" name="Object 4" descr=""/>
          <p:cNvPicPr/>
          <p:nvPr/>
        </p:nvPicPr>
        <p:blipFill>
          <a:blip r:embed="rId1"/>
          <a:stretch/>
        </p:blipFill>
        <p:spPr>
          <a:xfrm>
            <a:off x="7086600" y="3886200"/>
            <a:ext cx="2057400" cy="175248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13" name="Text Box 5"/>
          <p:cNvSpPr/>
          <p:nvPr/>
        </p:nvSpPr>
        <p:spPr>
          <a:xfrm>
            <a:off x="7010280" y="4419720"/>
            <a:ext cx="213372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0th. Centur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 rot="21000">
            <a:off x="-10800" y="1752480"/>
            <a:ext cx="9118800" cy="22978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RICHING   WATER  AND  FOOD  WITH ESSENTIAL   NUTRITIONAL   ELEMENT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 ORDER  TO  AVOID  DISEASES  CAUSED BY  SPECIFIC   NUTRIENT   DEFICIENC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4149720"/>
            <a:ext cx="8991720" cy="2585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Arial"/>
              </a:rPr>
              <a:t>THE GOAL: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HIEVING TH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COMMENDED DIETARY ALLOWANC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 R. D. A. 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f3f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EALTH  PROMOTION IN 20th.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ENTURY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UCCESSFUL   PREVENTION   OF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PECIFIC   NUTRITIONAL  DEFICIENCIES</a:t>
            </a:r>
            <a:endParaRPr b="0" lang="en-US" sz="3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06768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HEALTH  PROMOTION - 21st CENTUR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  NEW  ROLE  FOR  NUTRITION ???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120" name="Object 14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2133360" cy="19051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fafd00"/>
            </a:outerShdw>
          </a:effectLst>
        </p:spPr>
      </p:pic>
      <p:sp>
        <p:nvSpPr>
          <p:cNvPr id="121" name="Text Box 15"/>
          <p:cNvSpPr/>
          <p:nvPr/>
        </p:nvSpPr>
        <p:spPr>
          <a:xfrm>
            <a:off x="7086600" y="1981080"/>
            <a:ext cx="1752480" cy="1015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1 ST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ENTURY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 rot="24000">
            <a:off x="0" y="1752120"/>
            <a:ext cx="9144000" cy="300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 INTERVENTION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Y REPRESENT  THE  EASIEST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SIMPLE  AND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- EFFECTIVE   MEANS   FOR 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0" y="47242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IBITING AGE RELATED PROCESSE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ING  MORTALITY &amp;  MORBIDITY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CHRONIC AGE-RELATED  DISEAS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0" y="47242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0" y="548640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523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XPANDING HEALTH FRONTIERS   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N THE  21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CENTURY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26672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  WE  PREVENT OR POSTPON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MINOUS CONSEQUENSES OF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 - RELATED  DISEASES BY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ETARY MANIPULATION 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8" name="Object 9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905120" cy="91440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afd00"/>
            </a:outerShdw>
          </a:effectLst>
        </p:spPr>
      </p:pic>
      <p:sp>
        <p:nvSpPr>
          <p:cNvPr id="129" name="Text Box 15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PECIFIC  NUTRIENT  SUPPLEMENTATION 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76320" y="4876920"/>
            <a:ext cx="327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5ab7"/>
                </a:solidFill>
                <a:latin typeface="Arial"/>
              </a:rPr>
              <a:t>EFFECTIVE  DOSE ?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5ab7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95ab7"/>
                </a:solidFill>
                <a:latin typeface="Arial"/>
              </a:rPr>
              <a:t>TOXICITY ?  THERAPEUTIC RANGE 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0" y="5421240"/>
            <a:ext cx="899172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5a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. D. A.  or HIGHER??    “MEGADOSES” ??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AGIC-BOOLET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785880" y="6059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RE ARE NO  MAGIC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OOLE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!</a:t>
            </a:r>
            <a:r>
              <a:rPr b="1" lang="en-US" sz="32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440" y="1676520"/>
            <a:ext cx="9142560" cy="698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ZINC , COPPER, MAGNESIUM,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06360" y="2362320"/>
            <a:ext cx="8532720" cy="637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HROMIUM , SELENIUM, MOLYBDEN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 rot="922800">
            <a:off x="838080" y="3200040"/>
            <a:ext cx="3122640" cy="698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767"/>
                </a:solidFill>
                <a:latin typeface="Arial"/>
              </a:rPr>
              <a:t>ALUMINUM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 rot="21063600">
            <a:off x="4191120" y="3123720"/>
            <a:ext cx="4647960" cy="698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E, BROMIN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 rot="21562800">
            <a:off x="12240" y="3048120"/>
            <a:ext cx="378000" cy="2526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TIN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0566200">
            <a:off x="609120" y="4254480"/>
            <a:ext cx="2895840" cy="6984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LUORIDE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 rot="21208800">
            <a:off x="3996720" y="3960360"/>
            <a:ext cx="4495680" cy="1307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ece"/>
                </a:solidFill>
                <a:latin typeface="Arial"/>
              </a:rPr>
              <a:t>LITHIUM, NICKEL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8610480" y="2209680"/>
            <a:ext cx="609840" cy="4355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ILICON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 rot="21276000">
            <a:off x="0" y="5000400"/>
            <a:ext cx="8534520" cy="637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5ab7"/>
                </a:solidFill>
                <a:latin typeface="Arial"/>
              </a:rPr>
              <a:t>VANADIUM, RUBIDIUM, GERMANIU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905120" y="5838840"/>
            <a:ext cx="6400800" cy="637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Lead, Arsenic, Cadmium... )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7620120" y="0"/>
          <a:ext cx="15238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0"/>
                    <a:ext cx="152388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147" name="Rectangle 23"/>
          <p:cNvSpPr/>
          <p:nvPr/>
        </p:nvSpPr>
        <p:spPr>
          <a:xfrm>
            <a:off x="0" y="412920"/>
            <a:ext cx="9144000" cy="1003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ICROELEMENTS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48" name="Object 24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609480" cy="39204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25" descr=""/>
          <p:cNvPicPr/>
          <p:nvPr/>
        </p:nvPicPr>
        <p:blipFill>
          <a:blip r:embed="rId4"/>
          <a:stretch/>
        </p:blipFill>
        <p:spPr>
          <a:xfrm>
            <a:off x="8001000" y="12193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8" descr=""/>
          <p:cNvPicPr/>
          <p:nvPr/>
        </p:nvPicPr>
        <p:blipFill>
          <a:blip r:embed="rId5"/>
          <a:stretch/>
        </p:blipFill>
        <p:spPr>
          <a:xfrm>
            <a:off x="7848720" y="6858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9" descr=""/>
          <p:cNvPicPr/>
          <p:nvPr/>
        </p:nvPicPr>
        <p:blipFill>
          <a:blip r:embed="rId6"/>
          <a:stretch/>
        </p:blipFill>
        <p:spPr>
          <a:xfrm>
            <a:off x="8458200" y="1208160"/>
            <a:ext cx="609480" cy="3920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0" descr=""/>
          <p:cNvPicPr/>
          <p:nvPr/>
        </p:nvPicPr>
        <p:blipFill>
          <a:blip r:embed="rId7"/>
          <a:stretch/>
        </p:blipFill>
        <p:spPr>
          <a:xfrm>
            <a:off x="8229600" y="152280"/>
            <a:ext cx="28260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32" descr=""/>
          <p:cNvPicPr/>
          <p:nvPr/>
        </p:nvPicPr>
        <p:blipFill>
          <a:blip r:embed="rId8"/>
          <a:stretch/>
        </p:blipFill>
        <p:spPr>
          <a:xfrm>
            <a:off x="8077320" y="457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33" descr=""/>
          <p:cNvPicPr/>
          <p:nvPr/>
        </p:nvPicPr>
        <p:blipFill>
          <a:blip r:embed="rId9"/>
          <a:stretch/>
        </p:blipFill>
        <p:spPr>
          <a:xfrm>
            <a:off x="8153280" y="685800"/>
            <a:ext cx="609840" cy="39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ESTING “ANTI-AGING” CLAIMS     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 MOST  CASES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THERE  ARE  NO RELIABLE, CONTROLLED  STUDI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495680"/>
            <a:ext cx="9144000" cy="17474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 HAVE BEEN SUGGESTED TO INDUCE  AN  “ANTI - AGING”  EFFE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R AN INHIBITING EFFECT ON  AGE-RELATED DISEASE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GARDING THE EFFICACY AND/OR SAFETY OF NUTRITIONAL ELEMENT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EARCHING “ANTI-AGING” AGENTS     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c0128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OUR ATTEMPT  TO DISCOVER  NUTRITIONAL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HIBITORS”   OF  AGE-RELATED   DISEASES, 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 WOULD  BE  LOGICAL  TO  CONCENTRATE ON  FACTORS   KNOWN   TO   HAVE   BOTH: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4419720"/>
            <a:ext cx="91440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CIAL  EFFECTS ON  LIVING  CELL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D CONCENTRATIONS  AND/OR   ACTIVITY  IN  ELDERLY  PEOPL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0" y="457200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0" y="54100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dc:language>en-US</dc:language>
  <cp:lastModifiedBy>דורון</cp:lastModifiedBy>
  <cp:lastPrinted>2001-05-12T19:40:31Z</cp:lastPrinted>
  <dcterms:modified xsi:type="dcterms:W3CDTF">2010-08-17T09:06:32Z</dcterms:modified>
  <cp:revision>77</cp:revision>
  <dc:subject/>
  <dc:title>ZINC 96</dc:title>
</cp:coreProperties>
</file>