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38B-3094-4E8C-B469-FA1872BF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956-BD8A-4191-9820-4BFAA600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026-0972-47A2-AF61-1C245C75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120D-573C-4AAA-B014-B07957F3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6ABD-770A-4868-90B6-E1581C5C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7F19-0B69-4B95-827E-15DD1DEA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DCF3-E216-468F-8100-E7F5D20E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1B4B-29AF-4258-8608-6DFBEDAE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3022-81E7-46D2-B951-092D7135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E414-AB1F-4051-B36F-380E18E5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06BD-236C-41B2-8220-8FB12D20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752-6669-4806-8C43-0EFC30D4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77DB-FC79-403B-9F6E-917E1CB0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1AEF-4338-49A8-90E0-07F78CCD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6197-00BC-48D0-9BBC-04A49A0A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D13A-0395-4302-9E6A-18575EA3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291A-294C-49E8-BD28-BFD83556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8611-A88D-4654-8A2D-6240A1A7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B4D-0128-451E-8A5D-BD1C7629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656-6030-41C8-BB7C-1718E863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BB7-EAAA-4FAA-81C7-6262EDD8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DA3-553E-4B83-8820-ADA2F83F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15D-0555-4AC4-B970-AFC58017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6D0-7D27-4472-A5EE-2FEFCFD4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>
                  <a:gd name="textAreaLeft" fmla="*/ 0 w 8364600"/>
                  <a:gd name="textAreaRight" fmla="*/ 8364960 w 8364600"/>
                  <a:gd name="textAreaTop" fmla="*/ 0 h 4726080"/>
                  <a:gd name="textAreaBottom" fmla="*/ 4726440 h 4726080"/>
                </a:gdLst>
                <a:ahLst/>
                <a:rect l="textAreaLeft" t="textAreaTop" r="textAreaRight" b="textAreaBottom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>
                  <a:gd name="textAreaLeft" fmla="*/ 0 w 8364600"/>
                  <a:gd name="textAreaRight" fmla="*/ 8364960 w 8364600"/>
                  <a:gd name="textAreaTop" fmla="*/ 0 h 4726080"/>
                  <a:gd name="textAreaBottom" fmla="*/ 4726440 h 4726080"/>
                </a:gdLst>
                <a:ahLst/>
                <a:rect l="textAreaLeft" t="textAreaTop" r="textAreaRight" b="textAreaBottom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4421160"/>
                  <a:gd name="textAreaBottom" fmla="*/ 4421520 h 4421160"/>
                </a:gdLst>
                <a:ahLst/>
                <a:rect l="textAreaLeft" t="textAreaTop" r="textAreaRight" b="textAreaBottom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4421160"/>
                  <a:gd name="textAreaBottom" fmla="*/ 4421520 h 4421160"/>
                </a:gdLst>
                <a:ahLst/>
                <a:rect l="textAreaLeft" t="textAreaTop" r="textAreaRight" b="textAreaBottom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>
                  <a:gd name="textAreaLeft" fmla="*/ 0 w 306360"/>
                  <a:gd name="textAreaRight" fmla="*/ 306360 w 306360"/>
                  <a:gd name="textAreaTop" fmla="*/ 0 h 1144440"/>
                  <a:gd name="textAreaBottom" fmla="*/ 1144800 h 1144440"/>
                </a:gdLst>
                <a:ahLst/>
                <a:rect l="textAreaLeft" t="textAreaTop" r="textAreaRight" b="textAreaBottom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>
                  <a:gd name="textAreaLeft" fmla="*/ 0 w 306360"/>
                  <a:gd name="textAreaRight" fmla="*/ 306360 w 306360"/>
                  <a:gd name="textAreaTop" fmla="*/ 0 h 1144440"/>
                  <a:gd name="textAreaBottom" fmla="*/ 1144800 h 1144440"/>
                </a:gdLst>
                <a:ahLst/>
                <a:rect l="textAreaLeft" t="textAreaTop" r="textAreaRight" b="textAreaBottom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9ADF-22CF-439C-BC87-B0A8A6A7ED3E}" type="datetime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1EC1-5079-4CB9-93D1-678AAD18C6F7}" type="slidenum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>
                  <a:gd name="textAreaLeft" fmla="*/ 0 w 8370720"/>
                  <a:gd name="textAreaRight" fmla="*/ 8371080 w 8370720"/>
                  <a:gd name="textAreaTop" fmla="*/ 0 h 2211120"/>
                  <a:gd name="textAreaBottom" fmla="*/ 2211120 h 2211120"/>
                </a:gdLst>
                <a:ahLst/>
                <a:rect l="textAreaLeft" t="textAreaTop" r="textAreaRight" b="textAreaBottom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>
                  <a:gd name="textAreaLeft" fmla="*/ 0 w 8371080"/>
                  <a:gd name="textAreaRight" fmla="*/ 8371440 w 8371080"/>
                  <a:gd name="textAreaTop" fmla="*/ 0 h 2211120"/>
                  <a:gd name="textAreaBottom" fmla="*/ 2211120 h 2211120"/>
                </a:gdLst>
                <a:ahLst/>
                <a:rect l="textAreaLeft" t="textAreaTop" r="textAreaRight" b="textAreaBottom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>
                  <a:gd name="textAreaLeft" fmla="*/ 0 w 8383680"/>
                  <a:gd name="textAreaRight" fmla="*/ 8384040 w 83836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>
                  <a:gd name="textAreaLeft" fmla="*/ 0 w 8383680"/>
                  <a:gd name="textAreaRight" fmla="*/ 8384040 w 83836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752480"/>
                  <a:gd name="textAreaBottom" fmla="*/ 1752840 h 1752480"/>
                </a:gdLst>
                <a:ahLst/>
                <a:rect l="textAreaLeft" t="textAreaTop" r="textAreaRight" b="textAreaBottom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752480"/>
                  <a:gd name="textAreaBottom" fmla="*/ 1752840 h 1752480"/>
                </a:gdLst>
                <a:ahLst/>
                <a:rect l="textAreaLeft" t="textAreaTop" r="textAreaRight" b="textAreaBottom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2FDA-5D04-4CAE-9053-3BC3292EF04E}" type="datetime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6F21-8932-4105-AD7D-E0C39DFC25C7}" type="slidenum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80880" y="39625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Object 3" descr=""/>
          <p:cNvPicPr/>
          <p:nvPr/>
        </p:nvPicPr>
        <p:blipFill>
          <a:blip r:embed="rId1"/>
          <a:stretch/>
        </p:blipFill>
        <p:spPr>
          <a:xfrm>
            <a:off x="1828800" y="5205240"/>
            <a:ext cx="5562720" cy="1295640"/>
          </a:xfrm>
          <a:prstGeom prst="rect">
            <a:avLst/>
          </a:prstGeom>
          <a:ln w="0">
            <a:noFill/>
          </a:ln>
          <a:effectLst>
            <a:outerShdw dist="53966" dir="18900000" blurRad="0" rotWithShape="0">
              <a:srgbClr val="ff0066">
                <a:alpha val="50000"/>
              </a:srgbClr>
            </a:outerShdw>
          </a:effectLst>
        </p:spPr>
      </p:pic>
      <p:sp>
        <p:nvSpPr>
          <p:cNvPr id="117" name="Text Box 5"/>
          <p:cNvSpPr/>
          <p:nvPr/>
        </p:nvSpPr>
        <p:spPr>
          <a:xfrm>
            <a:off x="152280" y="1944720"/>
            <a:ext cx="8991720" cy="2287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ff00"/>
                </a:solidFill>
                <a:latin typeface="David"/>
                <a:cs typeface="David"/>
              </a:rPr>
              <a:t>רחל פוגל</a:t>
            </a:r>
            <a:r>
              <a:rPr b="1" lang="he-IL" sz="4800" spc="-1" strike="noStrike" baseline="30000">
                <a:solidFill>
                  <a:srgbClr val="ffff00"/>
                </a:solidFill>
                <a:latin typeface="David"/>
                <a:ea typeface="David"/>
              </a:rPr>
              <a:t>1</a:t>
            </a:r>
            <a:r>
              <a:rPr b="1" lang="he-IL" sz="4800" spc="-1" strike="noStrike" baseline="30000">
                <a:solidFill>
                  <a:srgbClr val="ffff00"/>
                </a:solidFill>
                <a:latin typeface="David"/>
                <a:ea typeface="David"/>
              </a:rPr>
              <a:t> </a:t>
            </a:r>
            <a:r>
              <a:rPr b="1" lang="he-IL" sz="4800" spc="-1" strike="noStrike">
                <a:solidFill>
                  <a:srgbClr val="ffff00"/>
                </a:solidFill>
                <a:latin typeface="David"/>
                <a:ea typeface="David"/>
              </a:rPr>
              <a:t>,  אילן שפר</a:t>
            </a:r>
            <a:r>
              <a:rPr b="1" lang="he-IL" sz="4800" spc="-1" strike="noStrike" baseline="30000">
                <a:solidFill>
                  <a:srgbClr val="ffff00"/>
                </a:solidFill>
                <a:latin typeface="David"/>
                <a:ea typeface="David"/>
              </a:rPr>
              <a:t>1</a:t>
            </a:r>
            <a:r>
              <a:rPr b="1" lang="he-IL" sz="4800" spc="-1" strike="noStrike">
                <a:solidFill>
                  <a:srgbClr val="ffff00"/>
                </a:solidFill>
                <a:latin typeface="David"/>
                <a:ea typeface="David"/>
              </a:rPr>
              <a:t>,  שרה פלורו</a:t>
            </a:r>
            <a:r>
              <a:rPr b="1" lang="he-IL" sz="4800" spc="-1" strike="noStrike" baseline="30000">
                <a:solidFill>
                  <a:srgbClr val="ffff00"/>
                </a:solidFill>
                <a:latin typeface="David"/>
                <a:ea typeface="David"/>
              </a:rPr>
              <a:t>2</a:t>
            </a:r>
            <a:r>
              <a:rPr b="1" lang="he-IL" sz="4800" spc="-1" strike="noStrike">
                <a:solidFill>
                  <a:srgbClr val="ffff00"/>
                </a:solidFill>
                <a:latin typeface="David"/>
                <a:ea typeface="David"/>
              </a:rPr>
              <a:t>, ליאורה רום</a:t>
            </a:r>
            <a:r>
              <a:rPr b="1" lang="he-IL" sz="4800" spc="-1" strike="noStrike" baseline="30000">
                <a:solidFill>
                  <a:srgbClr val="ffff00"/>
                </a:solidFill>
                <a:latin typeface="David"/>
                <a:ea typeface="David"/>
              </a:rPr>
              <a:t>3</a:t>
            </a:r>
            <a:r>
              <a:rPr b="1" lang="en-US" sz="4800" spc="-1" strike="noStrike">
                <a:solidFill>
                  <a:srgbClr val="ffff00"/>
                </a:solidFill>
                <a:latin typeface="David"/>
                <a:ea typeface="David"/>
              </a:rPr>
              <a:t>     </a:t>
            </a:r>
            <a:r>
              <a:rPr b="1" lang="he-IL" sz="4800" spc="-1" strike="noStrike">
                <a:solidFill>
                  <a:srgbClr val="ffff00"/>
                </a:solidFill>
                <a:latin typeface="David"/>
                <a:cs typeface="David"/>
              </a:rPr>
              <a:t>וד"ר דורון גרפינקל</a:t>
            </a:r>
            <a:r>
              <a:rPr b="1" lang="he-IL" sz="4800" spc="-1" strike="noStrike" baseline="30000">
                <a:solidFill>
                  <a:srgbClr val="ffff00"/>
                </a:solidFill>
                <a:latin typeface="David"/>
                <a:ea typeface="David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4142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66ffff"/>
                </a:solidFill>
                <a:latin typeface="David"/>
                <a:ea typeface="Guttman Haim-Condensed"/>
              </a:rPr>
              <a:t>1</a:t>
            </a:r>
            <a:r>
              <a:rPr b="1" lang="he-IL" sz="4400" spc="-1" strike="noStrike">
                <a:solidFill>
                  <a:srgbClr val="66ffff"/>
                </a:solidFill>
                <a:latin typeface="David"/>
                <a:cs typeface="Guttman Haim-Condensed"/>
              </a:rPr>
              <a:t>היחידה לטיפול בית מחוז דן, </a:t>
            </a:r>
            <a:r>
              <a:rPr b="1" lang="he-IL" sz="4400" spc="-1" strike="noStrike" baseline="30000">
                <a:solidFill>
                  <a:srgbClr val="66ffff"/>
                </a:solidFill>
                <a:latin typeface="Arial"/>
                <a:ea typeface="Guttman Haim-Condensed"/>
              </a:rPr>
              <a:t>2</a:t>
            </a:r>
            <a:r>
              <a:rPr b="1" lang="he-IL" sz="4400" spc="-1" strike="noStrike" baseline="30000">
                <a:solidFill>
                  <a:srgbClr val="66ffff"/>
                </a:solidFill>
                <a:latin typeface="Arial"/>
                <a:ea typeface="Guttman Haim-Condensed"/>
              </a:rPr>
              <a:t> </a:t>
            </a:r>
            <a:r>
              <a:rPr b="1" lang="he-IL" sz="4400" spc="-1" strike="noStrike">
                <a:solidFill>
                  <a:srgbClr val="66ffff"/>
                </a:solidFill>
                <a:latin typeface="David"/>
                <a:cs typeface="Guttman Haim-Condensed"/>
              </a:rPr>
              <a:t>אחיות קשר ובקרה</a:t>
            </a:r>
            <a:r>
              <a:rPr b="1" lang="en-US" sz="4400" spc="-1" strike="noStrike">
                <a:solidFill>
                  <a:srgbClr val="66ffff"/>
                </a:solidFill>
                <a:latin typeface="David"/>
                <a:ea typeface="Guttman Haim-Condensed"/>
              </a:rPr>
              <a:t> </a:t>
            </a:r>
            <a:r>
              <a:rPr b="1" lang="he-IL" sz="4400" spc="-1" strike="noStrike">
                <a:solidFill>
                  <a:srgbClr val="66ffff"/>
                </a:solidFill>
                <a:latin typeface="David"/>
                <a:cs typeface="Guttman Haim-Condensed"/>
              </a:rPr>
              <a:t>שיבא,</a:t>
            </a:r>
            <a:r>
              <a:rPr b="1" lang="he-IL" sz="4400" spc="-1" strike="noStrike" baseline="30000">
                <a:solidFill>
                  <a:srgbClr val="66ffff"/>
                </a:solidFill>
                <a:latin typeface="David"/>
                <a:ea typeface="Guttman Haim-Condensed"/>
              </a:rPr>
              <a:t> </a:t>
            </a:r>
            <a:r>
              <a:rPr b="1" lang="he-IL" sz="4400" spc="-1" strike="noStrike" baseline="30000">
                <a:solidFill>
                  <a:srgbClr val="66ffff"/>
                </a:solidFill>
                <a:latin typeface="David"/>
                <a:ea typeface="Guttman Haim-Condensed"/>
              </a:rPr>
              <a:t>3</a:t>
            </a:r>
            <a:r>
              <a:rPr b="1" lang="he-IL" sz="4400" spc="-1" strike="noStrike">
                <a:solidFill>
                  <a:srgbClr val="66ffff"/>
                </a:solidFill>
                <a:latin typeface="David"/>
                <a:cs typeface="Guttman Haim-Condensed"/>
              </a:rPr>
              <a:t>היחידה להערכת  שירותים</a:t>
            </a:r>
            <a:r>
              <a:rPr b="1" i="1" lang="en-US" sz="3600" spc="-1" strike="noStrike">
                <a:solidFill>
                  <a:srgbClr val="ffff00"/>
                </a:solidFill>
                <a:latin typeface="David"/>
                <a:ea typeface="David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0" y="4572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ff"/>
                </a:solidFill>
                <a:latin typeface="Arial"/>
                <a:cs typeface="David"/>
              </a:rPr>
              <a:t>שיקום חולים לאחר אירוע מוחי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David"/>
              </a:rPr>
              <a:t> (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David"/>
              </a:rPr>
              <a:t>CVA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David"/>
              </a:rPr>
              <a:t>)  </a:t>
            </a:r>
            <a:r>
              <a:rPr b="1" lang="he-IL" sz="6000" spc="-1" strike="noStrike">
                <a:solidFill>
                  <a:srgbClr val="ffffff"/>
                </a:solidFill>
                <a:latin typeface="Arial"/>
                <a:cs typeface="David"/>
              </a:rPr>
              <a:t>במסגרת הבית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1905120" y="2270160"/>
            <a:ext cx="49528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ff0066"/>
                </a:solidFill>
                <a:uFillTx/>
                <a:latin typeface="David"/>
                <a:cs typeface="David"/>
              </a:rPr>
              <a:t>אוכלוסיית  יע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Object 5" descr=""/>
          <p:cNvPicPr/>
          <p:nvPr/>
        </p:nvPicPr>
        <p:blipFill>
          <a:blip r:embed="rId1"/>
          <a:stretch/>
        </p:blipFill>
        <p:spPr>
          <a:xfrm>
            <a:off x="0" y="4675320"/>
            <a:ext cx="1676520" cy="1496880"/>
          </a:xfrm>
          <a:prstGeom prst="rect">
            <a:avLst/>
          </a:prstGeom>
          <a:ln w="0">
            <a:noFill/>
          </a:ln>
          <a:effectLst>
            <a:outerShdw dist="73964" dir="19736436" blurRad="0" rotWithShape="0">
              <a:srgbClr val="000000"/>
            </a:outerShdw>
          </a:effectLst>
        </p:spPr>
      </p:pic>
      <p:pic>
        <p:nvPicPr>
          <p:cNvPr id="179" name="Object 6" descr=""/>
          <p:cNvPicPr/>
          <p:nvPr/>
        </p:nvPicPr>
        <p:blipFill>
          <a:blip r:embed="rId2"/>
          <a:stretch/>
        </p:blipFill>
        <p:spPr>
          <a:xfrm>
            <a:off x="-76320" y="0"/>
            <a:ext cx="1752840" cy="1523880"/>
          </a:xfrm>
          <a:prstGeom prst="rect">
            <a:avLst/>
          </a:prstGeom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485720"/>
            <a:ext cx="9448920" cy="1104840"/>
          </a:xfrm>
          <a:prstGeom prst="rect">
            <a:avLst/>
          </a:prstGeom>
          <a:noFill/>
          <a:ln w="0">
            <a:noFill/>
          </a:ln>
          <a:effectLst>
            <a:outerShdw dist="52300" dir="20763565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f0066"/>
                </a:solidFill>
                <a:latin typeface="David"/>
                <a:cs typeface="David"/>
              </a:rPr>
              <a:t>פרויקט שיקום  בית</a:t>
            </a:r>
            <a:r>
              <a:rPr b="1" lang="en-US" sz="48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9144000" cy="31240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lvl="1" marL="646200" indent="0" algn="r" rtl="1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David"/>
                <a:ea typeface="David"/>
              </a:rPr>
              <a:t>1</a:t>
            </a:r>
            <a:r>
              <a:rPr b="1" lang="he-IL" sz="3200" spc="-1" strike="noStrike">
                <a:solidFill>
                  <a:srgbClr val="ffff00"/>
                </a:solidFill>
                <a:latin typeface="David"/>
                <a:ea typeface="David"/>
              </a:rPr>
              <a:t>). ניסינו להתרכז בפלח החולים המאושפזים בשיבא</a:t>
            </a:r>
            <a:r>
              <a:rPr b="1" lang="en-US" sz="3200" spc="-1" strike="noStrike">
                <a:solidFill>
                  <a:srgbClr val="ffff00"/>
                </a:solidFill>
                <a:latin typeface="David"/>
                <a:ea typeface="David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r" rtl="1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David"/>
                <a:ea typeface="David"/>
              </a:rPr>
              <a:t> </a:t>
            </a:r>
            <a:r>
              <a:rPr b="1" lang="he-IL" sz="3200" spc="-1" strike="noStrike">
                <a:solidFill>
                  <a:srgbClr val="ffff00"/>
                </a:solidFill>
                <a:latin typeface="David"/>
                <a:cs typeface="David"/>
              </a:rPr>
              <a:t>שכיום נשארים שבועות (חודשים) רבים  בבית החולים</a:t>
            </a:r>
            <a:r>
              <a:rPr b="1" lang="en-US" sz="3200" spc="-1" strike="noStrike">
                <a:solidFill>
                  <a:srgbClr val="ffff00"/>
                </a:solidFill>
                <a:latin typeface="David"/>
                <a:ea typeface="David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r" rtl="1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David"/>
                <a:ea typeface="David"/>
              </a:rPr>
              <a:t> </a:t>
            </a:r>
            <a:r>
              <a:rPr b="1" lang="he-IL" sz="3200" spc="-1" strike="noStrike">
                <a:solidFill>
                  <a:srgbClr val="ffff00"/>
                </a:solidFill>
                <a:latin typeface="David"/>
                <a:cs typeface="David"/>
              </a:rPr>
              <a:t>לכן הוצאתם לטיפול בבית הכדאית ביות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r" rtl="1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David"/>
                <a:ea typeface="David"/>
              </a:rPr>
              <a:t> </a:t>
            </a:r>
            <a:r>
              <a:rPr b="1" lang="he-IL" sz="3200" spc="-1" strike="noStrike">
                <a:solidFill>
                  <a:srgbClr val="ffff00"/>
                </a:solidFill>
                <a:latin typeface="David"/>
                <a:cs typeface="David"/>
              </a:rPr>
              <a:t>מבחינת עלות/תועלת -  רפואית וכלכלית</a:t>
            </a:r>
            <a:r>
              <a:rPr b="1" lang="en-US" sz="3200" spc="-1" strike="noStrike">
                <a:solidFill>
                  <a:srgbClr val="ffff00"/>
                </a:solidFill>
                <a:latin typeface="David"/>
                <a:ea typeface="Dav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r" rtl="1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Object 11" descr=""/>
          <p:cNvPicPr/>
          <p:nvPr/>
        </p:nvPicPr>
        <p:blipFill>
          <a:blip r:embed="rId3"/>
          <a:stretch/>
        </p:blipFill>
        <p:spPr>
          <a:xfrm>
            <a:off x="1600200" y="0"/>
            <a:ext cx="7543800" cy="1523880"/>
          </a:xfrm>
          <a:prstGeom prst="rect">
            <a:avLst/>
          </a:prstGeom>
          <a:ln w="0">
            <a:noFill/>
          </a:ln>
          <a:effectLst>
            <a:outerShdw dist="71785" dir="18900000" blurRad="0" rotWithShape="0">
              <a:srgbClr val="000000"/>
            </a:outerShdw>
          </a:effectLst>
        </p:spPr>
      </p:pic>
      <p:sp>
        <p:nvSpPr>
          <p:cNvPr id="183" name="Rectangle 12"/>
          <p:cNvSpPr/>
          <p:nvPr/>
        </p:nvSpPr>
        <p:spPr>
          <a:xfrm>
            <a:off x="2970000" y="12600"/>
            <a:ext cx="5266080" cy="703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David"/>
                <a:ea typeface="Levenim MT"/>
              </a:rPr>
              <a:t>   </a:t>
            </a:r>
            <a:r>
              <a:rPr b="1" lang="he-IL" sz="4000" spc="-1" strike="noStrike">
                <a:solidFill>
                  <a:srgbClr val="3399ff"/>
                </a:solidFill>
                <a:latin typeface="David"/>
                <a:cs typeface="Levenim MT"/>
              </a:rPr>
              <a:t>היחידה  לטיפול  בי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4038480" y="76212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 </a:t>
            </a:r>
            <a:r>
              <a:rPr b="1" lang="he-IL" sz="6000" spc="-1" strike="noStrike">
                <a:solidFill>
                  <a:srgbClr val="333399"/>
                </a:solidFill>
                <a:latin typeface="David"/>
                <a:cs typeface="Guttman Haim-Condensed"/>
              </a:rPr>
              <a:t>מחוז ד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-152280" y="1752480"/>
            <a:ext cx="9905760" cy="46483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lvl="1" marL="743040" indent="0" algn="ctr" rtl="1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 rtl="1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981080" y="533520"/>
            <a:ext cx="495324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ff0066"/>
                </a:solidFill>
                <a:uFillTx/>
                <a:latin typeface="David"/>
                <a:cs typeface="David"/>
              </a:rPr>
              <a:t>אוכלוסיית  יע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04840"/>
          </a:xfrm>
          <a:prstGeom prst="rect">
            <a:avLst/>
          </a:prstGeom>
          <a:noFill/>
          <a:ln w="0">
            <a:noFill/>
          </a:ln>
          <a:effectLst>
            <a:outerShdw dist="52300" dir="20763565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f0066"/>
                </a:solidFill>
                <a:latin typeface="David"/>
                <a:cs typeface="David"/>
              </a:rPr>
              <a:t>פרויקט שיקום  בית</a:t>
            </a:r>
            <a:r>
              <a:rPr b="1" lang="en-US" sz="48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Object 9" descr=""/>
          <p:cNvPicPr/>
          <p:nvPr/>
        </p:nvPicPr>
        <p:blipFill>
          <a:blip r:embed="rId1"/>
          <a:stretch/>
        </p:blipFill>
        <p:spPr>
          <a:xfrm>
            <a:off x="7139160" y="500040"/>
            <a:ext cx="2076120" cy="2786040"/>
          </a:xfrm>
          <a:prstGeom prst="rect">
            <a:avLst/>
          </a:prstGeom>
          <a:ln w="0">
            <a:noFill/>
          </a:ln>
          <a:effectLst>
            <a:outerShdw dist="81185" dir="19278031" blurRad="0" rotWithShape="0">
              <a:srgbClr val="000000"/>
            </a:outerShdw>
          </a:effectLst>
        </p:spPr>
      </p:pic>
      <p:sp>
        <p:nvSpPr>
          <p:cNvPr id="189" name="Text Box 10"/>
          <p:cNvSpPr/>
          <p:nvPr/>
        </p:nvSpPr>
        <p:spPr>
          <a:xfrm>
            <a:off x="0" y="1600200"/>
            <a:ext cx="9572760" cy="83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David"/>
                <a:ea typeface="David"/>
              </a:rPr>
              <a:t>2</a:t>
            </a:r>
            <a:r>
              <a:rPr b="1" lang="he-IL" sz="2800" spc="-1" strike="noStrike">
                <a:solidFill>
                  <a:srgbClr val="ffff00"/>
                </a:solidFill>
                <a:latin typeface="David"/>
                <a:ea typeface="David"/>
              </a:rPr>
              <a:t>). בשלב ראשון חולים "שקומיים" אחר אירוע מוחי (או שברי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David"/>
                <a:ea typeface="David"/>
              </a:rPr>
              <a:t>      בצוואר הירך) ש"נתקעים"  במחלקות שונות של</a:t>
            </a:r>
            <a:r>
              <a:rPr b="1" lang="en-US" sz="2800" spc="-1" strike="noStrike">
                <a:solidFill>
                  <a:srgbClr val="ffff00"/>
                </a:solidFill>
                <a:latin typeface="David"/>
                <a:ea typeface="David"/>
              </a:rPr>
              <a:t> </a:t>
            </a:r>
            <a:r>
              <a:rPr b="1" lang="he-IL" sz="2800" spc="-1" strike="noStrike">
                <a:solidFill>
                  <a:srgbClr val="ffff00"/>
                </a:solidFill>
                <a:latin typeface="David"/>
                <a:cs typeface="David"/>
              </a:rPr>
              <a:t>שיבא</a:t>
            </a:r>
            <a:r>
              <a:rPr b="1" lang="en-US" sz="2800" spc="-1" strike="noStrike">
                <a:solidFill>
                  <a:srgbClr val="ffff00"/>
                </a:solidFill>
                <a:latin typeface="David"/>
                <a:ea typeface="David"/>
              </a:rPr>
              <a:t>                                                          </a:t>
            </a:r>
            <a:r>
              <a:rPr b="1" lang="he-IL" sz="2800" spc="-1" strike="noStrike">
                <a:solidFill>
                  <a:srgbClr val="ffff00"/>
                </a:solidFill>
                <a:latin typeface="David"/>
                <a:cs typeface="David"/>
              </a:rPr>
              <a:t>תחת הכותרת של: “שיקום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David"/>
                <a:ea typeface="David"/>
              </a:rPr>
              <a:t>3</a:t>
            </a:r>
            <a:r>
              <a:rPr b="1" lang="he-IL" sz="2800" spc="-1" strike="noStrike">
                <a:solidFill>
                  <a:srgbClr val="ffff00"/>
                </a:solidFill>
                <a:latin typeface="David"/>
                <a:ea typeface="David"/>
              </a:rPr>
              <a:t>). הוצאת חולים אלו לביתם  מותנית  בכך </a:t>
            </a:r>
            <a:r>
              <a:rPr b="1" lang="he-IL" sz="2000" spc="-1" strike="noStrike">
                <a:solidFill>
                  <a:srgbClr val="ffff00"/>
                </a:solidFill>
                <a:latin typeface="David"/>
                <a:cs typeface="David"/>
              </a:rPr>
              <a:t>ש</a:t>
            </a:r>
            <a:r>
              <a:rPr b="1" lang="he-IL" sz="4000" spc="-1" strike="noStrike">
                <a:solidFill>
                  <a:srgbClr val="ffff00"/>
                </a:solidFill>
                <a:latin typeface="David"/>
                <a:cs typeface="David"/>
              </a:rPr>
              <a:t>המשפחה</a:t>
            </a:r>
            <a:r>
              <a:rPr b="1" lang="en-US" sz="2800" spc="-1" strike="noStrike">
                <a:solidFill>
                  <a:srgbClr val="ffff00"/>
                </a:solidFill>
                <a:latin typeface="David"/>
                <a:ea typeface="Davi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00"/>
                </a:solidFill>
                <a:latin typeface="David"/>
                <a:cs typeface="David"/>
              </a:rPr>
              <a:t>מוכנה ומסוגלת להתמודד</a:t>
            </a:r>
            <a:r>
              <a:rPr b="1" lang="he-IL" sz="3200" spc="-1" strike="noStrike">
                <a:solidFill>
                  <a:srgbClr val="ffff00"/>
                </a:solidFill>
                <a:latin typeface="David"/>
                <a:ea typeface="David"/>
              </a:rPr>
              <a:t> עם החולה בבית  בעזרת הצוות המקצועי שלנו  ומטפל/ת  בהיקף  גבוה  מהמקובל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David"/>
                <a:ea typeface="Davi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 rtl="1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David"/>
                <a:cs typeface="David"/>
              </a:rPr>
              <a:t>הצלחנו לשכנע חברות סיעוד  להוריד משמעותית    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3200" spc="-1" strike="noStrike">
                <a:solidFill>
                  <a:srgbClr val="ffffff"/>
                </a:solidFill>
                <a:latin typeface="David"/>
                <a:cs typeface="David"/>
              </a:rPr>
              <a:t>עלויות הסיעוד הביתי לצורך הפרויק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fff00"/>
                </a:solidFill>
                <a:latin typeface="David"/>
                <a:cs typeface="David"/>
              </a:rPr>
              <a:t>שיקום בית </a:t>
            </a:r>
            <a:br>
              <a:rPr sz="8000"/>
            </a:br>
            <a:r>
              <a:rPr b="1" lang="he-IL" sz="8000" spc="-1" strike="noStrike">
                <a:solidFill>
                  <a:srgbClr val="ffff00"/>
                </a:solidFill>
                <a:latin typeface="David"/>
                <a:ea typeface="David"/>
              </a:rPr>
              <a:t> </a:t>
            </a:r>
            <a:r>
              <a:rPr b="1" lang="he-IL" sz="6000" spc="-1" strike="noStrike">
                <a:solidFill>
                  <a:srgbClr val="ff0066"/>
                </a:solidFill>
                <a:latin typeface="David"/>
                <a:cs typeface="David"/>
              </a:rPr>
              <a:t>מדדים לקבל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68552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Object 4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467480" cy="48769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2341800" y="2452680"/>
            <a:ext cx="4536360" cy="8251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66ffff"/>
                </a:solidFill>
                <a:latin typeface="Times New Roman"/>
                <a:cs typeface="David"/>
              </a:rPr>
              <a:t>חומרת המגבל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4419720" y="4740120"/>
            <a:ext cx="3962160" cy="14346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Times New Roman"/>
                <a:cs typeface="David"/>
              </a:rPr>
              <a:t>יכולת התפקו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David"/>
              </a:rPr>
              <a:t> </a:t>
            </a:r>
            <a:r>
              <a:rPr b="1" lang="he-IL" sz="4400" spc="-1" strike="noStrike">
                <a:solidFill>
                  <a:srgbClr val="ffffff"/>
                </a:solidFill>
                <a:latin typeface="Times New Roman"/>
                <a:cs typeface="David"/>
              </a:rPr>
              <a:t>והלימו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457200" y="4235400"/>
            <a:ext cx="4267080" cy="155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ff00"/>
                </a:solidFill>
                <a:latin typeface="Times New Roman"/>
                <a:cs typeface="David"/>
              </a:rPr>
              <a:t>מידת התמיכה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Davi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ff00"/>
                </a:solidFill>
                <a:latin typeface="Times New Roman"/>
                <a:cs typeface="David"/>
              </a:rPr>
              <a:t>המשפחתי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0484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 u="sng">
                <a:solidFill>
                  <a:srgbClr val="ff0066"/>
                </a:solidFill>
                <a:uFillTx/>
                <a:latin typeface="David"/>
                <a:cs typeface="David"/>
              </a:rPr>
              <a:t>איתור מועמדים לפרוייקט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0066"/>
            </a:outerShdw>
          </a:effectLst>
        </p:spPr>
        <p:txBody>
          <a:bodyPr lIns="92160" rIns="92160" tIns="46080" bIns="46080" anchor="t">
            <a:normAutofit fontScale="76000"/>
          </a:bodyPr>
          <a:p>
            <a:pPr marL="260640" indent="-260640" algn="r" rtl="1">
              <a:spcBef>
                <a:spcPts val="799"/>
              </a:spcBef>
              <a:buClr>
                <a:srgbClr val="ff0066"/>
              </a:buClr>
              <a:buSzPct val="14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החולים המתאימים מאותרים בבי”ח ע”י אחיות קשר   ובקרה כאשר מחוזות אחרים משמשים כקבוצת ביקורת      כבר בבי”ח נבדקת ההתאמה גם ע”י שני גורמים נוספים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r" rtl="1">
              <a:spcBef>
                <a:spcPts val="799"/>
              </a:spcBef>
              <a:buClr>
                <a:srgbClr val="ff66ff"/>
              </a:buClr>
              <a:buSzPct val="14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מרפאה בעיסו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r" rtl="1">
              <a:spcBef>
                <a:spcPts val="799"/>
              </a:spcBef>
              <a:buClr>
                <a:srgbClr val="ff66ff"/>
              </a:buClr>
              <a:buSzPct val="14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עובדת סוציאלי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 algn="r" rtl="1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  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במידת הצורך מעורבים בהערכה בבי”ח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 algn="r" rtl="1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  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David"/>
              </a:rPr>
              <a:t>REACHING OU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David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גם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r" rtl="1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   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רופ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r" rtl="1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       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פיזיותרפיס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r" rtl="1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             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קלינאית תקשור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04840"/>
          </a:xfrm>
          <a:prstGeom prst="rect">
            <a:avLst/>
          </a:prstGeom>
          <a:noFill/>
          <a:ln w="0">
            <a:noFill/>
          </a:ln>
          <a:effectLst>
            <a:outerShdw dist="52300" dir="20763565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 u="sng">
                <a:solidFill>
                  <a:srgbClr val="ff0066"/>
                </a:solidFill>
                <a:uFillTx/>
                <a:latin typeface="David"/>
                <a:cs typeface="David"/>
              </a:rPr>
              <a:t>תוכנית שיקום בי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*  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נמשכת כ 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5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-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6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שבועות החל מיום השחרור מבי”ח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*  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כוללת טיפולים אינטנסיביים בתכיפות זהה או גבוהה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 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מזו  של בי”ח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*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שירותי סיעוד (</a:t>
            </a:r>
            <a:r>
              <a:rPr b="1" lang="he-IL" sz="2800" spc="-1" strike="noStrike">
                <a:solidFill>
                  <a:srgbClr val="ffff00"/>
                </a:solidFill>
                <a:latin typeface="Times New Roman"/>
                <a:cs typeface="David"/>
              </a:rPr>
              <a:t>מטפל/ת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) בכמות גבוהה הרבה מהמקוב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Object 1029"/>
          <p:cNvGraphicFramePr/>
          <p:nvPr/>
        </p:nvGraphicFramePr>
        <p:xfrm>
          <a:off x="379440" y="2438280"/>
          <a:ext cx="724068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438280"/>
                    <a:ext cx="7240680" cy="3276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02" name="Rectangle 1030"/>
          <p:cNvSpPr/>
          <p:nvPr/>
        </p:nvSpPr>
        <p:spPr>
          <a:xfrm>
            <a:off x="3857040" y="2637000"/>
            <a:ext cx="1130040" cy="5814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רופ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031"/>
          <p:cNvSpPr/>
          <p:nvPr/>
        </p:nvSpPr>
        <p:spPr>
          <a:xfrm rot="20388600">
            <a:off x="1988280" y="2743200"/>
            <a:ext cx="1172880" cy="581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  <a:cs typeface="David"/>
              </a:rPr>
              <a:t>אח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2"/>
          <p:cNvSpPr/>
          <p:nvPr/>
        </p:nvSpPr>
        <p:spPr>
          <a:xfrm rot="1940400">
            <a:off x="5383440" y="3123720"/>
            <a:ext cx="188604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David"/>
              </a:rPr>
              <a:t>פיזיותרפיס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33"/>
          <p:cNvSpPr/>
          <p:nvPr/>
        </p:nvSpPr>
        <p:spPr>
          <a:xfrm>
            <a:off x="993960" y="3581280"/>
            <a:ext cx="113472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עו”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034"/>
          <p:cNvSpPr/>
          <p:nvPr/>
        </p:nvSpPr>
        <p:spPr>
          <a:xfrm>
            <a:off x="5940720" y="3733920"/>
            <a:ext cx="1480680" cy="9471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Times New Roman"/>
                <a:cs typeface="David"/>
              </a:rPr>
              <a:t>מרפאה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Times New Roman"/>
                <a:cs typeface="David"/>
              </a:rPr>
              <a:t>בעיסו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035"/>
          <p:cNvSpPr/>
          <p:nvPr/>
        </p:nvSpPr>
        <p:spPr>
          <a:xfrm rot="19989000">
            <a:off x="5194800" y="4524840"/>
            <a:ext cx="1333440" cy="126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David"/>
              </a:rPr>
              <a:t>קלינאית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Davi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David"/>
              </a:rPr>
              <a:t>תקשור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36"/>
          <p:cNvSpPr/>
          <p:nvPr/>
        </p:nvSpPr>
        <p:spPr>
          <a:xfrm rot="1611600">
            <a:off x="1063080" y="4495680"/>
            <a:ext cx="1503720" cy="52056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66ffff"/>
                </a:solidFill>
                <a:latin typeface="Times New Roman"/>
                <a:cs typeface="David"/>
              </a:rPr>
              <a:t>דיאטני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Object 1037" descr=""/>
          <p:cNvPicPr/>
          <p:nvPr/>
        </p:nvPicPr>
        <p:blipFill>
          <a:blip r:embed="rId3"/>
          <a:stretch/>
        </p:blipFill>
        <p:spPr>
          <a:xfrm>
            <a:off x="0" y="0"/>
            <a:ext cx="2666880" cy="1295280"/>
          </a:xfrm>
          <a:prstGeom prst="rect">
            <a:avLst/>
          </a:prstGeom>
          <a:ln w="0">
            <a:noFill/>
          </a:ln>
          <a:effectLst>
            <a:outerShdw dist="71785" dir="18900000" blurRad="0" rotWithShape="0">
              <a:srgbClr val="000000"/>
            </a:outerShdw>
          </a:effectLst>
        </p:spPr>
      </p:pic>
      <p:sp>
        <p:nvSpPr>
          <p:cNvPr id="210" name="Rectangle 1038"/>
          <p:cNvSpPr/>
          <p:nvPr/>
        </p:nvSpPr>
        <p:spPr>
          <a:xfrm>
            <a:off x="-152280" y="-46080"/>
            <a:ext cx="2971800" cy="5814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David"/>
                <a:ea typeface="Levenim MT"/>
              </a:rPr>
              <a:t>     </a:t>
            </a:r>
            <a:r>
              <a:rPr b="1" lang="he-IL" sz="1600" spc="-1" strike="noStrike">
                <a:solidFill>
                  <a:srgbClr val="3399ff"/>
                </a:solidFill>
                <a:latin typeface="David"/>
                <a:cs typeface="Levenim MT"/>
              </a:rPr>
              <a:t>היחידה  לטיפול  בי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39"/>
          <p:cNvSpPr/>
          <p:nvPr/>
        </p:nvSpPr>
        <p:spPr>
          <a:xfrm>
            <a:off x="457200" y="4572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 </a:t>
            </a:r>
            <a:r>
              <a:rPr b="1" lang="he-IL" sz="3200" spc="-1" strike="noStrike">
                <a:solidFill>
                  <a:srgbClr val="333399"/>
                </a:solidFill>
                <a:latin typeface="David"/>
                <a:cs typeface="Guttman Haim-Condensed"/>
              </a:rPr>
              <a:t>מחוז ד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040"/>
          <p:cNvSpPr/>
          <p:nvPr/>
        </p:nvSpPr>
        <p:spPr>
          <a:xfrm>
            <a:off x="1857240" y="5000760"/>
            <a:ext cx="3429000" cy="7034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David"/>
              </a:rPr>
              <a:t> </a:t>
            </a:r>
            <a:r>
              <a:rPr b="1" lang="he-IL" sz="3200" spc="-1" strike="noStrike">
                <a:solidFill>
                  <a:srgbClr val="ff0066"/>
                </a:solidFill>
                <a:latin typeface="Times New Roman"/>
                <a:cs typeface="David"/>
              </a:rPr>
              <a:t>שירותי סיעוד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David"/>
              </a:rPr>
              <a:t>            </a:t>
            </a:r>
            <a:r>
              <a:rPr b="1" lang="he-IL" sz="2400" spc="-1" strike="noStrike">
                <a:solidFill>
                  <a:srgbClr val="ff0066"/>
                </a:solidFill>
                <a:latin typeface="Times New Roman"/>
                <a:cs typeface="David"/>
              </a:rPr>
              <a:t>עד </a:t>
            </a:r>
            <a:r>
              <a:rPr b="1" lang="he-IL" sz="2400" spc="-1" strike="noStrike">
                <a:solidFill>
                  <a:srgbClr val="ff0066"/>
                </a:solidFill>
                <a:latin typeface="Times New Roman"/>
                <a:ea typeface="David"/>
              </a:rPr>
              <a:t>24</a:t>
            </a:r>
            <a:r>
              <a:rPr b="1" lang="he-IL" sz="2400" spc="-1" strike="noStrike">
                <a:solidFill>
                  <a:srgbClr val="ff0066"/>
                </a:solidFill>
                <a:latin typeface="Times New Roman"/>
                <a:ea typeface="David"/>
              </a:rPr>
              <a:t> ש’ ביממ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41"/>
          <p:cNvSpPr/>
          <p:nvPr/>
        </p:nvSpPr>
        <p:spPr>
          <a:xfrm>
            <a:off x="7238880" y="2971800"/>
            <a:ext cx="2057400" cy="3993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David"/>
              </a:rPr>
              <a:t>  </a:t>
            </a:r>
            <a:r>
              <a:rPr b="1" lang="he-IL" sz="3200" spc="-1" strike="noStrike">
                <a:solidFill>
                  <a:srgbClr val="66ffff"/>
                </a:solidFill>
                <a:latin typeface="Times New Roman"/>
                <a:cs typeface="David"/>
              </a:rPr>
              <a:t>הגורמ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  <a:ea typeface="David"/>
              </a:rPr>
              <a:t> </a:t>
            </a:r>
            <a:r>
              <a:rPr b="1" lang="he-IL" sz="3200" spc="-1" strike="noStrike">
                <a:solidFill>
                  <a:srgbClr val="66ffff"/>
                </a:solidFill>
                <a:latin typeface="Times New Roman"/>
                <a:cs typeface="David"/>
              </a:rPr>
              <a:t>המקצועי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  <a:ea typeface="David"/>
              </a:rPr>
              <a:t> </a:t>
            </a:r>
            <a:r>
              <a:rPr b="1" lang="he-IL" sz="3200" spc="-1" strike="noStrike">
                <a:solidFill>
                  <a:srgbClr val="66ffff"/>
                </a:solidFill>
                <a:latin typeface="Times New Roman"/>
                <a:cs typeface="David"/>
              </a:rPr>
              <a:t>המעורב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  <a:ea typeface="David"/>
              </a:rPr>
              <a:t>  </a:t>
            </a:r>
            <a:r>
              <a:rPr b="1" lang="he-IL" sz="3200" spc="-1" strike="noStrike">
                <a:solidFill>
                  <a:srgbClr val="66ffff"/>
                </a:solidFill>
                <a:latin typeface="Times New Roman"/>
                <a:cs typeface="David"/>
              </a:rPr>
              <a:t>בטיפול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  <a:ea typeface="David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0484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ff0066"/>
                </a:solidFill>
                <a:latin typeface="David"/>
                <a:cs typeface="David"/>
              </a:rPr>
              <a:t>תוכנית שיקום בי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00"/>
                </a:solidFill>
                <a:latin typeface="Times New Roman"/>
                <a:ea typeface="David"/>
              </a:rPr>
              <a:t>  </a:t>
            </a:r>
            <a:r>
              <a:rPr b="1" lang="he-IL" sz="4000" spc="-1" strike="noStrike">
                <a:solidFill>
                  <a:srgbClr val="ffff00"/>
                </a:solidFill>
                <a:latin typeface="Times New Roman"/>
                <a:cs typeface="David"/>
              </a:rPr>
              <a:t>פיזיותרפיה וריפוי בעיסוק: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                             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cs typeface="David"/>
              </a:rPr>
              <a:t>הערכת מדדים תפקודיים אובייקטיביים כולל תבחין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David"/>
              </a:rPr>
              <a:t>F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David"/>
              </a:rPr>
              <a:t>  </a:t>
            </a:r>
            <a:r>
              <a:rPr b="1" lang="he-IL" sz="4000" spc="-1" strike="noStrike">
                <a:solidFill>
                  <a:srgbClr val="ffff00"/>
                </a:solidFill>
                <a:latin typeface="Times New Roman"/>
                <a:cs typeface="David"/>
              </a:rPr>
              <a:t>עובדת סוציאלית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David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  </a:t>
            </a:r>
            <a:r>
              <a:rPr b="1" lang="he-IL" sz="3200" spc="-1" strike="noStrike" u="sng">
                <a:solidFill>
                  <a:srgbClr val="ffff00"/>
                </a:solidFill>
                <a:uFillTx/>
                <a:latin typeface="Times New Roman"/>
                <a:cs typeface="David"/>
              </a:rPr>
              <a:t>שאלונים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א. הערכת תמיכה חברתית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David"/>
              </a:rPr>
              <a:t>MO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David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ב.  דימוי עצמי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                                                          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ג.  מצב חרדתי (שפילברגר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David"/>
              </a:rPr>
              <a:t>  </a:t>
            </a:r>
            <a:r>
              <a:rPr b="1" lang="he-IL" sz="4000" spc="-1" strike="noStrike">
                <a:solidFill>
                  <a:srgbClr val="ffff00"/>
                </a:solidFill>
                <a:latin typeface="Times New Roman"/>
                <a:cs typeface="David"/>
              </a:rPr>
              <a:t>אחות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David"/>
              </a:rPr>
              <a:t>A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Object 1036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1295280"/>
          </a:xfrm>
          <a:prstGeom prst="rect">
            <a:avLst/>
          </a:prstGeom>
          <a:ln w="0">
            <a:noFill/>
          </a:ln>
          <a:effectLst>
            <a:outerShdw dist="71785" dir="18900000" blurRad="0" rotWithShape="0">
              <a:srgbClr val="000000"/>
            </a:outerShdw>
          </a:effectLst>
        </p:spPr>
      </p:pic>
      <p:sp>
        <p:nvSpPr>
          <p:cNvPr id="217" name="Rectangle 1037"/>
          <p:cNvSpPr/>
          <p:nvPr/>
        </p:nvSpPr>
        <p:spPr>
          <a:xfrm>
            <a:off x="-152280" y="-46080"/>
            <a:ext cx="2971800" cy="5814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David"/>
                <a:ea typeface="Levenim MT"/>
              </a:rPr>
              <a:t>     </a:t>
            </a:r>
            <a:r>
              <a:rPr b="1" lang="he-IL" sz="1600" spc="-1" strike="noStrike">
                <a:solidFill>
                  <a:srgbClr val="3399ff"/>
                </a:solidFill>
                <a:latin typeface="David"/>
                <a:cs typeface="Levenim MT"/>
              </a:rPr>
              <a:t>היחידה  לטיפול  בי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38"/>
          <p:cNvSpPr/>
          <p:nvPr/>
        </p:nvSpPr>
        <p:spPr>
          <a:xfrm>
            <a:off x="457200" y="4572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 </a:t>
            </a:r>
            <a:r>
              <a:rPr b="1" lang="he-IL" sz="3200" spc="-1" strike="noStrike">
                <a:solidFill>
                  <a:srgbClr val="333399"/>
                </a:solidFill>
                <a:latin typeface="David"/>
                <a:cs typeface="Guttman Haim-Condensed"/>
              </a:rPr>
              <a:t>מחוז ד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41"/>
          <p:cNvSpPr/>
          <p:nvPr/>
        </p:nvSpPr>
        <p:spPr>
          <a:xfrm>
            <a:off x="2743200" y="914400"/>
            <a:ext cx="6095880" cy="764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ff0066"/>
                </a:solidFill>
                <a:uFillTx/>
                <a:latin typeface="Arial (Hebrew)"/>
              </a:rPr>
              <a:t>הערכת התקדמות השיקו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1042"/>
          <p:cNvSpPr/>
          <p:nvPr/>
        </p:nvSpPr>
        <p:spPr>
          <a:xfrm rot="2922000">
            <a:off x="8610120" y="3657240"/>
            <a:ext cx="381240" cy="685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bject 4" descr=""/>
          <p:cNvPicPr/>
          <p:nvPr/>
        </p:nvPicPr>
        <p:blipFill>
          <a:blip r:embed="rId1"/>
          <a:stretch/>
        </p:blipFill>
        <p:spPr>
          <a:xfrm>
            <a:off x="-9360" y="1857240"/>
            <a:ext cx="4438440" cy="2743200"/>
          </a:xfrm>
          <a:prstGeom prst="rect">
            <a:avLst/>
          </a:prstGeom>
          <a:ln w="0">
            <a:noFill/>
          </a:ln>
          <a:effectLst>
            <a:outerShdw dist="17819" dir="18900000" blurRad="0" rotWithShape="0">
              <a:srgbClr val="ff0066"/>
            </a:outerShdw>
          </a:effectLst>
        </p:spPr>
      </p:pic>
      <p:pic>
        <p:nvPicPr>
          <p:cNvPr id="222" name="Object 7" descr=""/>
          <p:cNvPicPr/>
          <p:nvPr/>
        </p:nvPicPr>
        <p:blipFill>
          <a:blip r:embed="rId2"/>
          <a:stretch/>
        </p:blipFill>
        <p:spPr>
          <a:xfrm>
            <a:off x="7162920" y="1181160"/>
            <a:ext cx="1828800" cy="2819520"/>
          </a:xfrm>
          <a:prstGeom prst="rect">
            <a:avLst/>
          </a:prstGeom>
          <a:ln w="0">
            <a:noFill/>
          </a:ln>
          <a:effectLst>
            <a:outerShdw dist="17819" dir="18900000" blurRad="0" rotWithShape="0">
              <a:srgbClr val="ffff00"/>
            </a:outerShdw>
          </a:effectLst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3100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(Hebrew)"/>
                <a:ea typeface="Arial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SzPct val="13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(Hebrew)"/>
                <a:ea typeface="Arial (Hebrew)"/>
              </a:rPr>
              <a:t> </a:t>
            </a:r>
            <a:r>
              <a:rPr b="1" lang="he-IL" sz="3600" spc="-1" strike="noStrike">
                <a:solidFill>
                  <a:srgbClr val="ffffff"/>
                </a:solidFill>
                <a:latin typeface="Arial (Hebrew)"/>
                <a:cs typeface="Arial (Hebrew)"/>
              </a:rPr>
              <a:t>מצב רפואי בלתי יציב</a:t>
            </a:r>
            <a:r>
              <a:rPr b="1" lang="en-US" sz="3600" spc="-1" strike="noStrike">
                <a:solidFill>
                  <a:srgbClr val="ffffff"/>
                </a:solidFill>
                <a:latin typeface="Arial (Hebrew)"/>
                <a:ea typeface="Arial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SzPct val="13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Arial (Hebrew)"/>
                <a:cs typeface="Arial (Hebrew)"/>
              </a:rPr>
              <a:t>חומרת פגיעה</a:t>
            </a:r>
            <a:r>
              <a:rPr b="1" lang="en-US" sz="3600" spc="-1" strike="noStrike">
                <a:solidFill>
                  <a:srgbClr val="ffffff"/>
                </a:solidFill>
                <a:latin typeface="Arial (Hebrew)"/>
                <a:ea typeface="Arial (Hebrew)"/>
              </a:rPr>
              <a:t>                                         </a:t>
            </a:r>
            <a:r>
              <a:rPr b="1" lang="he-IL" sz="3600" spc="-1" strike="noStrike">
                <a:solidFill>
                  <a:srgbClr val="ffffff"/>
                </a:solidFill>
                <a:latin typeface="Arial (Hebrew)"/>
                <a:ea typeface="Arial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Arial (Hebrew)"/>
                <a:ea typeface="Arial (Hebrew)"/>
              </a:rPr>
              <a:t>                       יותר מבינונית עד קש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SzPct val="13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(Hebrew)"/>
                <a:ea typeface="Arial (Hebrew)"/>
              </a:rPr>
              <a:t> </a:t>
            </a:r>
            <a:r>
              <a:rPr b="1" lang="he-IL" sz="3600" spc="-1" strike="noStrike">
                <a:solidFill>
                  <a:srgbClr val="ffffff"/>
                </a:solidFill>
                <a:latin typeface="Arial (Hebrew)"/>
                <a:cs typeface="Arial (Hebrew)"/>
              </a:rPr>
              <a:t>העדר תומך עיקרי ו/או מגורים לא מתאימ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-76320" y="71280"/>
            <a:ext cx="9220320" cy="11052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ff00"/>
                </a:solidFill>
                <a:latin typeface="Arial (Hebrew)"/>
                <a:cs typeface="Arial (Hebrew)"/>
              </a:rPr>
              <a:t>מדדים עיקריים לאי הכללה בפרוייקט</a:t>
            </a:r>
            <a:br>
              <a:rPr sz="5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 (Hebrew)"/>
              </a:rPr>
              <a:t>EXCLUSION   CRI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26640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 (Hebrew)"/>
                <a:cs typeface="Arial (Hebrew)"/>
              </a:rPr>
              <a:t>הסיבות לסירוב ראשוני</a:t>
            </a:r>
            <a:r>
              <a:rPr b="0" lang="he-I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e-IL" sz="5400" spc="-1" strike="noStrike" u="sng">
                <a:solidFill>
                  <a:srgbClr val="ffff00"/>
                </a:solidFill>
                <a:uFillTx/>
                <a:latin typeface="Arial (Hebrew)"/>
                <a:cs typeface="Arial (Hebrew)"/>
              </a:rPr>
              <a:t>להשתתפות בפרוייק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(Hebrew)"/>
                <a:ea typeface="Arial (Hebrew)"/>
              </a:rPr>
              <a:t> </a:t>
            </a:r>
            <a:r>
              <a:rPr b="1" lang="he-IL" sz="3200" spc="-1" strike="noStrike">
                <a:solidFill>
                  <a:srgbClr val="ffffff"/>
                </a:solidFill>
                <a:latin typeface="Arial (Hebrew)"/>
                <a:cs typeface="Arial (Hebrew)"/>
              </a:rPr>
              <a:t>א</a:t>
            </a:r>
            <a:r>
              <a:rPr b="1" lang="he-IL" sz="3200" spc="-1" strike="noStrike">
                <a:solidFill>
                  <a:srgbClr val="ffffff"/>
                </a:solidFill>
                <a:latin typeface="Arial (Hebrew)"/>
                <a:ea typeface="Arial (Hebrew)"/>
              </a:rPr>
              <a:t>. תפיסה “מסורתית” בסיסית הגורסת עדיפות טיפול</a:t>
            </a:r>
            <a:r>
              <a:rPr b="1" lang="en-US" sz="3200" spc="-1" strike="noStrike">
                <a:solidFill>
                  <a:srgbClr val="ffffff"/>
                </a:solidFill>
                <a:latin typeface="Arial (Hebrew)"/>
                <a:ea typeface="Arial (Hebrew)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(Hebrew)"/>
                <a:ea typeface="Arial (Hebrew)"/>
              </a:rPr>
              <a:t>      </a:t>
            </a:r>
            <a:r>
              <a:rPr b="1" lang="he-IL" sz="3200" spc="-1" strike="noStrike">
                <a:solidFill>
                  <a:srgbClr val="ffffff"/>
                </a:solidFill>
                <a:latin typeface="Arial (Hebrew)"/>
                <a:cs typeface="Arial (Hebrew)"/>
              </a:rPr>
              <a:t>במסגרת מוסדית על  שיקום בבי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 (Hebrew)"/>
                <a:cs typeface="Arial (Hebrew)"/>
              </a:rPr>
              <a:t>ב.  התנגדות עקרונית של החולה ו/או  משפחתו עקב</a:t>
            </a:r>
            <a:r>
              <a:rPr b="1" lang="en-US" sz="3200" spc="-1" strike="noStrike">
                <a:solidFill>
                  <a:srgbClr val="ffffff"/>
                </a:solidFill>
                <a:latin typeface="Arial (Hebrew)"/>
                <a:ea typeface="Arial (Hebrew)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(Hebrew)"/>
                <a:ea typeface="Arial (Hebrew)"/>
              </a:rPr>
              <a:t>     </a:t>
            </a:r>
            <a:r>
              <a:rPr b="1" lang="he-IL" sz="3200" spc="-1" strike="noStrike">
                <a:solidFill>
                  <a:srgbClr val="ffffff"/>
                </a:solidFill>
                <a:latin typeface="Arial (Hebrew)"/>
                <a:cs typeface="Arial (Hebrew)"/>
              </a:rPr>
              <a:t>רצון להישאר במסגרת ה"מוגנת" של בי”ח</a:t>
            </a:r>
            <a:r>
              <a:rPr b="1" lang="en-US" sz="3200" spc="-1" strike="noStrike">
                <a:solidFill>
                  <a:srgbClr val="ffffff"/>
                </a:solidFill>
                <a:latin typeface="Arial (Hebrew)"/>
                <a:ea typeface="Arial (Hebrew)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-25000">
                <a:solidFill>
                  <a:srgbClr val="ff0000"/>
                </a:solidFill>
                <a:latin typeface="Arial (Hebrew)"/>
                <a:ea typeface="Arial (Hebrew)"/>
              </a:rPr>
              <a:t>    * </a:t>
            </a:r>
            <a:r>
              <a:rPr b="1" lang="en-US" sz="3200" spc="-1" strike="noStrike">
                <a:solidFill>
                  <a:srgbClr val="ff0000"/>
                </a:solidFill>
                <a:latin typeface="Arial (Hebrew)"/>
                <a:ea typeface="Arial (Hebrew)"/>
              </a:rPr>
              <a:t> </a:t>
            </a:r>
            <a:r>
              <a:rPr b="1" lang="he-IL" sz="3600" spc="-1" strike="noStrike">
                <a:solidFill>
                  <a:srgbClr val="ff0000"/>
                </a:solidFill>
                <a:latin typeface="Arial (Hebrew)"/>
                <a:cs typeface="David"/>
              </a:rPr>
              <a:t>חשש מפער באיכות הטיפו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-25000">
                <a:solidFill>
                  <a:srgbClr val="ff0000"/>
                </a:solidFill>
                <a:latin typeface="Arial (Hebrew)"/>
                <a:ea typeface="Arial (Hebrew)"/>
              </a:rPr>
              <a:t>    *</a:t>
            </a:r>
            <a:r>
              <a:rPr b="1" lang="en-US" sz="3200" spc="-1" strike="noStrike">
                <a:solidFill>
                  <a:srgbClr val="ff0000"/>
                </a:solidFill>
                <a:latin typeface="Arial (Hebrew)"/>
                <a:ea typeface="Arial (Hebrew)"/>
              </a:rPr>
              <a:t>  </a:t>
            </a:r>
            <a:r>
              <a:rPr b="1" lang="he-IL" sz="3600" spc="-1" strike="noStrike">
                <a:solidFill>
                  <a:srgbClr val="ff0000"/>
                </a:solidFill>
                <a:latin typeface="Arial (Hebrew)"/>
                <a:cs typeface="David"/>
              </a:rPr>
              <a:t>חשש מסיבוכים רפואיים בהעדר רופא צמו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-25000">
                <a:solidFill>
                  <a:srgbClr val="ff0000"/>
                </a:solidFill>
                <a:latin typeface="Arial (Hebrew)"/>
                <a:ea typeface="Arial (Hebrew)"/>
              </a:rPr>
              <a:t>    *</a:t>
            </a:r>
            <a:r>
              <a:rPr b="1" lang="en-US" sz="3200" spc="-1" strike="noStrike">
                <a:solidFill>
                  <a:srgbClr val="ff0000"/>
                </a:solidFill>
                <a:latin typeface="Arial (Hebrew)"/>
                <a:ea typeface="Arial (Hebrew)"/>
              </a:rPr>
              <a:t>  </a:t>
            </a:r>
            <a:r>
              <a:rPr b="1" lang="he-IL" sz="3600" spc="-1" strike="noStrike">
                <a:solidFill>
                  <a:srgbClr val="ff0000"/>
                </a:solidFill>
                <a:latin typeface="Arial (Hebrew)"/>
                <a:cs typeface="David"/>
              </a:rPr>
              <a:t>חשש המשפחה מעול הטיפול בחולה בבית</a:t>
            </a:r>
            <a:r>
              <a:rPr b="1" lang="en-US" sz="3600" spc="-1" strike="noStrike">
                <a:solidFill>
                  <a:srgbClr val="ff0000"/>
                </a:solidFill>
                <a:latin typeface="Arial (Hebrew)"/>
                <a:ea typeface="David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04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ff0066"/>
                </a:solidFill>
                <a:latin typeface="David"/>
                <a:cs typeface="David"/>
              </a:rPr>
              <a:t>פרוייקט  שיקום  בית</a:t>
            </a:r>
            <a:br>
              <a:rPr sz="7200"/>
            </a:br>
            <a:r>
              <a:rPr b="1" lang="he-IL" sz="4800" spc="-1" strike="noStrike" u="sng">
                <a:solidFill>
                  <a:srgbClr val="ff0000"/>
                </a:solidFill>
                <a:uFillTx/>
                <a:latin typeface="Arial (Hebrew)"/>
                <a:cs typeface="Arial (Hebrew)"/>
              </a:rPr>
              <a:t>תוצאות  ראשוניו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43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0066"/>
            </a:outerShdw>
          </a:effectLst>
        </p:spPr>
        <p:txBody>
          <a:bodyPr lIns="92160" rIns="92160" tIns="46080" bIns="46080" anchor="t">
            <a:normAutofit fontScale="90000"/>
          </a:bodyPr>
          <a:p>
            <a:pPr marL="308520" indent="0" algn="r" rtl="1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 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cs typeface="Arial (Hebrew)"/>
              </a:rPr>
              <a:t>בתקופה של שבעה חודשים </a:t>
            </a:r>
            <a:r>
              <a:rPr b="1" lang="he-IL" sz="3200" spc="-1" strike="noStrike">
                <a:solidFill>
                  <a:srgbClr val="ffff00"/>
                </a:solidFill>
                <a:latin typeface="Arial (Hebrew)"/>
                <a:ea typeface="Arial (Hebrew)"/>
              </a:rPr>
              <a:t>(</a:t>
            </a:r>
            <a:r>
              <a:rPr b="1" lang="he-IL" sz="3200" spc="-1" strike="noStrike">
                <a:solidFill>
                  <a:srgbClr val="ffff00"/>
                </a:solidFill>
                <a:latin typeface="Arial (Hebrew)"/>
                <a:ea typeface="Arial (Hebrew)"/>
              </a:rPr>
              <a:t>31/1/2001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 - </a:t>
            </a:r>
            <a:r>
              <a:rPr b="1" lang="he-IL" sz="3200" spc="-1" strike="noStrike">
                <a:solidFill>
                  <a:srgbClr val="ffff00"/>
                </a:solidFill>
                <a:latin typeface="Arial (Hebrew)"/>
                <a:ea typeface="Arial (Hebrew)"/>
              </a:rPr>
              <a:t>20/6/2000</a:t>
            </a:r>
            <a:r>
              <a:rPr b="1" lang="en-US" sz="3200" spc="-1" strike="noStrike">
                <a:solidFill>
                  <a:srgbClr val="ffff00"/>
                </a:solidFill>
                <a:latin typeface="Arial (Hebrew)"/>
                <a:ea typeface="Arial (Hebrew)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Arial"/>
                <a:cs typeface="Arial (Hebrew)"/>
              </a:rPr>
              <a:t>כחמישים חברי מכבי מחוז דן עברו אירוע מוחי בשיבא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 (Hebrew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Arial"/>
                <a:ea typeface="Arial (Hebrew)"/>
              </a:rPr>
              <a:t>(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cs typeface="Arial (Hebrew)"/>
              </a:rPr>
              <a:t>מספר דומה היה במחוזות האחרים של מכבי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(Hebrew)"/>
                <a:ea typeface="Arial (Hebrew)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 (Hebrew)"/>
                <a:ea typeface="Arial (Hebrew)"/>
              </a:rPr>
              <a:t>2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 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cs typeface="Arial (Hebrew)"/>
              </a:rPr>
              <a:t>חו</a:t>
            </a:r>
            <a:r>
              <a:rPr b="1" lang="he-IL" sz="3600" spc="-1" strike="noStrike">
                <a:solidFill>
                  <a:srgbClr val="ffff00"/>
                </a:solidFill>
                <a:latin typeface="Arial"/>
                <a:cs typeface="Arial (Hebrew)"/>
              </a:rPr>
              <a:t>לי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 (Hebrew)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 (Hebrew)"/>
              </a:rPr>
              <a:t>CV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 (Hebrew)"/>
              </a:rPr>
              <a:t> </a:t>
            </a:r>
            <a:r>
              <a:rPr b="1" lang="he-IL" sz="3600" spc="-1" strike="noStrike">
                <a:solidFill>
                  <a:srgbClr val="ffff00"/>
                </a:solidFill>
                <a:latin typeface="Arial"/>
                <a:cs typeface="Arial (Hebrew)"/>
              </a:rPr>
              <a:t>התקבלו לפרוייקט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 (Hebrew)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(Hebrew)"/>
                <a:ea typeface="Arial (Hebrew)"/>
              </a:rPr>
              <a:t>)</a:t>
            </a:r>
            <a:r>
              <a:rPr b="1" lang="he-IL" sz="3200" spc="-1" strike="noStrike">
                <a:solidFill>
                  <a:srgbClr val="ffffff"/>
                </a:solidFill>
                <a:latin typeface="Arial (Hebrew)"/>
                <a:cs typeface="Arial (Hebrew)"/>
              </a:rPr>
              <a:t>הצפי היה </a:t>
            </a:r>
            <a:r>
              <a:rPr b="1" lang="he-IL" sz="3200" spc="-1" strike="noStrike">
                <a:solidFill>
                  <a:srgbClr val="ffffff"/>
                </a:solidFill>
                <a:latin typeface="Arial (Hebrew)"/>
                <a:ea typeface="Arial (Hebrew)"/>
              </a:rPr>
              <a:t>14</a:t>
            </a:r>
            <a:r>
              <a:rPr b="1" lang="he-IL" sz="3200" spc="-1" strike="noStrike">
                <a:solidFill>
                  <a:srgbClr val="ffffff"/>
                </a:solidFill>
                <a:latin typeface="Arial (Hebrew)"/>
                <a:ea typeface="Arial (Hebrew)"/>
              </a:rPr>
              <a:t> חולים, לפי </a:t>
            </a:r>
            <a:r>
              <a:rPr b="1" lang="he-IL" sz="3200" spc="-1" strike="noStrike">
                <a:solidFill>
                  <a:srgbClr val="ffffff"/>
                </a:solidFill>
                <a:latin typeface="Arial (Hebrew)"/>
                <a:ea typeface="Arial (Hebrew)"/>
              </a:rPr>
              <a:t>2</a:t>
            </a:r>
            <a:r>
              <a:rPr b="1" lang="he-IL" sz="3200" spc="-1" strike="noStrike">
                <a:solidFill>
                  <a:srgbClr val="ffffff"/>
                </a:solidFill>
                <a:latin typeface="Arial (Hebrew)"/>
                <a:ea typeface="Arial (Hebrew)"/>
              </a:rPr>
              <a:t> חולים לחוד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00"/>
                </a:solidFill>
                <a:latin typeface="Arial (Hebrew)"/>
                <a:cs typeface="Arial (Hebrew)"/>
              </a:rPr>
              <a:t>מאפיינים: </a:t>
            </a:r>
            <a:r>
              <a:rPr b="1" lang="he-IL" sz="3600" spc="-1" strike="noStrike">
                <a:solidFill>
                  <a:srgbClr val="ffff00"/>
                </a:solidFill>
                <a:latin typeface="Arial (Hebrew)"/>
                <a:cs typeface="Arial (Hebrew)"/>
              </a:rPr>
              <a:t>חולים בדרגת חומרה קלה עד בינוני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 (Hebrew)"/>
              </a:rPr>
              <a:t>* </a:t>
            </a:r>
            <a:r>
              <a:rPr b="1" lang="he-IL" sz="2800" spc="-1" strike="noStrike">
                <a:solidFill>
                  <a:srgbClr val="ffff00"/>
                </a:solidFill>
                <a:latin typeface="Arial"/>
                <a:cs typeface="Arial (Hebrew)"/>
              </a:rPr>
              <a:t>נכללו בפרויקט גם חולים לאחר ניתוח אורטופדי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 (Hebrew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0484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David"/>
                <a:ea typeface="David"/>
              </a:rPr>
              <a:t>   </a:t>
            </a:r>
            <a:r>
              <a:rPr b="1" lang="he-IL" sz="6000" spc="-1" strike="noStrike">
                <a:solidFill>
                  <a:srgbClr val="ff0066"/>
                </a:solidFill>
                <a:latin typeface="David"/>
                <a:cs typeface="David"/>
              </a:rPr>
              <a:t>פרויקט שיקום בי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143000"/>
            <a:ext cx="8501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-216000" algn="r" rtl="1">
              <a:spcBef>
                <a:spcPts val="799"/>
              </a:spcBef>
              <a:buClr>
                <a:srgbClr val="ff0066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David"/>
              </a:rPr>
              <a:t>  </a:t>
            </a:r>
            <a:r>
              <a:rPr b="1" lang="he-IL" sz="3600" spc="-1" strike="noStrike" u="sng">
                <a:solidFill>
                  <a:srgbClr val="ffff00"/>
                </a:solidFill>
                <a:uFillTx/>
                <a:latin typeface="Times New Roman"/>
                <a:cs typeface="David"/>
              </a:rPr>
              <a:t>פיזיותרפיה וריפוי בעיסוק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cs typeface="David"/>
              </a:rPr>
              <a:t>שיפור במדדים תפקודיים אובייקטיביים כולל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David"/>
              </a:rPr>
              <a:t>*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David"/>
              </a:rPr>
              <a:t>F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r" rtl="1">
              <a:spcBef>
                <a:spcPts val="901"/>
              </a:spcBef>
              <a:buClr>
                <a:srgbClr val="ff0066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David"/>
              </a:rPr>
              <a:t>  </a:t>
            </a:r>
            <a:r>
              <a:rPr b="1" lang="he-IL" sz="3600" spc="-1" strike="noStrike" u="sng">
                <a:solidFill>
                  <a:srgbClr val="ffff00"/>
                </a:solidFill>
                <a:uFillTx/>
                <a:latin typeface="Times New Roman"/>
                <a:cs typeface="David"/>
              </a:rPr>
              <a:t>עובדת סוציאלית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David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 </a:t>
            </a:r>
            <a:r>
              <a:rPr b="1" lang="he-IL" sz="3200" spc="-1" strike="noStrike" u="sng">
                <a:solidFill>
                  <a:srgbClr val="ffff00"/>
                </a:solidFill>
                <a:uFillTx/>
                <a:latin typeface="Times New Roman"/>
                <a:cs typeface="David"/>
              </a:rPr>
              <a:t>שאלונים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David"/>
              </a:rPr>
              <a:t>* </a:t>
            </a:r>
            <a:r>
              <a:rPr b="1" lang="he-IL" sz="3200" spc="-1" strike="noStrike" u="sng">
                <a:solidFill>
                  <a:srgbClr val="ffff00"/>
                </a:solidFill>
                <a:uFillTx/>
                <a:latin typeface="Times New Roman"/>
                <a:ea typeface="Davi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r" rtl="1">
              <a:spcBef>
                <a:spcPts val="799"/>
              </a:spcBef>
              <a:buClr>
                <a:srgbClr val="ff0066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א. הערכת תמיכה חברתית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David"/>
              </a:rPr>
              <a:t>MO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David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: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ירידה ב -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2%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  ב.  דימוי עצמי:  שיפור ב -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12%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     ג.  מצב חרדתי (שפילברגר):  ירידה ב -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r" rtl="1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David"/>
              </a:rPr>
              <a:t>  </a:t>
            </a:r>
            <a:r>
              <a:rPr b="1" lang="he-IL" sz="3600" spc="-1" strike="noStrike" u="sng">
                <a:solidFill>
                  <a:srgbClr val="ffff00"/>
                </a:solidFill>
                <a:uFillTx/>
                <a:latin typeface="Times New Roman"/>
                <a:cs typeface="David"/>
              </a:rPr>
              <a:t>אחות :</a:t>
            </a:r>
            <a:r>
              <a:rPr b="1" lang="he-IL" sz="28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  <a:cs typeface="David"/>
              </a:rPr>
              <a:t>שיפור ב 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David"/>
              </a:rPr>
              <a:t>*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David"/>
              </a:rPr>
              <a:t>A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David"/>
              </a:rPr>
              <a:t>------------------------------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Object 1028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1295280"/>
          </a:xfrm>
          <a:prstGeom prst="rect">
            <a:avLst/>
          </a:prstGeom>
          <a:ln w="0">
            <a:noFill/>
          </a:ln>
          <a:effectLst>
            <a:outerShdw dist="71785" dir="18900000" blurRad="0" rotWithShape="0">
              <a:srgbClr val="000000"/>
            </a:outerShdw>
          </a:effectLst>
        </p:spPr>
      </p:pic>
      <p:sp>
        <p:nvSpPr>
          <p:cNvPr id="232" name="Rectangle 1029"/>
          <p:cNvSpPr/>
          <p:nvPr/>
        </p:nvSpPr>
        <p:spPr>
          <a:xfrm>
            <a:off x="-152280" y="-46080"/>
            <a:ext cx="2971800" cy="5814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David"/>
                <a:ea typeface="Levenim MT"/>
              </a:rPr>
              <a:t>     </a:t>
            </a:r>
            <a:r>
              <a:rPr b="1" lang="he-IL" sz="1600" spc="-1" strike="noStrike">
                <a:solidFill>
                  <a:srgbClr val="3399ff"/>
                </a:solidFill>
                <a:latin typeface="David"/>
                <a:cs typeface="Levenim MT"/>
              </a:rPr>
              <a:t>היחידה  לטיפול  בי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030"/>
          <p:cNvSpPr/>
          <p:nvPr/>
        </p:nvSpPr>
        <p:spPr>
          <a:xfrm>
            <a:off x="457200" y="4572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 </a:t>
            </a:r>
            <a:r>
              <a:rPr b="1" lang="he-IL" sz="3200" spc="-1" strike="noStrike">
                <a:solidFill>
                  <a:srgbClr val="333399"/>
                </a:solidFill>
                <a:latin typeface="David"/>
                <a:cs typeface="Guttman Haim-Condensed"/>
              </a:rPr>
              <a:t>מחוז ד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031"/>
          <p:cNvSpPr/>
          <p:nvPr/>
        </p:nvSpPr>
        <p:spPr>
          <a:xfrm>
            <a:off x="2743200" y="533520"/>
            <a:ext cx="6095880" cy="764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ff0066"/>
                </a:solidFill>
                <a:uFillTx/>
                <a:latin typeface="Arial (Hebrew)"/>
              </a:rPr>
              <a:t>הערכת התקדמות השיקו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032"/>
          <p:cNvSpPr/>
          <p:nvPr/>
        </p:nvSpPr>
        <p:spPr>
          <a:xfrm rot="2922000">
            <a:off x="8610120" y="3047760"/>
            <a:ext cx="380880" cy="685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033"/>
          <p:cNvSpPr/>
          <p:nvPr/>
        </p:nvSpPr>
        <p:spPr>
          <a:xfrm rot="2922000">
            <a:off x="8563320" y="3220200"/>
            <a:ext cx="533520" cy="63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-142920" y="6215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David"/>
              </a:rPr>
              <a:t>* </a:t>
            </a:r>
            <a:r>
              <a:rPr b="1" lang="he-IL" sz="3600" spc="-1" strike="noStrike">
                <a:solidFill>
                  <a:srgbClr val="ffff00"/>
                </a:solidFill>
                <a:latin typeface="Arial"/>
                <a:ea typeface="David"/>
              </a:rPr>
              <a:t>  </a:t>
            </a:r>
            <a:r>
              <a:rPr b="1" lang="he-IL" sz="2000" spc="-1" strike="noStrike">
                <a:solidFill>
                  <a:srgbClr val="ffff00"/>
                </a:solidFill>
                <a:latin typeface="Arial"/>
                <a:cs typeface="Levenim MT"/>
              </a:rPr>
              <a:t>אין עדיין מספיק נתונים להשוואה עם קבוצת הביקור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3"/>
          <p:cNvGraphicFramePr/>
          <p:nvPr/>
        </p:nvGraphicFramePr>
        <p:xfrm>
          <a:off x="0" y="3124080"/>
          <a:ext cx="739152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24080"/>
                    <a:ext cx="7391520" cy="1452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68321" dir="6718175" blurRad="0" rotWithShape="0">
                      <a:srgbClr val="b2b2b2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2" name="Object 4"/>
          <p:cNvGraphicFramePr/>
          <p:nvPr/>
        </p:nvGraphicFramePr>
        <p:xfrm>
          <a:off x="6783480" y="3048120"/>
          <a:ext cx="23605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3480" y="3048120"/>
                    <a:ext cx="2360520" cy="2438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24" name="Rectangle 5"/>
          <p:cNvSpPr/>
          <p:nvPr/>
        </p:nvSpPr>
        <p:spPr>
          <a:xfrm>
            <a:off x="1219320" y="106200"/>
            <a:ext cx="798516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0" y="0"/>
            <a:ext cx="9142560" cy="14940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9"/>
          <p:cNvSpPr/>
          <p:nvPr/>
        </p:nvSpPr>
        <p:spPr>
          <a:xfrm rot="890400">
            <a:off x="-154440" y="5018760"/>
            <a:ext cx="9142560" cy="13114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Times New Roman"/>
                <a:cs typeface="David"/>
              </a:rPr>
              <a:t>הבאת מכלול השירותים לשיקום החולה בבית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0" y="4572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שיקום חולים לאחר אירוע מוחי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David"/>
              </a:rPr>
              <a:t> (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David"/>
              </a:rPr>
              <a:t>CVA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David"/>
              </a:rPr>
              <a:t>)  </a:t>
            </a: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במסגרת הבית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Object 11" descr=""/>
          <p:cNvPicPr/>
          <p:nvPr/>
        </p:nvPicPr>
        <p:blipFill>
          <a:blip r:embed="rId5"/>
          <a:stretch/>
        </p:blipFill>
        <p:spPr>
          <a:xfrm>
            <a:off x="380880" y="2286000"/>
            <a:ext cx="182880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Object 12"/>
          <p:cNvGraphicFramePr/>
          <p:nvPr/>
        </p:nvGraphicFramePr>
        <p:xfrm>
          <a:off x="76320" y="1752480"/>
          <a:ext cx="1904760" cy="152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1752480"/>
                    <a:ext cx="1904760" cy="1524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17296359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0" y="838080"/>
            <a:ext cx="9144000" cy="557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ffff"/>
                </a:solidFill>
                <a:uFillTx/>
                <a:latin typeface="Arial"/>
              </a:rPr>
              <a:t>סיכום סופי של עלויות  </a:t>
            </a:r>
            <a:r>
              <a:rPr b="1" lang="he-IL" sz="3200" spc="-1" strike="noStrike" u="sng">
                <a:solidFill>
                  <a:srgbClr val="ffffff"/>
                </a:solidFill>
                <a:uFillTx/>
                <a:latin typeface="Arial"/>
              </a:rPr>
              <a:t>11</a:t>
            </a:r>
            <a:r>
              <a:rPr b="1" lang="he-IL" sz="3200" spc="-1" strike="noStrike" u="sng">
                <a:solidFill>
                  <a:srgbClr val="ffffff"/>
                </a:solidFill>
                <a:uFillTx/>
                <a:latin typeface="Arial"/>
              </a:rPr>
              <a:t> מטופל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00"/>
                </a:solidFill>
                <a:latin typeface="Arial"/>
              </a:rPr>
              <a:t>שם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he-IL" sz="2400" spc="-1" strike="noStrike">
                <a:solidFill>
                  <a:srgbClr val="ffff00"/>
                </a:solidFill>
                <a:latin typeface="Arial"/>
              </a:rPr>
              <a:t>עלות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he-IL" sz="2400" spc="-1" strike="noStrike">
                <a:solidFill>
                  <a:srgbClr val="ffff00"/>
                </a:solidFill>
                <a:latin typeface="Arial"/>
              </a:rPr>
              <a:t>עלות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he-IL" sz="2400" spc="-1" strike="noStrike">
                <a:solidFill>
                  <a:srgbClr val="ffff00"/>
                </a:solidFill>
                <a:latin typeface="Arial"/>
              </a:rPr>
              <a:t>סה”כ עלות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he-IL" sz="2400" spc="-1" strike="noStrike" u="sng">
                <a:solidFill>
                  <a:srgbClr val="ffff00"/>
                </a:solidFill>
                <a:uFillTx/>
                <a:latin typeface="Arial"/>
              </a:rPr>
              <a:t>שקום מוסדי משוער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he-IL" sz="2400" spc="-1" strike="noStrike">
                <a:solidFill>
                  <a:srgbClr val="ffff00"/>
                </a:solidFill>
                <a:latin typeface="Arial (Hebrew)"/>
              </a:rPr>
              <a:t>חסכון</a:t>
            </a:r>
            <a:r>
              <a:rPr b="1" lang="en-US" sz="2400" spc="-1" strike="noStrike">
                <a:solidFill>
                  <a:srgbClr val="ffff00"/>
                </a:solidFill>
                <a:latin typeface="Arial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.       </a:t>
            </a:r>
            <a:r>
              <a:rPr b="0" lang="he-IL" sz="2400" spc="-1" strike="noStrike" u="sng">
                <a:solidFill>
                  <a:srgbClr val="ffff00"/>
                </a:solidFill>
                <a:uFillTx/>
                <a:latin typeface="Arial"/>
              </a:rPr>
              <a:t>טיפולים* סיעוד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  </a:t>
            </a:r>
            <a:r>
              <a:rPr b="0" lang="he-IL" sz="2400" spc="-1" strike="noStrike" u="sng">
                <a:solidFill>
                  <a:srgbClr val="ffff00"/>
                </a:solidFill>
                <a:uFillTx/>
                <a:latin typeface="Arial"/>
              </a:rPr>
              <a:t>שקום בית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          </a:t>
            </a:r>
            <a:r>
              <a:rPr b="0" i="1" lang="he-IL" sz="2000" spc="-1" strike="noStrike" u="sng">
                <a:solidFill>
                  <a:srgbClr val="ffff00"/>
                </a:solidFill>
                <a:uFillTx/>
                <a:latin typeface="Arial"/>
              </a:rPr>
              <a:t>משך</a:t>
            </a:r>
            <a:r>
              <a:rPr b="0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         </a:t>
            </a:r>
            <a:r>
              <a:rPr b="0" i="1" lang="he-IL" sz="2000" spc="-1" strike="noStrike" u="sng">
                <a:solidFill>
                  <a:srgbClr val="ffff00"/>
                </a:solidFill>
                <a:uFillTx/>
                <a:latin typeface="Arial"/>
              </a:rPr>
              <a:t>ועלות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         </a:t>
            </a:r>
            <a:r>
              <a:rPr b="1" lang="he-IL" sz="2400" spc="-1" strike="noStrike" u="sng">
                <a:solidFill>
                  <a:srgbClr val="ffff00"/>
                </a:solidFill>
                <a:uFillTx/>
                <a:latin typeface="Arial (Hebrew)"/>
              </a:rPr>
              <a:t>בעלויו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פ.ר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21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50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10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יום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89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788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00"/>
                </a:solidFill>
                <a:latin typeface="Arial"/>
              </a:rPr>
              <a:t>י.צ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488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0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588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יום       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19050</a:t>
            </a:r>
            <a:r>
              <a:rPr b="1" lang="he-IL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4462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ד.ש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56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74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יום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905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5308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00"/>
                </a:solidFill>
                <a:latin typeface="Arial"/>
              </a:rPr>
              <a:t>צ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’.</a:t>
            </a:r>
            <a:r>
              <a:rPr b="1" lang="he-IL" sz="2000" spc="-1" strike="noStrike">
                <a:solidFill>
                  <a:srgbClr val="ffff00"/>
                </a:solidFill>
                <a:latin typeface="Arial"/>
              </a:rPr>
              <a:t>ר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729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45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23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יום        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1905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882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00"/>
                </a:solidFill>
                <a:latin typeface="Arial"/>
              </a:rPr>
              <a:t>ל.צ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689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20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65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יום        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1905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740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00"/>
                </a:solidFill>
                <a:latin typeface="Arial"/>
              </a:rPr>
              <a:t>ר.ר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791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31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יום        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1905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0738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צ.נ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58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78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93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6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יום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810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617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00"/>
                </a:solidFill>
                <a:latin typeface="Arial"/>
              </a:rPr>
              <a:t>מ.צ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82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7628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ימים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445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3183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00"/>
                </a:solidFill>
                <a:latin typeface="Arial"/>
              </a:rPr>
              <a:t>ב.צ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468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719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959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יום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8575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8982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00"/>
                </a:solidFill>
                <a:latin typeface="Arial"/>
              </a:rPr>
              <a:t>פ.א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01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28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-1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יום   </a:t>
            </a:r>
            <a:r>
              <a:rPr b="0" lang="he-IL" sz="2000" spc="-1" strike="noStrike">
                <a:solidFill>
                  <a:srgbClr val="ffff00"/>
                </a:solidFill>
                <a:latin typeface="Arial"/>
              </a:rPr>
              <a:t>889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361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he-IL" sz="2000" spc="-1" strike="noStrike">
                <a:solidFill>
                  <a:srgbClr val="ffff00"/>
                </a:solidFill>
                <a:latin typeface="Arial"/>
              </a:rPr>
              <a:t>ק.ל.___ </a:t>
            </a:r>
            <a:r>
              <a:rPr b="0" lang="he-IL" sz="2000" spc="-1" strike="noStrike" u="sng">
                <a:solidFill>
                  <a:srgbClr val="ffff00"/>
                </a:solidFill>
                <a:uFillTx/>
                <a:latin typeface="Arial"/>
              </a:rPr>
              <a:t>7044</a:t>
            </a:r>
            <a:r>
              <a:rPr b="0" lang="he-IL" sz="2000" spc="-1" strike="noStrike" u="sng">
                <a:solidFill>
                  <a:srgbClr val="ffff00"/>
                </a:solidFill>
                <a:uFillTx/>
                <a:latin typeface="Arial"/>
              </a:rPr>
              <a:t>___                </a:t>
            </a:r>
            <a:r>
              <a:rPr b="0" lang="he-IL" sz="2000" spc="-1" strike="noStrike" u="sng">
                <a:solidFill>
                  <a:srgbClr val="ffff00"/>
                </a:solidFill>
                <a:uFillTx/>
                <a:latin typeface="Arial"/>
              </a:rPr>
              <a:t>7400</a:t>
            </a:r>
            <a:r>
              <a:rPr b="0" lang="he-IL" sz="2000" spc="-1" strike="noStrike" u="sng">
                <a:solidFill>
                  <a:srgbClr val="ffff00"/>
                </a:solidFill>
                <a:uFillTx/>
                <a:latin typeface="Arial"/>
              </a:rPr>
              <a:t>   _____  </a:t>
            </a:r>
            <a:r>
              <a:rPr b="0" lang="he-IL" sz="2000" spc="-1" strike="noStrike" u="sng">
                <a:solidFill>
                  <a:srgbClr val="ffff00"/>
                </a:solidFill>
                <a:uFillTx/>
                <a:latin typeface="Arial"/>
              </a:rPr>
              <a:t>5</a:t>
            </a:r>
            <a:r>
              <a:rPr b="0" lang="he-IL" sz="2000" spc="-1" strike="noStrike" u="sng">
                <a:solidFill>
                  <a:srgbClr val="ffff00"/>
                </a:solidFill>
                <a:uFillTx/>
                <a:latin typeface="Arial"/>
              </a:rPr>
              <a:t> יום</a:t>
            </a:r>
            <a:r>
              <a:rPr b="0" lang="he-IL" sz="2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0" lang="he-IL" sz="2000" spc="-1" strike="noStrike" u="sng">
                <a:solidFill>
                  <a:srgbClr val="ffff00"/>
                </a:solidFill>
                <a:uFillTx/>
                <a:latin typeface="Arial"/>
              </a:rPr>
              <a:t>   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        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28575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117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(Hebrew)"/>
              </a:rPr>
              <a:t>* </a:t>
            </a:r>
            <a:r>
              <a:rPr b="1" lang="he-IL" sz="1600" spc="-1" strike="noStrike">
                <a:solidFill>
                  <a:srgbClr val="ffffff"/>
                </a:solidFill>
                <a:latin typeface="Arial (Hebrew)"/>
              </a:rPr>
              <a:t>הפונקציות המטפלות: פיזיותרפיה, ריפוי בעיסוק, קלינאית תקשורת, אחות, רופא, עובדת סוציאלי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(Hebrew)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(Hebrew)"/>
              </a:rPr>
              <a:t>  </a:t>
            </a:r>
            <a:r>
              <a:rPr b="1" lang="he-IL" sz="2800" spc="-1" strike="noStrike">
                <a:solidFill>
                  <a:srgbClr val="ff0000"/>
                </a:solidFill>
                <a:latin typeface="Arial (Hebrew)"/>
              </a:rPr>
              <a:t>סך הכל  נחסכו </a:t>
            </a:r>
            <a:r>
              <a:rPr b="1" lang="he-IL" sz="2800" spc="-1" strike="noStrike">
                <a:solidFill>
                  <a:srgbClr val="ff0000"/>
                </a:solidFill>
                <a:latin typeface="Arial (Hebrew)"/>
              </a:rPr>
              <a:t>114,270</a:t>
            </a:r>
            <a:r>
              <a:rPr b="1" lang="he-IL" sz="2400" spc="-1" strike="noStrike">
                <a:solidFill>
                  <a:srgbClr val="ff0000"/>
                </a:solidFill>
                <a:latin typeface="Arial (Hebrew)"/>
              </a:rPr>
              <a:t>ש"ח</a:t>
            </a:r>
            <a:r>
              <a:rPr b="1" lang="he-IL" sz="2800" spc="-1" strike="noStrike">
                <a:solidFill>
                  <a:srgbClr val="ff0000"/>
                </a:solidFill>
                <a:latin typeface="Arial (Hebrew)"/>
              </a:rPr>
              <a:t> שהם כ - </a:t>
            </a:r>
            <a:r>
              <a:rPr b="1" lang="he-IL" sz="2800" spc="-1" strike="noStrike">
                <a:solidFill>
                  <a:srgbClr val="ff0000"/>
                </a:solidFill>
                <a:latin typeface="Arial (Hebrew)"/>
              </a:rPr>
              <a:t>180</a:t>
            </a:r>
            <a:r>
              <a:rPr b="1" lang="he-IL" sz="2800" spc="-1" strike="noStrike">
                <a:solidFill>
                  <a:srgbClr val="ff0000"/>
                </a:solidFill>
                <a:latin typeface="Arial (Hebrew)"/>
              </a:rPr>
              <a:t> ימי אשפוז שיקומ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f0066"/>
                </a:solidFill>
                <a:latin typeface="David"/>
                <a:cs typeface="David"/>
              </a:rPr>
              <a:t>פרויקט שיקום  בית</a:t>
            </a:r>
            <a:r>
              <a:rPr b="1" lang="en-US" sz="48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Object 0" descr=""/>
          <p:cNvPicPr/>
          <p:nvPr/>
        </p:nvPicPr>
        <p:blipFill>
          <a:blip r:embed="rId1"/>
          <a:stretch/>
        </p:blipFill>
        <p:spPr>
          <a:xfrm>
            <a:off x="0" y="228600"/>
            <a:ext cx="1447920" cy="2057400"/>
          </a:xfrm>
          <a:prstGeom prst="rect">
            <a:avLst/>
          </a:prstGeom>
          <a:ln w="0">
            <a:noFill/>
          </a:ln>
          <a:effectLst>
            <a:outerShdw dist="56832" dir="19996359" blurRad="0" rotWithShape="0">
              <a:srgbClr val="ffff00"/>
            </a:outerShdw>
          </a:effectLst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Arial (Hebrew)"/>
                <a:ea typeface="Arial (Hebrew)"/>
              </a:rPr>
              <a:t>1</a:t>
            </a:r>
            <a:r>
              <a:rPr b="1" lang="he-IL" sz="3200" spc="-1" strike="noStrike">
                <a:solidFill>
                  <a:srgbClr val="ffff00"/>
                </a:solidFill>
                <a:latin typeface="Arial (Hebrew)"/>
                <a:ea typeface="Arial (Hebrew)"/>
              </a:rPr>
              <a:t>). התפיסה ה“מסורתית” בסיסית לפיה עדיף         טיפול במסגרת מוסדית על שיקום בבית, עדיין שלטת</a:t>
            </a:r>
            <a:r>
              <a:rPr b="1" lang="en-US" sz="3200" spc="-1" strike="noStrike">
                <a:solidFill>
                  <a:srgbClr val="ffff00"/>
                </a:solidFill>
                <a:latin typeface="Arial (Hebrew)"/>
                <a:ea typeface="Arial (Hebrew)"/>
              </a:rPr>
              <a:t> </a:t>
            </a:r>
            <a:r>
              <a:rPr b="1" lang="he-IL" sz="3200" spc="-1" strike="noStrike">
                <a:solidFill>
                  <a:srgbClr val="ffff00"/>
                </a:solidFill>
                <a:latin typeface="Arial (Hebrew)"/>
                <a:cs typeface="Arial (Hebrew)"/>
              </a:rPr>
              <a:t>הדבר גורם לציפיות בלתי ריאליות בנושא היקף וכמות הטיפולים הרצוי לשיקום בית יחסית לשיקום בי"ח </a:t>
            </a:r>
            <a:r>
              <a:rPr b="1" lang="en-US" sz="3000" spc="-1" strike="noStrike">
                <a:solidFill>
                  <a:srgbClr val="ffff00"/>
                </a:solidFill>
                <a:latin typeface="Arial (Hebrew)"/>
                <a:ea typeface="Arial (Hebrew)"/>
              </a:rPr>
              <a:t>    “</a:t>
            </a:r>
            <a:r>
              <a:rPr b="1" lang="en-US" sz="2800" spc="-1" strike="noStrike">
                <a:solidFill>
                  <a:srgbClr val="ffff00"/>
                </a:solidFill>
                <a:latin typeface="Arial (Hebrew)"/>
                <a:ea typeface="Arial (Hebrew)"/>
              </a:rPr>
              <a:t>..</a:t>
            </a:r>
            <a:r>
              <a:rPr b="1" lang="he-IL" sz="2800" spc="-1" strike="noStrike">
                <a:solidFill>
                  <a:srgbClr val="ffff00"/>
                </a:solidFill>
                <a:latin typeface="Arial (Hebrew)"/>
                <a:cs typeface="Arial (Hebrew)"/>
              </a:rPr>
              <a:t>שם מהבוקר עד הערב מקבלים פיזיותרפיה</a:t>
            </a:r>
            <a:r>
              <a:rPr b="1" lang="en-US" sz="2800" spc="-1" strike="noStrike">
                <a:solidFill>
                  <a:srgbClr val="ffff00"/>
                </a:solidFill>
                <a:latin typeface="Arial (Hebrew)"/>
                <a:ea typeface="Arial (Hebrew)"/>
              </a:rPr>
              <a:t>...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 (Hebrew)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2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). חוסר זמינות 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24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 שעות של הצוות (בעיקר רופא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     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cs typeface="Arial (Hebrew)"/>
              </a:rPr>
              <a:t>עלול  לפגוע בנכונות להצטרף לפרויקט ובמצטרפ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5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3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). לעתים העול על משפחות שביקשו לקבל שיקום בי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                                                    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cs typeface="Arial (Hebrew)"/>
              </a:rPr>
              <a:t>כבד ממה שציפו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ff0066"/>
                </a:solidFill>
                <a:latin typeface="David"/>
                <a:cs typeface="David"/>
              </a:rPr>
              <a:t>פרוייקט  שיקום  בית</a:t>
            </a:r>
            <a:br>
              <a:rPr sz="7200"/>
            </a:br>
            <a:r>
              <a:rPr b="1" lang="he-IL" sz="5400" spc="-1" strike="noStrike" u="sng">
                <a:solidFill>
                  <a:srgbClr val="ff0000"/>
                </a:solidFill>
                <a:uFillTx/>
                <a:latin typeface="Arial (Hebrew)"/>
                <a:cs typeface="Arial (Hebrew)"/>
              </a:rPr>
              <a:t>מסקנות  ולקחי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ff0066"/>
                </a:solidFill>
                <a:latin typeface="David"/>
                <a:cs typeface="David"/>
              </a:rPr>
              <a:t>פרוייקט  שיקום  בית</a:t>
            </a:r>
            <a:br>
              <a:rPr sz="7200"/>
            </a:br>
            <a:r>
              <a:rPr b="1" lang="he-IL" sz="5400" spc="-1" strike="noStrike" u="sng">
                <a:solidFill>
                  <a:srgbClr val="ff0000"/>
                </a:solidFill>
                <a:uFillTx/>
                <a:latin typeface="Arial (Hebrew)"/>
                <a:cs typeface="Arial (Hebrew)"/>
              </a:rPr>
              <a:t>מסקנות  ולקחי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Object 0" descr=""/>
          <p:cNvPicPr/>
          <p:nvPr/>
        </p:nvPicPr>
        <p:blipFill>
          <a:blip r:embed="rId1"/>
          <a:stretch/>
        </p:blipFill>
        <p:spPr>
          <a:xfrm>
            <a:off x="0" y="5791320"/>
            <a:ext cx="2666880" cy="1143000"/>
          </a:xfrm>
          <a:prstGeom prst="rect">
            <a:avLst/>
          </a:prstGeom>
          <a:ln w="0">
            <a:noFill/>
          </a:ln>
          <a:effectLst>
            <a:outerShdw dist="17819" dir="18900000" blurRad="0" rotWithShape="0">
              <a:srgbClr val="ffffff"/>
            </a:outerShdw>
          </a:effectLst>
        </p:spPr>
      </p:pic>
      <p:pic>
        <p:nvPicPr>
          <p:cNvPr id="246" name="Object 1" descr=""/>
          <p:cNvPicPr/>
          <p:nvPr/>
        </p:nvPicPr>
        <p:blipFill>
          <a:blip r:embed="rId2"/>
          <a:stretch/>
        </p:blipFill>
        <p:spPr>
          <a:xfrm>
            <a:off x="0" y="990720"/>
            <a:ext cx="2286000" cy="266688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f0066"/>
            </a:outerShdw>
          </a:effectLst>
        </p:spPr>
      </p:pic>
      <p:pic>
        <p:nvPicPr>
          <p:cNvPr id="247" name="Object 2" descr=""/>
          <p:cNvPicPr/>
          <p:nvPr/>
        </p:nvPicPr>
        <p:blipFill>
          <a:blip r:embed="rId3"/>
          <a:stretch/>
        </p:blipFill>
        <p:spPr>
          <a:xfrm>
            <a:off x="0" y="304920"/>
            <a:ext cx="2057400" cy="685800"/>
          </a:xfrm>
          <a:prstGeom prst="rect">
            <a:avLst/>
          </a:prstGeom>
          <a:ln w="0">
            <a:noFill/>
          </a:ln>
          <a:effectLst>
            <a:outerShdw dist="28496" dir="14625520" blurRad="0" rotWithShape="0">
              <a:srgbClr val="ffff00"/>
            </a:outerShdw>
          </a:effectLst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4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). בחולי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 (Hebrew)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 (Hebrew)"/>
              </a:rPr>
              <a:t>CV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 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cs typeface="Arial (Hebrew)"/>
              </a:rPr>
              <a:t>קשים, גם כאשר קיים תומך עיקרי טוב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 (Hebrew)"/>
              </a:rPr>
              <a:t>PRIMARY CARE GIVE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), 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cs typeface="Arial (Hebrew)"/>
              </a:rPr>
              <a:t>גם בנוכחות שירות מקצועי מעולה בתכיפות ובכמות גבוהים מאלו הניתנים באשפוז ובמתן שירותי סיעוד עד 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24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 שעות ביממה  - קשה מאד לשכנע משפחות לבצע את השיקום בבי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5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)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 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cs typeface="Arial (Hebrew)"/>
              </a:rPr>
              <a:t>שיקום בית כרוך בחסכון משמעותי לגוף המבטח   בחולים אחר אירוע מוחי במצב בינוני-קשה ואפילו קל, גם אם מספקים שירותים מקצועיים תכופים ושירותי סיעוד ביד נדיבה בהרבה מהמקוב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 (Hebrew)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2285640"/>
            <a:ext cx="9144000" cy="34290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6000"/>
          </a:bodyPr>
          <a:p>
            <a:pPr marL="260640" indent="-260640" algn="r" rtl="1">
              <a:lnSpc>
                <a:spcPct val="95000"/>
              </a:lnSpc>
              <a:spcBef>
                <a:spcPts val="901"/>
              </a:spcBef>
              <a:buClr>
                <a:srgbClr val="ff0066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  </a:t>
            </a:r>
            <a:r>
              <a:rPr b="1" lang="he-IL" sz="3600" spc="-1" strike="noStrike">
                <a:solidFill>
                  <a:srgbClr val="ffff00"/>
                </a:solidFill>
                <a:latin typeface="David"/>
                <a:cs typeface="David"/>
              </a:rPr>
              <a:t>בשנת </a:t>
            </a:r>
            <a:r>
              <a:rPr b="1" lang="he-IL" sz="3600" spc="-1" strike="noStrike">
                <a:solidFill>
                  <a:srgbClr val="ffff00"/>
                </a:solidFill>
                <a:latin typeface="David"/>
                <a:ea typeface="David"/>
              </a:rPr>
              <a:t>1990</a:t>
            </a:r>
            <a:r>
              <a:rPr b="1" lang="he-IL" sz="3600" spc="-1" strike="noStrike">
                <a:solidFill>
                  <a:srgbClr val="ffff00"/>
                </a:solidFill>
                <a:latin typeface="David"/>
                <a:ea typeface="David"/>
              </a:rPr>
              <a:t> :  </a:t>
            </a:r>
            <a:r>
              <a:rPr b="1" lang="he-IL" sz="3600" spc="-1" strike="noStrike">
                <a:solidFill>
                  <a:srgbClr val="ffff00"/>
                </a:solidFill>
                <a:latin typeface="David"/>
                <a:ea typeface="David"/>
              </a:rPr>
              <a:t>454</a:t>
            </a:r>
            <a:r>
              <a:rPr b="1" lang="he-IL" sz="3600" spc="-1" strike="noStrike">
                <a:solidFill>
                  <a:srgbClr val="ffff00"/>
                </a:solidFill>
                <a:latin typeface="David"/>
                <a:ea typeface="David"/>
              </a:rPr>
              <a:t>  לכל </a:t>
            </a:r>
            <a:r>
              <a:rPr b="1" lang="he-IL" sz="3600" spc="-1" strike="noStrike">
                <a:solidFill>
                  <a:srgbClr val="ffff00"/>
                </a:solidFill>
                <a:latin typeface="David"/>
                <a:ea typeface="David"/>
              </a:rPr>
              <a:t>100,000</a:t>
            </a:r>
            <a:r>
              <a:rPr b="1" lang="he-IL" sz="3600" spc="-1" strike="noStrike">
                <a:solidFill>
                  <a:srgbClr val="ffff00"/>
                </a:solidFill>
                <a:latin typeface="David"/>
                <a:ea typeface="David"/>
              </a:rPr>
              <a:t>  איש</a:t>
            </a:r>
            <a:r>
              <a:rPr b="1" lang="en-US" sz="3600" spc="-1" strike="noStrike">
                <a:solidFill>
                  <a:srgbClr val="ffff00"/>
                </a:solidFill>
                <a:latin typeface="David"/>
                <a:ea typeface="Davi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r" rtl="1">
              <a:lnSpc>
                <a:spcPct val="95000"/>
              </a:lnSpc>
              <a:spcBef>
                <a:spcPts val="901"/>
              </a:spcBef>
              <a:buClr>
                <a:srgbClr val="ff0066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David"/>
                <a:ea typeface="David"/>
              </a:rPr>
              <a:t>    </a:t>
            </a:r>
            <a:r>
              <a:rPr b="1" lang="he-IL" sz="3600" spc="-1" strike="noStrike">
                <a:solidFill>
                  <a:srgbClr val="ffff00"/>
                </a:solidFill>
                <a:latin typeface="David"/>
                <a:cs typeface="David"/>
              </a:rPr>
              <a:t>רביתם מטופלים בשלב ראשון בבי”ח כללי,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r" rtl="1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David"/>
                <a:ea typeface="David"/>
              </a:rPr>
              <a:t>       למניעת סיבוכים ראשוני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r" rtl="1">
              <a:lnSpc>
                <a:spcPct val="95000"/>
              </a:lnSpc>
              <a:spcBef>
                <a:spcPts val="901"/>
              </a:spcBef>
              <a:buClr>
                <a:srgbClr val="ff0066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David"/>
                <a:ea typeface="David"/>
              </a:rPr>
              <a:t>   </a:t>
            </a:r>
            <a:r>
              <a:rPr b="1" lang="he-IL" sz="3600" spc="-1" strike="noStrike">
                <a:solidFill>
                  <a:srgbClr val="ffff00"/>
                </a:solidFill>
                <a:latin typeface="David"/>
                <a:cs typeface="David"/>
              </a:rPr>
              <a:t>כאשר המצב הרפואי מתייצב יש להחליט על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r" rtl="1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David"/>
                <a:ea typeface="David"/>
              </a:rPr>
              <a:t>       המסגרת השיקומי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r" rtl="1">
              <a:lnSpc>
                <a:spcPct val="95000"/>
              </a:lnSpc>
              <a:spcBef>
                <a:spcPts val="901"/>
              </a:spcBef>
              <a:buClr>
                <a:srgbClr val="ff0066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David"/>
                <a:ea typeface="David"/>
              </a:rPr>
              <a:t>    </a:t>
            </a:r>
            <a:r>
              <a:rPr b="1" lang="he-IL" sz="3600" spc="-1" strike="noStrike">
                <a:solidFill>
                  <a:srgbClr val="ffff00"/>
                </a:solidFill>
                <a:latin typeface="David"/>
                <a:cs typeface="David"/>
              </a:rPr>
              <a:t>בארץ מקובל  שיקום  בבי”ח  כללי  או  שיקומי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r" rtl="1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David"/>
                <a:ea typeface="David"/>
              </a:rPr>
              <a:t>        (בעיקר כשקיימת פגיעה תפקודית משמעותית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76720" y="1371600"/>
            <a:ext cx="5257800" cy="1434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ffffff"/>
                </a:solidFill>
                <a:uFillTx/>
                <a:latin typeface="Times New Roman"/>
              </a:rPr>
              <a:t>היקף האשפוזים  בישרא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Object 5" descr=""/>
          <p:cNvPicPr/>
          <p:nvPr/>
        </p:nvPicPr>
        <p:blipFill>
          <a:blip r:embed="rId1"/>
          <a:stretch/>
        </p:blipFill>
        <p:spPr>
          <a:xfrm>
            <a:off x="76320" y="1338120"/>
            <a:ext cx="1371600" cy="1447920"/>
          </a:xfrm>
          <a:prstGeom prst="rect">
            <a:avLst/>
          </a:prstGeom>
          <a:ln w="0">
            <a:noFill/>
          </a:ln>
          <a:effectLst>
            <a:outerShdw dist="52300" dir="20763565" blurRad="0" rotWithShape="0">
              <a:srgbClr val="ffffff"/>
            </a:outerShdw>
          </a:effectLst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ff0066"/>
                </a:solidFill>
                <a:uFillTx/>
                <a:latin typeface="David"/>
                <a:cs typeface="David"/>
              </a:rPr>
              <a:t>אירוע מוחי - אשפוז אקוט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Object 8" descr=""/>
          <p:cNvPicPr/>
          <p:nvPr/>
        </p:nvPicPr>
        <p:blipFill>
          <a:blip r:embed="rId2"/>
          <a:stretch/>
        </p:blipFill>
        <p:spPr>
          <a:xfrm>
            <a:off x="228600" y="1185840"/>
            <a:ext cx="1600200" cy="99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71640"/>
            <a:ext cx="91440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ff0066"/>
                </a:solidFill>
                <a:uFillTx/>
                <a:latin typeface="David"/>
                <a:cs typeface="David"/>
              </a:rPr>
              <a:t>אירוע מוחי-השלכות תפקודיו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ject 5" descr=""/>
          <p:cNvPicPr/>
          <p:nvPr/>
        </p:nvPicPr>
        <p:blipFill>
          <a:blip r:embed="rId1"/>
          <a:stretch/>
        </p:blipFill>
        <p:spPr>
          <a:xfrm>
            <a:off x="0" y="1133640"/>
            <a:ext cx="1558800" cy="136656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 algn="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r>
              <a:rPr b="1" lang="he-IL" sz="4400" spc="-1" strike="noStrike">
                <a:solidFill>
                  <a:srgbClr val="ffff00"/>
                </a:solidFill>
                <a:latin typeface="David"/>
                <a:cs typeface="David"/>
              </a:rPr>
              <a:t>במבוגרים</a:t>
            </a:r>
            <a:r>
              <a:rPr b="1" lang="he-IL" sz="44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r>
              <a:rPr b="1" lang="he-IL" sz="4400" spc="-1" strike="noStrike">
                <a:solidFill>
                  <a:srgbClr val="ffff00"/>
                </a:solidFill>
                <a:latin typeface="David"/>
                <a:cs typeface="David"/>
              </a:rPr>
              <a:t>בארצות מפותחות</a:t>
            </a:r>
            <a:r>
              <a:rPr b="1" lang="en-US" sz="4400" spc="-1" strike="noStrike">
                <a:solidFill>
                  <a:srgbClr val="ffff00"/>
                </a:solidFill>
                <a:latin typeface="David"/>
                <a:ea typeface="David"/>
              </a:rPr>
              <a:t>, </a:t>
            </a:r>
            <a:r>
              <a:rPr b="1" lang="he-IL" sz="4400" spc="-1" strike="noStrike">
                <a:solidFill>
                  <a:srgbClr val="ffff00"/>
                </a:solidFill>
                <a:latin typeface="David"/>
                <a:cs typeface="David"/>
              </a:rPr>
              <a:t>מהווה       גורם תמותה שלישי בשכיחותו</a:t>
            </a:r>
            <a:r>
              <a:rPr b="1" lang="en-US" sz="4400" spc="-1" strike="noStrike">
                <a:solidFill>
                  <a:srgbClr val="ffff00"/>
                </a:solidFill>
                <a:latin typeface="David"/>
                <a:ea typeface="Davi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David"/>
                <a:ea typeface="David"/>
              </a:rPr>
              <a:t>                           </a:t>
            </a:r>
            <a:r>
              <a:rPr b="1" lang="he-IL" sz="4400" spc="-1" strike="noStrike">
                <a:solidFill>
                  <a:srgbClr val="ffff00"/>
                </a:solidFill>
                <a:latin typeface="David"/>
                <a:cs typeface="David"/>
              </a:rPr>
              <a:t>וסיבה עיקרית לנכ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David"/>
                <a:ea typeface="David"/>
              </a:rPr>
              <a:t>  </a:t>
            </a:r>
            <a:r>
              <a:rPr b="1" lang="he-IL" sz="4400" spc="-1" strike="noStrike">
                <a:solidFill>
                  <a:srgbClr val="ffff00"/>
                </a:solidFill>
                <a:latin typeface="David"/>
                <a:cs typeface="David"/>
              </a:rPr>
              <a:t>לעתים קיימת החלמה אך </a:t>
            </a:r>
            <a:r>
              <a:rPr b="1" lang="he-IL" sz="4800" spc="-1" strike="noStrike">
                <a:solidFill>
                  <a:srgbClr val="ffff00"/>
                </a:solidFill>
                <a:latin typeface="David"/>
                <a:ea typeface="David"/>
              </a:rPr>
              <a:t>75%</a:t>
            </a:r>
            <a:r>
              <a:rPr b="1" lang="he-IL" sz="4400" spc="-1" strike="noStrike">
                <a:solidFill>
                  <a:srgbClr val="ffff00"/>
                </a:solidFill>
                <a:latin typeface="David"/>
                <a:ea typeface="David"/>
              </a:rPr>
              <a:t> מהחולים נשארים עם שיתוק בפלג גוף</a:t>
            </a:r>
            <a:r>
              <a:rPr b="1" lang="en-US" sz="4400" spc="-1" strike="noStrike">
                <a:solidFill>
                  <a:srgbClr val="ffff00"/>
                </a:solidFill>
                <a:latin typeface="David"/>
                <a:ea typeface="David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David"/>
                <a:ea typeface="David"/>
              </a:rPr>
              <a:t>  </a:t>
            </a:r>
            <a:r>
              <a:rPr b="1" lang="he-IL" sz="4400" spc="-1" strike="noStrike">
                <a:solidFill>
                  <a:srgbClr val="ffff00"/>
                </a:solidFill>
                <a:latin typeface="David"/>
                <a:cs typeface="David"/>
              </a:rPr>
              <a:t>לאחר </a:t>
            </a:r>
            <a:r>
              <a:rPr b="1" lang="he-IL" sz="4400" spc="-1" strike="noStrike">
                <a:solidFill>
                  <a:srgbClr val="ffff00"/>
                </a:solidFill>
                <a:latin typeface="David"/>
                <a:ea typeface="David"/>
              </a:rPr>
              <a:t>6</a:t>
            </a:r>
            <a:r>
              <a:rPr b="1" lang="he-IL" sz="4400" spc="-1" strike="noStrike">
                <a:solidFill>
                  <a:srgbClr val="ffff00"/>
                </a:solidFill>
                <a:latin typeface="David"/>
                <a:ea typeface="David"/>
              </a:rPr>
              <a:t> חודשים,  כחצי יסבלו ממוגבלות תפקודית המתבטאת בתלות מלאה או חלקית בפעולות יומיומיות</a:t>
            </a:r>
            <a:r>
              <a:rPr b="1" lang="en-US" sz="4400" spc="-1" strike="noStrike">
                <a:solidFill>
                  <a:srgbClr val="ffff00"/>
                </a:solidFill>
                <a:latin typeface="David"/>
                <a:ea typeface="David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David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David"/>
              </a:rPr>
              <a:t>ADL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David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6"/>
          <p:cNvSpPr/>
          <p:nvPr/>
        </p:nvSpPr>
        <p:spPr>
          <a:xfrm>
            <a:off x="152280" y="304920"/>
            <a:ext cx="8763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 u="sng">
                <a:solidFill>
                  <a:srgbClr val="ff0066"/>
                </a:solidFill>
                <a:uFillTx/>
                <a:latin typeface="David"/>
                <a:cs typeface="David"/>
              </a:rPr>
              <a:t>אירוע מוחי -עלו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Object 7" descr=""/>
          <p:cNvPicPr/>
          <p:nvPr/>
        </p:nvPicPr>
        <p:blipFill>
          <a:blip r:embed="rId1"/>
          <a:stretch/>
        </p:blipFill>
        <p:spPr>
          <a:xfrm>
            <a:off x="6939000" y="5303880"/>
            <a:ext cx="1671480" cy="12492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pic>
        <p:nvPicPr>
          <p:cNvPr id="141" name="Object 8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1981440" cy="236232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9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143000" cy="1371600"/>
          </a:xfrm>
          <a:prstGeom prst="rect">
            <a:avLst/>
          </a:prstGeom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</p:pic>
      <p:sp>
        <p:nvSpPr>
          <p:cNvPr id="143" name="Rectangle 10"/>
          <p:cNvSpPr/>
          <p:nvPr/>
        </p:nvSpPr>
        <p:spPr>
          <a:xfrm>
            <a:off x="0" y="2676600"/>
            <a:ext cx="9144000" cy="41814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00"/>
                </a:solidFill>
                <a:latin typeface="David"/>
                <a:cs typeface="David"/>
              </a:rPr>
              <a:t>זו אחת המחלות היקרות ביותר לטיפול</a:t>
            </a:r>
            <a:r>
              <a:rPr b="1" lang="en-US" sz="4400" spc="-1" strike="noStrike">
                <a:solidFill>
                  <a:srgbClr val="ffff00"/>
                </a:solidFill>
                <a:latin typeface="David"/>
                <a:ea typeface="David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00"/>
                </a:solidFill>
                <a:latin typeface="David"/>
                <a:cs typeface="David"/>
              </a:rPr>
              <a:t>בארה”ב</a:t>
            </a:r>
            <a:r>
              <a:rPr b="1" lang="en-US" sz="4400" spc="-1" strike="noStrike">
                <a:solidFill>
                  <a:srgbClr val="ffff00"/>
                </a:solidFill>
                <a:latin typeface="David"/>
                <a:ea typeface="David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David"/>
                <a:ea typeface="David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David"/>
                <a:ea typeface="David"/>
              </a:rPr>
              <a:t>7,000</a:t>
            </a:r>
            <a:r>
              <a:rPr b="1" lang="en-US" sz="4400" spc="-1" strike="noStrike">
                <a:solidFill>
                  <a:srgbClr val="ffff00"/>
                </a:solidFill>
                <a:latin typeface="David"/>
                <a:ea typeface="David"/>
              </a:rPr>
              <a:t> - </a:t>
            </a:r>
            <a:r>
              <a:rPr b="1" lang="en-US" sz="4400" spc="-1" strike="noStrike">
                <a:solidFill>
                  <a:srgbClr val="ffff00"/>
                </a:solidFill>
                <a:latin typeface="David"/>
                <a:ea typeface="David"/>
              </a:rPr>
              <a:t>15,000</a:t>
            </a:r>
            <a:r>
              <a:rPr b="1" lang="en-US" sz="4400" spc="-1" strike="noStrike">
                <a:solidFill>
                  <a:srgbClr val="ffff00"/>
                </a:solidFill>
                <a:latin typeface="David"/>
                <a:ea typeface="David"/>
              </a:rPr>
              <a:t> $ </a:t>
            </a:r>
            <a:r>
              <a:rPr b="1" lang="he-IL" sz="4400" spc="-1" strike="noStrike">
                <a:solidFill>
                  <a:srgbClr val="ffff00"/>
                </a:solidFill>
                <a:latin typeface="David"/>
                <a:cs typeface="David"/>
              </a:rPr>
              <a:t>לאשפוז בבי”ח כללי </a:t>
            </a:r>
            <a:r>
              <a:rPr b="1" lang="he-IL" sz="4400" spc="-1" strike="noStrike">
                <a:solidFill>
                  <a:srgbClr val="ffff00"/>
                </a:solidFill>
                <a:latin typeface="David"/>
                <a:ea typeface="David"/>
              </a:rPr>
              <a:t>10,000</a:t>
            </a:r>
            <a:r>
              <a:rPr b="1" lang="he-IL" sz="4400" spc="-1" strike="noStrike">
                <a:solidFill>
                  <a:srgbClr val="ffff00"/>
                </a:solidFill>
                <a:latin typeface="David"/>
                <a:ea typeface="David"/>
              </a:rPr>
              <a:t> - </a:t>
            </a:r>
            <a:r>
              <a:rPr b="1" lang="he-IL" sz="4400" spc="-1" strike="noStrike">
                <a:solidFill>
                  <a:srgbClr val="ffff00"/>
                </a:solidFill>
                <a:latin typeface="David"/>
                <a:ea typeface="David"/>
              </a:rPr>
              <a:t>20,000</a:t>
            </a:r>
            <a:r>
              <a:rPr b="1" lang="he-IL" sz="4400" spc="-1" strike="noStrike">
                <a:solidFill>
                  <a:srgbClr val="ffff00"/>
                </a:solidFill>
                <a:latin typeface="David"/>
                <a:ea typeface="David"/>
              </a:rPr>
              <a:t> $ לשיקום</a:t>
            </a:r>
            <a:r>
              <a:rPr b="1" lang="en-US" sz="4400" spc="-1" strike="noStrike">
                <a:solidFill>
                  <a:srgbClr val="ffff00"/>
                </a:solidFill>
                <a:latin typeface="David"/>
                <a:ea typeface="David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David"/>
                <a:ea typeface="David"/>
              </a:rPr>
              <a:t>                                         </a:t>
            </a:r>
            <a:r>
              <a:rPr b="1" lang="he-IL" sz="4400" spc="-1" strike="noStrike">
                <a:solidFill>
                  <a:srgbClr val="ffff00"/>
                </a:solidFill>
                <a:latin typeface="David"/>
                <a:cs typeface="David"/>
              </a:rPr>
              <a:t>לחולה לשנ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Object 18" descr=""/>
          <p:cNvPicPr/>
          <p:nvPr/>
        </p:nvPicPr>
        <p:blipFill>
          <a:blip r:embed="rId4"/>
          <a:stretch/>
        </p:blipFill>
        <p:spPr>
          <a:xfrm>
            <a:off x="6477120" y="5562720"/>
            <a:ext cx="952560" cy="99036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</p:pic>
      <p:pic>
        <p:nvPicPr>
          <p:cNvPr id="145" name="Object 19" descr=""/>
          <p:cNvPicPr/>
          <p:nvPr/>
        </p:nvPicPr>
        <p:blipFill>
          <a:blip r:embed="rId5"/>
          <a:stretch/>
        </p:blipFill>
        <p:spPr>
          <a:xfrm>
            <a:off x="6553080" y="5867280"/>
            <a:ext cx="952560" cy="99072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</p:pic>
      <p:pic>
        <p:nvPicPr>
          <p:cNvPr id="146" name="Object 20" descr=""/>
          <p:cNvPicPr/>
          <p:nvPr/>
        </p:nvPicPr>
        <p:blipFill>
          <a:blip r:embed="rId6"/>
          <a:stretch/>
        </p:blipFill>
        <p:spPr>
          <a:xfrm>
            <a:off x="6781680" y="5865840"/>
            <a:ext cx="952560" cy="99072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</p:pic>
      <p:pic>
        <p:nvPicPr>
          <p:cNvPr id="147" name="Object 21" descr=""/>
          <p:cNvPicPr/>
          <p:nvPr/>
        </p:nvPicPr>
        <p:blipFill>
          <a:blip r:embed="rId7"/>
          <a:stretch/>
        </p:blipFill>
        <p:spPr>
          <a:xfrm>
            <a:off x="5181480" y="5562720"/>
            <a:ext cx="1981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Object 7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  <a:effectLst>
            <a:outerShdw dist="17819" dir="18900000" blurRad="0" rotWithShape="0">
              <a:srgbClr val="ffffff"/>
            </a:outerShdw>
          </a:effectLst>
        </p:spPr>
      </p:pic>
      <p:sp>
        <p:nvSpPr>
          <p:cNvPr id="149" name="Rectangle 11"/>
          <p:cNvSpPr/>
          <p:nvPr/>
        </p:nvSpPr>
        <p:spPr>
          <a:xfrm>
            <a:off x="0" y="-18900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ffff00"/>
                </a:solidFill>
                <a:latin typeface="Arial"/>
                <a:cs typeface="David"/>
              </a:rPr>
              <a:t>שיקום לאחר אירוע מוחי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Object 12" descr=""/>
          <p:cNvPicPr/>
          <p:nvPr/>
        </p:nvPicPr>
        <p:blipFill>
          <a:blip r:embed="rId2"/>
          <a:stretch/>
        </p:blipFill>
        <p:spPr>
          <a:xfrm>
            <a:off x="3571920" y="1143000"/>
            <a:ext cx="1981080" cy="1447920"/>
          </a:xfrm>
          <a:prstGeom prst="rect">
            <a:avLst/>
          </a:prstGeom>
          <a:ln w="0">
            <a:noFill/>
          </a:ln>
          <a:effectLst>
            <a:outerShdw dist="17819" dir="18900000" blurRad="0" rotWithShape="0">
              <a:srgbClr val="ff0066"/>
            </a:outerShdw>
          </a:effectLst>
        </p:spPr>
      </p:pic>
      <p:graphicFrame>
        <p:nvGraphicFramePr>
          <p:cNvPr id="151" name="Object 13"/>
          <p:cNvGraphicFramePr/>
          <p:nvPr/>
        </p:nvGraphicFramePr>
        <p:xfrm>
          <a:off x="5715000" y="4038480"/>
          <a:ext cx="312408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4038480"/>
                    <a:ext cx="31240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4"/>
          <p:cNvGraphicFramePr/>
          <p:nvPr/>
        </p:nvGraphicFramePr>
        <p:xfrm>
          <a:off x="7508880" y="3733920"/>
          <a:ext cx="52236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14" descr=""/>
                  <p:cNvPicPr/>
                  <p:nvPr/>
                </p:nvPicPr>
                <p:blipFill>
                  <a:blip r:embed="rId6">
                    <a:alphaModFix amt="50000"/>
                  </a:blip>
                  <a:stretch/>
                </p:blipFill>
                <p:spPr>
                  <a:xfrm>
                    <a:off x="7508880" y="3733920"/>
                    <a:ext cx="52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Object 16" descr=""/>
          <p:cNvPicPr/>
          <p:nvPr/>
        </p:nvPicPr>
        <p:blipFill>
          <a:blip r:embed="rId7"/>
          <a:stretch/>
        </p:blipFill>
        <p:spPr>
          <a:xfrm>
            <a:off x="228600" y="4440240"/>
            <a:ext cx="1219320" cy="104616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ffff00"/>
            </a:outerShdw>
          </a:effectLst>
        </p:spPr>
      </p:pic>
      <p:pic>
        <p:nvPicPr>
          <p:cNvPr id="156" name="Object 17" descr=""/>
          <p:cNvPicPr/>
          <p:nvPr/>
        </p:nvPicPr>
        <p:blipFill>
          <a:blip r:embed="rId8"/>
          <a:stretch/>
        </p:blipFill>
        <p:spPr>
          <a:xfrm>
            <a:off x="1143000" y="3733920"/>
            <a:ext cx="2590920" cy="228600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00"/>
            </a:outerShdw>
          </a:effectLst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33520" y="762120"/>
            <a:ext cx="8610480" cy="11048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0066"/>
                </a:solidFill>
                <a:latin typeface="Times New Roman"/>
                <a:cs typeface="David"/>
              </a:rPr>
              <a:t>בבית  החולים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  <a:ea typeface="David"/>
              </a:rPr>
              <a:t>     </a:t>
            </a:r>
            <a:r>
              <a:rPr b="1" lang="he-IL" sz="5400" spc="-1" strike="noStrike">
                <a:solidFill>
                  <a:srgbClr val="ff0066"/>
                </a:solidFill>
                <a:latin typeface="Times New Roman"/>
                <a:cs typeface="David"/>
              </a:rPr>
              <a:t>או  בבית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  <a:ea typeface="David"/>
              </a:rPr>
              <a:t> ?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10439280" cy="502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lvl="2" marL="114300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David"/>
                <a:ea typeface="David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762120" y="251460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828800" y="990720"/>
            <a:ext cx="7315200" cy="2531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David"/>
                <a:ea typeface="David"/>
              </a:rPr>
              <a:t>  </a:t>
            </a:r>
            <a:r>
              <a:rPr b="1" lang="he-IL" sz="8000" spc="-1" strike="noStrike" u="sng">
                <a:solidFill>
                  <a:srgbClr val="ff0066"/>
                </a:solidFill>
                <a:uFillTx/>
                <a:latin typeface="David"/>
                <a:cs typeface="David"/>
              </a:rPr>
              <a:t>ה מ צ ב   כ י ו 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Object 12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3048120"/>
          </a:xfrm>
          <a:prstGeom prst="rect">
            <a:avLst/>
          </a:prstGeom>
          <a:ln w="0">
            <a:noFill/>
          </a:ln>
          <a:effectLst>
            <a:outerShdw dist="40186" dir="17296359" blurRad="0" rotWithShape="0">
              <a:srgbClr val="ff0066"/>
            </a:outerShdw>
          </a:effectLst>
        </p:spPr>
      </p:pic>
      <p:pic>
        <p:nvPicPr>
          <p:cNvPr id="163" name="Object 13" descr=""/>
          <p:cNvPicPr/>
          <p:nvPr/>
        </p:nvPicPr>
        <p:blipFill>
          <a:blip r:embed="rId2"/>
          <a:stretch/>
        </p:blipFill>
        <p:spPr>
          <a:xfrm>
            <a:off x="76320" y="1447920"/>
            <a:ext cx="304776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</p:pic>
      <p:sp>
        <p:nvSpPr>
          <p:cNvPr id="164" name="Text Box 15"/>
          <p:cNvSpPr/>
          <p:nvPr/>
        </p:nvSpPr>
        <p:spPr>
          <a:xfrm>
            <a:off x="0" y="2943360"/>
            <a:ext cx="9753480" cy="50907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David"/>
                <a:cs typeface="David"/>
              </a:rPr>
              <a:t>מבוגרים הזקוקים לשיקום מאושפזים תקופות ממושכות במחלקות שונות (בעיקר פנימית, נוירולוגית וגריאטרי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David"/>
                <a:cs typeface="David"/>
              </a:rPr>
              <a:t>הסיבות העיקריות המונעות חזרה הביתה</a:t>
            </a:r>
            <a:r>
              <a:rPr b="1" lang="en-US" sz="3200" spc="-1" strike="noStrike">
                <a:solidFill>
                  <a:srgbClr val="ffff00"/>
                </a:solidFill>
                <a:latin typeface="David"/>
                <a:ea typeface="David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David"/>
                <a:ea typeface="David"/>
              </a:rPr>
              <a:t>      *   </a:t>
            </a:r>
            <a:r>
              <a:rPr b="1" lang="he-IL" sz="3200" spc="-1" strike="noStrike">
                <a:solidFill>
                  <a:srgbClr val="ffff00"/>
                </a:solidFill>
                <a:latin typeface="David"/>
                <a:cs typeface="David"/>
              </a:rPr>
              <a:t>חשש מקבלת טיפול מגורמים פחות מקצועיים</a:t>
            </a:r>
            <a:r>
              <a:rPr b="1" lang="en-US" sz="3200" spc="-1" strike="noStrike">
                <a:solidFill>
                  <a:srgbClr val="ffff00"/>
                </a:solidFill>
                <a:latin typeface="David"/>
                <a:ea typeface="Dav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David"/>
                <a:ea typeface="David"/>
              </a:rPr>
              <a:t>      *   </a:t>
            </a:r>
            <a:r>
              <a:rPr b="1" lang="he-IL" sz="3200" spc="-1" strike="noStrike">
                <a:solidFill>
                  <a:srgbClr val="ffff00"/>
                </a:solidFill>
                <a:latin typeface="David"/>
                <a:cs typeface="David"/>
              </a:rPr>
              <a:t>פחות שעות טיפול סיעודי  (מטפל/ת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David"/>
                <a:ea typeface="David"/>
              </a:rPr>
              <a:t>                                   </a:t>
            </a:r>
            <a:r>
              <a:rPr b="1" lang="he-IL" sz="3600" spc="-1" strike="noStrike">
                <a:solidFill>
                  <a:srgbClr val="ffff00"/>
                </a:solidFill>
                <a:latin typeface="David"/>
                <a:cs typeface="David"/>
              </a:rPr>
              <a:t>בבית  - יחסית  לבית  החול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David"/>
                <a:ea typeface="David"/>
              </a:rPr>
              <a:t>       *   </a:t>
            </a:r>
            <a:r>
              <a:rPr b="1" lang="he-IL" sz="3200" spc="-1" strike="noStrike">
                <a:solidFill>
                  <a:srgbClr val="ffff00"/>
                </a:solidFill>
                <a:latin typeface="David"/>
                <a:cs typeface="David"/>
              </a:rPr>
              <a:t>חשש המשפחה מהנטל האישי עלי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048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David"/>
              </a:rPr>
              <a:t>“</a:t>
            </a:r>
            <a:r>
              <a:rPr b="1" lang="he-IL" sz="5400" spc="-1" strike="noStrike">
                <a:solidFill>
                  <a:srgbClr val="ffffff"/>
                </a:solidFill>
                <a:latin typeface="Times New Roman"/>
                <a:cs typeface="David"/>
              </a:rPr>
              <a:t>כמה טוב שבאת הביתה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David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000" spc="-1" strike="noStrike">
                <a:solidFill>
                  <a:srgbClr val="ffff00"/>
                </a:solidFill>
                <a:latin typeface="Times New Roman"/>
                <a:cs typeface="David"/>
              </a:rPr>
              <a:t>בארצות מפותחות קימת נטייה גוברת לשיקום במסגרת הבי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0066"/>
                </a:solidFill>
                <a:latin typeface="Times New Roman"/>
                <a:cs typeface="David"/>
              </a:rPr>
              <a:t>היתרון: </a:t>
            </a:r>
            <a:r>
              <a:rPr b="1" lang="he-IL" sz="4000" spc="-1" strike="noStrike">
                <a:solidFill>
                  <a:srgbClr val="ffff00"/>
                </a:solidFill>
                <a:latin typeface="Times New Roman"/>
                <a:cs typeface="David"/>
              </a:rPr>
              <a:t>מיומנות חדשה נלמדת טוב יותר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Davi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David"/>
              </a:rPr>
              <a:t>              </a:t>
            </a:r>
            <a:r>
              <a:rPr b="1" lang="he-IL" sz="4000" spc="-1" strike="noStrike">
                <a:solidFill>
                  <a:srgbClr val="ffff00"/>
                </a:solidFill>
                <a:latin typeface="Times New Roman"/>
                <a:cs typeface="David"/>
              </a:rPr>
              <a:t>בסביבה הטבעית המוכרת למטופ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0066"/>
                </a:solidFill>
                <a:latin typeface="Times New Roman"/>
                <a:cs typeface="David"/>
              </a:rPr>
              <a:t>בעיות המקשות על שיקום ביתי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David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David"/>
              </a:rPr>
              <a:t>איכות - העדר כוח אדם מקצועי לטיפול במחל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David"/>
              </a:rPr>
              <a:t>זמינות מטפלת - מיעוט שעות סיעוד מהמבטח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Object 17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2209680" cy="1981440"/>
          </a:xfrm>
          <a:prstGeom prst="rect">
            <a:avLst/>
          </a:prstGeom>
          <a:ln w="0">
            <a:noFill/>
          </a:ln>
          <a:effectLst>
            <a:outerShdw dist="36147" dir="13500000" blurRad="0" rotWithShape="0">
              <a:srgbClr val="ffffff"/>
            </a:outerShdw>
          </a:effectLst>
        </p:spPr>
      </p:pic>
      <p:sp>
        <p:nvSpPr>
          <p:cNvPr id="168" name="Text Box 18"/>
          <p:cNvSpPr/>
          <p:nvPr/>
        </p:nvSpPr>
        <p:spPr>
          <a:xfrm>
            <a:off x="500040" y="106668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  <a:ea typeface="David"/>
              </a:rPr>
              <a:t>         </a:t>
            </a:r>
            <a:r>
              <a:rPr b="1" lang="he-IL" sz="3200" spc="-1" strike="noStrike">
                <a:solidFill>
                  <a:srgbClr val="66ffff"/>
                </a:solidFill>
                <a:latin typeface="Times New Roman"/>
                <a:cs typeface="David"/>
              </a:rPr>
              <a:t>או כמאמר האנגלי: “ביתי הוא מבצרי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  <a:ea typeface="David"/>
              </a:rPr>
              <a:t>!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  <a:ea typeface="David"/>
              </a:rPr>
              <a:t>                                                    </a:t>
            </a:r>
            <a:r>
              <a:rPr b="1" lang="he-IL" sz="3200" spc="-1" strike="noStrike">
                <a:solidFill>
                  <a:srgbClr val="66ffff"/>
                </a:solidFill>
                <a:latin typeface="Times New Roman"/>
                <a:cs typeface="David"/>
              </a:rPr>
              <a:t>גם אחר  אירוע  מוחי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  <a:ea typeface="David"/>
              </a:rPr>
              <a:t>...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Object 19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61760" cy="838080"/>
          </a:xfrm>
          <a:prstGeom prst="rect">
            <a:avLst/>
          </a:prstGeom>
          <a:ln w="0">
            <a:noFill/>
          </a:ln>
          <a:effectLst>
            <a:outerShdw dist="17819" dir="18900000" blurRad="0" rotWithShape="0">
              <a:srgbClr val="fff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762120" y="251460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275760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David"/>
                <a:ea typeface="David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Object 7" descr=""/>
          <p:cNvPicPr/>
          <p:nvPr/>
        </p:nvPicPr>
        <p:blipFill>
          <a:blip r:embed="rId1"/>
          <a:stretch/>
        </p:blipFill>
        <p:spPr>
          <a:xfrm>
            <a:off x="6781680" y="5410080"/>
            <a:ext cx="2438640" cy="1524240"/>
          </a:xfrm>
          <a:prstGeom prst="rect">
            <a:avLst/>
          </a:prstGeom>
          <a:ln w="0">
            <a:noFill/>
          </a:ln>
        </p:spPr>
      </p:pic>
      <p:pic>
        <p:nvPicPr>
          <p:cNvPr id="173" name="Object 8" descr=""/>
          <p:cNvPicPr/>
          <p:nvPr/>
        </p:nvPicPr>
        <p:blipFill>
          <a:blip r:embed="rId2"/>
          <a:stretch/>
        </p:blipFill>
        <p:spPr>
          <a:xfrm>
            <a:off x="7391520" y="4876920"/>
            <a:ext cx="1446120" cy="1600200"/>
          </a:xfrm>
          <a:prstGeom prst="rect">
            <a:avLst/>
          </a:prstGeom>
          <a:ln w="0">
            <a:noFill/>
          </a:ln>
          <a:effectLst>
            <a:outerShdw dist="40186" dir="6496358" blurRad="0" rotWithShape="0">
              <a:srgbClr val="ffff00"/>
            </a:outerShdw>
          </a:effectLst>
        </p:spPr>
      </p:pic>
      <p:sp>
        <p:nvSpPr>
          <p:cNvPr id="174" name="Text Box 14"/>
          <p:cNvSpPr/>
          <p:nvPr/>
        </p:nvSpPr>
        <p:spPr>
          <a:xfrm>
            <a:off x="0" y="68580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r>
              <a:rPr b="1" lang="he-IL" sz="7200" spc="-1" strike="noStrike" u="sng">
                <a:solidFill>
                  <a:srgbClr val="ff0066"/>
                </a:solidFill>
                <a:uFillTx/>
                <a:latin typeface="David"/>
                <a:cs typeface="David"/>
              </a:rPr>
              <a:t>ה  ת  נ  א  י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69000"/>
          </a:bodyPr>
          <a:p>
            <a:pPr lvl="2" marL="788400"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David"/>
                <a:ea typeface="David"/>
              </a:rPr>
              <a:t>  </a:t>
            </a: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מערכת חלופית לשיקום באשפוז חייבת לאפשר מענה טיפולי הולם לאורך זמן וברמה שאינה נופלת</a:t>
            </a:r>
            <a:r>
              <a:rPr b="1" lang="en-US" sz="44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400"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מזו של בית החולי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400"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David"/>
                <a:ea typeface="David"/>
              </a:rPr>
              <a:t>      </a:t>
            </a: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בנושאי:   </a:t>
            </a:r>
            <a:r>
              <a:rPr b="1" lang="he-IL" sz="4400" spc="-1" strike="noStrike">
                <a:solidFill>
                  <a:srgbClr val="ffff00"/>
                </a:solidFill>
                <a:latin typeface="David"/>
                <a:cs typeface="David"/>
              </a:rPr>
              <a:t>איכות הטיפול המקצועי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400"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David"/>
                <a:ea typeface="David"/>
              </a:rPr>
              <a:t>                     </a:t>
            </a:r>
            <a:r>
              <a:rPr b="1" lang="he-IL" sz="4400" spc="-1" strike="noStrike">
                <a:solidFill>
                  <a:srgbClr val="ffff00"/>
                </a:solidFill>
                <a:latin typeface="David"/>
                <a:cs typeface="David"/>
              </a:rPr>
              <a:t>זמינות ואיכות שיר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400"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40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David"/>
                <a:ea typeface="David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fff00"/>
                </a:solidFill>
                <a:latin typeface="Arial"/>
                <a:cs typeface="David"/>
              </a:rPr>
              <a:t>שיקום בית אחר אירוע מוח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7T21:31:15Z</dcterms:created>
  <dc:creator>C.A. COMPUTER</dc:creator>
  <dc:description/>
  <dc:language>en-US</dc:language>
  <cp:lastModifiedBy>דורון</cp:lastModifiedBy>
  <dcterms:modified xsi:type="dcterms:W3CDTF">2010-08-17T09:44:23Z</dcterms:modified>
  <cp:revision>61</cp:revision>
  <dc:subject/>
  <dc:title>שיקום חולים לאחר אירוע מוחי (CVA) במסגרת הבית</dc:title>
</cp:coreProperties>
</file>