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BE5C-D750-4084-A6C7-4F9E174DB6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7A43-6C04-4137-A697-2396F15CA624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B32-5114-41A1-BFEB-C5A895AE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D50-BA83-4C57-B19C-EBF72B00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2DC-BBF4-4B91-B765-72C03832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5F7-AEA8-4899-AC3E-F07C7EC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AB27-8646-4C33-BA18-616F630F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CF10-3980-42DD-81B3-19A0AD5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850-3C37-4ABC-9942-D798C39A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9EE4-6EBD-45E5-95E9-B402AAAA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5A91-8DBC-4489-A2FE-59DA0DF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57D7-6731-4C22-B53D-6711604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62F-0FAD-4FF0-B634-20295E4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FDA-70DE-466F-A5A2-28677335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486-4E73-47B6-A28D-FEEC084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7056-1D9C-4BB6-97C8-5DBCA15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994-267F-4F79-B556-B1D0930B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2267-6E88-47EB-9DDF-D034308D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B903-1823-40E5-A803-5EDF3434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849-3AF3-4673-A87F-4872B9B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23A-2B5B-4C9A-B9B9-7AF59F05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D7B-B6BA-4D0F-9090-A9B74B51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8B6-E351-4289-85E3-379C3A7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8CA-912A-4EF4-8364-D291CCE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7B8-FB8E-4CAD-A830-4968F8D6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200-146C-4265-BE67-AE88B9F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9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203F-9FEB-42E0-9447-202D951A6311}" type="slidenum">
              <a:rPr b="0" lang="he-I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9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DA6E-BB1E-4500-B5D2-E36D1D96BF0B}" type="slidenum">
              <a:rPr b="0" lang="he-IL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David"/>
                <a:cs typeface="David"/>
              </a:rPr>
              <a:t>פיתוח תיק מטופל  כהכנה לתיק   </a:t>
            </a:r>
            <a:br>
              <a:rPr sz="5400"/>
            </a:br>
            <a:r>
              <a:rPr b="1" lang="he-IL" sz="5400" spc="-1" strike="noStrike">
                <a:solidFill>
                  <a:srgbClr val="ffff00"/>
                </a:solidFill>
                <a:latin typeface="David"/>
                <a:ea typeface="David"/>
              </a:rPr>
              <a:t>  ממוחשב עתידי  בבית  החולה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9" name="Object 2055" descr=""/>
          <p:cNvPicPr/>
          <p:nvPr/>
        </p:nvPicPr>
        <p:blipFill>
          <a:blip r:embed="rId1"/>
          <a:stretch/>
        </p:blipFill>
        <p:spPr>
          <a:xfrm>
            <a:off x="1828800" y="5410080"/>
            <a:ext cx="5562720" cy="152424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pic>
        <p:nvPicPr>
          <p:cNvPr id="140" name="Object 2056" descr=""/>
          <p:cNvPicPr/>
          <p:nvPr/>
        </p:nvPicPr>
        <p:blipFill>
          <a:blip r:embed="rId2"/>
          <a:stretch/>
        </p:blipFill>
        <p:spPr>
          <a:xfrm>
            <a:off x="7086600" y="5145120"/>
            <a:ext cx="2055960" cy="20178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fff00"/>
            </a:outerShdw>
          </a:effectLst>
        </p:spPr>
      </p:pic>
      <p:sp>
        <p:nvSpPr>
          <p:cNvPr id="141" name=""/>
          <p:cNvSpPr txBox="1"/>
          <p:nvPr/>
        </p:nvSpPr>
        <p:spPr>
          <a:xfrm>
            <a:off x="228240" y="1981080"/>
            <a:ext cx="8991720" cy="4114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1932"/>
            </a:outerShdw>
          </a:effectLst>
        </p:spPr>
        <p:txBody>
          <a:bodyPr anchor="t">
            <a:normAutofit fontScale="71000"/>
          </a:bodyPr>
          <a:p>
            <a:pPr marL="243360" indent="-24336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David"/>
                <a:ea typeface="David"/>
              </a:rPr>
              <a:t>   </a:t>
            </a:r>
            <a:r>
              <a:rPr b="1" lang="he-IL" sz="4800" spc="-1" strike="noStrike">
                <a:solidFill>
                  <a:srgbClr val="ffffff"/>
                </a:solidFill>
                <a:latin typeface="David"/>
                <a:cs typeface="David"/>
              </a:rPr>
              <a:t>ד"ר דורון גרפינקל, אילן שפר</a:t>
            </a:r>
            <a:r>
              <a:rPr b="1" lang="en-US" sz="4800" spc="-1" strike="noStrike">
                <a:solidFill>
                  <a:srgbClr val="ffffff"/>
                </a:solidFill>
                <a:latin typeface="David"/>
                <a:ea typeface="David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ff"/>
                </a:solidFill>
                <a:latin typeface="David"/>
                <a:cs typeface="David"/>
              </a:rPr>
              <a:t>ד"ר</a:t>
            </a:r>
            <a:r>
              <a:rPr b="1" lang="he-IL" sz="6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800" spc="-1" strike="noStrike">
                <a:solidFill>
                  <a:srgbClr val="ffffff"/>
                </a:solidFill>
                <a:latin typeface="David"/>
                <a:cs typeface="David"/>
              </a:rPr>
              <a:t>ישראל ברגר</a:t>
            </a:r>
            <a:r>
              <a:rPr b="1" lang="en-US" sz="4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800" spc="-1" strike="noStrike">
                <a:solidFill>
                  <a:srgbClr val="ffffff"/>
                </a:solidFill>
                <a:latin typeface="David"/>
                <a:cs typeface="David"/>
              </a:rPr>
              <a:t>ואדוארדו סלוין</a:t>
            </a:r>
            <a:r>
              <a:rPr b="1" lang="he-IL" sz="4000" spc="-1" strike="noStrike" baseline="30000">
                <a:solidFill>
                  <a:srgbClr val="ffffff"/>
                </a:solidFill>
                <a:latin typeface="David"/>
                <a:ea typeface="David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David"/>
                <a:ea typeface="Davi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ffff"/>
                </a:solidFill>
                <a:latin typeface="Impact"/>
                <a:cs typeface="David"/>
              </a:rPr>
              <a:t>יחידה לטיפול בית - מחוז דן</a:t>
            </a:r>
            <a:r>
              <a:rPr b="1" lang="en-US" sz="4400" spc="-1" strike="noStrike">
                <a:solidFill>
                  <a:srgbClr val="ccffff"/>
                </a:solidFill>
                <a:latin typeface="Impact"/>
                <a:ea typeface="David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ccffff"/>
                </a:solidFill>
                <a:latin typeface="Impact"/>
                <a:ea typeface="David"/>
              </a:rPr>
              <a:t>1</a:t>
            </a:r>
            <a:r>
              <a:rPr b="1" lang="he-IL" sz="4400" spc="-1" strike="noStrike">
                <a:solidFill>
                  <a:srgbClr val="ccffff"/>
                </a:solidFill>
                <a:latin typeface="Impact"/>
                <a:cs typeface="David"/>
              </a:rPr>
              <a:t>מחלקת  מחשוב  מרפאות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  <a:ea typeface="Davi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 algn="ctr" rtl="1">
              <a:spcBef>
                <a:spcPts val="11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243360" indent="-243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0880" y="2057400"/>
            <a:ext cx="8763120" cy="5029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חלק מהדפים בתיק מיועד לשמש כעזר טכני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 algn="r" rtl="1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מטופל או למטפל הראשוני בבית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 algn="r" rtl="1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כמעט בכל הטפסים קיימות ברירות מחדל רבות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 algn="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)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יש לסמן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במסיח הנכון)  ורק במיעוטם  יש מקום למלל,  דבר המאפשר פשטות ומהירות בהכנסת מידע 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INPUT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)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ea typeface="Davi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124080" y="914400"/>
            <a:ext cx="3200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מ ד ו 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14800" y="642924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0880" y="1980720"/>
            <a:ext cx="8763120" cy="4876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ניתן לכל גורם להתעדכן במידע שהוכנס ע"י חברי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צוות מתחום מומחיותו ולהוסיף מידע רק במדורו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   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דוגמה, אחות תרשום כל שתרצה במדור </a:t>
            </a:r>
            <a:r>
              <a:rPr b="1" lang="he-IL" sz="3200" spc="-1" strike="noStrike">
                <a:solidFill>
                  <a:srgbClr val="ff99ff"/>
                </a:solidFill>
                <a:latin typeface="David"/>
                <a:ea typeface="David"/>
              </a:rPr>
              <a:t>"סיעוד"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"    </a:t>
            </a:r>
            <a:r>
              <a:rPr b="1" lang="en-US" sz="2000" spc="-1" strike="noStrike">
                <a:solidFill>
                  <a:srgbClr val="ffffff"/>
                </a:solidFill>
                <a:latin typeface="David"/>
                <a:ea typeface="David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    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אך  אינה מורשית לרשום במדור "</a:t>
            </a:r>
            <a:r>
              <a:rPr b="1" lang="he-IL" sz="3200" spc="-1" strike="noStrike">
                <a:solidFill>
                  <a:srgbClr val="99ffcc"/>
                </a:solidFill>
                <a:latin typeface="David"/>
                <a:cs typeface="David"/>
              </a:rPr>
              <a:t>פיזיותרפיה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"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עדכון והעברת מידע בין חברי צוות מתחום שונה</a:t>
            </a: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David"/>
                <a:ea typeface="David"/>
              </a:rPr>
              <a:t>                   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David"/>
              </a:rPr>
              <a:t>מתאפשרים ע"י המדור  ה ”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Levenim MT"/>
              </a:rPr>
              <a:t>בין תחומי</a:t>
            </a:r>
            <a:r>
              <a:rPr b="1" lang="en-US" sz="3200" spc="-1" strike="noStrike">
                <a:solidFill>
                  <a:srgbClr val="ffff00"/>
                </a:solidFill>
                <a:latin typeface="Impact"/>
                <a:ea typeface="Davi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6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124080" y="914400"/>
            <a:ext cx="3200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מ ד ו 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214800" y="642924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0000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Impact"/>
                <a:ea typeface="Davi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1" name="Object 4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71280"/>
            <a:ext cx="8839080" cy="1067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267080" y="1066680"/>
            <a:ext cx="4648320" cy="764280"/>
          </a:xfrm>
          <a:prstGeom prst="rect">
            <a:avLst/>
          </a:prstGeom>
          <a:noFill/>
          <a:ln w="0">
            <a:noFill/>
          </a:ln>
          <a:effectLst>
            <a:outerShdw dist="2556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ש  י  ט  ה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V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 -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380880" y="3048120"/>
          <a:ext cx="87631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81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216" name="Text Box 8"/>
          <p:cNvSpPr/>
          <p:nvPr/>
        </p:nvSpPr>
        <p:spPr>
          <a:xfrm>
            <a:off x="4114800" y="3230640"/>
            <a:ext cx="2057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ר פ ו א 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79200" y="6400800"/>
            <a:ext cx="90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 rot="20785800">
            <a:off x="2163600" y="3477960"/>
            <a:ext cx="1651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ס י ע ו 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 rot="1215600">
            <a:off x="5967360" y="3566880"/>
            <a:ext cx="2489040" cy="784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עבודה</a:t>
            </a:r>
            <a:r>
              <a:rPr b="1" lang="en-US" sz="28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"/>
                <a:ea typeface="David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סוציאל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 rot="20613600">
            <a:off x="5775480" y="5263560"/>
            <a:ext cx="1806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פיזיותרפי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468200" y="4495680"/>
            <a:ext cx="12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דיאט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 rot="1126800">
            <a:off x="1142640" y="4991040"/>
            <a:ext cx="2290680" cy="6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קלינאי 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219320" y="3962520"/>
            <a:ext cx="12380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ריפו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בעיסו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47920" y="2362320"/>
            <a:ext cx="6553080" cy="113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0000"/>
                </a:solidFill>
                <a:latin typeface="David"/>
                <a:cs typeface="Levenim MT"/>
              </a:rPr>
              <a:t>שבעת המדורים </a:t>
            </a:r>
            <a:r>
              <a:rPr b="1" lang="he-IL" sz="3600" spc="-1" strike="noStrike">
                <a:solidFill>
                  <a:srgbClr val="ff0000"/>
                </a:solidFill>
                <a:latin typeface="David"/>
                <a:ea typeface="Levenim MT"/>
              </a:rPr>
              <a:t>+</a:t>
            </a:r>
            <a:r>
              <a:rPr b="1" lang="he-IL" sz="3200" spc="-1" strike="noStrike">
                <a:solidFill>
                  <a:srgbClr val="ff0000"/>
                </a:solidFill>
                <a:latin typeface="David"/>
                <a:ea typeface="Levenim MT"/>
              </a:rPr>
              <a:t> </a:t>
            </a:r>
            <a:r>
              <a:rPr b="1" lang="he-IL" sz="3200" spc="-1" strike="noStrike">
                <a:solidFill>
                  <a:srgbClr val="ffff00"/>
                </a:solidFill>
                <a:latin typeface="David"/>
                <a:cs typeface="Levenim MT"/>
              </a:rPr>
              <a:t>מדור בין תחומ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200400" y="54100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0000"/>
                </a:solidFill>
                <a:latin typeface="Times New Roman"/>
                <a:cs typeface="David"/>
              </a:rPr>
              <a:t>בין  תחומ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Object 18" descr=""/>
          <p:cNvPicPr/>
          <p:nvPr/>
        </p:nvPicPr>
        <p:blipFill>
          <a:blip r:embed="rId4"/>
          <a:stretch/>
        </p:blipFill>
        <p:spPr>
          <a:xfrm>
            <a:off x="3048120" y="3666960"/>
            <a:ext cx="3352680" cy="1905120"/>
          </a:xfrm>
          <a:prstGeom prst="rect">
            <a:avLst/>
          </a:prstGeom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</p:pic>
      <p:sp>
        <p:nvSpPr>
          <p:cNvPr id="227" name="Text Box 5"/>
          <p:cNvSpPr/>
          <p:nvPr/>
        </p:nvSpPr>
        <p:spPr>
          <a:xfrm>
            <a:off x="3214800" y="642924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1905120"/>
            <a:ext cx="8763120" cy="5029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מופיע בתחילת התיק לשימוש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2800" spc="-1" strike="noStrike" u="sng">
                <a:solidFill>
                  <a:srgbClr val="ffff00"/>
                </a:solidFill>
                <a:uFillTx/>
                <a:latin typeface="David"/>
                <a:cs typeface="Levenim MT"/>
              </a:rPr>
              <a:t>כל חברי הצוות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00000"/>
              </a:lnSpc>
              <a:spcBef>
                <a:spcPts val="950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800" spc="-1" strike="noStrike">
                <a:solidFill>
                  <a:srgbClr val="ffffff"/>
                </a:solidFill>
                <a:latin typeface="David"/>
                <a:cs typeface="David"/>
              </a:rPr>
              <a:t>פרטים דמוגרפיים ומידע לגבי המטופל,  מגוריו ומשפחתו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00000"/>
              </a:lnSpc>
              <a:spcBef>
                <a:spcPts val="950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800" spc="-1" strike="noStrike">
                <a:solidFill>
                  <a:srgbClr val="ffffff"/>
                </a:solidFill>
                <a:latin typeface="David"/>
                <a:cs typeface="David"/>
              </a:rPr>
              <a:t>סיכום קצר לגבי מצב החולה מוכנס  ע”י כל  הגורמים המקצועיים המטפלים (כולל </a:t>
            </a:r>
            <a:r>
              <a:rPr b="1" lang="en-US" sz="3800" spc="-1" strike="noStrike">
                <a:solidFill>
                  <a:srgbClr val="ffffff"/>
                </a:solidFill>
                <a:latin typeface="David"/>
                <a:ea typeface="David"/>
              </a:rPr>
              <a:t>FIM</a:t>
            </a:r>
            <a:r>
              <a:rPr b="1" lang="he-IL" sz="3800" spc="-1" strike="noStrike">
                <a:solidFill>
                  <a:srgbClr val="ffffff"/>
                </a:solidFill>
                <a:latin typeface="David"/>
                <a:ea typeface="David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00000"/>
              </a:lnSpc>
              <a:spcBef>
                <a:spcPts val="950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800" spc="-1" strike="noStrike">
                <a:solidFill>
                  <a:srgbClr val="ffffff"/>
                </a:solidFill>
                <a:latin typeface="David"/>
                <a:cs typeface="David"/>
              </a:rPr>
              <a:t>דפי מעבדה, הדמיה, תרופות, אלרגיות ואשפוזים קודמים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9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362320" y="990720"/>
            <a:ext cx="4952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מדור בין תחומי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1905120"/>
            <a:ext cx="8763120" cy="5029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דף אתראות/ המלצות לשימוש כל חברי הצוות לצורך המלצות/הוראות לחברי צוות אחרים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 algn="r" rtl="1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ניתן לראות במדור זה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ea typeface="David"/>
              </a:rPr>
              <a:t>"ישיבת צוות וירטואלית”   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כאשר כל איש צוות יתעדכן מאלו שהיו לפניו ויעדכן  חברי צוות שייכנסו אחריו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 algn="r" rtl="1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גבי העובדות החשובות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סיכומי ישיבות הצוות הרגילות יצורפו גם הם למדור  הבין תחומי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3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362320" y="990720"/>
            <a:ext cx="4952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מדור בין תחומי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8686800" y="5029200"/>
            <a:ext cx="380880" cy="3808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0880" y="1828800"/>
            <a:ext cx="8763120" cy="50292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0000"/>
            </a:outerShdw>
          </a:effectLst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האם כדאי להשאיר כל הרישו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רק  בבית  החולה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רק  במשרדי  היחידה לטיפול  בית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גם  בבית וגם  במשרד  -  תיקים חופפים או שוני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*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האם להמשיך ולפתח תוכנות מחשב קיימות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          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למרות שאינן  עונות על  הצרכי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?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8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752480" y="990720"/>
            <a:ext cx="6324840" cy="143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ש  א  ל  ו  ת   פ  ת  ו  ח  ו  ת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857680" y="642924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1143000" y="3124080"/>
          <a:ext cx="62485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248520" cy="1452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8321" dir="6718175" blurRad="0" rotWithShape="0">
                      <a:srgbClr val="001932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4" name="Object 3"/>
          <p:cNvGraphicFramePr/>
          <p:nvPr/>
        </p:nvGraphicFramePr>
        <p:xfrm>
          <a:off x="7010280" y="3352680"/>
          <a:ext cx="221004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352680"/>
                    <a:ext cx="221004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146" name="Rectangle 4"/>
          <p:cNvSpPr/>
          <p:nvPr/>
        </p:nvSpPr>
        <p:spPr>
          <a:xfrm>
            <a:off x="1219320" y="106200"/>
            <a:ext cx="79851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0" y="2590920"/>
          <a:ext cx="36576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590920"/>
                    <a:ext cx="3657600" cy="1523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17296359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Rectangle 6"/>
          <p:cNvSpPr/>
          <p:nvPr/>
        </p:nvSpPr>
        <p:spPr>
          <a:xfrm>
            <a:off x="0" y="258840"/>
            <a:ext cx="9142560" cy="118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f0033"/>
                </a:solidFill>
                <a:latin typeface="Times New Roman"/>
                <a:cs typeface="David"/>
              </a:rPr>
              <a:t>היחידה לטיפול  בית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 rot="341400">
            <a:off x="582480" y="4799160"/>
            <a:ext cx="8759880" cy="13114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Times New Roman"/>
                <a:cs typeface="David"/>
              </a:rPr>
              <a:t>הבאת מכלול השירותים לחולה המרותק לבית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429000" y="2057400"/>
            <a:ext cx="3429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ff00"/>
                </a:solidFill>
                <a:uFillTx/>
                <a:latin typeface="Times New Roman"/>
                <a:cs typeface="Levenim MT"/>
              </a:rPr>
              <a:t>ה מ ט ר ה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120" y="1523880"/>
            <a:ext cx="8534520" cy="2819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306"/>
            </a:outerShdw>
          </a:effectLst>
        </p:spPr>
        <p:txBody>
          <a:bodyPr anchor="t">
            <a:normAutofit fontScale="66000"/>
          </a:bodyPr>
          <a:p>
            <a:pPr marL="226080" indent="-2260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ffff"/>
                </a:solidFill>
                <a:latin typeface="Impact"/>
                <a:ea typeface="David"/>
              </a:rPr>
              <a:t>*</a:t>
            </a:r>
            <a:r>
              <a:rPr b="1" lang="en-US" sz="60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Impact"/>
                <a:cs typeface="David"/>
              </a:rPr>
              <a:t>הביזור</a:t>
            </a:r>
            <a:r>
              <a:rPr b="1" lang="he-IL" sz="2800" spc="-1" strike="noStrike">
                <a:solidFill>
                  <a:srgbClr val="ffffff"/>
                </a:solidFill>
                <a:latin typeface="Impact"/>
                <a:ea typeface="David"/>
              </a:rPr>
              <a:t>  </a:t>
            </a:r>
            <a:r>
              <a:rPr b="1" lang="he-IL" sz="2900" spc="-1" strike="noStrike">
                <a:solidFill>
                  <a:srgbClr val="ffffff"/>
                </a:solidFill>
                <a:latin typeface="Impact"/>
                <a:cs typeface="David"/>
              </a:rPr>
              <a:t>מקשה על פיקוח ובקרה של עבודת הצוות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  <a:p>
            <a:pPr marL="226080" indent="-226080" algn="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Impact"/>
                <a:ea typeface="David"/>
              </a:rPr>
              <a:t>*</a:t>
            </a: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 </a:t>
            </a:r>
            <a:r>
              <a:rPr b="1" lang="he-IL" sz="2900" spc="-1" strike="noStrike">
                <a:solidFill>
                  <a:srgbClr val="ffffff"/>
                </a:solidFill>
                <a:latin typeface="Impact"/>
                <a:cs typeface="David"/>
              </a:rPr>
              <a:t>לא רק שהחולים והצוות אינם מרוכזים יחדיו כמו בבי”ח</a:t>
            </a: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                         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  <a:p>
            <a:pPr marL="226080" indent="-226080" algn="r" rtl="1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     </a:t>
            </a:r>
            <a:r>
              <a:rPr b="1" lang="he-IL" sz="2900" spc="-1" strike="noStrike">
                <a:solidFill>
                  <a:srgbClr val="ffffff"/>
                </a:solidFill>
                <a:latin typeface="Impact"/>
                <a:cs typeface="David"/>
              </a:rPr>
              <a:t>אלא שכל חולה מטופל ע”י  צירוף שונה של אנשי צוות</a:t>
            </a: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  <a:p>
            <a:pPr marL="226080" indent="-226080" algn="r" rtl="1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Impact"/>
                <a:ea typeface="David"/>
              </a:rPr>
              <a:t>*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he-IL" sz="2900" spc="-1" strike="noStrike">
                <a:solidFill>
                  <a:srgbClr val="ffffff"/>
                </a:solidFill>
                <a:latin typeface="Impact"/>
                <a:cs typeface="David"/>
              </a:rPr>
              <a:t>עובדה זו מקשה גם על קיום ישיבות צוות יעילות וגם</a:t>
            </a: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                        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  <a:p>
            <a:pPr marL="226080" indent="-2260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Impact"/>
                <a:ea typeface="David"/>
              </a:rPr>
              <a:t>       </a:t>
            </a:r>
            <a:r>
              <a:rPr b="1" lang="he-IL" sz="2900" spc="-1" strike="noStrike">
                <a:solidFill>
                  <a:srgbClr val="ffffff"/>
                </a:solidFill>
                <a:latin typeface="Impact"/>
                <a:cs typeface="David"/>
              </a:rPr>
              <a:t>על העברת מידע מהיר בין אנשי הצוות השונים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26080" indent="-226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08440" y="640080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Object 7" descr=""/>
          <p:cNvPicPr/>
          <p:nvPr/>
        </p:nvPicPr>
        <p:blipFill>
          <a:blip r:embed="rId1"/>
          <a:stretch/>
        </p:blipFill>
        <p:spPr>
          <a:xfrm>
            <a:off x="0" y="22860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56" name="Text Box 8"/>
          <p:cNvSpPr/>
          <p:nvPr/>
        </p:nvSpPr>
        <p:spPr>
          <a:xfrm>
            <a:off x="3581280" y="1066680"/>
            <a:ext cx="2210040" cy="1434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ר  ק  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1932"/>
            </a:outerShdw>
          </a:effectLst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45000"/>
              </a:lnSpc>
              <a:spcBef>
                <a:spcPts val="700"/>
              </a:spcBef>
              <a:buClr>
                <a:srgbClr val="ccffff"/>
              </a:buClr>
              <a:buSzPct val="15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Impact"/>
                <a:cs typeface="David"/>
              </a:rPr>
              <a:t>הדרך היעילה ביותר לתקשורת  לצוות המטפל  בחולים מרותקים  - היא תיק ממוחשב בבית החולה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 algn="r" rtl="1">
              <a:lnSpc>
                <a:spcPct val="145000"/>
              </a:lnSpc>
              <a:spcBef>
                <a:spcPts val="700"/>
              </a:spcBef>
              <a:buClr>
                <a:srgbClr val="ccffff"/>
              </a:buClr>
              <a:buSzPct val="15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Impact"/>
                <a:cs typeface="David"/>
              </a:rPr>
              <a:t>סידור זה מאפשר שליפה והכנסה מהירה של מידע ע”י כל איש צוות בבית החולה ותקשורת אלקטרונית למחשב מרכזי במשרדי היחידה  בו מרוכז מידע לגבי כל החולי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 algn="r" rtl="1">
              <a:lnSpc>
                <a:spcPct val="145000"/>
              </a:lnSpc>
              <a:spcBef>
                <a:spcPts val="700"/>
              </a:spcBef>
              <a:buClr>
                <a:srgbClr val="ccffff"/>
              </a:buClr>
              <a:buSzPct val="15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David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Impact"/>
                <a:cs typeface="David"/>
              </a:rPr>
              <a:t>הבעיות בדרך להשגת הפתרון  -  </a:t>
            </a:r>
            <a:r>
              <a:rPr b="1" lang="he-IL" sz="3200" spc="-1" strike="noStrike">
                <a:solidFill>
                  <a:srgbClr val="ffffff"/>
                </a:solidFill>
                <a:latin typeface="Impact"/>
                <a:cs typeface="David"/>
              </a:rPr>
              <a:t>עלות  ושינוי תפיסה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Davi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 algn="r" rtl="1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8" name="Object 4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59" name="Text Box 5"/>
          <p:cNvSpPr/>
          <p:nvPr/>
        </p:nvSpPr>
        <p:spPr>
          <a:xfrm>
            <a:off x="2419200" y="6253200"/>
            <a:ext cx="41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914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352680" y="1066680"/>
            <a:ext cx="2971800" cy="1434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פ  ת  ר  ו  ן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440" y="1752120"/>
            <a:ext cx="8458200" cy="52578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1932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Impact"/>
                <a:ea typeface="David"/>
              </a:rPr>
              <a:t>  </a:t>
            </a:r>
            <a:r>
              <a:rPr b="1" lang="en-US" sz="3200" spc="-1" strike="noStrike">
                <a:solidFill>
                  <a:srgbClr val="ff0033"/>
                </a:solidFill>
                <a:latin typeface="Impact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כצעד ראשון בדרך למחשוב עתידי שעלותו גבוהה, החלטנו לפתח תיק חולה רגיל המאפשר ריכוז הרישומים המקצועיים בכתב ע"י כל גורם מקצועי וגישה למידע שהוכנס ע"י חברי הצוות האחרים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776680" y="6324480"/>
            <a:ext cx="37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Object 6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066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343400" y="990720"/>
            <a:ext cx="4572000" cy="764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ש  י  ט  ה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 - 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I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880" y="1905120"/>
            <a:ext cx="8763120" cy="441936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1932"/>
            </a:outerShdw>
          </a:effectLst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א).  המטרה הסופית - תיק ממוחשב בבית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        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לכן תוכנן התיק בצורה הניתנת בקלות להמרה למחשוב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ב).  מסגרת רחבה, גמישה ומודולרית ואפשרות התאמת  התיק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  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למודלים השונים של יחידות לטיפול בית במכבי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ג).  מתן ביטוי לטיפול הבין תחומי בבית  ואפשרות מהירה לכ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   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גורם מקצועי לשלוף ו/או להוסיף מידע  ספציפי,  אך גם</a:t>
            </a: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     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להתעדכן  בהמלצות הגורמים  המקצועיים  האחרי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ד).  גיבוי המידע תוך שמירת עקרונות סודיות ואתיקה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8" name="Object 6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761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85920" y="1087560"/>
            <a:ext cx="3709800" cy="14346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ע  ק  ר  ו  נ  ו  ת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724280" y="990720"/>
            <a:ext cx="4343400" cy="1434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ש  י  ט  ה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-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II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440" y="1828800"/>
            <a:ext cx="8458200" cy="44956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0000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Impact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התיק ממודר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ea typeface="David"/>
              </a:rPr>
              <a:t> - לכל גורם מקצועי יש חלק המיועד לו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                   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ומופרד מהמדורים האחרי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048040" y="6324480"/>
            <a:ext cx="44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067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267080" y="1066680"/>
            <a:ext cx="4648320" cy="764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ש  י  ט  ה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-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III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380880" y="3071880"/>
          <a:ext cx="87631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7188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179" name="Text Box 8"/>
          <p:cNvSpPr/>
          <p:nvPr/>
        </p:nvSpPr>
        <p:spPr>
          <a:xfrm>
            <a:off x="4114800" y="3230640"/>
            <a:ext cx="2057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ר פ ו א 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9200" y="6400800"/>
            <a:ext cx="90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 rot="20785800">
            <a:off x="2163600" y="34286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ס י ע ו 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 rot="1384800">
            <a:off x="5941800" y="3580920"/>
            <a:ext cx="2489040" cy="6998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עבודה</a:t>
            </a:r>
            <a:r>
              <a:rPr b="1" lang="en-US" sz="2800" spc="-1" strike="noStrike">
                <a:solidFill>
                  <a:srgbClr val="000000"/>
                </a:solidFill>
                <a:latin typeface="David"/>
                <a:ea typeface="Davi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vid"/>
                <a:ea typeface="David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David"/>
                <a:cs typeface="David"/>
              </a:rPr>
              <a:t>סוציאל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 rot="20613600">
            <a:off x="5775480" y="5263560"/>
            <a:ext cx="1806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פיזיותרפי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7468200" y="4495680"/>
            <a:ext cx="12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דיאט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 rot="1606200">
            <a:off x="1066320" y="5028840"/>
            <a:ext cx="2291040" cy="648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ff00"/>
                </a:solidFill>
                <a:latin typeface="David"/>
                <a:cs typeface="David"/>
              </a:rPr>
              <a:t>קלינאי 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219320" y="3962520"/>
            <a:ext cx="12380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ריפו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cs typeface="David"/>
              </a:rPr>
              <a:t>בעיסו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3200400" y="4373640"/>
            <a:ext cx="3352680" cy="5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0000"/>
                </a:solidFill>
                <a:latin typeface="David"/>
                <a:cs typeface="Levenim MT"/>
              </a:rPr>
              <a:t>שבעת המדור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1523880" y="1066680"/>
            <a:ext cx="2971800" cy="764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מ י ד ו 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0880" y="2133360"/>
            <a:ext cx="8763120" cy="4724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המסגרת הבסיסית דומה לכל המדורים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7560" indent="-27756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גבי כל מקצוע קיימים </a:t>
            </a:r>
            <a:r>
              <a:rPr b="1" lang="he-IL" sz="3600" spc="-1" strike="noStrike">
                <a:solidFill>
                  <a:srgbClr val="ff99cc"/>
                </a:solidFill>
                <a:latin typeface="David"/>
                <a:cs typeface="David"/>
              </a:rPr>
              <a:t>גיליונות קבלה והערכה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77560" indent="-27756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של המטופל, </a:t>
            </a:r>
            <a:r>
              <a:rPr b="1" lang="he-IL" sz="3600" spc="-1" strike="noStrike">
                <a:solidFill>
                  <a:srgbClr val="66ffff"/>
                </a:solidFill>
                <a:latin typeface="David"/>
                <a:cs typeface="David"/>
              </a:rPr>
              <a:t>גיליון מעקב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David"/>
                <a:cs typeface="David"/>
              </a:rPr>
              <a:t>וגיליון סיכום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ea typeface="David"/>
              </a:rPr>
              <a:t> המיועד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77560" indent="-27756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שחרור מטופל מהיחידה ו / או העברת מידע  לגורם מחוץ  ליחידה (במכבי או אחר)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77560" indent="-27756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0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714680" y="64292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495680" y="1066680"/>
            <a:ext cx="4648320" cy="764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 ש  י  ט  ה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-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IV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133720" y="1066680"/>
            <a:ext cx="2209680" cy="1434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מ ד ו 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בנוסף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ea typeface="David"/>
              </a:rPr>
              <a:t> לקובץ הבסיסי  קיימים קבצים משלימים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חולים עם בעיות ספציפיות</a:t>
            </a: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David"/>
                <a:cs typeface="David"/>
              </a:rPr>
              <a:t>לדוגמה, במדור הסיעוד :  </a:t>
            </a:r>
            <a:r>
              <a:rPr b="1" lang="he-IL" sz="2400" spc="-1" strike="noStrike">
                <a:solidFill>
                  <a:srgbClr val="ffff00"/>
                </a:solidFill>
                <a:latin typeface="Levenim MT"/>
                <a:ea typeface="Levenim MT"/>
              </a:rPr>
              <a:t>"גיליון  מעקב סוכרת "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evenim MT"/>
                <a:ea typeface="Levenim MT"/>
              </a:rPr>
              <a:t>“</a:t>
            </a:r>
            <a:r>
              <a:rPr b="1" lang="he-IL" sz="2400" spc="-1" strike="noStrike">
                <a:solidFill>
                  <a:srgbClr val="ffff00"/>
                </a:solidFill>
                <a:latin typeface="Levenim MT"/>
                <a:cs typeface="Levenim MT"/>
              </a:rPr>
              <a:t>קובץ פצעים"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ea typeface="David"/>
              </a:rPr>
              <a:t>(להערכה, מעקב וטיפול בפצעי לחץ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evenim MT"/>
                <a:ea typeface="Levenim MT"/>
              </a:rPr>
              <a:t>"</a:t>
            </a:r>
            <a:r>
              <a:rPr b="1" lang="he-IL" sz="2400" spc="-1" strike="noStrike">
                <a:solidFill>
                  <a:srgbClr val="ffff00"/>
                </a:solidFill>
                <a:latin typeface="Levenim MT"/>
                <a:cs typeface="Levenim MT"/>
              </a:rPr>
              <a:t>קובץ סיעוד אונקולוגי” </a:t>
            </a:r>
            <a:r>
              <a:rPr b="1" lang="he-IL" sz="2800" spc="-1" strike="noStrike">
                <a:solidFill>
                  <a:srgbClr val="ffffff"/>
                </a:solidFill>
                <a:latin typeface="David"/>
                <a:ea typeface="David"/>
              </a:rPr>
              <a:t>(כולל הערכת סימפטומים וכד'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או למדור פיזיותרפיה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 algn="r" rtl="1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David"/>
                <a:ea typeface="David"/>
              </a:rPr>
              <a:t>   "</a:t>
            </a:r>
            <a:r>
              <a:rPr b="1" lang="he-IL" sz="2400" spc="-1" strike="noStrike">
                <a:solidFill>
                  <a:srgbClr val="ffff00"/>
                </a:solidFill>
                <a:latin typeface="Levenim MT"/>
                <a:cs typeface="Levenim MT"/>
              </a:rPr>
              <a:t>גיליון  הערכה לחולה אחר אירוע מוחי" </a:t>
            </a:r>
            <a:r>
              <a:rPr b="1" lang="he-IL" sz="3200" spc="-1" strike="noStrike">
                <a:solidFill>
                  <a:srgbClr val="ffffff"/>
                </a:solidFill>
                <a:latin typeface="David"/>
                <a:cs typeface="David"/>
              </a:rPr>
              <a:t>וכו'.</a:t>
            </a:r>
            <a:r>
              <a:rPr b="1" lang="en-US" sz="32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76320"/>
            <a:ext cx="1143000" cy="838080"/>
          </a:xfrm>
          <a:prstGeom prst="rect">
            <a:avLst/>
          </a:prstGeom>
          <a:ln w="0">
            <a:noFill/>
          </a:ln>
          <a:effectLst>
            <a:outerShdw dist="77353" dir="16762479" blurRad="0" rotWithShape="0">
              <a:srgbClr val="ff0000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avid"/>
                <a:ea typeface="David"/>
              </a:rPr>
              <a:t>   </a:t>
            </a:r>
            <a:r>
              <a:rPr b="1" lang="he-IL" sz="6000" spc="-1" strike="noStrike">
                <a:solidFill>
                  <a:srgbClr val="ffff00"/>
                </a:solidFill>
                <a:latin typeface="David"/>
                <a:cs typeface="David"/>
              </a:rPr>
              <a:t>פיתוח  תיק  מטופל  בבית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14800" y="642924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cc"/>
                </a:solidFill>
                <a:latin typeface="Times New Roman"/>
                <a:cs typeface="David"/>
              </a:rPr>
              <a:t>היחידה לטיפול בית- מחוז ד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124080" y="914400"/>
            <a:ext cx="3200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ה מ ד ו 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11:02:47Z</dcterms:created>
  <dc:creator>DR. Or Garfinkel</dc:creator>
  <dc:description/>
  <dc:language>en-US</dc:language>
  <cp:lastModifiedBy>דורון</cp:lastModifiedBy>
  <dcterms:modified xsi:type="dcterms:W3CDTF">2010-08-17T09:15:12Z</dcterms:modified>
  <cp:revision>27</cp:revision>
  <dc:subject/>
  <dc:title>פיתוח תיק מטופל כהכנה לתיק ממוחשב עתידי בבית החולה</dc:title>
</cp:coreProperties>
</file>