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jpeg" ContentType="image/jpeg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3.jpeg" ContentType="image/jpeg"/>
  <Override PartName="/ppt/media/image28.wmf" ContentType="image/x-wmf"/>
  <Override PartName="/ppt/media/image14.wmf" ContentType="image/x-wmf"/>
  <Override PartName="/ppt/media/image57.png" ContentType="image/png"/>
  <Override PartName="/ppt/media/image60.wmf" ContentType="image/x-wmf"/>
  <Override PartName="/ppt/media/image15.wmf" ContentType="image/x-wmf"/>
  <Override PartName="/ppt/media/image16.wmf" ContentType="image/x-wmf"/>
  <Override PartName="/ppt/media/image20.wmf" ContentType="image/x-wmf"/>
  <Override PartName="/ppt/media/image63.png" ContentType="image/png"/>
  <Override PartName="/ppt/media/image24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TYPE.WAV" ContentType="audio/x-wav"/>
  <Override PartName="/ppt/media/image17.wmf" ContentType="image/x-wmf"/>
  <Override PartName="/ppt/media/image5.wmf" ContentType="image/x-wmf"/>
  <Override PartName="/ppt/media/image35.wmf" ContentType="image/x-wmf"/>
  <Override PartName="/ppt/media/image69.wmf" ContentType="image/x-wmf"/>
  <Override PartName="/ppt/media/image32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7.wmf" ContentType="image/x-wmf"/>
  <Override PartName="/ppt/media/image61.wmf" ContentType="image/x-wmf"/>
  <Override PartName="/ppt/media/image26.wmf" ContentType="image/x-wmf"/>
  <Override PartName="/ppt/media/image23.wmf" ContentType="image/x-wmf"/>
  <Override PartName="/ppt/media/image62.wmf" ContentType="image/x-wmf"/>
  <Override PartName="/ppt/media/image25.wmf" ContentType="image/x-wmf"/>
  <Override PartName="/ppt/media/image2.png" ContentType="image/png"/>
  <Override PartName="/ppt/media/image53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33.jpeg" ContentType="image/jpeg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52.png" ContentType="image/png"/>
  <Override PartName="/ppt/media/image9.wmf" ContentType="image/x-wmf"/>
  <Override PartName="/ppt/media/image39.wmf" ContentType="image/x-wmf"/>
  <Override PartName="/ppt/media/image34.wmf" ContentType="image/x-wmf"/>
  <Override PartName="/ppt/media/image4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10288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9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9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-36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388584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347C20-087D-4ADF-B2DE-148FAE1A1BF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857160" y="851040"/>
            <a:ext cx="514368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29C255-4C5E-4D9E-9DE9-04C45D2A7ED8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796D4B1-EC19-45B4-9850-C87989833AE5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B45E57-5C40-4FB7-9CD0-359092DE725F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8072D4-3903-4F09-A1C9-A1670AF1728C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E7A328-391F-428A-87DF-E5E89CBD0864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C594D5-AEB0-40FC-A3DA-0F419B0E0B17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E5DC99-E82A-40A3-AAB5-C4613C207C55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E74D47-7E21-44AA-9C42-FB391A43BFCF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9D7F5F-24F5-4F2D-B378-90D3D8D9A12D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858960" y="85248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A3D34C-BCBA-482B-BC5C-901310163896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858960" y="85248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2CADD0-0336-4C5C-B1E3-2657859AC0D3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75CB7C-D98A-412E-B43D-144C55991F27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610047-F0B4-4ABD-B5EA-BB70A1218722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479021-966D-4694-86F8-49CC2E44A745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736941-BBA2-45A3-8CC8-FDBCC11C4F1B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794A54-0BA3-4B5B-B2A1-D76CFEEB2A20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6B12E6-CB48-4E99-B85B-370777FE87B5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94399F-207A-42DB-802C-CDDC74DA2E3D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491EDA-D053-45D9-895A-DEE08F629E05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3F5A179-5CC9-436B-8B2E-5690AE7AF94C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A762F0-4695-4DCE-AD74-921F3518B0DA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858960" y="85248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9901CE-BED6-4779-9658-71BE4ADD4851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23BD0B-C887-43BA-94E0-E2F4E566B266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96CD0B-790D-499E-9B4A-E354383C9E4F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5E70488-3C35-4148-AD46-50B05E7C71D6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FEABA9-DE0F-4BE8-BFB3-36407F02E17B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F6C47C-F21D-42BE-9B7F-8607A64BBA72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0A3DC2-D0B0-48D7-BDC2-9D53093B57F6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860400" y="851040"/>
            <a:ext cx="5137200" cy="342576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5217F7-F54F-414C-86F1-0C7CA10AF8D2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BB0F15-A419-41E0-A461-796BB25DE67E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94CDD5-7C0E-4EB8-9B28-21C2A7938D98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ED82B3-9465-4FFF-95DB-30B9F7F13DF6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60F3135-39AA-42F1-98CA-710F2562B316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C9E0BB-245A-46A9-80FE-1BCD87235845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0068E0-E873-4481-9826-F6A5AED8B65C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89EB6C-22A6-4EC8-B995-FCAB301C513F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3B65-9563-4050-ADB3-5BE2D7D2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5A7-F044-4716-A2A3-529291E9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102-F934-4376-A884-4BFD5C0F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207-90D1-407D-A3F7-A87E2458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B36-94E0-478D-A536-05F2AAD5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7D3-507C-4D22-B73E-4BB464F6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F33-2E37-433A-B1AD-6FF7C2D4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AB7-9E8B-4E5C-8F49-EACF5EF4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85560" y="3427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3F7-9EA9-4BBA-8348-7C00D6A6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CEA-92DB-4F23-9CA3-9707CEBE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443-1E8C-4CB3-84BC-0EA692E4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8B2-1B0C-43C1-9264-00CAD848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4C82-3C59-44F0-AD23-D04AB88CE7CE}" type="slidenum"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523880"/>
            <a:ext cx="102726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733400"/>
            <a:ext cx="102726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590400" y="52560"/>
            <a:ext cx="141948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21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21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9.wmf"/><Relationship Id="rId7" Type="http://schemas.openxmlformats.org/officeDocument/2006/relationships/image" Target="../media/image23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0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0.wmf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image" Target="../media/image16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image" Target="../media/image63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wmf"/><Relationship Id="rId16" Type="http://schemas.openxmlformats.org/officeDocument/2006/relationships/image" Target="../media/image64.wmf"/><Relationship Id="rId1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7.wmf"/><Relationship Id="rId5" Type="http://schemas.openxmlformats.org/officeDocument/2006/relationships/image" Target="../media/image19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9.wmf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9.wmf"/><Relationship Id="rId5" Type="http://schemas.openxmlformats.org/officeDocument/2006/relationships/image" Target="../media/image65.wmf"/><Relationship Id="rId6" Type="http://schemas.openxmlformats.org/officeDocument/2006/relationships/image" Target="../media/image68.wm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9.wmf"/><Relationship Id="rId5" Type="http://schemas.openxmlformats.org/officeDocument/2006/relationships/image" Target="../media/image65.wmf"/><Relationship Id="rId6" Type="http://schemas.openxmlformats.org/officeDocument/2006/relationships/image" Target="../media/image68.wm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9.wmf"/><Relationship Id="rId5" Type="http://schemas.openxmlformats.org/officeDocument/2006/relationships/image" Target="../media/image65.wmf"/><Relationship Id="rId6" Type="http://schemas.openxmlformats.org/officeDocument/2006/relationships/image" Target="../media/image68.wm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image" Target="../media/image65.wmf"/><Relationship Id="rId4" Type="http://schemas.openxmlformats.org/officeDocument/2006/relationships/image" Target="../media/image68.wm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8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helet"/>
          <p:cNvPicPr/>
          <p:nvPr/>
        </p:nvPicPr>
        <p:blipFill>
          <a:blip r:embed="rId1"/>
          <a:stretch/>
        </p:blipFill>
        <p:spPr>
          <a:xfrm>
            <a:off x="7429680" y="5181480"/>
            <a:ext cx="2819160" cy="1600200"/>
          </a:xfrm>
          <a:prstGeom prst="rect">
            <a:avLst/>
          </a:prstGeom>
          <a:ln w="0">
            <a:noFill/>
          </a:ln>
          <a:effectLst>
            <a:outerShdw dist="63504" dir="13016092" blurRad="0" rotWithShape="0">
              <a:srgbClr val="fc0128"/>
            </a:outerShdw>
          </a:effectLst>
        </p:spPr>
      </p:pic>
      <p:sp>
        <p:nvSpPr>
          <p:cNvPr id="52" name="Text Box 3"/>
          <p:cNvSpPr/>
          <p:nvPr/>
        </p:nvSpPr>
        <p:spPr>
          <a:xfrm>
            <a:off x="0" y="2895480"/>
            <a:ext cx="10287000" cy="696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1717"/>
                </a:solidFill>
                <a:latin typeface="David"/>
                <a:cs typeface="David"/>
              </a:rPr>
              <a:t>ד"ר  דורון  גרפינקל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44280"/>
            <a:ext cx="10287000" cy="254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Arial"/>
                <a:cs typeface="Levenim MT"/>
              </a:rPr>
              <a:t>עיכוב  תהליכי הזדקנות –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Levenim MT"/>
              </a:rPr>
              <a:t>רפואה המבוססת על עובדות מול שרלטנות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4" name="Picture 5" descr="LOGOSHOH"/>
          <p:cNvPicPr/>
          <p:nvPr/>
        </p:nvPicPr>
        <p:blipFill>
          <a:blip r:embed="rId2"/>
          <a:stretch/>
        </p:blipFill>
        <p:spPr>
          <a:xfrm>
            <a:off x="19080" y="5181480"/>
            <a:ext cx="2457360" cy="1643040"/>
          </a:xfrm>
          <a:prstGeom prst="rect">
            <a:avLst/>
          </a:prstGeom>
          <a:ln w="0">
            <a:noFill/>
          </a:ln>
          <a:effectLst>
            <a:outerShdw dist="117181" dir="19161632" blurRad="0" rotWithShape="0">
              <a:srgbClr val="5a5a00"/>
            </a:outerShdw>
          </a:effectLst>
        </p:spPr>
      </p:pic>
      <p:sp>
        <p:nvSpPr>
          <p:cNvPr id="55" name="Text Box 6"/>
          <p:cNvSpPr/>
          <p:nvPr/>
        </p:nvSpPr>
        <p:spPr>
          <a:xfrm>
            <a:off x="0" y="3657600"/>
            <a:ext cx="10287000" cy="233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מנהל מחלקה גריאטרית פליאטיבית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המרכז המשולב לרפואה גריאטרית  ע"ש שהם  פרדס -חנה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800" spc="-1" strike="noStrike">
                <a:solidFill>
                  <a:srgbClr val="ffffff"/>
                </a:solidFill>
                <a:latin typeface="David"/>
                <a:cs typeface="David"/>
              </a:rPr>
              <a:t>ויו"ר העמותה  לעיכוב  תהליכים  התלויים בגיל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66680" y="1143000"/>
            <a:ext cx="8991720" cy="459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00"/>
                </a:solidFill>
                <a:latin typeface="Arial"/>
              </a:rPr>
              <a:t>POINTS   FOR   CONSIDER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0" y="1676520"/>
            <a:ext cx="4336920" cy="13521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The BIOLOGY of AGING 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&amp; GENETIC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10029960" cy="8380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51" name="Object 6" descr=""/>
          <p:cNvPicPr/>
          <p:nvPr/>
        </p:nvPicPr>
        <p:blipFill>
          <a:blip r:embed="rId1"/>
          <a:stretch/>
        </p:blipFill>
        <p:spPr>
          <a:xfrm>
            <a:off x="762120" y="5881680"/>
            <a:ext cx="533160" cy="67140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</p:pic>
      <p:pic>
        <p:nvPicPr>
          <p:cNvPr id="152" name="Object 7" descr=""/>
          <p:cNvPicPr/>
          <p:nvPr/>
        </p:nvPicPr>
        <p:blipFill>
          <a:blip r:embed="rId2"/>
          <a:stretch/>
        </p:blipFill>
        <p:spPr>
          <a:xfrm>
            <a:off x="1447920" y="5576760"/>
            <a:ext cx="914400" cy="824040"/>
          </a:xfrm>
          <a:prstGeom prst="rect">
            <a:avLst/>
          </a:prstGeom>
          <a:ln w="0">
            <a:noFill/>
          </a:ln>
          <a:effectLst>
            <a:outerShdw dist="40186" dir="17296359" blurRad="0" rotWithShape="0">
              <a:srgbClr val="fafd00"/>
            </a:outerShdw>
          </a:effectLst>
        </p:spPr>
      </p:pic>
      <p:pic>
        <p:nvPicPr>
          <p:cNvPr id="153" name="Object 8" descr=""/>
          <p:cNvPicPr/>
          <p:nvPr/>
        </p:nvPicPr>
        <p:blipFill>
          <a:blip r:embed="rId3"/>
          <a:stretch/>
        </p:blipFill>
        <p:spPr>
          <a:xfrm>
            <a:off x="76320" y="6019920"/>
            <a:ext cx="533160" cy="761760"/>
          </a:xfrm>
          <a:prstGeom prst="rect">
            <a:avLst/>
          </a:prstGeom>
          <a:ln w="0">
            <a:noFill/>
          </a:ln>
          <a:effectLst>
            <a:outerShdw dist="45929" dir="19571123" blurRad="0" rotWithShape="0">
              <a:srgbClr val="676767"/>
            </a:outerShdw>
          </a:effectLst>
        </p:spPr>
      </p:pic>
      <p:pic>
        <p:nvPicPr>
          <p:cNvPr id="154" name="Object 9" descr=""/>
          <p:cNvPicPr/>
          <p:nvPr/>
        </p:nvPicPr>
        <p:blipFill>
          <a:blip r:embed="rId4"/>
          <a:stretch/>
        </p:blipFill>
        <p:spPr>
          <a:xfrm>
            <a:off x="2209680" y="5261040"/>
            <a:ext cx="984240" cy="987480"/>
          </a:xfrm>
          <a:prstGeom prst="rect">
            <a:avLst/>
          </a:prstGeom>
          <a:ln w="0">
            <a:noFill/>
          </a:ln>
          <a:effectLst>
            <a:outerShdw dist="52300" dir="15363565" blurRad="0" rotWithShape="0">
              <a:srgbClr val="ffffff"/>
            </a:outerShdw>
          </a:effectLst>
        </p:spPr>
      </p:pic>
      <p:pic>
        <p:nvPicPr>
          <p:cNvPr id="155" name="Object 10" descr=""/>
          <p:cNvPicPr/>
          <p:nvPr/>
        </p:nvPicPr>
        <p:blipFill>
          <a:blip r:embed="rId5"/>
          <a:stretch/>
        </p:blipFill>
        <p:spPr>
          <a:xfrm>
            <a:off x="2971800" y="4803840"/>
            <a:ext cx="1365120" cy="1292040"/>
          </a:xfrm>
          <a:prstGeom prst="rect">
            <a:avLst/>
          </a:prstGeom>
          <a:ln w="0">
            <a:noFill/>
          </a:ln>
          <a:effectLst>
            <a:outerShdw dist="52300" dir="9963564" blurRad="0" rotWithShape="0">
              <a:srgbClr val="000020"/>
            </a:outerShdw>
          </a:effectLst>
        </p:spPr>
      </p:pic>
      <p:pic>
        <p:nvPicPr>
          <p:cNvPr id="156" name="Object 11" descr=""/>
          <p:cNvPicPr/>
          <p:nvPr/>
        </p:nvPicPr>
        <p:blipFill>
          <a:blip r:embed="rId6"/>
          <a:stretch/>
        </p:blipFill>
        <p:spPr>
          <a:xfrm>
            <a:off x="3962520" y="4352760"/>
            <a:ext cx="1663560" cy="166716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20"/>
            </a:outerShdw>
          </a:effectLst>
        </p:spPr>
      </p:pic>
      <p:pic>
        <p:nvPicPr>
          <p:cNvPr id="157" name="Object 12" descr=""/>
          <p:cNvPicPr/>
          <p:nvPr/>
        </p:nvPicPr>
        <p:blipFill>
          <a:blip r:embed="rId7"/>
          <a:stretch/>
        </p:blipFill>
        <p:spPr>
          <a:xfrm>
            <a:off x="5181480" y="3840120"/>
            <a:ext cx="2133720" cy="195120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20"/>
            </a:outerShdw>
          </a:effectLst>
        </p:spPr>
      </p:pic>
      <p:pic>
        <p:nvPicPr>
          <p:cNvPr id="158" name="Object 13" descr=""/>
          <p:cNvPicPr/>
          <p:nvPr/>
        </p:nvPicPr>
        <p:blipFill>
          <a:blip r:embed="rId8"/>
          <a:stretch/>
        </p:blipFill>
        <p:spPr>
          <a:xfrm>
            <a:off x="6858000" y="3276720"/>
            <a:ext cx="2590920" cy="2438280"/>
          </a:xfrm>
          <a:prstGeom prst="rect">
            <a:avLst/>
          </a:prstGeom>
          <a:ln w="0">
            <a:noFill/>
          </a:ln>
          <a:effectLst>
            <a:outerShdw dist="134955" dir="19127120" blurRad="0" rotWithShape="0">
              <a:srgbClr val="fafd00"/>
            </a:outerShdw>
          </a:effectLst>
        </p:spPr>
      </p:pic>
      <p:sp>
        <p:nvSpPr>
          <p:cNvPr id="159" name="Text Box 14"/>
          <p:cNvSpPr/>
          <p:nvPr/>
        </p:nvSpPr>
        <p:spPr>
          <a:xfrm>
            <a:off x="4038480" y="1905120"/>
            <a:ext cx="6172200" cy="1180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5"/>
                </a:solidFill>
                <a:latin typeface="Arial"/>
              </a:rPr>
              <a:t>Has NOT Changed Much Throughout History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5"/>
                </a:solidFill>
                <a:latin typeface="Arial"/>
              </a:rPr>
              <a:t>A Fixed, Species Specific</a:t>
            </a:r>
            <a:r>
              <a:rPr b="1" lang="en-US" sz="2200" spc="-1" strike="noStrike">
                <a:solidFill>
                  <a:srgbClr val="fffff5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cece"/>
                </a:solidFill>
                <a:latin typeface="Arial"/>
              </a:rPr>
              <a:t>Maximal Life Span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0" y="32767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00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MOGRAPHIC Changes 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6840" y="533520"/>
            <a:ext cx="9577440" cy="129528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fafd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SURVIVAL  CURVES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304920" y="1670040"/>
          <a:ext cx="9718560" cy="51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0040"/>
                    <a:ext cx="971856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4"/>
          <p:cNvSpPr/>
          <p:nvPr/>
        </p:nvSpPr>
        <p:spPr>
          <a:xfrm>
            <a:off x="5481720" y="6167520"/>
            <a:ext cx="86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367160" y="6167520"/>
            <a:ext cx="138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252960" y="6151680"/>
            <a:ext cx="1037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6510240" y="6167520"/>
            <a:ext cx="1552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66840" y="3157560"/>
            <a:ext cx="23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rvival%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1720" y="228600"/>
            <a:ext cx="7972560" cy="129528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SURVIVAL  CURVES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170" name="Object 3"/>
          <p:cNvGraphicFramePr/>
          <p:nvPr/>
        </p:nvGraphicFramePr>
        <p:xfrm>
          <a:off x="307800" y="1600200"/>
          <a:ext cx="9706320" cy="51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1600200"/>
                    <a:ext cx="970632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Line 4"/>
          <p:cNvSpPr/>
          <p:nvPr/>
        </p:nvSpPr>
        <p:spPr>
          <a:xfrm>
            <a:off x="2629080" y="4013280"/>
            <a:ext cx="666720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853320" y="6167520"/>
            <a:ext cx="138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205240" y="6167520"/>
            <a:ext cx="97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510000" y="6151680"/>
            <a:ext cx="103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8291520" y="6167520"/>
            <a:ext cx="79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380160" y="2860560"/>
            <a:ext cx="1716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rviva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   %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6781680" y="3352680"/>
            <a:ext cx="222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1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ENTURY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71360" y="151920"/>
            <a:ext cx="6372360" cy="129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SURVIVAL  CURVES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0" y="1266840"/>
          <a:ext cx="1019808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6840"/>
                    <a:ext cx="1019808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Line 6"/>
          <p:cNvSpPr/>
          <p:nvPr/>
        </p:nvSpPr>
        <p:spPr>
          <a:xfrm>
            <a:off x="2438280" y="3886200"/>
            <a:ext cx="495324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6686640" y="617220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029200" y="617220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3581280" y="617220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8040600" y="6172200"/>
            <a:ext cx="77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-1800" y="3170160"/>
            <a:ext cx="2242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RVIVA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886200" y="388620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5181480" y="388620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7391520" y="388620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3809880" y="5943600"/>
            <a:ext cx="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>
            <a:off x="5334120" y="5943600"/>
            <a:ext cx="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6858000" y="5943600"/>
            <a:ext cx="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8400960" y="5943600"/>
            <a:ext cx="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2438280" y="3886200"/>
            <a:ext cx="2743200" cy="0"/>
          </a:xfrm>
          <a:prstGeom prst="line">
            <a:avLst/>
          </a:prstGeom>
          <a:ln w="57240">
            <a:solidFill>
              <a:srgbClr val="ffcc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066680" y="1143000"/>
            <a:ext cx="8991720" cy="459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00"/>
                </a:solidFill>
                <a:latin typeface="Arial"/>
              </a:rPr>
              <a:t>POINTS   FOR   CONSIDER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1676520"/>
            <a:ext cx="4336920" cy="13521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he BIOLOGY of AGING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&amp; GENETIC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10029960" cy="8380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00" name="Object 6" descr=""/>
          <p:cNvPicPr/>
          <p:nvPr/>
        </p:nvPicPr>
        <p:blipFill>
          <a:blip r:embed="rId1"/>
          <a:stretch/>
        </p:blipFill>
        <p:spPr>
          <a:xfrm>
            <a:off x="762120" y="6033960"/>
            <a:ext cx="533160" cy="67176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</p:pic>
      <p:pic>
        <p:nvPicPr>
          <p:cNvPr id="201" name="Object 7" descr=""/>
          <p:cNvPicPr/>
          <p:nvPr/>
        </p:nvPicPr>
        <p:blipFill>
          <a:blip r:embed="rId2"/>
          <a:stretch/>
        </p:blipFill>
        <p:spPr>
          <a:xfrm>
            <a:off x="1447920" y="5729400"/>
            <a:ext cx="914400" cy="823680"/>
          </a:xfrm>
          <a:prstGeom prst="rect">
            <a:avLst/>
          </a:prstGeom>
          <a:ln w="0">
            <a:noFill/>
          </a:ln>
          <a:effectLst>
            <a:outerShdw dist="40186" dir="17296359" blurRad="0" rotWithShape="0">
              <a:srgbClr val="fafd00"/>
            </a:outerShdw>
          </a:effectLst>
        </p:spPr>
      </p:pic>
      <p:pic>
        <p:nvPicPr>
          <p:cNvPr id="202" name="Object 8" descr=""/>
          <p:cNvPicPr/>
          <p:nvPr/>
        </p:nvPicPr>
        <p:blipFill>
          <a:blip r:embed="rId3"/>
          <a:stretch/>
        </p:blipFill>
        <p:spPr>
          <a:xfrm>
            <a:off x="76320" y="6019920"/>
            <a:ext cx="533160" cy="761760"/>
          </a:xfrm>
          <a:prstGeom prst="rect">
            <a:avLst/>
          </a:prstGeom>
          <a:ln w="0">
            <a:noFill/>
          </a:ln>
          <a:effectLst>
            <a:outerShdw dist="45929" dir="19571123" blurRad="0" rotWithShape="0">
              <a:srgbClr val="676767"/>
            </a:outerShdw>
          </a:effectLst>
        </p:spPr>
      </p:pic>
      <p:pic>
        <p:nvPicPr>
          <p:cNvPr id="203" name="Object 9" descr=""/>
          <p:cNvPicPr/>
          <p:nvPr/>
        </p:nvPicPr>
        <p:blipFill>
          <a:blip r:embed="rId4"/>
          <a:stretch/>
        </p:blipFill>
        <p:spPr>
          <a:xfrm>
            <a:off x="2209680" y="5413320"/>
            <a:ext cx="984240" cy="987480"/>
          </a:xfrm>
          <a:prstGeom prst="rect">
            <a:avLst/>
          </a:prstGeom>
          <a:ln w="0">
            <a:noFill/>
          </a:ln>
          <a:effectLst>
            <a:outerShdw dist="52300" dir="15363565" blurRad="0" rotWithShape="0">
              <a:srgbClr val="ffffff"/>
            </a:outerShdw>
          </a:effectLst>
        </p:spPr>
      </p:pic>
      <p:pic>
        <p:nvPicPr>
          <p:cNvPr id="204" name="Object 10" descr=""/>
          <p:cNvPicPr/>
          <p:nvPr/>
        </p:nvPicPr>
        <p:blipFill>
          <a:blip r:embed="rId5"/>
          <a:stretch/>
        </p:blipFill>
        <p:spPr>
          <a:xfrm>
            <a:off x="2971800" y="4956120"/>
            <a:ext cx="1365120" cy="1292400"/>
          </a:xfrm>
          <a:prstGeom prst="rect">
            <a:avLst/>
          </a:prstGeom>
          <a:ln w="0">
            <a:noFill/>
          </a:ln>
          <a:effectLst>
            <a:outerShdw dist="52300" dir="9963564" blurRad="0" rotWithShape="0">
              <a:srgbClr val="000020"/>
            </a:outerShdw>
          </a:effectLst>
        </p:spPr>
      </p:pic>
      <p:pic>
        <p:nvPicPr>
          <p:cNvPr id="205" name="Object 11" descr=""/>
          <p:cNvPicPr/>
          <p:nvPr/>
        </p:nvPicPr>
        <p:blipFill>
          <a:blip r:embed="rId6"/>
          <a:stretch/>
        </p:blipFill>
        <p:spPr>
          <a:xfrm>
            <a:off x="3962520" y="4505400"/>
            <a:ext cx="1663560" cy="166680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20"/>
            </a:outerShdw>
          </a:effectLst>
        </p:spPr>
      </p:pic>
      <p:sp>
        <p:nvSpPr>
          <p:cNvPr id="206" name="Text Box 12"/>
          <p:cNvSpPr/>
          <p:nvPr/>
        </p:nvSpPr>
        <p:spPr>
          <a:xfrm>
            <a:off x="4048200" y="1828800"/>
            <a:ext cx="6315120" cy="11800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19191"/>
                </a:solidFill>
                <a:latin typeface="Arial"/>
              </a:rPr>
              <a:t>Has NOT Changed Much Throughout History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19191"/>
                </a:solidFill>
                <a:latin typeface="Arial"/>
              </a:rPr>
              <a:t>A Fixed, Species Specific Maximal Life Span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0" y="3352680"/>
            <a:ext cx="464832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00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MOGRAPHIC     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anges 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AutoShape 14"/>
          <p:cNvSpPr/>
          <p:nvPr/>
        </p:nvSpPr>
        <p:spPr>
          <a:xfrm>
            <a:off x="6248520" y="403848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fc0128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7543800" y="40384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c0128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10" name="Object 16" descr=""/>
          <p:cNvPicPr/>
          <p:nvPr/>
        </p:nvPicPr>
        <p:blipFill>
          <a:blip r:embed="rId7"/>
          <a:stretch/>
        </p:blipFill>
        <p:spPr>
          <a:xfrm>
            <a:off x="8307360" y="3807000"/>
            <a:ext cx="2055960" cy="2212920"/>
          </a:xfrm>
          <a:prstGeom prst="rect">
            <a:avLst/>
          </a:prstGeom>
          <a:ln w="0">
            <a:noFill/>
          </a:ln>
          <a:effectLst>
            <a:outerShdw dist="134955" dir="19127120" blurRad="0" rotWithShape="0">
              <a:srgbClr val="fafd00"/>
            </a:outerShdw>
          </a:effectLst>
        </p:spPr>
      </p:pic>
      <p:sp>
        <p:nvSpPr>
          <p:cNvPr id="211" name="Text Box 17"/>
          <p:cNvSpPr/>
          <p:nvPr/>
        </p:nvSpPr>
        <p:spPr>
          <a:xfrm>
            <a:off x="3543480" y="3051000"/>
            <a:ext cx="632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5"/>
                </a:solidFill>
                <a:latin typeface="Arial"/>
              </a:rPr>
              <a:t>A  Rapid  Increase in the  </a:t>
            </a:r>
            <a:r>
              <a:rPr b="1" i="1" lang="en-US" sz="2200" spc="-1" strike="noStrike">
                <a:solidFill>
                  <a:srgbClr val="fb7dc8"/>
                </a:solidFill>
                <a:latin typeface="Arial"/>
              </a:rPr>
              <a:t>Average  Life Span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5"/>
                </a:solidFill>
                <a:latin typeface="Arial"/>
              </a:rPr>
              <a:t>More  People  Reach  Advanced  Ag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b7dc8"/>
                </a:solidFill>
                <a:latin typeface="Arial"/>
              </a:rPr>
              <a:t>Population Aging</a:t>
            </a:r>
            <a:r>
              <a:rPr b="1" lang="en-US" sz="2200" spc="-1" strike="noStrike">
                <a:solidFill>
                  <a:srgbClr val="fffff5"/>
                </a:solidFill>
                <a:latin typeface="Arial"/>
              </a:rPr>
              <a:t> =   Elders +   Birth rate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12" name="Object 18" descr=""/>
          <p:cNvPicPr/>
          <p:nvPr/>
        </p:nvPicPr>
        <p:blipFill>
          <a:blip r:embed="rId8"/>
          <a:stretch/>
        </p:blipFill>
        <p:spPr>
          <a:xfrm>
            <a:off x="8381880" y="4505400"/>
            <a:ext cx="2590920" cy="2352600"/>
          </a:xfrm>
          <a:prstGeom prst="rect">
            <a:avLst/>
          </a:prstGeom>
          <a:ln w="0">
            <a:noFill/>
          </a:ln>
          <a:effectLst>
            <a:outerShdw dist="127008" dir="8583908" blurRad="0" rotWithShape="0">
              <a:srgbClr val="00cece"/>
            </a:outerShdw>
          </a:effectLst>
        </p:spPr>
      </p:pic>
      <p:sp>
        <p:nvSpPr>
          <p:cNvPr id="213" name="Text Box 19"/>
          <p:cNvSpPr/>
          <p:nvPr/>
        </p:nvSpPr>
        <p:spPr>
          <a:xfrm>
            <a:off x="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AGING  &amp;  DISEASES 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9753480" cy="1523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c0128"/>
                </a:solidFill>
                <a:latin typeface="Arial"/>
              </a:rPr>
              <a:t>DEFINITION OF  AGING</a:t>
            </a:r>
            <a:endParaRPr b="0" lang="en-US" sz="6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320" y="1676520"/>
            <a:ext cx="10134360" cy="316548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ging  is  the  Process  that  Convert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                  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Fit  Adults  into  Frailer  Adults 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ith  a  Progressive  Increased  Risk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                     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f  Illness, Injury  and  Death.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0" y="5365800"/>
            <a:ext cx="102870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Miriam"/>
              </a:rPr>
              <a:t>Richard A. Miller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Miriam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iriam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iriam"/>
              </a:rPr>
              <a:t>J Gerontol, Biological Sciences 1999:  54A: 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iriam"/>
              </a:rPr>
              <a:t>297 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iriam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iriam"/>
              </a:rPr>
              <a:t>30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iriam"/>
              </a:rPr>
              <a:t>.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5320" y="76320"/>
            <a:ext cx="10115640" cy="12952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afd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DISEASES  OR  DISFUNCTIONS   </a:t>
            </a:r>
            <a:br>
              <a:rPr sz="4400"/>
            </a:b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     ASSOCIATED  WITH   AG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14280" y="1828800"/>
            <a:ext cx="99727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THEROSCLEROSIS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EART ATTACK, STROKE, PVD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ANCER                        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ST   TYP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ATARACT                   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NILE  TYPE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DEMENTIA                    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NILE, ALZHEIM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DEPRESSION               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NOPOLAR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DIABETES  MELLITUS 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YPE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GLAUCOM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HYPOTHERMIA             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CREASED  SUSCEPTIBILIT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10115640" cy="13338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afd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DISEASES  OR  DISFUNCTIONS  </a:t>
            </a:r>
            <a:br>
              <a:rPr sz="4400"/>
            </a:b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     ASSOCIATED  WITH   AG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9896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MPAIRED  HEALING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UND  AND  FRACTUR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MPAIRED  IMMUNITY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ELLULAR  &amp;  HUMOR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 N F E C T I O N 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                    INCREASED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USCEPTIBILIT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STEOPOROSIS   &amp;   OSTEOARTHROSI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380880" y="3962520"/>
            <a:ext cx="9982440" cy="260496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PARKINSON’S  DISEASE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PRESBYOPIA   &amp;   PRESBYACUSIS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PROSTATIC  HYPERTROPHY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ILE  MACULAR  DEGENERATION  - AMD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RINARY  INCONTINENCE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Object 6"/>
          <p:cNvGraphicFramePr/>
          <p:nvPr/>
        </p:nvGraphicFramePr>
        <p:xfrm>
          <a:off x="4991040" y="1978200"/>
          <a:ext cx="3314880" cy="35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91040" y="1978200"/>
                    <a:ext cx="3314880" cy="3508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18900000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10287000" cy="685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afd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THE   “BAD  SIDE”  OF   AGING:</a:t>
            </a:r>
            <a:br>
              <a:rPr sz="4400"/>
            </a:br>
            <a:r>
              <a:rPr b="1" lang="en-US" sz="3400" spc="-1" strike="noStrike">
                <a:solidFill>
                  <a:srgbClr val="fc0128"/>
                </a:solidFill>
                <a:latin typeface="Arial"/>
              </a:rPr>
              <a:t>AGE - RELATED   DISEASES  &amp;  DISFUNCTIONS</a:t>
            </a:r>
            <a:endParaRPr b="0" lang="en-US" sz="3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-360" y="3504960"/>
            <a:ext cx="10201320" cy="113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MPAIRED  IMMUNITY           </a:t>
            </a:r>
            <a:r>
              <a:rPr b="1" lang="he-IL" sz="26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                      INCONTINENCE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OSTEOPOROSIS  &amp;  OSTEOARTHROSIS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1978200"/>
            <a:ext cx="10287000" cy="14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THEROSCLEROSIS        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 A N C E R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                                           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 E M E N T I A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                                                   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 E P R E S S I O N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0" y="4724280"/>
            <a:ext cx="10287000" cy="2268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IABETES   MELLITUS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ATARACT,       GLAUCOMA,   AMD,  RESBYOPIA,         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HEARING  LOSS,  PRESBYACUSIS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OSTATIC   HYPERTROPHY,   PARKINSON’S  DISEAS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066680" y="1143000"/>
            <a:ext cx="8991720" cy="459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00"/>
                </a:solidFill>
                <a:latin typeface="Arial"/>
              </a:rPr>
              <a:t>POINTS   FOR   CONSIDER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1676520"/>
            <a:ext cx="4336920" cy="13521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The BIOLOGY of AGING 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&amp; GENETIC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10029960" cy="8380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038480" y="1905120"/>
            <a:ext cx="6172200" cy="11800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6767"/>
                </a:solidFill>
                <a:latin typeface="Arial"/>
              </a:rPr>
              <a:t>Has NOT Changed Much Throughout History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6767"/>
                </a:solidFill>
                <a:latin typeface="Arial"/>
              </a:rPr>
              <a:t>A Fixed, Species Specific Maximal Life Span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0" y="3352680"/>
            <a:ext cx="4648320" cy="7110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00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DEMOGRAPHIC     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Chang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34" name="Object 8" descr=""/>
          <p:cNvPicPr/>
          <p:nvPr/>
        </p:nvPicPr>
        <p:blipFill>
          <a:blip r:embed="rId1"/>
          <a:stretch/>
        </p:blipFill>
        <p:spPr>
          <a:xfrm>
            <a:off x="8307360" y="4724280"/>
            <a:ext cx="2055960" cy="2212920"/>
          </a:xfrm>
          <a:prstGeom prst="rect">
            <a:avLst/>
          </a:prstGeom>
          <a:ln w="0">
            <a:noFill/>
          </a:ln>
          <a:effectLst>
            <a:outerShdw dist="134955" dir="19127120" blurRad="0" rotWithShape="0">
              <a:srgbClr val="fafd00"/>
            </a:outerShdw>
          </a:effectLst>
        </p:spPr>
      </p:pic>
      <p:sp>
        <p:nvSpPr>
          <p:cNvPr id="235" name="Text Box 9"/>
          <p:cNvSpPr/>
          <p:nvPr/>
        </p:nvSpPr>
        <p:spPr>
          <a:xfrm>
            <a:off x="3581280" y="3051000"/>
            <a:ext cx="6324840" cy="15152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6767"/>
                </a:solidFill>
                <a:latin typeface="Arial"/>
              </a:rPr>
              <a:t>A </a:t>
            </a:r>
            <a:r>
              <a:rPr b="1" lang="en-US" sz="2200" spc="-1" strike="noStrike">
                <a:solidFill>
                  <a:srgbClr val="fffff5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676767"/>
                </a:solidFill>
                <a:latin typeface="Arial"/>
              </a:rPr>
              <a:t>Rapid  Increase in the  Average  Life Span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6767"/>
                </a:solidFill>
                <a:latin typeface="Arial"/>
              </a:rPr>
              <a:t>More  People  Reach  Advanced  Age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6767"/>
                </a:solidFill>
                <a:latin typeface="Arial"/>
              </a:rPr>
              <a:t>Population Aging =    Elders  &gt;   Birth rate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AGING  &amp;  DISEASES 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581280" y="4495680"/>
            <a:ext cx="6324840" cy="109944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5"/>
                </a:solidFill>
                <a:latin typeface="Arial"/>
              </a:rPr>
              <a:t>Increased  Rate  &amp; Complexity  of                                                     Age-related, Chronic, Debilitating  Diseases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38" name="Object 12" descr=""/>
          <p:cNvPicPr/>
          <p:nvPr/>
        </p:nvPicPr>
        <p:blipFill>
          <a:blip r:embed="rId2"/>
          <a:stretch/>
        </p:blipFill>
        <p:spPr>
          <a:xfrm>
            <a:off x="8307360" y="5867280"/>
            <a:ext cx="1979640" cy="83844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</p:pic>
      <p:pic>
        <p:nvPicPr>
          <p:cNvPr id="239" name="Object 13" descr=""/>
          <p:cNvPicPr/>
          <p:nvPr/>
        </p:nvPicPr>
        <p:blipFill>
          <a:blip r:embed="rId3"/>
          <a:stretch/>
        </p:blipFill>
        <p:spPr>
          <a:xfrm>
            <a:off x="9296280" y="5867280"/>
            <a:ext cx="609840" cy="609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cece"/>
            </a:outerShdw>
          </a:effectLst>
        </p:spPr>
      </p:pic>
      <p:sp>
        <p:nvSpPr>
          <p:cNvPr id="240" name="Text Box 14"/>
          <p:cNvSpPr/>
          <p:nvPr/>
        </p:nvSpPr>
        <p:spPr>
          <a:xfrm>
            <a:off x="0" y="5486400"/>
            <a:ext cx="4336920" cy="45972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MEDIAL CARE Changes 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050" descr="shelet"/>
          <p:cNvPicPr/>
          <p:nvPr/>
        </p:nvPicPr>
        <p:blipFill>
          <a:blip r:embed="rId1"/>
          <a:stretch/>
        </p:blipFill>
        <p:spPr>
          <a:xfrm>
            <a:off x="3886200" y="76320"/>
            <a:ext cx="2819520" cy="14079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051"/>
          <p:cNvSpPr/>
          <p:nvPr/>
        </p:nvSpPr>
        <p:spPr>
          <a:xfrm>
            <a:off x="0" y="4659480"/>
            <a:ext cx="10515600" cy="1873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David"/>
                <a:cs typeface="David"/>
              </a:rPr>
              <a:t>במסגרת  הכנס  הדו שנתי של האגודה הישראלית  לגרונטולוגיה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Text Box 2052"/>
          <p:cNvSpPr/>
          <p:nvPr/>
        </p:nvSpPr>
        <p:spPr>
          <a:xfrm>
            <a:off x="0" y="5662440"/>
            <a:ext cx="10287000" cy="10810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ece"/>
                </a:solidFill>
                <a:latin typeface="David"/>
                <a:ea typeface="David"/>
              </a:rPr>
              <a:t>22-23</a:t>
            </a:r>
            <a:r>
              <a:rPr b="1" lang="he-IL" sz="3600" spc="-1" strike="noStrike">
                <a:solidFill>
                  <a:srgbClr val="00cece"/>
                </a:solidFill>
                <a:latin typeface="David"/>
                <a:ea typeface="David"/>
              </a:rPr>
              <a:t> בדצמבר </a:t>
            </a:r>
            <a:r>
              <a:rPr b="1" lang="he-IL" sz="3600" spc="-1" strike="noStrike">
                <a:solidFill>
                  <a:srgbClr val="00cece"/>
                </a:solidFill>
                <a:latin typeface="David"/>
                <a:ea typeface="David"/>
              </a:rPr>
              <a:t>2003</a:t>
            </a:r>
            <a:r>
              <a:rPr b="1" lang="he-IL" sz="3600" spc="-1" strike="noStrike">
                <a:solidFill>
                  <a:srgbClr val="00cece"/>
                </a:solidFill>
                <a:latin typeface="David"/>
                <a:ea typeface="David"/>
              </a:rPr>
              <a:t> - מלון דויד אינטרקונטיננטל, תל אביב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2053"/>
          <p:cNvSpPr/>
          <p:nvPr/>
        </p:nvSpPr>
        <p:spPr>
          <a:xfrm>
            <a:off x="0" y="1828800"/>
            <a:ext cx="10287000" cy="280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Levenim MT"/>
              </a:rPr>
              <a:t>מ ו ש ב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Arial"/>
                <a:cs typeface="Levenim MT"/>
              </a:rPr>
              <a:t>עיכוב  תהליכי הזדקנות –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Arial"/>
                <a:cs typeface="Levenim MT"/>
              </a:rPr>
              <a:t>עובדות מול פנטזיות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a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2560" y="342720"/>
            <a:ext cx="10029960" cy="11430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0" y="1905120"/>
            <a:ext cx="10287000" cy="70344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MEDIAL CARE CHANGE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0" y="2666880"/>
            <a:ext cx="1028700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5"/>
                </a:solidFill>
                <a:latin typeface="Arial"/>
              </a:rPr>
              <a:t>Better Treatment for Acute Diseases  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44" name="Object 17" descr=""/>
          <p:cNvPicPr/>
          <p:nvPr/>
        </p:nvPicPr>
        <p:blipFill>
          <a:blip r:embed="rId1"/>
          <a:stretch/>
        </p:blipFill>
        <p:spPr>
          <a:xfrm>
            <a:off x="7772400" y="3322800"/>
            <a:ext cx="2514600" cy="163008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</p:pic>
      <p:pic>
        <p:nvPicPr>
          <p:cNvPr id="245" name="Object 18" descr=""/>
          <p:cNvPicPr/>
          <p:nvPr/>
        </p:nvPicPr>
        <p:blipFill>
          <a:blip r:embed="rId2"/>
          <a:stretch/>
        </p:blipFill>
        <p:spPr>
          <a:xfrm>
            <a:off x="1600200" y="3565440"/>
            <a:ext cx="2286000" cy="132552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</p:pic>
      <p:sp>
        <p:nvSpPr>
          <p:cNvPr id="246" name="Text Box 20"/>
          <p:cNvSpPr/>
          <p:nvPr/>
        </p:nvSpPr>
        <p:spPr>
          <a:xfrm>
            <a:off x="0" y="4343400"/>
            <a:ext cx="102870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5"/>
                </a:solidFill>
                <a:latin typeface="Arial"/>
              </a:rPr>
              <a:t>Increased Need for Chronic &amp; Palliative Care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47" name="Object 21" descr=""/>
          <p:cNvPicPr/>
          <p:nvPr/>
        </p:nvPicPr>
        <p:blipFill>
          <a:blip r:embed="rId3"/>
          <a:stretch/>
        </p:blipFill>
        <p:spPr>
          <a:xfrm>
            <a:off x="3886200" y="5530680"/>
            <a:ext cx="3429000" cy="117504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</p:pic>
    </p:spTree>
  </p:cSld>
  <p:transition spd="slow">
    <p:cut thruBlk="true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4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2"/>
          <p:cNvGraphicFramePr/>
          <p:nvPr/>
        </p:nvGraphicFramePr>
        <p:xfrm>
          <a:off x="750960" y="4869000"/>
          <a:ext cx="7993080" cy="17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4869000"/>
                    <a:ext cx="7993080" cy="1760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63504" dir="13016092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1028556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PALLIATIVE   CARE  </a:t>
            </a:r>
            <a:endParaRPr b="0" lang="en-US" sz="6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240" y="1531440"/>
            <a:ext cx="10199520" cy="357372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000020"/>
            </a:outerShdw>
          </a:effectLst>
        </p:spPr>
        <p:txBody>
          <a:bodyPr lIns="92160" rIns="92160" tIns="46080" bIns="46080" anchor="t">
            <a:normAutofit fontScale="79000"/>
          </a:bodyPr>
          <a:p>
            <a:pPr marL="270720" indent="-270720" algn="ctr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DEFINITION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 Active  Total  Care  of  Patients 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ose  Disease  is  Not  Responsiv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   Curative  Treatment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7429680" y="5105520"/>
            <a:ext cx="31683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(W.H.O.)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385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1" dur="385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3" dur="385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5" dur="385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066680" y="1143000"/>
            <a:ext cx="8991720" cy="459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00"/>
                </a:solidFill>
                <a:latin typeface="Arial"/>
              </a:rPr>
              <a:t>POINTS   FOR   CONSIDER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0" y="1447920"/>
            <a:ext cx="4336920" cy="13521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The BIOLOGY of AGING 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&amp; GENETIC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10029960" cy="8380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038480" y="1676520"/>
            <a:ext cx="6172200" cy="11800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6767"/>
                </a:solidFill>
                <a:latin typeface="Arial"/>
              </a:rPr>
              <a:t>Has NOT Changed Much Throughout History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6767"/>
                </a:solidFill>
                <a:latin typeface="Arial"/>
              </a:rPr>
              <a:t>A Fixed, Species Specific Maximal Life Span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0" y="2971800"/>
            <a:ext cx="4648320" cy="7110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00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DEMOGRAPHIC     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Chang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581280" y="2666880"/>
            <a:ext cx="6324840" cy="15152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6767"/>
                </a:solidFill>
                <a:latin typeface="Arial"/>
              </a:rPr>
              <a:t>A </a:t>
            </a:r>
            <a:r>
              <a:rPr b="1" lang="en-US" sz="2200" spc="-1" strike="noStrike">
                <a:solidFill>
                  <a:srgbClr val="fffff5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676767"/>
                </a:solidFill>
                <a:latin typeface="Arial"/>
              </a:rPr>
              <a:t>Rapid  Increase in the  Average  Life Span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6767"/>
                </a:solidFill>
                <a:latin typeface="Arial"/>
              </a:rPr>
              <a:t>More  People  Reach  Advanced  Age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6767"/>
                </a:solidFill>
                <a:latin typeface="Arial"/>
              </a:rPr>
              <a:t>Population Aging =    Elders  &gt;   Birth rate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0" y="4114800"/>
            <a:ext cx="3962520" cy="4597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676767"/>
                </a:solidFill>
                <a:latin typeface="Arial"/>
              </a:rPr>
              <a:t>AGING  &amp;  DISEASES -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581280" y="4191120"/>
            <a:ext cx="6324840" cy="109944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6767"/>
                </a:solidFill>
                <a:latin typeface="Arial"/>
              </a:rPr>
              <a:t>Increased  Rate  &amp; Complexity  of                                                     Age-related, Chronic, Debilitating  Diseases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0" y="4952880"/>
            <a:ext cx="4336920" cy="58140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EDIAL CARE Changes -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3848040" y="4834080"/>
            <a:ext cx="6172200" cy="1180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b"/>
                </a:solidFill>
                <a:latin typeface="Arial"/>
              </a:rPr>
              <a:t>Better Treatment for Acute Diseases  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b"/>
                </a:solidFill>
                <a:latin typeface="Arial"/>
              </a:rPr>
              <a:t>Increased Need for Chronic &amp; Palliative Care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87840" y="6010200"/>
            <a:ext cx="437040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00"/>
                </a:solidFill>
                <a:latin typeface="Arial"/>
              </a:rPr>
              <a:t>* </a:t>
            </a:r>
            <a:r>
              <a:rPr b="1" lang="en-US" sz="2200" spc="-1" strike="noStrike">
                <a:solidFill>
                  <a:srgbClr val="fffff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PULATION BALANCE  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ang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2400" y="75960"/>
            <a:ext cx="9515520" cy="685800"/>
          </a:xfrm>
          <a:prstGeom prst="rect">
            <a:avLst/>
          </a:prstGeom>
          <a:noFill/>
          <a:ln w="0">
            <a:noFill/>
          </a:ln>
          <a:effectLst>
            <a:outerShdw dist="28496" dir="6974480" blurRad="0" rotWithShape="0">
              <a:srgbClr val="fafd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POPULATION    BALANCE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266" name="Object 3"/>
          <p:cNvGraphicFramePr/>
          <p:nvPr/>
        </p:nvGraphicFramePr>
        <p:xfrm>
          <a:off x="0" y="1214280"/>
          <a:ext cx="1028556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4280"/>
                    <a:ext cx="102855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Line 4"/>
          <p:cNvSpPr/>
          <p:nvPr/>
        </p:nvSpPr>
        <p:spPr>
          <a:xfrm>
            <a:off x="2486160" y="1905120"/>
            <a:ext cx="0" cy="4114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5486400" y="6172200"/>
            <a:ext cx="85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4371840" y="617220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257640" y="6156360"/>
            <a:ext cx="102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6515280" y="6172200"/>
            <a:ext cx="154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3000240" y="1965240"/>
            <a:ext cx="3257640" cy="13114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ANCIENT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ROME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AutoShape 10"/>
          <p:cNvSpPr/>
          <p:nvPr/>
        </p:nvSpPr>
        <p:spPr>
          <a:xfrm>
            <a:off x="2486160" y="1562040"/>
            <a:ext cx="561960" cy="1866960"/>
          </a:xfrm>
          <a:prstGeom prst="rtTriangle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2486160" y="3429000"/>
            <a:ext cx="514080" cy="259092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52280" y="3184560"/>
            <a:ext cx="2743200" cy="4582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01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7219800" y="838080"/>
            <a:ext cx="2953080" cy="45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rfinkel  D., 1997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8" name="Rectangle 14"/>
          <p:cNvSpPr/>
          <p:nvPr/>
        </p:nvSpPr>
        <p:spPr>
          <a:xfrm>
            <a:off x="2476440" y="2895480"/>
            <a:ext cx="77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3000240" y="5410080"/>
            <a:ext cx="2143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DUCTIVE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Freeform 16"/>
          <p:cNvSpPr/>
          <p:nvPr/>
        </p:nvSpPr>
        <p:spPr>
          <a:xfrm>
            <a:off x="5908680" y="5638680"/>
            <a:ext cx="1635120" cy="381240"/>
          </a:xfrm>
          <a:custGeom>
            <a:avLst/>
            <a:gdLst>
              <a:gd name="textAreaLeft" fmla="*/ 0 w 1635120"/>
              <a:gd name="textAreaRight" fmla="*/ 1635480 w 16351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030" h="169">
                <a:moveTo>
                  <a:pt x="0" y="0"/>
                </a:moveTo>
                <a:lnTo>
                  <a:pt x="0" y="168"/>
                </a:lnTo>
                <a:lnTo>
                  <a:pt x="1029" y="168"/>
                </a:lnTo>
                <a:lnTo>
                  <a:pt x="996" y="150"/>
                </a:lnTo>
                <a:lnTo>
                  <a:pt x="447" y="132"/>
                </a:lnTo>
                <a:lnTo>
                  <a:pt x="0" y="15"/>
                </a:lnTo>
              </a:path>
            </a:pathLst>
          </a:custGeom>
          <a:solidFill>
            <a:srgbClr val="00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-76320"/>
            <a:ext cx="8039160" cy="990720"/>
          </a:xfrm>
          <a:prstGeom prst="rect">
            <a:avLst/>
          </a:prstGeom>
          <a:noFill/>
          <a:ln w="0">
            <a:noFill/>
          </a:ln>
          <a:effectLst>
            <a:outerShdw dist="28496" dir="6974480" blurRad="0" rotWithShape="0">
              <a:srgbClr val="fafd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POPULATION  BALANCE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282" name="Object 3"/>
          <p:cNvGraphicFramePr/>
          <p:nvPr/>
        </p:nvGraphicFramePr>
        <p:xfrm>
          <a:off x="-20520" y="1143000"/>
          <a:ext cx="10250280" cy="54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520" y="1143000"/>
                    <a:ext cx="1025028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4"/>
          <p:cNvSpPr/>
          <p:nvPr/>
        </p:nvSpPr>
        <p:spPr>
          <a:xfrm>
            <a:off x="6858000" y="60958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211720" y="6095880"/>
            <a:ext cx="96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514680" y="6080040"/>
            <a:ext cx="1028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8298000" y="6095880"/>
            <a:ext cx="77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2438280" y="1447920"/>
            <a:ext cx="905040" cy="451476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3586320" y="2452680"/>
            <a:ext cx="204588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2 0 0 0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AutoShape 10"/>
          <p:cNvSpPr/>
          <p:nvPr/>
        </p:nvSpPr>
        <p:spPr>
          <a:xfrm>
            <a:off x="7458120" y="4952880"/>
            <a:ext cx="1114560" cy="914400"/>
          </a:xfrm>
          <a:prstGeom prst="rtTriangle">
            <a:avLst/>
          </a:prstGeom>
          <a:solidFill>
            <a:srgbClr val="000020"/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" name="AutoShape 11"/>
          <p:cNvSpPr/>
          <p:nvPr/>
        </p:nvSpPr>
        <p:spPr>
          <a:xfrm>
            <a:off x="8143920" y="5562720"/>
            <a:ext cx="1800360" cy="380880"/>
          </a:xfrm>
          <a:prstGeom prst="rtTriangle">
            <a:avLst/>
          </a:prstGeom>
          <a:solidFill>
            <a:srgbClr val="00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AutoShape 12"/>
          <p:cNvSpPr/>
          <p:nvPr/>
        </p:nvSpPr>
        <p:spPr>
          <a:xfrm>
            <a:off x="2486160" y="1905120"/>
            <a:ext cx="771480" cy="75960"/>
          </a:xfrm>
          <a:prstGeom prst="rtTriangle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144360" y="3032280"/>
            <a:ext cx="2256120" cy="4582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01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6983280" y="762120"/>
            <a:ext cx="296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rfinkel  D., 1997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583080" y="3352680"/>
            <a:ext cx="2830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DUCTIV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657520" y="2422440"/>
            <a:ext cx="428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5560" cy="9907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afd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GERIATRIC   BOOM  CATASTROPHE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298" name="Object 3"/>
          <p:cNvGraphicFramePr/>
          <p:nvPr/>
        </p:nvGraphicFramePr>
        <p:xfrm>
          <a:off x="157320" y="1389240"/>
          <a:ext cx="10091520" cy="53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1389240"/>
                    <a:ext cx="1009152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Rectangle 4"/>
          <p:cNvSpPr/>
          <p:nvPr/>
        </p:nvSpPr>
        <p:spPr>
          <a:xfrm>
            <a:off x="6858000" y="617220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5211720" y="6172200"/>
            <a:ext cx="96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514680" y="6156360"/>
            <a:ext cx="1028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8298000" y="6172200"/>
            <a:ext cx="77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3772080" y="3200400"/>
            <a:ext cx="3257280" cy="1433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0001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df0001"/>
                </a:solidFill>
                <a:latin typeface="Arial"/>
              </a:rPr>
              <a:t>21 st.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0001"/>
                </a:solidFill>
                <a:latin typeface="Arial"/>
              </a:rPr>
              <a:t>CENTUR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297360" y="3260880"/>
            <a:ext cx="2181600" cy="4582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01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3687840" y="2743200"/>
            <a:ext cx="229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DUCTIV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7288200" y="914400"/>
            <a:ext cx="288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rfinkel  D., 1997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2743200" y="2422440"/>
            <a:ext cx="428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507440" y="4495680"/>
            <a:ext cx="2320920" cy="458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Global population"/>
          <p:cNvPicPr/>
          <p:nvPr/>
        </p:nvPicPr>
        <p:blipFill>
          <a:blip r:embed="rId1"/>
          <a:stretch/>
        </p:blipFill>
        <p:spPr>
          <a:xfrm>
            <a:off x="304920" y="76320"/>
            <a:ext cx="9677160" cy="5797440"/>
          </a:xfrm>
          <a:prstGeom prst="rect">
            <a:avLst/>
          </a:prstGeom>
          <a:ln w="76320">
            <a:solidFill>
              <a:srgbClr val="fc0100"/>
            </a:solidFill>
            <a:miter/>
          </a:ln>
        </p:spPr>
      </p:pic>
      <p:sp>
        <p:nvSpPr>
          <p:cNvPr id="311" name="Text Box 3"/>
          <p:cNvSpPr/>
          <p:nvPr/>
        </p:nvSpPr>
        <p:spPr>
          <a:xfrm>
            <a:off x="952560" y="6095880"/>
            <a:ext cx="845820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URRAY &amp; LOPEZ, THE LANCET 1997; MAY 3, 10, 17, 24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2079720" y="629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4381560" y="76320"/>
            <a:ext cx="2438280" cy="459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1995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&gt;&gt;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2"/>
          <p:cNvGraphicFramePr/>
          <p:nvPr/>
        </p:nvGraphicFramePr>
        <p:xfrm>
          <a:off x="5315040" y="1190520"/>
          <a:ext cx="197172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1190520"/>
                    <a:ext cx="1971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10287000" cy="914400"/>
          </a:xfrm>
          <a:prstGeom prst="rect">
            <a:avLst/>
          </a:prstGeom>
          <a:noFill/>
          <a:ln w="0">
            <a:noFill/>
          </a:ln>
          <a:effectLst>
            <a:outerShdw dist="45929" dir="18228878" blurRad="0" rotWithShape="0">
              <a:srgbClr val="ff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LOBAL  HEALTH  CARE - GOAL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317" name="Object 4"/>
          <p:cNvGraphicFramePr/>
          <p:nvPr/>
        </p:nvGraphicFramePr>
        <p:xfrm>
          <a:off x="343080" y="907920"/>
          <a:ext cx="8904240" cy="587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080" y="907920"/>
                    <a:ext cx="890424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Rectangle 5"/>
          <p:cNvSpPr/>
          <p:nvPr/>
        </p:nvSpPr>
        <p:spPr>
          <a:xfrm>
            <a:off x="857160" y="5943600"/>
            <a:ext cx="8143920" cy="8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Levenim MT"/>
              </a:rPr>
              <a:t>HEALTH  PROMOTION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2125440" y="4670280"/>
            <a:ext cx="4757040" cy="91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Levenim MT"/>
              </a:rPr>
              <a:t>PREVENTION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2468160" y="3429000"/>
            <a:ext cx="3842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Levenim MT"/>
              </a:rPr>
              <a:t>CURATIVE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3186000" y="2549520"/>
            <a:ext cx="3686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LLIATIV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3600360" y="1752480"/>
            <a:ext cx="1497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Levenim MT"/>
              </a:rPr>
              <a:t>DEAT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3943440" y="5288040"/>
            <a:ext cx="1114200" cy="91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Levenim MT"/>
              </a:rPr>
              <a:t>&amp;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25" name="Object 11"/>
          <p:cNvGraphicFramePr/>
          <p:nvPr/>
        </p:nvGraphicFramePr>
        <p:xfrm>
          <a:off x="3065400" y="762120"/>
          <a:ext cx="3525840" cy="204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65400" y="762120"/>
                    <a:ext cx="3525840" cy="2046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96762" dir="4006405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sp>
        <p:nvSpPr>
          <p:cNvPr id="327" name="Line 12"/>
          <p:cNvSpPr/>
          <p:nvPr/>
        </p:nvSpPr>
        <p:spPr>
          <a:xfrm>
            <a:off x="6858000" y="4572000"/>
            <a:ext cx="1525680" cy="209700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Line 13"/>
          <p:cNvSpPr/>
          <p:nvPr/>
        </p:nvSpPr>
        <p:spPr>
          <a:xfrm flipH="1">
            <a:off x="464760" y="4581360"/>
            <a:ext cx="1438200" cy="208764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9" name="Line 14"/>
          <p:cNvSpPr/>
          <p:nvPr/>
        </p:nvSpPr>
        <p:spPr>
          <a:xfrm flipV="1">
            <a:off x="1903320" y="4572000"/>
            <a:ext cx="4954680" cy="936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Line 15"/>
          <p:cNvSpPr/>
          <p:nvPr/>
        </p:nvSpPr>
        <p:spPr>
          <a:xfrm>
            <a:off x="428760" y="6705720"/>
            <a:ext cx="7972200" cy="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7029360" y="1508040"/>
            <a:ext cx="3256200" cy="76284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2" name="AutoShape 17"/>
          <p:cNvSpPr/>
          <p:nvPr/>
        </p:nvSpPr>
        <p:spPr>
          <a:xfrm rot="8375400">
            <a:off x="7383240" y="3944880"/>
            <a:ext cx="1141200" cy="2664000"/>
          </a:xfrm>
          <a:custGeom>
            <a:avLst/>
            <a:gdLst>
              <a:gd name="textAreaLeft" fmla="*/ 184320 w 1141200"/>
              <a:gd name="textAreaRight" fmla="*/ 956880 w 1141200"/>
              <a:gd name="textAreaTop" fmla="*/ 430560 h 2664000"/>
              <a:gd name="textAreaBottom" fmla="*/ 223344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81" y="21600"/>
                </a:lnTo>
                <a:lnTo>
                  <a:pt x="18219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33" name="Object 18"/>
          <p:cNvGraphicFramePr/>
          <p:nvPr/>
        </p:nvGraphicFramePr>
        <p:xfrm>
          <a:off x="5097600" y="1585800"/>
          <a:ext cx="1931760" cy="136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97600" y="1585800"/>
                    <a:ext cx="19317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Text Box 19"/>
          <p:cNvSpPr/>
          <p:nvPr/>
        </p:nvSpPr>
        <p:spPr>
          <a:xfrm>
            <a:off x="7159680" y="5159520"/>
            <a:ext cx="3127320" cy="82512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HEALTHY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6" name="Text Box 20"/>
          <p:cNvSpPr/>
          <p:nvPr/>
        </p:nvSpPr>
        <p:spPr>
          <a:xfrm>
            <a:off x="6643800" y="3197160"/>
            <a:ext cx="2690640" cy="764280"/>
          </a:xfrm>
          <a:prstGeom prst="rect">
            <a:avLst/>
          </a:prstGeom>
          <a:solidFill>
            <a:srgbClr val="9900cc"/>
          </a:solidFill>
          <a:ln w="3240">
            <a:solidFill>
              <a:srgbClr val="fafd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SIC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Text Box 21"/>
          <p:cNvSpPr/>
          <p:nvPr/>
        </p:nvSpPr>
        <p:spPr>
          <a:xfrm>
            <a:off x="6080040" y="2259000"/>
            <a:ext cx="3483000" cy="703440"/>
          </a:xfrm>
          <a:prstGeom prst="rect">
            <a:avLst/>
          </a:prstGeom>
          <a:solidFill>
            <a:srgbClr val="ff6600"/>
          </a:solidFill>
          <a:ln w="3240">
            <a:solidFill>
              <a:srgbClr val="fafd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20"/>
                </a:solidFill>
                <a:latin typeface="Arial"/>
                <a:ea typeface="Arial"/>
              </a:rPr>
              <a:t>VERY  SICK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8" name="AutoShape 22"/>
          <p:cNvSpPr/>
          <p:nvPr/>
        </p:nvSpPr>
        <p:spPr>
          <a:xfrm>
            <a:off x="3467160" y="838080"/>
            <a:ext cx="1901880" cy="1206720"/>
          </a:xfrm>
          <a:prstGeom prst="triangle">
            <a:avLst>
              <a:gd name="adj" fmla="val 47292"/>
            </a:avLst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Rectangle 23"/>
          <p:cNvSpPr/>
          <p:nvPr/>
        </p:nvSpPr>
        <p:spPr>
          <a:xfrm>
            <a:off x="3695760" y="1447920"/>
            <a:ext cx="1498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Levenim MT"/>
              </a:rPr>
              <a:t>DEAT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38160" y="228600"/>
            <a:ext cx="3448080" cy="764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52300" dir="17036436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GERIATRIC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500"/>
                            </p:stCondLst>
                            <p:childTnLst>
                              <p:par>
                                <p:cTn id="6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3500"/>
                            </p:stCondLst>
                            <p:childTnLst>
                              <p:par>
                                <p:cTn id="6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10287000" cy="914400"/>
          </a:xfrm>
          <a:prstGeom prst="rect">
            <a:avLst/>
          </a:prstGeom>
          <a:noFill/>
          <a:ln w="0">
            <a:noFill/>
          </a:ln>
          <a:effectLst>
            <a:outerShdw dist="45929" dir="18228878" blurRad="0" rotWithShape="0">
              <a:srgbClr val="ff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LOBAL  HEALTH  IN  THE  ELDERLY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2629080" y="5181480"/>
            <a:ext cx="2943000" cy="13723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52300" dir="836435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REVENTIO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&amp; HEALTH  PROMOTIO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866960" y="3330720"/>
            <a:ext cx="4114800" cy="1738440"/>
          </a:xfrm>
          <a:prstGeom prst="rect">
            <a:avLst/>
          </a:prstGeom>
          <a:solidFill>
            <a:srgbClr val="800080"/>
          </a:solidFill>
          <a:ln w="38160">
            <a:solidFill>
              <a:srgbClr val="ffff00"/>
            </a:solidFill>
            <a:miter/>
          </a:ln>
          <a:effectLst>
            <a:outerShdw dist="40186" dir="430364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CURATIVE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MEDICINE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7029360" y="1508040"/>
            <a:ext cx="3256200" cy="76284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0" y="1268280"/>
            <a:ext cx="10285560" cy="5329440"/>
          </a:xfrm>
          <a:custGeom>
            <a:avLst/>
            <a:gdLst>
              <a:gd name="textAreaLeft" fmla="*/ 2142720 w 10285560"/>
              <a:gd name="textAreaRight" fmla="*/ 8142840 w 10285560"/>
              <a:gd name="textAreaTop" fmla="*/ 1110240 h 5329440"/>
              <a:gd name="textAreaBottom" fmla="*/ 4219200 h 532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679320" y="1295280"/>
            <a:ext cx="4969080" cy="1921320"/>
          </a:xfrm>
          <a:prstGeom prst="rect">
            <a:avLst/>
          </a:prstGeom>
          <a:solidFill>
            <a:srgbClr val="00002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PALLIATIVE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MEDICINE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5829480" y="3333600"/>
            <a:ext cx="2695320" cy="2437920"/>
          </a:xfrm>
          <a:prstGeom prst="rect">
            <a:avLst/>
          </a:prstGeom>
          <a:solidFill>
            <a:srgbClr val="9900cc"/>
          </a:solidFill>
          <a:ln w="3240">
            <a:solidFill>
              <a:srgbClr val="fafd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SIC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5648400" y="1295280"/>
            <a:ext cx="4140000" cy="1941840"/>
          </a:xfrm>
          <a:prstGeom prst="rect">
            <a:avLst/>
          </a:prstGeom>
          <a:solidFill>
            <a:srgbClr val="000020"/>
          </a:solidFill>
          <a:ln w="3240">
            <a:solidFill>
              <a:srgbClr val="fafd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VERY 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SICK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5524560" y="5614920"/>
            <a:ext cx="2663640" cy="52056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HEALTHY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AutoShape 11"/>
          <p:cNvSpPr/>
          <p:nvPr/>
        </p:nvSpPr>
        <p:spPr>
          <a:xfrm>
            <a:off x="8801280" y="1981080"/>
            <a:ext cx="1484280" cy="4876920"/>
          </a:xfrm>
          <a:prstGeom prst="upArrow">
            <a:avLst>
              <a:gd name="adj1" fmla="val 50000"/>
              <a:gd name="adj2" fmla="val 82143"/>
            </a:avLst>
          </a:prstGeom>
          <a:solidFill>
            <a:srgbClr val="fafd0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9258480" y="3581280"/>
            <a:ext cx="529920" cy="210492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AG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350"/>
                            </p:stCondLst>
                            <p:childTnLst>
                              <p:par>
                                <p:cTn id="7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066680" y="1143000"/>
            <a:ext cx="899172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f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00"/>
                </a:solidFill>
                <a:latin typeface="Arial"/>
              </a:rPr>
              <a:t>POINTS   FOR   CONSIDER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3809880" y="1687680"/>
            <a:ext cx="7162920" cy="22345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5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5"/>
                </a:solidFill>
                <a:latin typeface="Arial"/>
              </a:rPr>
              <a:t>Four Living Generations in Many Families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5"/>
                </a:solidFill>
                <a:latin typeface="Arial"/>
              </a:rPr>
              <a:t>A Rapidly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istorted Balance</a:t>
            </a:r>
            <a:r>
              <a:rPr b="1" lang="en-US" sz="2400" spc="-1" strike="noStrike">
                <a:solidFill>
                  <a:srgbClr val="fffff5"/>
                </a:solidFill>
                <a:latin typeface="Arial"/>
              </a:rPr>
              <a:t> Between the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5"/>
                </a:solidFill>
                <a:latin typeface="Arial"/>
              </a:rPr>
              <a:t>Sick, Debilitated, Non-productive, Poor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5"/>
                </a:solidFill>
                <a:latin typeface="Arial"/>
              </a:rPr>
              <a:t>Elders - and the Young, Healthy, Productive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5"/>
                </a:solidFill>
                <a:latin typeface="Arial"/>
              </a:rPr>
              <a:t>Population that has to Bear the Burden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266400"/>
            <a:ext cx="10029960" cy="723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1905120"/>
            <a:ext cx="403848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PULATION BALANCE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&amp; SOCIAL Chang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0" y="3733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ECONOMIC  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5320" y="-360"/>
            <a:ext cx="10201320" cy="152388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EXPANDING HEALTH FRONTIERS   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IN THE  21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T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 CENTURY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52280" y="2209320"/>
            <a:ext cx="104392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OW  CAN   WE   PROMOTE  HEALTH  FOR  PEOPLE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IN  ALL  AGE 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2" name="Object 4" descr=""/>
          <p:cNvPicPr/>
          <p:nvPr/>
        </p:nvPicPr>
        <p:blipFill>
          <a:blip r:embed="rId1"/>
          <a:stretch/>
        </p:blipFill>
        <p:spPr>
          <a:xfrm>
            <a:off x="7010280" y="5583240"/>
            <a:ext cx="824040" cy="1351080"/>
          </a:xfrm>
          <a:prstGeom prst="rect">
            <a:avLst/>
          </a:prstGeom>
          <a:ln w="0">
            <a:noFill/>
          </a:ln>
          <a:effectLst>
            <a:outerShdw dist="25560" dir="10800000" blurRad="0" rotWithShape="0">
              <a:srgbClr val="fafd00"/>
            </a:outerShdw>
          </a:effectLst>
        </p:spPr>
      </p:pic>
      <p:pic>
        <p:nvPicPr>
          <p:cNvPr id="63" name="Object 5" descr=""/>
          <p:cNvPicPr/>
          <p:nvPr/>
        </p:nvPicPr>
        <p:blipFill>
          <a:blip r:embed="rId2"/>
          <a:stretch/>
        </p:blipFill>
        <p:spPr>
          <a:xfrm>
            <a:off x="5791320" y="5791320"/>
            <a:ext cx="804600" cy="1143000"/>
          </a:xfrm>
          <a:prstGeom prst="rect">
            <a:avLst/>
          </a:prstGeom>
          <a:ln w="0">
            <a:noFill/>
          </a:ln>
          <a:effectLst>
            <a:outerShdw dist="45929" dir="12828878" blurRad="0" rotWithShape="0">
              <a:srgbClr val="000020"/>
            </a:outerShdw>
          </a:effectLst>
        </p:spPr>
      </p:pic>
      <p:pic>
        <p:nvPicPr>
          <p:cNvPr id="64" name="Object 6" descr=""/>
          <p:cNvPicPr/>
          <p:nvPr/>
        </p:nvPicPr>
        <p:blipFill>
          <a:blip r:embed="rId3"/>
          <a:stretch/>
        </p:blipFill>
        <p:spPr>
          <a:xfrm>
            <a:off x="4114800" y="5767560"/>
            <a:ext cx="806400" cy="116676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0020"/>
            </a:outerShdw>
          </a:effectLst>
        </p:spPr>
      </p:pic>
      <p:pic>
        <p:nvPicPr>
          <p:cNvPr id="65" name="Object 7" descr=""/>
          <p:cNvPicPr/>
          <p:nvPr/>
        </p:nvPicPr>
        <p:blipFill>
          <a:blip r:embed="rId4"/>
          <a:stretch/>
        </p:blipFill>
        <p:spPr>
          <a:xfrm>
            <a:off x="-152280" y="5410080"/>
            <a:ext cx="2514600" cy="1447920"/>
          </a:xfrm>
          <a:prstGeom prst="rect">
            <a:avLst/>
          </a:prstGeom>
          <a:ln w="0">
            <a:noFill/>
          </a:ln>
        </p:spPr>
      </p:pic>
      <p:pic>
        <p:nvPicPr>
          <p:cNvPr id="66" name="Object 8" descr=""/>
          <p:cNvPicPr/>
          <p:nvPr/>
        </p:nvPicPr>
        <p:blipFill>
          <a:blip r:embed="rId5"/>
          <a:stretch/>
        </p:blipFill>
        <p:spPr>
          <a:xfrm>
            <a:off x="2362320" y="5562720"/>
            <a:ext cx="914400" cy="12952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afd00"/>
            </a:outerShdw>
          </a:effectLst>
        </p:spPr>
      </p:pic>
      <p:pic>
        <p:nvPicPr>
          <p:cNvPr id="67" name="Object 9" descr=""/>
          <p:cNvPicPr/>
          <p:nvPr/>
        </p:nvPicPr>
        <p:blipFill>
          <a:blip r:embed="rId6"/>
          <a:stretch/>
        </p:blipFill>
        <p:spPr>
          <a:xfrm>
            <a:off x="8186760" y="6019920"/>
            <a:ext cx="2100240" cy="83808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</p:pic>
      <p:sp>
        <p:nvSpPr>
          <p:cNvPr id="68" name="Text Box 10"/>
          <p:cNvSpPr/>
          <p:nvPr/>
        </p:nvSpPr>
        <p:spPr>
          <a:xfrm>
            <a:off x="76320" y="49672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EVENTIVE MEDICINE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50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0299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ABILITY ADJUSTED LIFE YEARS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71120" y="3352680"/>
            <a:ext cx="5667480" cy="411480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1717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erebrovascular  Disease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1717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hronic Obstructive  Lung  Disease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1717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ower  Respiratory  Infections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1717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Tuberculosis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1717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War  Injuries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1717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arrheal  Disease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380880" y="914400"/>
            <a:ext cx="9906120" cy="579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afd00"/>
                </a:solidFill>
                <a:uFillTx/>
                <a:latin typeface="Arial"/>
                <a:ea typeface="Levenim MT"/>
              </a:rPr>
              <a:t>LEADING  CAUSES  IN 2020 (Excluding Cancer)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Times New Roman"/>
                <a:ea typeface="Levenim MT"/>
              </a:rPr>
              <a:t>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60" name="Object 7" descr=""/>
          <p:cNvPicPr/>
          <p:nvPr/>
        </p:nvPicPr>
        <p:blipFill>
          <a:blip r:embed="rId1"/>
          <a:stretch/>
        </p:blipFill>
        <p:spPr>
          <a:xfrm>
            <a:off x="8153280" y="4724280"/>
            <a:ext cx="1852560" cy="17528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8"/>
          <p:cNvSpPr/>
          <p:nvPr/>
        </p:nvSpPr>
        <p:spPr>
          <a:xfrm>
            <a:off x="685800" y="1874880"/>
            <a:ext cx="8420040" cy="2159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SzPct val="110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schemic  Heart  Disease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10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nipolar  Major  Depression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10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oad-Traffic   Accidents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62" name="Object 9" descr=""/>
          <p:cNvPicPr/>
          <p:nvPr/>
        </p:nvPicPr>
        <p:blipFill>
          <a:blip r:embed="rId2"/>
          <a:stretch/>
        </p:blipFill>
        <p:spPr>
          <a:xfrm>
            <a:off x="7353360" y="2887560"/>
            <a:ext cx="2590920" cy="2675160"/>
          </a:xfrm>
          <a:prstGeom prst="rect">
            <a:avLst/>
          </a:prstGeom>
          <a:ln w="0">
            <a:noFill/>
          </a:ln>
          <a:effectLst>
            <a:outerShdw dist="99192" dir="13818056" blurRad="0" rotWithShape="0">
              <a:srgbClr val="fafd00"/>
            </a:outerShdw>
          </a:effectLst>
        </p:spPr>
      </p:pic>
      <p:sp>
        <p:nvSpPr>
          <p:cNvPr id="363" name="Rectangle 11"/>
          <p:cNvSpPr/>
          <p:nvPr/>
        </p:nvSpPr>
        <p:spPr>
          <a:xfrm>
            <a:off x="8138880" y="3595680"/>
            <a:ext cx="1229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Levenim MT"/>
              </a:rPr>
              <a:t>2020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4" name="Object 12"/>
          <p:cNvGraphicFramePr/>
          <p:nvPr/>
        </p:nvGraphicFramePr>
        <p:xfrm>
          <a:off x="6438960" y="1828800"/>
          <a:ext cx="384804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8960" y="1828800"/>
                    <a:ext cx="3848040" cy="1905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366" name="Text Box 13"/>
          <p:cNvSpPr/>
          <p:nvPr/>
        </p:nvSpPr>
        <p:spPr>
          <a:xfrm>
            <a:off x="8115480" y="2743200"/>
            <a:ext cx="152856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22c"/>
                </a:solidFill>
                <a:latin typeface="Arial"/>
              </a:rPr>
              <a:t>$ $ $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3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200"/>
                            </p:stCondLst>
                            <p:childTnLst>
                              <p:par>
                                <p:cTn id="7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3200"/>
                            </p:stCondLst>
                            <p:childTnLst>
                              <p:par>
                                <p:cTn id="77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200"/>
                            </p:stCondLst>
                            <p:childTnLst>
                              <p:par>
                                <p:cTn id="7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2"/>
          <p:cNvGraphicFramePr/>
          <p:nvPr/>
        </p:nvGraphicFramePr>
        <p:xfrm>
          <a:off x="8143920" y="4038480"/>
          <a:ext cx="196992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920" y="4038480"/>
                    <a:ext cx="1969920" cy="1295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9225519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69" name="Object 3"/>
          <p:cNvGraphicFramePr/>
          <p:nvPr/>
        </p:nvGraphicFramePr>
        <p:xfrm>
          <a:off x="2982960" y="5084640"/>
          <a:ext cx="120024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2960" y="5084640"/>
                    <a:ext cx="1200240" cy="1067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99ff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71" name="Object 4"/>
          <p:cNvGraphicFramePr/>
          <p:nvPr/>
        </p:nvGraphicFramePr>
        <p:xfrm>
          <a:off x="171360" y="4441680"/>
          <a:ext cx="1371600" cy="12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360" y="4441680"/>
                    <a:ext cx="1371600" cy="1219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36147" dir="13500000" blurRad="0" rotWithShape="0">
                      <a:srgbClr val="b2b2b2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73" name="Object 5"/>
          <p:cNvGraphicFramePr/>
          <p:nvPr/>
        </p:nvGraphicFramePr>
        <p:xfrm>
          <a:off x="8915400" y="3886200"/>
          <a:ext cx="68580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915400" y="3886200"/>
                    <a:ext cx="685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5560" cy="11430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GLOBAL  BURDEN  OF  CANCER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1633320"/>
            <a:ext cx="10285560" cy="2709720"/>
          </a:xfrm>
          <a:prstGeom prst="rect">
            <a:avLst/>
          </a:prstGeom>
          <a:noFill/>
          <a:ln w="0">
            <a:noFill/>
          </a:ln>
          <a:effectLst>
            <a:outerShdw dist="36147" dir="18900000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60% of  all Cancers Occur  in the Population Over the age of 65.....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he   Absolute   Number  of  Older  Cancer   Patients  Will  Only  Increase  in  the  Next  Three  Decades,  and  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162000" y="6400800"/>
            <a:ext cx="7572240" cy="458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WB Ershler,  Editor, J Gerontol  1997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78" name="Object 9"/>
          <p:cNvGraphicFramePr/>
          <p:nvPr/>
        </p:nvGraphicFramePr>
        <p:xfrm>
          <a:off x="8528040" y="5310360"/>
          <a:ext cx="128412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9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28040" y="5310360"/>
                    <a:ext cx="1284120" cy="1143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9703641" blurRad="0" rotWithShape="0">
                      <a:srgbClr val="ff0033"/>
                    </a:outerShdw>
                  </a:effectLst>
                </p:spPr>
              </p:pic>
            </p:oleObj>
          </a:graphicData>
        </a:graphic>
      </p:graphicFrame>
      <p:sp>
        <p:nvSpPr>
          <p:cNvPr id="380" name="Text Box 10"/>
          <p:cNvSpPr/>
          <p:nvPr/>
        </p:nvSpPr>
        <p:spPr>
          <a:xfrm>
            <a:off x="318960" y="4648320"/>
            <a:ext cx="10287000" cy="184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E  ARE  ILL  EQIPPED  FOR  THI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fb"/>
                </a:solidFill>
                <a:latin typeface="Arial"/>
              </a:rPr>
              <a:t>INTELLECTUALLY</a:t>
            </a:r>
            <a:r>
              <a:rPr b="1" lang="en-US" sz="3200" spc="-1" strike="noStrike">
                <a:solidFill>
                  <a:srgbClr val="fffffb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                          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MOTIONALLY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                                            &amp;   </a:t>
            </a:r>
            <a:r>
              <a:rPr b="1" lang="en-US" sz="3200" spc="-1" strike="noStrike">
                <a:solidFill>
                  <a:srgbClr val="fb7dc8"/>
                </a:solidFill>
                <a:latin typeface="Arial"/>
              </a:rPr>
              <a:t>ECONOMICALL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2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Object 2"/>
          <p:cNvGraphicFramePr/>
          <p:nvPr/>
        </p:nvGraphicFramePr>
        <p:xfrm>
          <a:off x="8959680" y="2565360"/>
          <a:ext cx="1114560" cy="12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9680" y="2565360"/>
                    <a:ext cx="1114560" cy="1293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c0128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83" name="Object 3"/>
          <p:cNvGraphicFramePr/>
          <p:nvPr/>
        </p:nvGraphicFramePr>
        <p:xfrm>
          <a:off x="7736040" y="5877000"/>
          <a:ext cx="2550960" cy="98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36040" y="5877000"/>
                    <a:ext cx="2550960" cy="981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" y="132840"/>
            <a:ext cx="10285560" cy="114300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GLOBAL  BURDEN  OF  CANCER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1883880"/>
            <a:ext cx="9944280" cy="16210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Large  Increases  in  Absolute  Numbers  of Cancer  Patients ... in   the  Next   Century  are  Already    Programmed   Due   to   th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6237360"/>
            <a:ext cx="7056360" cy="458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  <a:ea typeface="Times New Roman (Hebrew)"/>
              </a:rPr>
              <a:t>Peter Boyle, The Lancet, May 1997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328680" y="3595680"/>
            <a:ext cx="103600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  <a:ea typeface="Arial"/>
              </a:rPr>
              <a:t>Oncological    Time - Bomb 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0033"/>
                </a:solidFill>
                <a:latin typeface="Arial"/>
                <a:ea typeface="Arial"/>
              </a:rPr>
              <a:t>                       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Arial"/>
                <a:ea typeface="Arial"/>
              </a:rPr>
              <a:t>of  the  Ageing  Population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This has Important Implications for  Public  Heal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Levenim MT"/>
              </a:rPr>
              <a:t>        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8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2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Object 2"/>
          <p:cNvGraphicFramePr/>
          <p:nvPr/>
        </p:nvGraphicFramePr>
        <p:xfrm>
          <a:off x="0" y="2666880"/>
          <a:ext cx="28954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2895480" cy="1905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91" name="Object 3"/>
          <p:cNvGraphicFramePr/>
          <p:nvPr/>
        </p:nvGraphicFramePr>
        <p:xfrm>
          <a:off x="0" y="4114800"/>
          <a:ext cx="445788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114800"/>
                    <a:ext cx="4457880" cy="2438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93" name="Object 4"/>
          <p:cNvGraphicFramePr/>
          <p:nvPr/>
        </p:nvGraphicFramePr>
        <p:xfrm>
          <a:off x="8315280" y="1828800"/>
          <a:ext cx="1455840" cy="26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15280" y="1828800"/>
                    <a:ext cx="1455840" cy="2666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2860" dir="17224585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360" y="132840"/>
            <a:ext cx="10285560" cy="114300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LOBAL  BURDEN  OF  CANCER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5320" y="914400"/>
            <a:ext cx="10199880" cy="4495680"/>
          </a:xfrm>
          <a:prstGeom prst="rect">
            <a:avLst/>
          </a:prstGeom>
          <a:noFill/>
          <a:ln w="0">
            <a:noFill/>
          </a:ln>
          <a:effectLst>
            <a:outerShdw dist="36147" dir="18900000" blurRad="0" rotWithShape="0">
              <a:srgbClr val="000020"/>
            </a:outerShdw>
          </a:effectLst>
        </p:spPr>
        <p:txBody>
          <a:bodyPr lIns="92160" rIns="92160" tIns="46080" bIns="4608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NEW  CASES  OF  CANCER  WORLDWID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( in millions 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975                      5.9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980                      6.4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985                      7.6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990                      8.4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                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2000                 10.3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(estimate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397" name="Object 7"/>
          <p:cNvGraphicFramePr/>
          <p:nvPr/>
        </p:nvGraphicFramePr>
        <p:xfrm>
          <a:off x="1590840" y="1428840"/>
          <a:ext cx="771480" cy="131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90840" y="1428840"/>
                    <a:ext cx="771480" cy="13143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</p:spTree>
  </p:cSld>
  <p:transition spd="slow">
    <p:cut thruBlk="true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29528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afd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c0128"/>
                </a:solidFill>
                <a:latin typeface="Arial"/>
              </a:rPr>
              <a:t>Number of Hip Fractures Annually </a:t>
            </a:r>
            <a:endParaRPr b="0" lang="en-US" sz="46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400" name="Object 3"/>
          <p:cNvGraphicFramePr/>
          <p:nvPr/>
        </p:nvGraphicFramePr>
        <p:xfrm>
          <a:off x="60480" y="1066680"/>
          <a:ext cx="10226520" cy="53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1066680"/>
                    <a:ext cx="10226520" cy="53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Line 4"/>
          <p:cNvSpPr/>
          <p:nvPr/>
        </p:nvSpPr>
        <p:spPr>
          <a:xfrm>
            <a:off x="10115640" y="1905120"/>
            <a:ext cx="0" cy="419076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0" y="1905120"/>
            <a:ext cx="18972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1d58"/>
                </a:solidFill>
                <a:latin typeface="Arial"/>
              </a:rPr>
              <a:t>No.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(x 1000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6705720" y="3505320"/>
            <a:ext cx="1784160" cy="91692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USA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8077320" y="5029200"/>
            <a:ext cx="100620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U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6" name="Object 8" descr=""/>
          <p:cNvPicPr/>
          <p:nvPr/>
        </p:nvPicPr>
        <p:blipFill>
          <a:blip r:embed="rId3"/>
          <a:stretch/>
        </p:blipFill>
        <p:spPr>
          <a:xfrm>
            <a:off x="8534520" y="2438280"/>
            <a:ext cx="914400" cy="8384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9"/>
          <p:cNvSpPr/>
          <p:nvPr/>
        </p:nvSpPr>
        <p:spPr>
          <a:xfrm>
            <a:off x="8305920" y="24382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3429000" y="5791320"/>
            <a:ext cx="99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98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5141880" y="5791320"/>
            <a:ext cx="790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8875800" y="5867280"/>
            <a:ext cx="790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20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7174080" y="1371600"/>
            <a:ext cx="1939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ESTIMATE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29528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afd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c0128"/>
                </a:solidFill>
                <a:latin typeface="Arial"/>
              </a:rPr>
              <a:t>Number of Patients with Dementia</a:t>
            </a:r>
            <a:endParaRPr b="0" lang="en-US" sz="46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413" name="Object 3"/>
          <p:cNvGraphicFramePr/>
          <p:nvPr/>
        </p:nvGraphicFramePr>
        <p:xfrm>
          <a:off x="0" y="990720"/>
          <a:ext cx="10226520" cy="53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10226520" cy="53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Line 4"/>
          <p:cNvSpPr/>
          <p:nvPr/>
        </p:nvSpPr>
        <p:spPr>
          <a:xfrm>
            <a:off x="10115640" y="1905120"/>
            <a:ext cx="0" cy="419076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1905120"/>
            <a:ext cx="18288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1d58"/>
                </a:solidFill>
                <a:latin typeface="Arial"/>
              </a:rPr>
              <a:t>No.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1d58"/>
                </a:solidFill>
                <a:latin typeface="Arial"/>
              </a:rPr>
              <a:t>x 10</a:t>
            </a:r>
            <a:r>
              <a:rPr b="1" lang="en-US" sz="5400" spc="-1" strike="noStrike" baseline="30000">
                <a:solidFill>
                  <a:srgbClr val="081d58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3886200" y="3886200"/>
            <a:ext cx="1784520" cy="91692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USA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4876920" y="5257800"/>
            <a:ext cx="9144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UK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19" name="Object 8" descr=""/>
          <p:cNvPicPr/>
          <p:nvPr/>
        </p:nvPicPr>
        <p:blipFill>
          <a:blip r:embed="rId3"/>
          <a:stretch/>
        </p:blipFill>
        <p:spPr>
          <a:xfrm>
            <a:off x="8839080" y="137160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9"/>
          <p:cNvSpPr/>
          <p:nvPr/>
        </p:nvSpPr>
        <p:spPr>
          <a:xfrm>
            <a:off x="8686800" y="14479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7394040" y="1143000"/>
            <a:ext cx="193932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ESTIMATE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2" name="AutoShape 11"/>
          <p:cNvSpPr/>
          <p:nvPr/>
        </p:nvSpPr>
        <p:spPr>
          <a:xfrm rot="19962600">
            <a:off x="5148360" y="2128320"/>
            <a:ext cx="3462120" cy="463680"/>
          </a:xfrm>
          <a:prstGeom prst="rightArrow">
            <a:avLst>
              <a:gd name="adj1" fmla="val 15000"/>
              <a:gd name="adj2" fmla="val 191436"/>
            </a:avLst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AutoShape 12"/>
          <p:cNvSpPr/>
          <p:nvPr/>
        </p:nvSpPr>
        <p:spPr>
          <a:xfrm rot="20915400">
            <a:off x="5334120" y="4647960"/>
            <a:ext cx="3122640" cy="306360"/>
          </a:xfrm>
          <a:prstGeom prst="rightArrow">
            <a:avLst>
              <a:gd name="adj1" fmla="val 15000"/>
              <a:gd name="adj2" fmla="val 261330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Text Box 13"/>
          <p:cNvSpPr/>
          <p:nvPr/>
        </p:nvSpPr>
        <p:spPr>
          <a:xfrm>
            <a:off x="3048120" y="5715000"/>
            <a:ext cx="1228680" cy="459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98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Text Box 14"/>
          <p:cNvSpPr/>
          <p:nvPr/>
        </p:nvSpPr>
        <p:spPr>
          <a:xfrm>
            <a:off x="4724280" y="5715000"/>
            <a:ext cx="1219320" cy="459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6" name="Rectangle 15"/>
          <p:cNvSpPr/>
          <p:nvPr/>
        </p:nvSpPr>
        <p:spPr>
          <a:xfrm>
            <a:off x="7970040" y="5715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20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8001000" y="4952880"/>
            <a:ext cx="106668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UK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7696080" y="3200400"/>
            <a:ext cx="1447920" cy="70344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USA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10287000" cy="9144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GLOBAL  BURDEN OF DISEASE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0" y="1752480"/>
            <a:ext cx="1013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0" y="1098720"/>
            <a:ext cx="10058400" cy="180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</a:rPr>
              <a:t>"בריאות ואריכות ימים..."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 בדרך כלל אינם באים ביחד שכן הזדקנות קשורה בעלייה בשכיחות ומורכבות של מחלות כרוניות מגבילות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העלייה הגדולה "נטו" בהיוותרות  בחיים מתורגמת בסופו של דבר ליותר שנים של תפקוד לקוי - גופני, מנטלי וחברתי.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114480" y="2895480"/>
            <a:ext cx="10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בערך חצי מהשנים שנותרו לאנשים בגיל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65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 -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74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 יהיו קשורות במוגבלות כלשהי</a:t>
            </a: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0" y="3370320"/>
            <a:ext cx="10058400" cy="211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מוגבלות בתפקוד יום יומי (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L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) קיימת ביותר משליש מהחולים לאחר שבר בצוואר הירך ובערך רבע זקוקים לאשפוז במוסד לטיפול ממושך.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עלויות הטיפול הרפואי והסיעודי בחולים עם שברים בצוואר הירך, הכפילו עצמן תוך פחות מעשור...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מגמה דומה קיימת לגבי דמנציה, סרטן או מחלות מגבילות אחרות התלויות בגיל</a:t>
            </a: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38160" y="5445000"/>
            <a:ext cx="10058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בהתאם, מספר האנשים בארה"ב בבתי אבות סיעודיים  (</a:t>
            </a:r>
            <a:r>
              <a:rPr b="1" lang="en-US" sz="2400" spc="-1" strike="noStrike">
                <a:solidFill>
                  <a:srgbClr val="fffff7"/>
                </a:solidFill>
                <a:latin typeface="Arial"/>
              </a:rPr>
              <a:t>NURSING HOMES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) בשנת 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1985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 היה 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1.1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 מיליון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 המספר הוכפל בשנת 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2000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  וצפוי להגיע  בשנת  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2050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 ל - 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5.5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 מליון!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Medicare"/>
          <p:cNvPicPr/>
          <p:nvPr/>
        </p:nvPicPr>
        <p:blipFill>
          <a:blip r:embed="rId1"/>
          <a:stretch/>
        </p:blipFill>
        <p:spPr>
          <a:xfrm>
            <a:off x="380880" y="304920"/>
            <a:ext cx="9525240" cy="6019560"/>
          </a:xfrm>
          <a:prstGeom prst="rect">
            <a:avLst/>
          </a:prstGeom>
          <a:ln w="76320">
            <a:solidFill>
              <a:srgbClr val="fc0100"/>
            </a:solidFill>
            <a:miter/>
          </a:ln>
        </p:spPr>
      </p:pic>
    </p:spTree>
  </p:cSld>
  <p:transition spd="slow">
    <p:cut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1066680" y="1143000"/>
            <a:ext cx="899172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f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00"/>
                </a:solidFill>
                <a:latin typeface="Arial"/>
              </a:rPr>
              <a:t>POINTS   FOR   CONSIDER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3809880" y="1687680"/>
            <a:ext cx="7162920" cy="22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5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Four Living Generations in Many Families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A Rapidly Distorted Balance Between the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Sick, Debilitated, Non-productive, Poor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Elders- and the Young, Healthy, Productive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Population that has to Bear the Burden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" y="266400"/>
            <a:ext cx="10029960" cy="723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1905120"/>
            <a:ext cx="4419720" cy="7959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POPULATION BALANCE -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&amp; SOCIAL Chang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0" y="3733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ECONOMIC  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3429000" y="3581280"/>
            <a:ext cx="6934320" cy="18795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5"/>
                </a:solidFill>
                <a:latin typeface="Arial"/>
              </a:rPr>
              <a:t>Expenditures for the Elderly and Disable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5"/>
                </a:solidFill>
                <a:latin typeface="Arial"/>
              </a:rPr>
              <a:t>are Growing Rapidly in an Alarming Rat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0f2b"/>
                </a:solidFill>
                <a:latin typeface="Arial"/>
              </a:rPr>
              <a:t>Social Security Resources &amp; Health Insuran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0f2b"/>
                </a:solidFill>
                <a:latin typeface="Arial"/>
              </a:rPr>
              <a:t>may  NOT  Suffice</a:t>
            </a:r>
            <a:r>
              <a:rPr b="1" lang="en-US" sz="2400" spc="-1" strike="noStrike">
                <a:solidFill>
                  <a:srgbClr val="fffff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0" y="5105520"/>
            <a:ext cx="103633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THICAL &amp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Miriam"/>
              </a:rPr>
              <a:t> LEGAL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5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Miriam"/>
              </a:rPr>
              <a:t>Restrain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Object 2"/>
          <p:cNvGraphicFramePr/>
          <p:nvPr/>
        </p:nvGraphicFramePr>
        <p:xfrm>
          <a:off x="7229520" y="609480"/>
          <a:ext cx="282744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9520" y="609480"/>
                    <a:ext cx="282744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3"/>
          <p:cNvGraphicFramePr/>
          <p:nvPr/>
        </p:nvGraphicFramePr>
        <p:xfrm>
          <a:off x="1709640" y="1447920"/>
          <a:ext cx="410364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9640" y="1447920"/>
                    <a:ext cx="4103640" cy="9903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32840"/>
            <a:ext cx="9410760" cy="114300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GLOBAL BURDEN OF DISEASE</a:t>
            </a:r>
            <a:endParaRPr b="0" lang="en-US" sz="46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448" name="Object 5"/>
          <p:cNvGraphicFramePr/>
          <p:nvPr/>
        </p:nvGraphicFramePr>
        <p:xfrm>
          <a:off x="1790640" y="2362320"/>
          <a:ext cx="3772080" cy="42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0640" y="2362320"/>
                    <a:ext cx="3772080" cy="4267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2300" dir="4563564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50" name="Object 6"/>
          <p:cNvGraphicFramePr/>
          <p:nvPr/>
        </p:nvGraphicFramePr>
        <p:xfrm>
          <a:off x="5408640" y="3886200"/>
          <a:ext cx="4630680" cy="236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08640" y="3886200"/>
                    <a:ext cx="4630680" cy="2362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0066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52" name="Object 7"/>
          <p:cNvGraphicFramePr/>
          <p:nvPr/>
        </p:nvGraphicFramePr>
        <p:xfrm>
          <a:off x="1195560" y="4173480"/>
          <a:ext cx="6176880" cy="268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95560" y="4173480"/>
                    <a:ext cx="6176880" cy="2683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sp>
        <p:nvSpPr>
          <p:cNvPr id="454" name="Rectangle 8"/>
          <p:cNvSpPr/>
          <p:nvPr/>
        </p:nvSpPr>
        <p:spPr>
          <a:xfrm>
            <a:off x="7772400" y="5715000"/>
            <a:ext cx="203688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Levenim MT"/>
              </a:rPr>
              <a:t>ETHIC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5" name="Rectangle 9"/>
          <p:cNvSpPr/>
          <p:nvPr/>
        </p:nvSpPr>
        <p:spPr>
          <a:xfrm rot="20040000">
            <a:off x="7000920" y="5041800"/>
            <a:ext cx="2130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0"/>
                </a:solidFill>
                <a:latin typeface="Arial"/>
                <a:ea typeface="Levenim MT"/>
              </a:rPr>
              <a:t>LAW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6" name="Rectangle 10"/>
          <p:cNvSpPr/>
          <p:nvPr/>
        </p:nvSpPr>
        <p:spPr>
          <a:xfrm rot="18181200">
            <a:off x="5217120" y="4764600"/>
            <a:ext cx="221472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DICIN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7" name="Rectangle 11"/>
          <p:cNvSpPr/>
          <p:nvPr/>
        </p:nvSpPr>
        <p:spPr>
          <a:xfrm rot="19080000">
            <a:off x="5969160" y="4731840"/>
            <a:ext cx="280008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Times New Roman"/>
                <a:ea typeface="Levenim MT"/>
              </a:rPr>
              <a:t>HUMANIT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8" name="Rectangle 12"/>
          <p:cNvSpPr/>
          <p:nvPr/>
        </p:nvSpPr>
        <p:spPr>
          <a:xfrm>
            <a:off x="1987560" y="2360520"/>
            <a:ext cx="195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Levenim MT"/>
              </a:rPr>
              <a:t>COS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5320" y="-360"/>
            <a:ext cx="10201320" cy="152388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EXPANDING HEALTH FRONTIERS   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IN THE  21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T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 CENTURY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10201320" cy="144792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HOW  CAN   WE   PROMOTE  HEALTH  FOR  PEOPLE  IN  ALL  AGE  GROUP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0" y="3886200"/>
            <a:ext cx="102870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IN  THE  PRESENCE  OF  THE  GERIATRIC  BOOM  CATASTROPHE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1066680" y="1143000"/>
            <a:ext cx="899172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f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00"/>
                </a:solidFill>
                <a:latin typeface="Arial"/>
              </a:rPr>
              <a:t>POINTS   FOR   CONSIDER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3809880" y="1523880"/>
            <a:ext cx="7162920" cy="22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5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Four Living Generations in Many Families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A Rapidly Distorted Balance Between the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Sick, Debilitated, Non-productive, Poor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Elders- and the Young, Healthy, Productive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Population that has to Bear the Burden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60" y="266400"/>
            <a:ext cx="10029960" cy="723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0" y="1752480"/>
            <a:ext cx="4419720" cy="7959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POPULATION BALANCE -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&amp; SOCIAL Chang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ECONOMIC  -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3429000" y="3276720"/>
            <a:ext cx="693432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Expenditures for the Elderly and Disable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are Growing Rapidly in an Alarming Rat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Social Security Resources &amp; Health Insuran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67"/>
                </a:solidFill>
                <a:latin typeface="Arial"/>
              </a:rPr>
              <a:t>may  NOT  Suffice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-76320" y="4629240"/>
            <a:ext cx="32004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THICAL &amp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Miriam"/>
              </a:rPr>
              <a:t> LEGAL </a:t>
            </a:r>
            <a:r>
              <a:rPr b="1" lang="en-US" sz="2400" spc="-1" strike="noStrike">
                <a:solidFill>
                  <a:srgbClr val="fffff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5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Miriam"/>
              </a:rPr>
              <a:t>Restrain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3048120" y="4724280"/>
            <a:ext cx="7238880" cy="26434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5"/>
                </a:solidFill>
                <a:latin typeface="Arial"/>
              </a:rPr>
              <a:t>Do Not Allow us to Denote Specific Age-related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5"/>
                </a:solidFill>
                <a:latin typeface="Arial"/>
              </a:rPr>
              <a:t>Medical Conditions that we do Not Treat/Suppor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0f2b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b0f2b"/>
                </a:solidFill>
                <a:latin typeface="Arial"/>
              </a:rPr>
              <a:t>Our Children may have to Decide Whether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0f2b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b0f2b"/>
                </a:solidFill>
                <a:latin typeface="Arial"/>
              </a:rPr>
              <a:t>to Optimally Care for Their Parents  OR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0f2b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b0f2b"/>
                </a:solidFill>
                <a:latin typeface="Arial"/>
              </a:rPr>
              <a:t>Invest  in Their  Children’s  Future …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d00"/>
            </a:gs>
            <a:gs pos="100000">
              <a:srgbClr val="fb7d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027" descr="shelet"/>
          <p:cNvPicPr/>
          <p:nvPr/>
        </p:nvPicPr>
        <p:blipFill>
          <a:blip r:embed="rId1"/>
          <a:stretch/>
        </p:blipFill>
        <p:spPr>
          <a:xfrm>
            <a:off x="0" y="0"/>
            <a:ext cx="2819520" cy="164772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1028"/>
          <p:cNvSpPr/>
          <p:nvPr/>
        </p:nvSpPr>
        <p:spPr>
          <a:xfrm>
            <a:off x="76320" y="1687680"/>
            <a:ext cx="10515600" cy="2518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327d9"/>
                </a:solidFill>
                <a:latin typeface="David"/>
                <a:ea typeface="David"/>
              </a:rPr>
              <a:t>* 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לחנך  הציבור</a:t>
            </a:r>
            <a:r>
              <a:rPr b="1" lang="en-US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ולהביא </a:t>
            </a:r>
            <a:r>
              <a:rPr b="1" lang="en-US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למודעות </a:t>
            </a:r>
            <a:r>
              <a:rPr b="1" lang="en-US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כי </a:t>
            </a:r>
            <a:r>
              <a:rPr b="1" lang="en-US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ניתן  לעכב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       חלק  מהתהליכים</a:t>
            </a:r>
            <a:r>
              <a:rPr b="1" lang="en-US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והמחלות</a:t>
            </a:r>
            <a:r>
              <a:rPr b="1" lang="en-US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התלויות </a:t>
            </a:r>
            <a:r>
              <a:rPr b="1" lang="en-US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בגיל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9" name="Text Box 1029"/>
          <p:cNvSpPr/>
          <p:nvPr/>
        </p:nvSpPr>
        <p:spPr>
          <a:xfrm>
            <a:off x="0" y="3200400"/>
            <a:ext cx="10515600" cy="3493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327d9"/>
                </a:solidFill>
                <a:latin typeface="David"/>
                <a:ea typeface="David"/>
              </a:rPr>
              <a:t>  *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 להקים מרכזי מידע, בדיקה,טיפול וייעוץ למבוגרים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      במגוון נושאים: רפואה,פסיכולוגיה,סיעוד,דיאטה,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      פעילות גופנית, שירות סוציאלי, כלכלה ועסקים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Text Box 1031"/>
          <p:cNvSpPr/>
          <p:nvPr/>
        </p:nvSpPr>
        <p:spPr>
          <a:xfrm>
            <a:off x="-76320" y="5257800"/>
            <a:ext cx="10287000" cy="321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90000"/>
              </a:lnSpc>
              <a:buClr>
                <a:srgbClr val="0327d9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27d9"/>
                </a:solidFill>
                <a:latin typeface="David"/>
                <a:ea typeface="David"/>
              </a:rPr>
              <a:t> 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לגייס תרומות למחקרים שיתרמו לנושא  עיכוב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    תהליכים ו/או עיכוב המחלות התלויות בגיל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1" name="Text Box 1032"/>
          <p:cNvSpPr/>
          <p:nvPr/>
        </p:nvSpPr>
        <p:spPr>
          <a:xfrm>
            <a:off x="2781360" y="304920"/>
            <a:ext cx="7391520" cy="10814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fffffb"/>
                </a:solidFill>
                <a:latin typeface="Arial"/>
                <a:cs typeface="David"/>
              </a:rPr>
              <a:t>יעדי  העמותה: </a:t>
            </a:r>
            <a:endParaRPr b="0" lang="en-US" sz="7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9360" y="76320"/>
            <a:ext cx="9687240" cy="137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afd00"/>
                </a:solidFill>
                <a:latin typeface="Arial"/>
              </a:rPr>
              <a:t>I N H I B I T I O N </a:t>
            </a:r>
            <a:r>
              <a:rPr b="1" lang="en-US" sz="7200" spc="-1" strike="noStrike">
                <a:solidFill>
                  <a:srgbClr val="fafd00"/>
                </a:solidFill>
                <a:latin typeface="Arial"/>
              </a:rPr>
              <a:t>  </a:t>
            </a:r>
            <a:br>
              <a:rPr sz="7200"/>
            </a:br>
            <a:r>
              <a:rPr b="1" lang="en-US" sz="5100" spc="-1" strike="noStrike">
                <a:solidFill>
                  <a:srgbClr val="fc0128"/>
                </a:solidFill>
                <a:latin typeface="Arial"/>
              </a:rPr>
              <a:t>OF</a:t>
            </a:r>
            <a:r>
              <a:rPr b="1" lang="en-US" sz="51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5100" spc="-1" strike="noStrike">
                <a:solidFill>
                  <a:srgbClr val="fc0128"/>
                </a:solidFill>
                <a:latin typeface="Arial"/>
              </a:rPr>
              <a:t>GERIATRIC   BOOM</a:t>
            </a: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473" name="Object 3"/>
          <p:cNvGraphicFramePr/>
          <p:nvPr/>
        </p:nvGraphicFramePr>
        <p:xfrm>
          <a:off x="609480" y="2055960"/>
          <a:ext cx="9131400" cy="48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5960"/>
                    <a:ext cx="913140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Rectangle 4"/>
          <p:cNvSpPr/>
          <p:nvPr/>
        </p:nvSpPr>
        <p:spPr>
          <a:xfrm>
            <a:off x="6858000" y="63244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5211720" y="6324480"/>
            <a:ext cx="96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3657600" y="6324480"/>
            <a:ext cx="1028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8298000" y="6324480"/>
            <a:ext cx="77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AutoShape 8"/>
          <p:cNvSpPr/>
          <p:nvPr/>
        </p:nvSpPr>
        <p:spPr>
          <a:xfrm>
            <a:off x="5124600" y="4991040"/>
            <a:ext cx="1209600" cy="457200"/>
          </a:xfrm>
          <a:prstGeom prst="rightArrow">
            <a:avLst>
              <a:gd name="adj1" fmla="val 50000"/>
              <a:gd name="adj2" fmla="val 132295"/>
            </a:avLst>
          </a:prstGeom>
          <a:solidFill>
            <a:srgbClr val="fafd00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0" name="AutoShape 9"/>
          <p:cNvSpPr/>
          <p:nvPr/>
        </p:nvSpPr>
        <p:spPr>
          <a:xfrm>
            <a:off x="5454720" y="3454560"/>
            <a:ext cx="1320840" cy="253800"/>
          </a:xfrm>
          <a:prstGeom prst="rightArrow">
            <a:avLst>
              <a:gd name="adj1" fmla="val 50000"/>
              <a:gd name="adj2" fmla="val 260237"/>
            </a:avLst>
          </a:prstGeom>
          <a:solidFill>
            <a:srgbClr val="fafd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1" name="AutoShape 10"/>
          <p:cNvSpPr/>
          <p:nvPr/>
        </p:nvSpPr>
        <p:spPr>
          <a:xfrm>
            <a:off x="4800600" y="5905440"/>
            <a:ext cx="380880" cy="3812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afd00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609480" y="3489480"/>
            <a:ext cx="2743200" cy="4428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f0001"/>
                </a:solidFill>
                <a:latin typeface="Arial"/>
              </a:rPr>
              <a:t>POPULATION</a:t>
            </a:r>
            <a:endParaRPr b="0" lang="en-US" sz="23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3" name="Rectangle 12"/>
          <p:cNvSpPr/>
          <p:nvPr/>
        </p:nvSpPr>
        <p:spPr>
          <a:xfrm>
            <a:off x="3581280" y="4038480"/>
            <a:ext cx="300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DUCTIV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4" name="Rectangle 13"/>
          <p:cNvSpPr/>
          <p:nvPr/>
        </p:nvSpPr>
        <p:spPr>
          <a:xfrm>
            <a:off x="2971800" y="2422440"/>
            <a:ext cx="428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943680" y="1676520"/>
            <a:ext cx="334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rfinkel  D., 1997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AutoShape 15"/>
          <p:cNvSpPr/>
          <p:nvPr/>
        </p:nvSpPr>
        <p:spPr>
          <a:xfrm>
            <a:off x="9686880" y="5029200"/>
            <a:ext cx="514440" cy="1143000"/>
          </a:xfrm>
          <a:prstGeom prst="rtTriangl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7" name="Freeform 16"/>
          <p:cNvSpPr/>
          <p:nvPr/>
        </p:nvSpPr>
        <p:spPr>
          <a:xfrm>
            <a:off x="9080640" y="4800600"/>
            <a:ext cx="482400" cy="1563840"/>
          </a:xfrm>
          <a:custGeom>
            <a:avLst/>
            <a:gdLst>
              <a:gd name="textAreaLeft" fmla="*/ 0 w 482400"/>
              <a:gd name="textAreaRight" fmla="*/ 482760 w 482400"/>
              <a:gd name="textAreaTop" fmla="*/ 0 h 1563840"/>
              <a:gd name="textAreaBottom" fmla="*/ 1564200 h 1563840"/>
            </a:gdLst>
            <a:ahLst/>
            <a:rect l="textAreaLeft" t="textAreaTop" r="textAreaRight" b="textAreaBottom"/>
            <a:pathLst>
              <a:path w="304" h="985">
                <a:moveTo>
                  <a:pt x="42" y="0"/>
                </a:moveTo>
                <a:lnTo>
                  <a:pt x="96" y="168"/>
                </a:lnTo>
                <a:lnTo>
                  <a:pt x="150" y="390"/>
                </a:lnTo>
                <a:lnTo>
                  <a:pt x="303" y="984"/>
                </a:lnTo>
                <a:lnTo>
                  <a:pt x="111" y="984"/>
                </a:lnTo>
                <a:lnTo>
                  <a:pt x="87" y="312"/>
                </a:lnTo>
                <a:lnTo>
                  <a:pt x="0" y="45"/>
                </a:lnTo>
                <a:lnTo>
                  <a:pt x="42" y="0"/>
                </a:lnTo>
              </a:path>
            </a:pathLst>
          </a:custGeom>
          <a:solidFill>
            <a:srgbClr val="00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Rectangle 17"/>
          <p:cNvSpPr/>
          <p:nvPr/>
        </p:nvSpPr>
        <p:spPr>
          <a:xfrm>
            <a:off x="7682040" y="5105520"/>
            <a:ext cx="1752480" cy="381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19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9" name="AutoShape 18"/>
          <p:cNvSpPr/>
          <p:nvPr/>
        </p:nvSpPr>
        <p:spPr>
          <a:xfrm>
            <a:off x="4191120" y="5029200"/>
            <a:ext cx="1209600" cy="457200"/>
          </a:xfrm>
          <a:prstGeom prst="rightArrow">
            <a:avLst>
              <a:gd name="adj1" fmla="val 50000"/>
              <a:gd name="adj2" fmla="val 132295"/>
            </a:avLst>
          </a:prstGeom>
          <a:solidFill>
            <a:srgbClr val="fafd00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500"/>
                            </p:stCondLst>
                            <p:childTnLst>
                              <p:par>
                                <p:cTn id="9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0" y="1647720"/>
            <a:ext cx="10287000" cy="1465560"/>
          </a:xfrm>
          <a:prstGeom prst="rect">
            <a:avLst/>
          </a:prstGeom>
          <a:noFill/>
          <a:ln w="0">
            <a:noFill/>
          </a:ln>
          <a:effectLst>
            <a:outerShdw dist="52300" dir="20763565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5000" spc="-1" strike="noStrike">
                <a:solidFill>
                  <a:srgbClr val="fafd00"/>
                </a:solidFill>
                <a:latin typeface="Arial"/>
              </a:rPr>
              <a:t>I  WANT  TO  DIE  YOUNG…..</a:t>
            </a:r>
            <a:endParaRPr b="0" lang="en-US" sz="5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title"/>
          </p:nvPr>
        </p:nvSpPr>
        <p:spPr>
          <a:xfrm>
            <a:off x="-360" y="266400"/>
            <a:ext cx="10029960" cy="723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0" y="3627360"/>
            <a:ext cx="10287000" cy="18615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afd00"/>
                </a:solidFill>
                <a:latin typeface="Arial"/>
              </a:rPr>
              <a:t>AS LATE IN LIFE AS POSSIBLE !</a:t>
            </a:r>
            <a:endParaRPr b="0" lang="en-US" sz="5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94" name="Object 6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3124080" cy="2514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</p:pic>
      <p:pic>
        <p:nvPicPr>
          <p:cNvPr id="495" name="Object 7" descr=""/>
          <p:cNvPicPr/>
          <p:nvPr/>
        </p:nvPicPr>
        <p:blipFill>
          <a:blip r:embed="rId2"/>
          <a:stretch/>
        </p:blipFill>
        <p:spPr>
          <a:xfrm>
            <a:off x="7924680" y="4505400"/>
            <a:ext cx="762120" cy="98100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afd00"/>
            </a:outerShdw>
          </a:effectLst>
        </p:spPr>
      </p:pic>
    </p:spTree>
  </p:cSld>
  <p:transition spd="slow">
    <p:cut thruBlk="true"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3"/>
          <p:cNvSpPr/>
          <p:nvPr/>
        </p:nvSpPr>
        <p:spPr>
          <a:xfrm>
            <a:off x="1066680" y="1143000"/>
            <a:ext cx="8991720" cy="457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f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0" y="2828880"/>
            <a:ext cx="1028700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EMBRYO     CHILD      YOUNG    MIDDLE AGE      ELDERLY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MBRYO      CHILD       YOUNG            MIDDLE AGE     ELDERLY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                              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EMBRYO      CHILD              YOUNG             MIDDLE AGE      ELDERLY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                                                        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                                                 </a:t>
            </a:r>
            <a:r>
              <a:rPr b="1" lang="en-US" sz="1600" spc="-1" strike="noStrike">
                <a:solidFill>
                  <a:srgbClr val="f95ab7"/>
                </a:solidFill>
                <a:latin typeface="Arial"/>
              </a:rPr>
              <a:t>EMBRYO           CHILD                YOUNG            MIDDLE AGE   ELDERLY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EMBRYO            CHILD             YOUNG       MIDDLE AGE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360" y="190080"/>
            <a:ext cx="10029960" cy="723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1066680" y="4876920"/>
            <a:ext cx="7239240" cy="761760"/>
          </a:xfrm>
          <a:prstGeom prst="leftArrow">
            <a:avLst>
              <a:gd name="adj1" fmla="val 50000"/>
              <a:gd name="adj2" fmla="val 237583"/>
            </a:avLst>
          </a:prstGeom>
          <a:solidFill>
            <a:srgbClr val="fafd00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>
            <a:off x="3657600" y="2666880"/>
            <a:ext cx="2286000" cy="457200"/>
          </a:xfrm>
          <a:prstGeom prst="leftArrow">
            <a:avLst>
              <a:gd name="adj1" fmla="val 33333"/>
              <a:gd name="adj2" fmla="val 114931"/>
            </a:avLst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4572000" y="3048120"/>
            <a:ext cx="1447920" cy="1904760"/>
          </a:xfrm>
          <a:prstGeom prst="flowChartAlternateProcess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-76320" y="5711760"/>
            <a:ext cx="10287000" cy="38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PREVENTION  SHOULD  START AS  EARLY  AS  POSSIBL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3" name="Text Box 10"/>
          <p:cNvSpPr/>
          <p:nvPr/>
        </p:nvSpPr>
        <p:spPr>
          <a:xfrm rot="1152600">
            <a:off x="5577840" y="3123720"/>
            <a:ext cx="4709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  E  R  I  A  T  R  I  C  I  A N 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4" name="Text Box 11"/>
          <p:cNvSpPr/>
          <p:nvPr/>
        </p:nvSpPr>
        <p:spPr>
          <a:xfrm rot="1152600">
            <a:off x="75960" y="4038120"/>
            <a:ext cx="3657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 E D I A T R I C I A N 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12"/>
          <p:cNvSpPr/>
          <p:nvPr/>
        </p:nvSpPr>
        <p:spPr>
          <a:xfrm>
            <a:off x="1371600" y="990720"/>
            <a:ext cx="8001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   IS   GOING   TO   DO   I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??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6" name="Text Box 13"/>
          <p:cNvSpPr/>
          <p:nvPr/>
        </p:nvSpPr>
        <p:spPr>
          <a:xfrm>
            <a:off x="685800" y="1706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 WHOM ??   WHEN  TO  START ?    HO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 rot="1152600">
            <a:off x="2282400" y="3719160"/>
            <a:ext cx="6181920" cy="520560"/>
          </a:xfrm>
          <a:prstGeom prst="rect">
            <a:avLst/>
          </a:prstGeom>
          <a:solidFill>
            <a:srgbClr val="f95ab7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 A M I L Y    P H Y S  I  C  I  A N S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3700"/>
                            </p:stCondLst>
                            <p:childTnLst>
                              <p:par>
                                <p:cTn id="10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3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1828800"/>
            <a:ext cx="10247400" cy="4965840"/>
          </a:xfrm>
          <a:prstGeom prst="rect">
            <a:avLst/>
          </a:prstGeom>
          <a:noFill/>
          <a:ln w="0">
            <a:noFill/>
          </a:ln>
          <a:effectLst>
            <a:outerShdw dist="81185" dir="84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1231920" y="609480"/>
            <a:ext cx="9169560" cy="8200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EXPERTS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....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154080" y="2651040"/>
            <a:ext cx="10047240" cy="34419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11" name="Object 5"/>
          <p:cNvGraphicFramePr/>
          <p:nvPr/>
        </p:nvGraphicFramePr>
        <p:xfrm rot="10800000">
          <a:off x="771480" y="5997240"/>
          <a:ext cx="8732880" cy="9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771480" y="5997240"/>
                    <a:ext cx="873288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360" y="34272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514" name="Object 7"/>
          <p:cNvGraphicFramePr/>
          <p:nvPr/>
        </p:nvGraphicFramePr>
        <p:xfrm>
          <a:off x="1066680" y="5257800"/>
          <a:ext cx="17226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1722600" cy="990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16" name="Object 8"/>
          <p:cNvGraphicFramePr/>
          <p:nvPr/>
        </p:nvGraphicFramePr>
        <p:xfrm>
          <a:off x="514440" y="1828800"/>
          <a:ext cx="9772560" cy="472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440" y="1828800"/>
                    <a:ext cx="9772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Object 9"/>
          <p:cNvGraphicFramePr/>
          <p:nvPr/>
        </p:nvGraphicFramePr>
        <p:xfrm>
          <a:off x="0" y="4952880"/>
          <a:ext cx="73512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952880"/>
                    <a:ext cx="735120" cy="990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20" name="Object 10"/>
          <p:cNvGraphicFramePr/>
          <p:nvPr/>
        </p:nvGraphicFramePr>
        <p:xfrm>
          <a:off x="341280" y="5486400"/>
          <a:ext cx="954000" cy="99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1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280" y="5486400"/>
                    <a:ext cx="954000" cy="990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sp>
        <p:nvSpPr>
          <p:cNvPr id="522" name="Rectangle 11"/>
          <p:cNvSpPr/>
          <p:nvPr/>
        </p:nvSpPr>
        <p:spPr>
          <a:xfrm>
            <a:off x="2827440" y="2286000"/>
            <a:ext cx="5516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YES, TAKE THIS PILL AND YOU WILL BE YOUNG FOREVER !!!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HA, HA, HA…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3" name="Arc 12"/>
          <p:cNvSpPr/>
          <p:nvPr/>
        </p:nvSpPr>
        <p:spPr>
          <a:xfrm flipV="1">
            <a:off x="3809880" y="3351960"/>
            <a:ext cx="1268640" cy="838440"/>
          </a:xfrm>
          <a:custGeom>
            <a:avLst/>
            <a:gdLst>
              <a:gd name="textAreaLeft" fmla="*/ 0 w 1268640"/>
              <a:gd name="textAreaRight" fmla="*/ 1269000 w 1268640"/>
              <a:gd name="textAreaTop" fmla="*/ -360 h 838440"/>
              <a:gd name="textAreaBottom" fmla="*/ 838440 h 838440"/>
            </a:gdLst>
            <a:ahLst/>
            <a:rect l="textAreaLeft" t="textAreaTop" r="textAreaRight" b="textAreaBottom"/>
            <a:pathLst>
              <a:path fill="none" w="21155" h="21600">
                <a:moveTo>
                  <a:pt x="-1" y="0"/>
                </a:moveTo>
                <a:cubicBezTo>
                  <a:pt x="10248" y="0"/>
                  <a:pt x="19086" y="7202"/>
                  <a:pt x="21155" y="17239"/>
                </a:cubicBezTo>
              </a:path>
              <a:path stroke="0" w="21155" h="21600">
                <a:moveTo>
                  <a:pt x="-1" y="0"/>
                </a:moveTo>
                <a:cubicBezTo>
                  <a:pt x="10248" y="0"/>
                  <a:pt x="19086" y="7202"/>
                  <a:pt x="21155" y="17239"/>
                </a:cubicBez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4" name="Arc 13"/>
          <p:cNvSpPr/>
          <p:nvPr/>
        </p:nvSpPr>
        <p:spPr>
          <a:xfrm flipV="1">
            <a:off x="3728880" y="3351960"/>
            <a:ext cx="1509840" cy="838440"/>
          </a:xfrm>
          <a:custGeom>
            <a:avLst/>
            <a:gdLst>
              <a:gd name="textAreaLeft" fmla="*/ 0 w 1509840"/>
              <a:gd name="textAreaRight" fmla="*/ 1510200 w 1509840"/>
              <a:gd name="textAreaTop" fmla="*/ -360 h 838440"/>
              <a:gd name="textAreaBottom" fmla="*/ 838440 h 838440"/>
            </a:gdLst>
            <a:ahLst/>
            <a:rect l="textAreaLeft" t="textAreaTop" r="textAreaRight" b="textAreaBottom"/>
            <a:pathLst>
              <a:path fill="none" w="25189" h="21600">
                <a:moveTo>
                  <a:pt x="-1" y="627"/>
                </a:moveTo>
                <a:cubicBezTo>
                  <a:pt x="1691" y="210"/>
                  <a:pt x="3427" y="-1"/>
                  <a:pt x="5170" y="0"/>
                </a:cubicBezTo>
                <a:cubicBezTo>
                  <a:pt x="13967" y="0"/>
                  <a:pt x="21885" y="5334"/>
                  <a:pt x="25188" y="13488"/>
                </a:cubicBezTo>
              </a:path>
              <a:path stroke="0" w="25189" h="21600">
                <a:moveTo>
                  <a:pt x="-1" y="627"/>
                </a:moveTo>
                <a:cubicBezTo>
                  <a:pt x="1691" y="210"/>
                  <a:pt x="3427" y="-1"/>
                  <a:pt x="5170" y="0"/>
                </a:cubicBezTo>
                <a:cubicBezTo>
                  <a:pt x="13967" y="0"/>
                  <a:pt x="21885" y="5334"/>
                  <a:pt x="25188" y="13488"/>
                </a:cubicBezTo>
                <a:lnTo>
                  <a:pt x="5170" y="21600"/>
                </a:lnTo>
                <a:close/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5" name="Arc 14"/>
          <p:cNvSpPr/>
          <p:nvPr/>
        </p:nvSpPr>
        <p:spPr>
          <a:xfrm flipV="1">
            <a:off x="3863880" y="3276720"/>
            <a:ext cx="1317600" cy="914400"/>
          </a:xfrm>
          <a:custGeom>
            <a:avLst/>
            <a:gdLst>
              <a:gd name="textAreaLeft" fmla="*/ 0 w 1317600"/>
              <a:gd name="textAreaRight" fmla="*/ 1317960 w 131760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fill="none" w="21975" h="21600">
                <a:moveTo>
                  <a:pt x="-1" y="57"/>
                </a:moveTo>
                <a:cubicBezTo>
                  <a:pt x="525" y="19"/>
                  <a:pt x="1052" y="-1"/>
                  <a:pt x="1579" y="0"/>
                </a:cubicBezTo>
                <a:cubicBezTo>
                  <a:pt x="10767" y="0"/>
                  <a:pt x="18950" y="5812"/>
                  <a:pt x="21974" y="14489"/>
                </a:cubicBezTo>
              </a:path>
              <a:path stroke="0" w="21975" h="21600">
                <a:moveTo>
                  <a:pt x="-1" y="57"/>
                </a:moveTo>
                <a:cubicBezTo>
                  <a:pt x="525" y="19"/>
                  <a:pt x="1052" y="-1"/>
                  <a:pt x="1579" y="0"/>
                </a:cubicBezTo>
                <a:cubicBezTo>
                  <a:pt x="10767" y="0"/>
                  <a:pt x="18950" y="5812"/>
                  <a:pt x="21974" y="14489"/>
                </a:cubicBezTo>
                <a:lnTo>
                  <a:pt x="1579" y="21600"/>
                </a:lnTo>
                <a:close/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26" name="Object 15"/>
          <p:cNvGraphicFramePr/>
          <p:nvPr/>
        </p:nvGraphicFramePr>
        <p:xfrm>
          <a:off x="5867280" y="5029200"/>
          <a:ext cx="954360" cy="99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7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5029200"/>
                    <a:ext cx="954360" cy="990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3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85680" y="1865160"/>
            <a:ext cx="1020132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THERE  CAN’T BE   TWO  KINDS   OF  MEDICINE -  CONVENTIONAL   AND   ALTERNATIVE… 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152280" y="3254400"/>
            <a:ext cx="9448920" cy="30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THERE  IS   ONLY   MEDICINE   THAT   HAS  BEEN   ADEQUATELY   TESTED               AND  MEDICINE   THAT  HAS  NOT,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MEDICINE  THAT  WORKS   AND  MEDICINE  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THAT  MAY  OR   MAY  NOT  WORK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7010280" y="6400800"/>
            <a:ext cx="3191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New Eng J Med 199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MEDICINE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0" y="1143000"/>
            <a:ext cx="10287000" cy="3867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ONCE  TESTED…, IT  NO LONGER MATTER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HETHER  IT  WAS  CONSIDERED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LTERNATIVE  AT  THE  OUTSET.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F … FOUND TO BE  REASONABLY  SAFE  AND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EFFECTIVE,     IT  WILL  BE   ACCEPTED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7010280" y="6324480"/>
            <a:ext cx="3191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New Eng J Med 199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23840" y="4303800"/>
            <a:ext cx="10201320" cy="255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BUT  ASSERTIONS,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PECULATION AND TESTIMONIALS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O  NOT  SUBSTITUTE  FOR  EVIDENCE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MEDICINE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52280" y="1676520"/>
            <a:ext cx="10134720" cy="861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 MOST 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URBING  ASPECT 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 THE  ANTI-AGING  MEDICINE 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MENT  IS  IT’S  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EAR CUT 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ERCIALIT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247680" y="6324480"/>
            <a:ext cx="1011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United States General Accounting Office (GAO), Report Sept. 200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9360" y="2487600"/>
            <a:ext cx="1016352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MANY  OF  THE  ANTI-AGING  PRODUCTS: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MIGHT EVEN POSE PHYSICAL  AND  ECONOMIC HARM…  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ENIORS  ARE </a:t>
            </a:r>
            <a:r>
              <a:rPr b="1" lang="he-IL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PARTICULARLY  SUSCEPTIBLE…           RISK  OF</a:t>
            </a:r>
            <a:r>
              <a:rPr b="1" lang="he-IL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POSSIBLY</a:t>
            </a:r>
            <a:r>
              <a:rPr b="1" lang="he-IL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DANGEROUS  DRUG   INTERACTIONS 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MANY PRODUCTS WERE  FOUND  NOT TO  MEET … CRITERIA  GIVEN  ON THE LABEL… 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b"/>
                </a:solidFill>
                <a:latin typeface="Arial"/>
              </a:rPr>
              <a:t>ONE</a:t>
            </a:r>
            <a:r>
              <a:rPr b="1" lang="he-IL" sz="2800" spc="-1" strike="noStrike">
                <a:solidFill>
                  <a:srgbClr val="fffff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b"/>
                </a:solidFill>
                <a:latin typeface="Arial"/>
              </a:rPr>
              <a:t> IN </a:t>
            </a:r>
            <a:r>
              <a:rPr b="1" lang="he-IL" sz="2800" spc="-1" strike="noStrike">
                <a:solidFill>
                  <a:srgbClr val="fffff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b"/>
                </a:solidFill>
                <a:latin typeface="Arial"/>
              </a:rPr>
              <a:t>10</a:t>
            </a:r>
            <a:r>
              <a:rPr b="1" lang="he-IL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HERBAL  PRODUCTS  MAY  BE CONTAMINATED  BY PESTICIDES  AND  HEAVY  METALS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MEDICINE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0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247680" y="6324480"/>
            <a:ext cx="1011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United States General Accounting Office (GAO), Report Sept. 200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MEDICINE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314280" y="1905120"/>
            <a:ext cx="100490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FALSE  HOPES  OF  REJUVENATION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BY  ALTERNATIVE MEDICINE  AND 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ANTI - AGING  PRODUCTS…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DELAYS APPROPRIATE  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PROFESSIONAL  THERAPY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" y="228240"/>
            <a:ext cx="10115640" cy="1523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GERIATRIC  BOOM  CATASTROPH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3857760" y="3581280"/>
          <a:ext cx="615924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581280"/>
                    <a:ext cx="6159240" cy="3276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63504" dir="18416092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80" y="1828800"/>
            <a:ext cx="10201320" cy="502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HE    SUM    OF                                                      THE   EXPONENTIALLY   ACCUMULATING  MEDICAL,  ECONOMIC   AND   SOCIAL            AGE - RELATED   PROBLEM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1219320" y="4038480"/>
          <a:ext cx="3124080" cy="28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038480"/>
                    <a:ext cx="3124080" cy="2819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pic>
        <p:nvPicPr>
          <p:cNvPr id="78" name="Object 6" descr=""/>
          <p:cNvPicPr/>
          <p:nvPr/>
        </p:nvPicPr>
        <p:blipFill>
          <a:blip r:embed="rId5"/>
          <a:stretch/>
        </p:blipFill>
        <p:spPr>
          <a:xfrm>
            <a:off x="4492800" y="4470480"/>
            <a:ext cx="1717560" cy="2387520"/>
          </a:xfrm>
          <a:prstGeom prst="rect">
            <a:avLst/>
          </a:prstGeom>
          <a:ln w="0">
            <a:noFill/>
          </a:ln>
        </p:spPr>
      </p:pic>
      <p:pic>
        <p:nvPicPr>
          <p:cNvPr id="79" name="Object 7" descr=""/>
          <p:cNvPicPr/>
          <p:nvPr/>
        </p:nvPicPr>
        <p:blipFill>
          <a:blip r:embed="rId6"/>
          <a:stretch/>
        </p:blipFill>
        <p:spPr>
          <a:xfrm>
            <a:off x="4648320" y="4470480"/>
            <a:ext cx="1717560" cy="2387520"/>
          </a:xfrm>
          <a:prstGeom prst="rect">
            <a:avLst/>
          </a:prstGeom>
          <a:ln w="0">
            <a:noFill/>
          </a:ln>
        </p:spPr>
      </p:pic>
      <p:pic>
        <p:nvPicPr>
          <p:cNvPr id="80" name="Object 8" descr=""/>
          <p:cNvPicPr/>
          <p:nvPr/>
        </p:nvPicPr>
        <p:blipFill>
          <a:blip r:embed="rId7"/>
          <a:stretch/>
        </p:blipFill>
        <p:spPr>
          <a:xfrm>
            <a:off x="4648320" y="4470480"/>
            <a:ext cx="1717560" cy="2387520"/>
          </a:xfrm>
          <a:prstGeom prst="rect">
            <a:avLst/>
          </a:prstGeom>
          <a:ln w="0">
            <a:noFill/>
          </a:ln>
        </p:spPr>
      </p:pic>
      <p:pic>
        <p:nvPicPr>
          <p:cNvPr id="81" name="Object 9" descr=""/>
          <p:cNvPicPr/>
          <p:nvPr/>
        </p:nvPicPr>
        <p:blipFill>
          <a:blip r:embed="rId8"/>
          <a:stretch/>
        </p:blipFill>
        <p:spPr>
          <a:xfrm>
            <a:off x="4035600" y="4470480"/>
            <a:ext cx="1717560" cy="2387520"/>
          </a:xfrm>
          <a:prstGeom prst="rect">
            <a:avLst/>
          </a:prstGeom>
          <a:ln w="0">
            <a:noFill/>
          </a:ln>
        </p:spPr>
      </p:pic>
      <p:pic>
        <p:nvPicPr>
          <p:cNvPr id="82" name="Object 10" descr=""/>
          <p:cNvPicPr/>
          <p:nvPr/>
        </p:nvPicPr>
        <p:blipFill>
          <a:blip r:embed="rId9"/>
          <a:stretch/>
        </p:blipFill>
        <p:spPr>
          <a:xfrm>
            <a:off x="4800600" y="4470480"/>
            <a:ext cx="1717560" cy="2387520"/>
          </a:xfrm>
          <a:prstGeom prst="rect">
            <a:avLst/>
          </a:prstGeom>
          <a:ln w="0">
            <a:noFill/>
          </a:ln>
        </p:spPr>
      </p:pic>
      <p:pic>
        <p:nvPicPr>
          <p:cNvPr id="83" name="Object 11" descr=""/>
          <p:cNvPicPr/>
          <p:nvPr/>
        </p:nvPicPr>
        <p:blipFill>
          <a:blip r:embed="rId10"/>
          <a:stretch/>
        </p:blipFill>
        <p:spPr>
          <a:xfrm>
            <a:off x="4950000" y="4470480"/>
            <a:ext cx="1717560" cy="2387520"/>
          </a:xfrm>
          <a:prstGeom prst="rect">
            <a:avLst/>
          </a:prstGeom>
          <a:ln w="0">
            <a:noFill/>
          </a:ln>
        </p:spPr>
      </p:pic>
      <p:pic>
        <p:nvPicPr>
          <p:cNvPr id="84" name="Object 12" descr=""/>
          <p:cNvPicPr/>
          <p:nvPr/>
        </p:nvPicPr>
        <p:blipFill>
          <a:blip r:embed="rId11"/>
          <a:stretch/>
        </p:blipFill>
        <p:spPr>
          <a:xfrm>
            <a:off x="4572000" y="4470480"/>
            <a:ext cx="1717560" cy="2387520"/>
          </a:xfrm>
          <a:prstGeom prst="rect">
            <a:avLst/>
          </a:prstGeom>
          <a:ln w="0">
            <a:noFill/>
          </a:ln>
        </p:spPr>
      </p:pic>
      <p:pic>
        <p:nvPicPr>
          <p:cNvPr id="85" name="Object 13" descr=""/>
          <p:cNvPicPr/>
          <p:nvPr/>
        </p:nvPicPr>
        <p:blipFill>
          <a:blip r:embed="rId12"/>
          <a:stretch/>
        </p:blipFill>
        <p:spPr>
          <a:xfrm>
            <a:off x="5029200" y="4470480"/>
            <a:ext cx="1717560" cy="2387520"/>
          </a:xfrm>
          <a:prstGeom prst="rect">
            <a:avLst/>
          </a:prstGeom>
          <a:ln w="0">
            <a:noFill/>
          </a:ln>
        </p:spPr>
      </p:pic>
      <p:pic>
        <p:nvPicPr>
          <p:cNvPr id="86" name="Object 14" descr=""/>
          <p:cNvPicPr/>
          <p:nvPr/>
        </p:nvPicPr>
        <p:blipFill>
          <a:blip r:embed="rId13"/>
          <a:stretch/>
        </p:blipFill>
        <p:spPr>
          <a:xfrm>
            <a:off x="5446800" y="4546440"/>
            <a:ext cx="1868400" cy="2387880"/>
          </a:xfrm>
          <a:prstGeom prst="rect">
            <a:avLst/>
          </a:prstGeom>
          <a:ln w="0">
            <a:noFill/>
          </a:ln>
        </p:spPr>
      </p:pic>
      <p:pic>
        <p:nvPicPr>
          <p:cNvPr id="87" name="Object 15" descr=""/>
          <p:cNvPicPr/>
          <p:nvPr/>
        </p:nvPicPr>
        <p:blipFill>
          <a:blip r:embed="rId14"/>
          <a:stretch/>
        </p:blipFill>
        <p:spPr>
          <a:xfrm>
            <a:off x="6095880" y="5410080"/>
            <a:ext cx="990720" cy="1524240"/>
          </a:xfrm>
          <a:prstGeom prst="rect">
            <a:avLst/>
          </a:prstGeom>
          <a:ln w="0">
            <a:noFill/>
          </a:ln>
        </p:spPr>
      </p:pic>
      <p:pic>
        <p:nvPicPr>
          <p:cNvPr id="88" name="Object 16" descr=""/>
          <p:cNvPicPr/>
          <p:nvPr/>
        </p:nvPicPr>
        <p:blipFill>
          <a:blip r:embed="rId15"/>
          <a:stretch/>
        </p:blipFill>
        <p:spPr>
          <a:xfrm>
            <a:off x="6324480" y="571500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Object 17" descr=""/>
          <p:cNvPicPr/>
          <p:nvPr/>
        </p:nvPicPr>
        <p:blipFill>
          <a:blip r:embed="rId16"/>
          <a:stretch/>
        </p:blipFill>
        <p:spPr>
          <a:xfrm>
            <a:off x="6629400" y="601992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90" name="Object 18" descr=""/>
          <p:cNvPicPr/>
          <p:nvPr/>
        </p:nvPicPr>
        <p:blipFill>
          <a:blip r:embed="rId17"/>
          <a:stretch/>
        </p:blipFill>
        <p:spPr>
          <a:xfrm>
            <a:off x="6553080" y="6248520"/>
            <a:ext cx="1752840" cy="60948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808080"/>
            </a:outerShdw>
          </a:effectLst>
        </p:spPr>
      </p:pic>
      <p:pic>
        <p:nvPicPr>
          <p:cNvPr id="91" name="Object 19" descr=""/>
          <p:cNvPicPr/>
          <p:nvPr/>
        </p:nvPicPr>
        <p:blipFill>
          <a:blip r:embed="rId18"/>
          <a:stretch/>
        </p:blipFill>
        <p:spPr>
          <a:xfrm>
            <a:off x="6858000" y="6248520"/>
            <a:ext cx="1752480" cy="60948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fafd00"/>
            </a:outerShdw>
          </a:effectLst>
        </p:spPr>
      </p:pic>
      <p:pic>
        <p:nvPicPr>
          <p:cNvPr id="92" name="Object 20" descr=""/>
          <p:cNvPicPr/>
          <p:nvPr/>
        </p:nvPicPr>
        <p:blipFill>
          <a:blip r:embed="rId19"/>
          <a:stretch/>
        </p:blipFill>
        <p:spPr>
          <a:xfrm>
            <a:off x="7848720" y="6324480"/>
            <a:ext cx="1523880" cy="45720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fafd00"/>
            </a:outerShdw>
          </a:effectLst>
        </p:spPr>
      </p:pic>
      <p:pic>
        <p:nvPicPr>
          <p:cNvPr id="93" name="Object 21" descr=""/>
          <p:cNvPicPr/>
          <p:nvPr/>
        </p:nvPicPr>
        <p:blipFill>
          <a:blip r:embed="rId20"/>
          <a:stretch/>
        </p:blipFill>
        <p:spPr>
          <a:xfrm>
            <a:off x="838080" y="5181480"/>
            <a:ext cx="457200" cy="68580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fafd00"/>
            </a:outerShdw>
          </a:effectLst>
        </p:spPr>
      </p:pic>
      <p:sp>
        <p:nvSpPr>
          <p:cNvPr id="94" name="Text Box 22"/>
          <p:cNvSpPr/>
          <p:nvPr/>
        </p:nvSpPr>
        <p:spPr>
          <a:xfrm>
            <a:off x="84240" y="6324480"/>
            <a:ext cx="284940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ARFINKEL  1997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5545080" y="685800"/>
            <a:ext cx="36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5446800" y="547560"/>
            <a:ext cx="4570200" cy="8251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B U R D E N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0" y="1828800"/>
            <a:ext cx="10247400" cy="4965840"/>
          </a:xfrm>
          <a:prstGeom prst="rect">
            <a:avLst/>
          </a:prstGeom>
          <a:noFill/>
          <a:ln w="0">
            <a:noFill/>
          </a:ln>
          <a:effectLst>
            <a:outerShdw dist="81185" dir="84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771480" y="15840"/>
            <a:ext cx="9428040" cy="1551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THE  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 AGING   EXPERT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. THE  FAMILY  PHYSICIAN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154080" y="2651040"/>
            <a:ext cx="10047240" cy="34419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48" name="Object 5"/>
          <p:cNvGraphicFramePr/>
          <p:nvPr/>
        </p:nvGraphicFramePr>
        <p:xfrm rot="10800000">
          <a:off x="771480" y="5997240"/>
          <a:ext cx="8732880" cy="9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771480" y="5997240"/>
                    <a:ext cx="873288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-360" y="34272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551" name="Object 7"/>
          <p:cNvGraphicFramePr/>
          <p:nvPr/>
        </p:nvGraphicFramePr>
        <p:xfrm>
          <a:off x="1030320" y="1828800"/>
          <a:ext cx="7961400" cy="496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1828800"/>
                    <a:ext cx="7961400" cy="496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53" name="Object 8"/>
          <p:cNvGraphicFramePr/>
          <p:nvPr/>
        </p:nvGraphicFramePr>
        <p:xfrm>
          <a:off x="1828800" y="3886200"/>
          <a:ext cx="1676520" cy="14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886200"/>
                    <a:ext cx="1676520" cy="1447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7353" dir="1023752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0" y="1828800"/>
            <a:ext cx="10247400" cy="4965840"/>
          </a:xfrm>
          <a:prstGeom prst="rect">
            <a:avLst/>
          </a:prstGeom>
          <a:noFill/>
          <a:ln w="0">
            <a:noFill/>
          </a:ln>
          <a:effectLst>
            <a:outerShdw dist="81185" dir="84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771480" y="15840"/>
            <a:ext cx="9428040" cy="1551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THE  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 AGING   EXPERT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. THE  FAMILY  PHYSICIAN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54080" y="2651040"/>
            <a:ext cx="10047240" cy="34419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8" name="Object 5"/>
          <p:cNvGraphicFramePr/>
          <p:nvPr/>
        </p:nvGraphicFramePr>
        <p:xfrm rot="10800000">
          <a:off x="771480" y="5997240"/>
          <a:ext cx="8732880" cy="9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771480" y="5997240"/>
                    <a:ext cx="873288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-360" y="34272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561" name="Object 7"/>
          <p:cNvGraphicFramePr/>
          <p:nvPr/>
        </p:nvGraphicFramePr>
        <p:xfrm>
          <a:off x="1030320" y="1828800"/>
          <a:ext cx="7961400" cy="496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1828800"/>
                    <a:ext cx="7961400" cy="496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63" name="Object 8"/>
          <p:cNvGraphicFramePr/>
          <p:nvPr/>
        </p:nvGraphicFramePr>
        <p:xfrm>
          <a:off x="1828800" y="3886200"/>
          <a:ext cx="1676520" cy="14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886200"/>
                    <a:ext cx="1676520" cy="1447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7353" dir="1023752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65" name="Object 9"/>
          <p:cNvGraphicFramePr/>
          <p:nvPr/>
        </p:nvGraphicFramePr>
        <p:xfrm>
          <a:off x="6324480" y="2819520"/>
          <a:ext cx="2667240" cy="25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4480" y="2819520"/>
                    <a:ext cx="266724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Object 10"/>
          <p:cNvGraphicFramePr/>
          <p:nvPr/>
        </p:nvGraphicFramePr>
        <p:xfrm>
          <a:off x="8626320" y="1600200"/>
          <a:ext cx="66996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626320" y="1600200"/>
                    <a:ext cx="669960" cy="762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69" name="Object 11"/>
          <p:cNvGraphicFramePr/>
          <p:nvPr/>
        </p:nvGraphicFramePr>
        <p:xfrm>
          <a:off x="7794720" y="2209680"/>
          <a:ext cx="77796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94720" y="2209680"/>
                    <a:ext cx="777960" cy="533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sp>
        <p:nvSpPr>
          <p:cNvPr id="571" name="AutoShape 12"/>
          <p:cNvSpPr/>
          <p:nvPr/>
        </p:nvSpPr>
        <p:spPr>
          <a:xfrm rot="20607000">
            <a:off x="1828440" y="1828440"/>
            <a:ext cx="3505320" cy="1752480"/>
          </a:xfrm>
          <a:prstGeom prst="cloudCallout">
            <a:avLst>
              <a:gd name="adj1" fmla="val -42662"/>
              <a:gd name="adj2" fmla="val 58694"/>
            </a:avLst>
          </a:prstGeom>
          <a:blipFill rotWithShape="0">
            <a:blip r:embed="rId13"/>
            <a:srcRect/>
            <a:stretch/>
          </a:blipFill>
          <a:ln w="12600">
            <a:solidFill>
              <a:srgbClr val="fafd00"/>
            </a:solidFill>
            <a:miter/>
          </a:ln>
          <a:effectLst>
            <a:outerShdw dist="40186" dir="1096358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VIDENCE  BASE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&amp; GOOD PRACTI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EDICINE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2" name="AutoShape 13"/>
          <p:cNvSpPr/>
          <p:nvPr/>
        </p:nvSpPr>
        <p:spPr>
          <a:xfrm>
            <a:off x="7620120" y="1219320"/>
            <a:ext cx="1960560" cy="1752480"/>
          </a:xfrm>
          <a:prstGeom prst="cloudCallout">
            <a:avLst>
              <a:gd name="adj1" fmla="val -32833"/>
              <a:gd name="adj2" fmla="val 38675"/>
            </a:avLst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73" name="Object 14"/>
          <p:cNvGraphicFramePr/>
          <p:nvPr/>
        </p:nvGraphicFramePr>
        <p:xfrm>
          <a:off x="7985160" y="1752480"/>
          <a:ext cx="777960" cy="533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74" name="Object 1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985160" y="1752480"/>
                    <a:ext cx="777960" cy="533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sp>
        <p:nvSpPr>
          <p:cNvPr id="575" name="AutoShape 15"/>
          <p:cNvSpPr/>
          <p:nvPr/>
        </p:nvSpPr>
        <p:spPr>
          <a:xfrm rot="16204800">
            <a:off x="5556240" y="1150200"/>
            <a:ext cx="1598760" cy="2957400"/>
          </a:xfrm>
          <a:prstGeom prst="wedgeEllipseCallout">
            <a:avLst>
              <a:gd name="adj1" fmla="val -41000"/>
              <a:gd name="adj2" fmla="val 44527"/>
            </a:avLst>
          </a:prstGeom>
          <a:noFill/>
          <a:ln w="38160">
            <a:solidFill>
              <a:srgbClr val="fafd00"/>
            </a:solidFill>
            <a:miter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AKE  MONEY !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BLICITY,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76" name="Object 16" descr=""/>
          <p:cNvPicPr/>
          <p:nvPr/>
        </p:nvPicPr>
        <p:blipFill>
          <a:blip r:embed="rId16"/>
          <a:stretch/>
        </p:blipFill>
        <p:spPr>
          <a:xfrm>
            <a:off x="7364520" y="2895480"/>
            <a:ext cx="2884320" cy="762120"/>
          </a:xfrm>
          <a:prstGeom prst="rect">
            <a:avLst/>
          </a:prstGeom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</p:pic>
    </p:spTree>
  </p:cSld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77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4" dur="770" fill="hold"/>
                                        <p:tgtEl>
                                          <p:spTgt spid="5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6" dur="77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8" dur="77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77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3" dur="770" fill="hold"/>
                                        <p:tgtEl>
                                          <p:spTgt spid="5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5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7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3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0" y="2209680"/>
            <a:ext cx="10287000" cy="47156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USE   AGGRESSIVE   METHODS  OF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MARKETING    TO   PROMOT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                                 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HEIR  CLINICS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(MEDIA, FAMOUS   ACTORS  &amp;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                                     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CELERITIES, Etc.) 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0" y="1859040"/>
            <a:ext cx="100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  THE  FAMILY  PHYSICIAN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10029960" cy="11430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EXPERTS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3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1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114480" y="1752480"/>
            <a:ext cx="10287000" cy="1217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*  CLAIM  TO  SOLVE  A  PROBLEM  THAT  IS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REALLY  ESSENTIAL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- INHIBITION OF AGING…  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0" y="4200480"/>
            <a:ext cx="10287000" cy="267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*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AIM TO BE EXPERTS IN THE FIELD AND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HEREFORE  SUPERIOR  TO  THE  FAMILY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HYSICIAN  THOUGH,  IN MANY CASES  ARE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NOT  SPECIALISTS  IN  ANY  MEDICAL  FIEL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304920" y="2590920"/>
            <a:ext cx="9982080" cy="217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 GOAL   IS  ACTUALLY  INDISTIGUISHABL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 CONVENTIONAL  HEALTH  PROMOTIO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FERED  BY  THE  FAMILY  PHYSICIA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EXPERTS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0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0" y="1523880"/>
            <a:ext cx="10287000" cy="3209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*  PERFORM   (&amp; SEND  TO  THE  U.S.)  MANY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EXPENSIVE  LABORATORY  TESTS   WITH  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ATTRACTIVE   NAMES :  “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LL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  MINERALS 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VITAMINS   AND   ANTI OXIDANTS ” … 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10029960" cy="11430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0" y="4191120"/>
            <a:ext cx="10287000" cy="30855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FOR    MANY   OF   THESE   TESTS,  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NOTHING    PRACTICAL   CAN  BE   DONE  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WITH   THE   RESULTS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1285920" y="34308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EXPERTS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0" y="2098800"/>
            <a:ext cx="1028700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* GIVE A VERY CLEAR PROMISE: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“COME TO ME,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’LL MAKE  YOU  YOUNGER  AND  HEALTHIER ! 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0" y="1676520"/>
            <a:ext cx="10029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  THE  FAMILY  PHYSICIAN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0" y="3898800"/>
            <a:ext cx="1028700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* MIX  CONVENTIONAL  ACCEPTED  REMEDIES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ITH UNPROVEN  BUT  VERY  POPULAR  MEAN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ITH APPEALING NAMES (eg. ANCIENT,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ORIENTAL, REJUVENILE, YOUTH INJECTIONS etc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10029960" cy="11430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EXPERTS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0" y="4267080"/>
            <a:ext cx="10287000" cy="2671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AKE  ADVANTAGE  OF A UNIVERSAL HUMAN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EAKNESS,  BASED  ON  THE  HOPE  AND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DESIRE  OF  EACH AND  EVERY  ONE  OF US,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O  BE  YOUNG  AND HEALTHY  FOREVER…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0" y="1447920"/>
            <a:ext cx="10287000" cy="3467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FIGHT  SCIENTIFIC  CRITICS  USING POPULAR,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SYCHOLOGICALLY  APPEALING  MEANS: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“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ANY  GREAT INVENTIONS  HAVE NOT BEEN  PROVEN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OR  ACCEPTED INITIALLY…  OBVIOUSLY,  OTHE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OCTORS  ARE   ENVY  BECAUSE  OF  OUR  SUCCESS..”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10029960" cy="11430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EXPERTS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0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9"/>
            </a:gs>
            <a:gs pos="100000">
              <a:srgbClr val="fdc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0" y="1752480"/>
            <a:ext cx="9982080" cy="3385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5400" spc="-1" strike="noStrike">
                <a:solidFill>
                  <a:srgbClr val="0327d9"/>
                </a:solidFill>
                <a:latin typeface="David"/>
                <a:cs typeface="David"/>
              </a:rPr>
              <a:t>הועדה רואה במונח  ”אנטי-אייג’ינג” כמונח  בעל  קונוטציה שלילית  כלפי הזקנה  ועל  כן  יש  לפעול  לשנותו.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0" y="0"/>
            <a:ext cx="10287000" cy="1691280"/>
          </a:xfrm>
          <a:prstGeom prst="rect">
            <a:avLst/>
          </a:prstGeom>
          <a:solidFill>
            <a:srgbClr val="ffff00"/>
          </a:solidFill>
          <a:ln w="15840">
            <a:solidFill>
              <a:srgbClr val="fc0128"/>
            </a:solidFill>
            <a:miter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fc0128"/>
                </a:solidFill>
                <a:latin typeface="Arial"/>
                <a:cs typeface="Levenim MT"/>
              </a:rPr>
              <a:t>סיכום והחלטות ועדת המדע והטכנולוגיה של הכנסת מישיבתה ביום </a:t>
            </a:r>
            <a:r>
              <a:rPr b="1" lang="he-IL" sz="3300" spc="-1" strike="noStrike">
                <a:solidFill>
                  <a:srgbClr val="fc0128"/>
                </a:solidFill>
                <a:latin typeface="Arial"/>
                <a:ea typeface="Levenim MT"/>
              </a:rPr>
              <a:t>2/7/02</a:t>
            </a:r>
            <a:r>
              <a:rPr b="1" lang="he-IL" sz="3300" spc="-1" strike="noStrike">
                <a:solidFill>
                  <a:srgbClr val="fc0128"/>
                </a:solidFill>
                <a:latin typeface="Arial"/>
                <a:ea typeface="Levenim MT"/>
              </a:rPr>
              <a:t> בנושא “אנטי-אייג’ינג”   </a:t>
            </a:r>
            <a:r>
              <a:rPr b="1" lang="he-IL" sz="3200" spc="-1" strike="noStrike">
                <a:solidFill>
                  <a:srgbClr val="fc0128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685800" y="4267080"/>
            <a:ext cx="89154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327d9"/>
                </a:solidFill>
                <a:latin typeface="David"/>
                <a:cs typeface="David"/>
              </a:rPr>
              <a:t>המינוח  צריך  לענות  על  היעד  של  הארכת    תקופת   הבריאות  ודחיית  תופעות  התלויות  בגיל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9"/>
            </a:gs>
            <a:gs pos="100000">
              <a:srgbClr val="fdc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0" y="1905120"/>
            <a:ext cx="9982080" cy="4360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מהעדויות ששמעה, לרבות מבעלי המכונים הפרטיים עצמם - הועדה נדהמה לגלות שהמכונים… מתקיימים מחוץ לתחום הרפואה המוכרת …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תחום המקצוע של ה”אנטי-אייג’ינג”, אינו מוכר בישראל ובאף מקום בעולם ע”י ההסתדרות הרפואית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76320" y="228600"/>
            <a:ext cx="10210680" cy="1299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000020"/>
                </a:solidFill>
                <a:latin typeface="Arial"/>
                <a:cs typeface="Levenim MT"/>
              </a:rPr>
              <a:t>סיכום והחלטות ועדת המדע והטכנולוגיה של הכנסת מישיבתה ביום 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2/7/02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 בנושא “אנטי-אייג’ינג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”   </a:t>
            </a:r>
            <a:r>
              <a:rPr b="1" lang="he-IL" sz="3200" spc="-1" strike="noStrike">
                <a:solidFill>
                  <a:srgbClr val="000020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0" y="4952880"/>
            <a:ext cx="998208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(בארה”ב  למשל, קיימת עמותה פרטית  לנושא המכשירה, בוחנת ונותנת תעודות הסמכה פרטיות -ללא הכרה של גוף מוסמך אחר)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0" y="0"/>
            <a:ext cx="10287000" cy="1691280"/>
          </a:xfrm>
          <a:prstGeom prst="rect">
            <a:avLst/>
          </a:prstGeom>
          <a:solidFill>
            <a:srgbClr val="ffff00"/>
          </a:solidFill>
          <a:ln w="15840">
            <a:solidFill>
              <a:srgbClr val="fc0128"/>
            </a:solidFill>
            <a:miter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fc0128"/>
                </a:solidFill>
                <a:latin typeface="Arial"/>
                <a:cs typeface="Levenim MT"/>
              </a:rPr>
              <a:t>סיכום והחלטות ועדת המדע והטכנולוגיה של הכנסת מישיבתה ביום </a:t>
            </a:r>
            <a:r>
              <a:rPr b="1" lang="he-IL" sz="3300" spc="-1" strike="noStrike">
                <a:solidFill>
                  <a:srgbClr val="fc0128"/>
                </a:solidFill>
                <a:latin typeface="Arial"/>
                <a:ea typeface="Levenim MT"/>
              </a:rPr>
              <a:t>2/7/02</a:t>
            </a:r>
            <a:r>
              <a:rPr b="1" lang="he-IL" sz="3300" spc="-1" strike="noStrike">
                <a:solidFill>
                  <a:srgbClr val="fc0128"/>
                </a:solidFill>
                <a:latin typeface="Arial"/>
                <a:ea typeface="Levenim MT"/>
              </a:rPr>
              <a:t> בנושא “אנטי-אייג’ינג”   </a:t>
            </a:r>
            <a:r>
              <a:rPr b="1" lang="he-IL" sz="3200" spc="-1" strike="noStrike">
                <a:solidFill>
                  <a:srgbClr val="fc0128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0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9"/>
            </a:gs>
            <a:gs pos="100000">
              <a:srgbClr val="fdc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1026"/>
          <p:cNvSpPr/>
          <p:nvPr/>
        </p:nvSpPr>
        <p:spPr>
          <a:xfrm>
            <a:off x="0" y="3581280"/>
            <a:ext cx="9982080" cy="3383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הועדה מוחה בפני שר הבריאות על חוסר הטיפול בסוגיות הקשורות לאכיפת החוק בתחום דחית הזקנה …    הועדה תובעת ממשרד הבריאות… להתקין תקנות שיסדירו את רישוי העוסקים בתחום “עיכוב הזקנה” (אנטי-אייג’ינג”)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3" name="Text Box 1027"/>
          <p:cNvSpPr/>
          <p:nvPr/>
        </p:nvSpPr>
        <p:spPr>
          <a:xfrm>
            <a:off x="76320" y="228600"/>
            <a:ext cx="10210680" cy="1299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000020"/>
                </a:solidFill>
                <a:latin typeface="Arial"/>
                <a:cs typeface="Levenim MT"/>
              </a:rPr>
              <a:t>סיכום והחלטות ועדת המדע והטכנולוגיה של הכנסת מישיבתה ביום 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2/7/02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 בנושא “אנטי-אייג’ינג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”   </a:t>
            </a:r>
            <a:r>
              <a:rPr b="1" lang="he-IL" sz="3200" spc="-1" strike="noStrike">
                <a:solidFill>
                  <a:srgbClr val="000020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4" name="Text Box 1028"/>
          <p:cNvSpPr/>
          <p:nvPr/>
        </p:nvSpPr>
        <p:spPr>
          <a:xfrm>
            <a:off x="0" y="1905120"/>
            <a:ext cx="9982080" cy="211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כמו כן, התברר לועדה שהטיפולים כרוכים     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                                       בתשלומים כספיים גדולים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5" name="Text Box 1029"/>
          <p:cNvSpPr/>
          <p:nvPr/>
        </p:nvSpPr>
        <p:spPr>
          <a:xfrm>
            <a:off x="0" y="0"/>
            <a:ext cx="10287000" cy="1691280"/>
          </a:xfrm>
          <a:prstGeom prst="rect">
            <a:avLst/>
          </a:prstGeom>
          <a:solidFill>
            <a:srgbClr val="ffff00"/>
          </a:solidFill>
          <a:ln w="15840">
            <a:solidFill>
              <a:srgbClr val="fc0128"/>
            </a:solidFill>
            <a:miter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fc0128"/>
                </a:solidFill>
                <a:latin typeface="Arial"/>
                <a:cs typeface="Levenim MT"/>
              </a:rPr>
              <a:t>סיכום והחלטות ועדת המדע והטכנולוגיה של הכנסת מישיבתה ביום </a:t>
            </a:r>
            <a:r>
              <a:rPr b="1" lang="he-IL" sz="3300" spc="-1" strike="noStrike">
                <a:solidFill>
                  <a:srgbClr val="fc0128"/>
                </a:solidFill>
                <a:latin typeface="Arial"/>
                <a:ea typeface="Levenim MT"/>
              </a:rPr>
              <a:t>2/7/02</a:t>
            </a:r>
            <a:r>
              <a:rPr b="1" lang="he-IL" sz="3300" spc="-1" strike="noStrike">
                <a:solidFill>
                  <a:srgbClr val="fc0128"/>
                </a:solidFill>
                <a:latin typeface="Arial"/>
                <a:ea typeface="Levenim MT"/>
              </a:rPr>
              <a:t> בנושא “אנטי-אייג’ינג”   </a:t>
            </a:r>
            <a:r>
              <a:rPr b="1" lang="he-IL" sz="3200" spc="-1" strike="noStrike">
                <a:solidFill>
                  <a:srgbClr val="fc0128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1143000"/>
            <a:ext cx="8991720" cy="459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00"/>
                </a:solidFill>
                <a:latin typeface="Arial"/>
              </a:rPr>
              <a:t>POINTS   FOR   CONSIDER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10029960" cy="8380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00" name="Object 5" descr=""/>
          <p:cNvPicPr/>
          <p:nvPr/>
        </p:nvPicPr>
        <p:blipFill>
          <a:blip r:embed="rId1"/>
          <a:stretch/>
        </p:blipFill>
        <p:spPr>
          <a:xfrm>
            <a:off x="2514600" y="5094360"/>
            <a:ext cx="984240" cy="987480"/>
          </a:xfrm>
          <a:prstGeom prst="rect">
            <a:avLst/>
          </a:prstGeom>
          <a:ln w="0">
            <a:noFill/>
          </a:ln>
          <a:effectLst>
            <a:outerShdw dist="52300" dir="15363565" blurRad="0" rotWithShape="0">
              <a:srgbClr val="ffffff"/>
            </a:outerShdw>
          </a:effectLst>
        </p:spPr>
      </p:pic>
      <p:pic>
        <p:nvPicPr>
          <p:cNvPr id="101" name="Object 6" descr=""/>
          <p:cNvPicPr/>
          <p:nvPr/>
        </p:nvPicPr>
        <p:blipFill>
          <a:blip r:embed="rId2"/>
          <a:stretch/>
        </p:blipFill>
        <p:spPr>
          <a:xfrm>
            <a:off x="990720" y="5729400"/>
            <a:ext cx="533160" cy="67140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</p:pic>
      <p:pic>
        <p:nvPicPr>
          <p:cNvPr id="102" name="Object 7" descr=""/>
          <p:cNvPicPr/>
          <p:nvPr/>
        </p:nvPicPr>
        <p:blipFill>
          <a:blip r:embed="rId3"/>
          <a:stretch/>
        </p:blipFill>
        <p:spPr>
          <a:xfrm>
            <a:off x="1600200" y="5424480"/>
            <a:ext cx="914400" cy="824040"/>
          </a:xfrm>
          <a:prstGeom prst="rect">
            <a:avLst/>
          </a:prstGeom>
          <a:ln w="0">
            <a:noFill/>
          </a:ln>
          <a:effectLst>
            <a:outerShdw dist="40186" dir="17296359" blurRad="0" rotWithShape="0">
              <a:srgbClr val="fafd00"/>
            </a:outerShdw>
          </a:effectLst>
        </p:spPr>
      </p:pic>
      <p:pic>
        <p:nvPicPr>
          <p:cNvPr id="103" name="Object 8" descr=""/>
          <p:cNvPicPr/>
          <p:nvPr/>
        </p:nvPicPr>
        <p:blipFill>
          <a:blip r:embed="rId4"/>
          <a:stretch/>
        </p:blipFill>
        <p:spPr>
          <a:xfrm>
            <a:off x="3130560" y="4648320"/>
            <a:ext cx="1365120" cy="1292040"/>
          </a:xfrm>
          <a:prstGeom prst="rect">
            <a:avLst/>
          </a:prstGeom>
          <a:ln w="0">
            <a:noFill/>
          </a:ln>
          <a:effectLst>
            <a:outerShdw dist="52300" dir="9963564" blurRad="0" rotWithShape="0">
              <a:srgbClr val="000020"/>
            </a:outerShdw>
          </a:effectLst>
        </p:spPr>
      </p:pic>
      <p:pic>
        <p:nvPicPr>
          <p:cNvPr id="104" name="Object 9" descr=""/>
          <p:cNvPicPr/>
          <p:nvPr/>
        </p:nvPicPr>
        <p:blipFill>
          <a:blip r:embed="rId5"/>
          <a:stretch/>
        </p:blipFill>
        <p:spPr>
          <a:xfrm>
            <a:off x="4114800" y="4114800"/>
            <a:ext cx="1663560" cy="166680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20"/>
            </a:outerShdw>
          </a:effectLst>
        </p:spPr>
      </p:pic>
      <p:graphicFrame>
        <p:nvGraphicFramePr>
          <p:cNvPr id="105" name="Object 10"/>
          <p:cNvGraphicFramePr/>
          <p:nvPr/>
        </p:nvGraphicFramePr>
        <p:xfrm>
          <a:off x="5334120" y="3459240"/>
          <a:ext cx="2133360" cy="1950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6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3459240"/>
                    <a:ext cx="2133360" cy="1950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97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pic>
        <p:nvPicPr>
          <p:cNvPr id="107" name="Object 11" descr=""/>
          <p:cNvPicPr/>
          <p:nvPr/>
        </p:nvPicPr>
        <p:blipFill>
          <a:blip r:embed="rId8"/>
          <a:stretch/>
        </p:blipFill>
        <p:spPr>
          <a:xfrm>
            <a:off x="76320" y="5715000"/>
            <a:ext cx="914400" cy="1066680"/>
          </a:xfrm>
          <a:prstGeom prst="rect">
            <a:avLst/>
          </a:prstGeom>
          <a:ln w="0">
            <a:noFill/>
          </a:ln>
          <a:effectLst>
            <a:outerShdw dist="45929" dir="19571123" blurRad="0" rotWithShape="0">
              <a:srgbClr val="676767"/>
            </a:outerShdw>
          </a:effectLst>
        </p:spPr>
      </p:pic>
      <p:sp>
        <p:nvSpPr>
          <p:cNvPr id="108" name="Text Box 13"/>
          <p:cNvSpPr/>
          <p:nvPr/>
        </p:nvSpPr>
        <p:spPr>
          <a:xfrm>
            <a:off x="3206880" y="5334120"/>
            <a:ext cx="984240" cy="459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8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343400" y="5181480"/>
            <a:ext cx="98424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090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9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5638680" y="4738680"/>
            <a:ext cx="1441440" cy="520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920880" y="632448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.C</a:t>
            </a: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 rot="20671200">
            <a:off x="7141680" y="2133000"/>
            <a:ext cx="2209680" cy="116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IMPROVED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GIENE &amp;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NIT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 rot="20671200">
            <a:off x="7292880" y="3458880"/>
            <a:ext cx="2617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LNUTRI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Text Box 22"/>
          <p:cNvSpPr/>
          <p:nvPr/>
        </p:nvSpPr>
        <p:spPr>
          <a:xfrm rot="20671200">
            <a:off x="7318440" y="4568400"/>
            <a:ext cx="2803680" cy="83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FECTION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PIDEMICS            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WordArt 24"/>
          <p:cNvSpPr txBox="1"/>
          <p:nvPr/>
        </p:nvSpPr>
        <p:spPr>
          <a:xfrm rot="20316600">
            <a:off x="1561680" y="3580920"/>
            <a:ext cx="59436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6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afd00"/>
                  </a:solidFill>
                  <a:miter/>
                </a:ln>
                <a:solidFill>
                  <a:srgbClr val="fc0128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ENVIRONMENTAL </a:t>
            </a:r>
            <a:endParaRPr b="1" lang="en-US" sz="2400" spc="1" strike="noStrike">
              <a:ln w="12600">
                <a:solidFill>
                  <a:srgbClr val="fafd00"/>
                </a:solidFill>
                <a:miter/>
              </a:ln>
              <a:solidFill>
                <a:srgbClr val="fc0128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Text Box 26"/>
          <p:cNvSpPr/>
          <p:nvPr/>
        </p:nvSpPr>
        <p:spPr>
          <a:xfrm rot="19200">
            <a:off x="113400" y="1990440"/>
            <a:ext cx="7315200" cy="229536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THROUGHOUT HISTORY,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THE   MAJOR   FACTOR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FFECTING   HEALTH  OF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THE  GENERAL  POPULATION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                                                 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9"/>
            </a:gs>
            <a:gs pos="100000">
              <a:srgbClr val="fdc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1026"/>
          <p:cNvSpPr/>
          <p:nvPr/>
        </p:nvSpPr>
        <p:spPr>
          <a:xfrm>
            <a:off x="0" y="4332240"/>
            <a:ext cx="9982080" cy="27248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327d9"/>
                </a:solidFill>
                <a:latin typeface="David"/>
                <a:cs typeface="David"/>
              </a:rPr>
              <a:t>הועדה  לא  יכולה  לקבל  הטלת  האחריות על  הצרכנים  בלבד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327d9"/>
                </a:solidFill>
                <a:latin typeface="David"/>
                <a:cs typeface="David"/>
              </a:rPr>
              <a:t>והמתנת משרדי הממשלה לתלונות פרטניות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7" name="Text Box 1027"/>
          <p:cNvSpPr/>
          <p:nvPr/>
        </p:nvSpPr>
        <p:spPr>
          <a:xfrm>
            <a:off x="76320" y="228600"/>
            <a:ext cx="10210680" cy="1299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000020"/>
                </a:solidFill>
                <a:latin typeface="Arial"/>
                <a:cs typeface="Levenim MT"/>
              </a:rPr>
              <a:t>סיכום והחלטות ועדת המדע והטכנולוגיה של הכנסת מישיבתה ביום 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2/7/02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 בנושא “אנטי-אייג’ינג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”   </a:t>
            </a:r>
            <a:r>
              <a:rPr b="1" lang="he-IL" sz="3200" spc="-1" strike="noStrike">
                <a:solidFill>
                  <a:srgbClr val="000020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8" name="Text Box 1028"/>
          <p:cNvSpPr/>
          <p:nvPr/>
        </p:nvSpPr>
        <p:spPr>
          <a:xfrm>
            <a:off x="0" y="1905120"/>
            <a:ext cx="9982080" cy="31647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הועדה  תובעת  לקבל  ממשרד  הבריאות  והמשרד לביטחון  פנים, את  הליך</a:t>
            </a:r>
            <a:r>
              <a:rPr b="1" lang="en-US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4400" spc="-1" strike="noStrike">
                <a:solidFill>
                  <a:srgbClr val="fc0128"/>
                </a:solidFill>
                <a:latin typeface="David"/>
                <a:cs typeface="David"/>
              </a:rPr>
              <a:t>האכיפה  והעמדה  לדין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במצב  בו  </a:t>
            </a:r>
            <a:r>
              <a:rPr b="1" lang="he-IL" sz="4400" spc="-1" strike="noStrike">
                <a:solidFill>
                  <a:srgbClr val="fc0128"/>
                </a:solidFill>
                <a:latin typeface="David"/>
                <a:cs typeface="David"/>
              </a:rPr>
              <a:t>מתקיימת  עבירה  על  החוק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9" name="Text Box 1029"/>
          <p:cNvSpPr/>
          <p:nvPr/>
        </p:nvSpPr>
        <p:spPr>
          <a:xfrm>
            <a:off x="0" y="0"/>
            <a:ext cx="10287000" cy="1691280"/>
          </a:xfrm>
          <a:prstGeom prst="rect">
            <a:avLst/>
          </a:prstGeom>
          <a:solidFill>
            <a:srgbClr val="ffff00"/>
          </a:solidFill>
          <a:ln w="15840">
            <a:solidFill>
              <a:srgbClr val="fc0128"/>
            </a:solidFill>
            <a:miter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fc0128"/>
                </a:solidFill>
                <a:latin typeface="Arial"/>
                <a:cs typeface="Levenim MT"/>
              </a:rPr>
              <a:t>סיכום והחלטות ועדת המדע והטכנולוגיה של הכנסת מישיבתה ביום </a:t>
            </a:r>
            <a:r>
              <a:rPr b="1" lang="he-IL" sz="3300" spc="-1" strike="noStrike">
                <a:solidFill>
                  <a:srgbClr val="fc0128"/>
                </a:solidFill>
                <a:latin typeface="Arial"/>
                <a:ea typeface="Levenim MT"/>
              </a:rPr>
              <a:t>2/7/02</a:t>
            </a:r>
            <a:r>
              <a:rPr b="1" lang="he-IL" sz="3300" spc="-1" strike="noStrike">
                <a:solidFill>
                  <a:srgbClr val="fc0128"/>
                </a:solidFill>
                <a:latin typeface="Arial"/>
                <a:ea typeface="Levenim MT"/>
              </a:rPr>
              <a:t> בנושא “אנטי-אייג’ינג”   </a:t>
            </a:r>
            <a:r>
              <a:rPr b="1" lang="he-IL" sz="3200" spc="-1" strike="noStrike">
                <a:solidFill>
                  <a:srgbClr val="fc0128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3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9"/>
            </a:gs>
            <a:gs pos="100000">
              <a:srgbClr val="fdc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3"/>
          <p:cNvSpPr/>
          <p:nvPr/>
        </p:nvSpPr>
        <p:spPr>
          <a:xfrm>
            <a:off x="76320" y="228600"/>
            <a:ext cx="10210680" cy="1299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000020"/>
                </a:solidFill>
                <a:latin typeface="Arial"/>
                <a:cs typeface="Levenim MT"/>
              </a:rPr>
              <a:t>סיכום והחלטות ועדת המדע והטכנולוגיה של הכנסת מישיבתה ביום 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2/7/02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 בנושא “אנטי-אייג’ינג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”   </a:t>
            </a:r>
            <a:r>
              <a:rPr b="1" lang="he-IL" sz="3200" spc="-1" strike="noStrike">
                <a:solidFill>
                  <a:srgbClr val="000020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-114480" y="1778040"/>
            <a:ext cx="10287360" cy="6489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000020"/>
                </a:solidFill>
                <a:latin typeface="Arial"/>
                <a:cs typeface="David"/>
              </a:rPr>
              <a:t>יו"ר - ד"ר אלי רוזנברג - בריאות הציבור/רפואה מונעת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 u="sng">
                <a:solidFill>
                  <a:srgbClr val="000020"/>
                </a:solidFill>
                <a:uFillTx/>
                <a:latin typeface="Arial"/>
                <a:cs typeface="David"/>
              </a:rPr>
              <a:t>חברי הועדה</a:t>
            </a:r>
            <a:r>
              <a:rPr b="1" lang="he-IL" sz="2600" spc="-1" strike="noStrike">
                <a:solidFill>
                  <a:srgbClr val="000020"/>
                </a:solidFill>
                <a:latin typeface="Arial"/>
                <a:ea typeface="David"/>
              </a:rPr>
              <a:t> (לפי א-ב)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000020"/>
                </a:solidFill>
                <a:latin typeface="Arial"/>
                <a:cs typeface="David"/>
              </a:rPr>
              <a:t>פרופ' שמעון גליק - אנדוקרינולוגיה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000020"/>
                </a:solidFill>
                <a:latin typeface="Arial"/>
                <a:cs typeface="David"/>
              </a:rPr>
              <a:t>ד"ר יוסף גרינבלט - גריאטריה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000020"/>
                </a:solidFill>
                <a:latin typeface="Arial"/>
                <a:cs typeface="David"/>
              </a:rPr>
              <a:t>ד"ר דורון גרפינקל - גריאטריה </a:t>
            </a:r>
            <a:r>
              <a:rPr b="1" lang="en-US" sz="2600" spc="-1" strike="noStrike">
                <a:solidFill>
                  <a:srgbClr val="000020"/>
                </a:solidFill>
                <a:latin typeface="Arial"/>
                <a:ea typeface="ＭＳ Ｐゴシック"/>
              </a:rPr>
              <a:t> </a:t>
            </a:r>
            <a:r>
              <a:rPr b="1" lang="he-IL" sz="2600" spc="-1" strike="noStrike">
                <a:solidFill>
                  <a:srgbClr val="000020"/>
                </a:solidFill>
                <a:latin typeface="Arial"/>
                <a:ea typeface="David"/>
              </a:rPr>
              <a:t>(יו"ר העמותה לעיכוב תהליכים התלויים בגיל)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000020"/>
                </a:solidFill>
                <a:latin typeface="Arial"/>
                <a:cs typeface="David"/>
              </a:rPr>
              <a:t>ד"ר מיכאל דור-רפואת משפחה (ראש אגף רפואה כללית בפועל, משרד הבריאות) 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000020"/>
                </a:solidFill>
                <a:latin typeface="Arial"/>
                <a:cs typeface="David"/>
              </a:rPr>
              <a:t>פרופ' מיכאל דייוויס - בריאות הציבור/רפואה מונעת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000020"/>
                </a:solidFill>
                <a:latin typeface="Arial"/>
                <a:cs typeface="David"/>
              </a:rPr>
              <a:t>מגר' אלי מרום - רוקחות (עוזר בכיר במנהלת אגף הרוקחות של משרד הבריאות)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000020"/>
                </a:solidFill>
                <a:latin typeface="Arial"/>
                <a:cs typeface="David"/>
              </a:rPr>
              <a:t>ד"ר דורית ניצן-קלוסקי - תזונה (ראש השירות למזון ותזונה, משרד הבריאות)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000020"/>
                </a:solidFill>
                <a:latin typeface="Arial"/>
                <a:cs typeface="David"/>
              </a:rPr>
              <a:t>פרופ' מרק קלרפילד - גריאטריה, בריאות הציבור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000020"/>
                </a:solidFill>
                <a:latin typeface="Arial"/>
                <a:cs typeface="David"/>
              </a:rPr>
              <a:t>פרופ' רפאל קרסו - מנהל מרפאה לעיכוב תהליכי הזדקנות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000020"/>
                </a:solidFill>
                <a:latin typeface="Arial"/>
                <a:cs typeface="David"/>
              </a:rPr>
              <a:t>פרופ' אברהם רזניק - גרונטולוגיה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000020"/>
                </a:solidFill>
                <a:latin typeface="Arial"/>
                <a:cs typeface="David"/>
              </a:rPr>
              <a:t>פרופ' אבינועם רכס - אתיקה רפואית 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0" y="112680"/>
            <a:ext cx="10287000" cy="1464840"/>
          </a:xfrm>
          <a:prstGeom prst="rect">
            <a:avLst/>
          </a:prstGeom>
          <a:solidFill>
            <a:srgbClr val="ffff00"/>
          </a:solidFill>
          <a:ln w="15840">
            <a:solidFill>
              <a:srgbClr val="fc0128"/>
            </a:solidFill>
            <a:miter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fc0128"/>
                </a:solidFill>
                <a:latin typeface="Arial"/>
                <a:cs typeface="Levenim MT"/>
              </a:rPr>
              <a:t>ועדת  “אנטי-אייג’ינג” של משרד הבריאות  </a:t>
            </a:r>
            <a:endParaRPr b="0" lang="en-US" sz="33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c0128"/>
                </a:solidFill>
                <a:latin typeface="Arial"/>
                <a:cs typeface="Levenim MT"/>
              </a:rPr>
              <a:t>חברי הועדה בפועל ומומחיותם/תפקידם הרלוונטיים לעבודת הועדה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76320" y="228600"/>
            <a:ext cx="10210680" cy="1299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000020"/>
                </a:solidFill>
                <a:latin typeface="Arial"/>
                <a:cs typeface="Levenim MT"/>
              </a:rPr>
              <a:t>סיכום והחלטות ועדת המדע והטכנולוגיה של הכנסת מישיבתה ביום 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2/7/02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 בנושא “אנטי-אייג’ינג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”   </a:t>
            </a:r>
            <a:r>
              <a:rPr b="1" lang="he-IL" sz="3200" spc="-1" strike="noStrike">
                <a:solidFill>
                  <a:srgbClr val="000020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-114480" y="1778040"/>
            <a:ext cx="10287360" cy="5699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David"/>
              </a:rPr>
              <a:t>לאחר מספר ישיבות בחודשים יוני - דצמבר 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2003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,</a:t>
            </a:r>
            <a:r>
              <a:rPr b="0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David"/>
              </a:rPr>
              <a:t>הגישה מסקנותיה החד משמעיות בפני פרופ' מנצ'ל,    יו"ר המועצה  הלאומית  לגריאטריה,  דר' בועז לב, עוזר מנכ"ל משרד הבריאות, וגורמים בכירים אחרים ממשרד הבריאות ומהנהלות קופות החולים.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David"/>
              </a:rPr>
              <a:t>משרד הבריאות יפעל במטרה לפרסם הנחיות בנושא לרופאים ולציבור הרחב.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0" y="395280"/>
            <a:ext cx="10287000" cy="945360"/>
          </a:xfrm>
          <a:prstGeom prst="rect">
            <a:avLst/>
          </a:prstGeom>
          <a:solidFill>
            <a:srgbClr val="ffff00"/>
          </a:solidFill>
          <a:ln w="15840">
            <a:solidFill>
              <a:srgbClr val="fc0128"/>
            </a:solidFill>
            <a:miter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fc0128"/>
                </a:solidFill>
                <a:latin typeface="Arial"/>
                <a:cs typeface="Levenim MT"/>
              </a:rPr>
              <a:t>ועדת  “אנטי-אייג’ינג” של משרד הבריאות  </a:t>
            </a:r>
            <a:endParaRPr b="0" lang="en-US" sz="33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d00"/>
            </a:gs>
            <a:gs pos="100000">
              <a:srgbClr val="fb7d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3"/>
          <p:cNvSpPr/>
          <p:nvPr/>
        </p:nvSpPr>
        <p:spPr>
          <a:xfrm>
            <a:off x="76320" y="1687680"/>
            <a:ext cx="10096560" cy="65232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20"/>
                </a:solidFill>
                <a:latin typeface="Arial"/>
              </a:rPr>
              <a:t>1</a:t>
            </a:r>
            <a:r>
              <a:rPr b="1" lang="he-IL" sz="2400" spc="-1" strike="noStrike">
                <a:solidFill>
                  <a:srgbClr val="000020"/>
                </a:solidFill>
                <a:latin typeface="Arial"/>
              </a:rPr>
              <a:t>. </a:t>
            </a:r>
            <a:r>
              <a:rPr b="1" lang="he-IL" sz="2400" spc="-1" strike="noStrike" u="sng">
                <a:solidFill>
                  <a:srgbClr val="000020"/>
                </a:solidFill>
                <a:uFillTx/>
                <a:latin typeface="Arial"/>
              </a:rPr>
              <a:t>מידע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20"/>
                </a:solidFill>
                <a:latin typeface="Arial"/>
              </a:rPr>
              <a:t>  </a:t>
            </a:r>
            <a:r>
              <a:rPr b="1" lang="he-IL" sz="2200" spc="-1" strike="noStrike">
                <a:solidFill>
                  <a:srgbClr val="000020"/>
                </a:solidFill>
                <a:latin typeface="Arial"/>
                <a:cs typeface="David"/>
              </a:rPr>
              <a:t>יש לפרסם לציבור הרופאים וכן באתר משה"ב כדלהלן: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cs typeface="David"/>
              </a:rPr>
              <a:t>א.   טרם נמצאה התערבות המסוגלת לעכב תהליכי הזדקנות (</a:t>
            </a:r>
            <a:r>
              <a:rPr b="1" lang="en-US" sz="2200" spc="-1" strike="noStrike">
                <a:solidFill>
                  <a:srgbClr val="000020"/>
                </a:solidFill>
                <a:latin typeface="Arial"/>
                <a:ea typeface="ＭＳ Ｐゴシック"/>
              </a:rPr>
              <a:t>aging process</a:t>
            </a:r>
            <a:r>
              <a:rPr b="1" lang="ar-SA" sz="2200" spc="-1" strike="noStrike">
                <a:solidFill>
                  <a:srgbClr val="000020"/>
                </a:solidFill>
                <a:latin typeface="Arial"/>
                <a:ea typeface="David"/>
              </a:rPr>
              <a:t>)</a:t>
            </a: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,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      ולבטח לא לעצרם  או להצעיר מטופלים.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cs typeface="David"/>
              </a:rPr>
              <a:t>ב.   קיימות התערבויות המסוגלות לעכב מחלות התלויות בגיל (</a:t>
            </a:r>
            <a:r>
              <a:rPr b="1" lang="en-US" sz="2200" spc="-1" strike="noStrike">
                <a:solidFill>
                  <a:srgbClr val="000020"/>
                </a:solidFill>
                <a:latin typeface="Arial"/>
                <a:ea typeface="ＭＳ Ｐゴシック"/>
              </a:rPr>
              <a:t>age-related diseases</a:t>
            </a:r>
            <a:r>
              <a:rPr b="1" lang="ar-SA" sz="2200" spc="-1" strike="noStrike">
                <a:solidFill>
                  <a:srgbClr val="000020"/>
                </a:solidFill>
                <a:latin typeface="Arial"/>
                <a:ea typeface="David"/>
              </a:rPr>
              <a:t>).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cs typeface="David"/>
              </a:rPr>
              <a:t>ג.   אימוץ אורחות חיים בריאים הבאים עשוי לעכב/למנוע הופעת מחלות</a:t>
            </a:r>
            <a:r>
              <a:rPr b="1" lang="en-US" sz="2200" spc="-1" strike="noStrike">
                <a:solidFill>
                  <a:srgbClr val="000020"/>
                </a:solidFill>
                <a:latin typeface="Arial"/>
                <a:ea typeface="ＭＳ Ｐゴシック"/>
              </a:rPr>
              <a:t> </a:t>
            </a:r>
            <a:r>
              <a:rPr b="1" lang="he-IL" sz="2200" spc="-1" strike="noStrike">
                <a:solidFill>
                  <a:srgbClr val="000020"/>
                </a:solidFill>
                <a:latin typeface="Arial"/>
                <a:cs typeface="David"/>
              </a:rPr>
              <a:t>כרוניות המאפיינות את  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      גיל הזקנה :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cs typeface="David"/>
              </a:rPr>
              <a:t>ביצוע פעילות גופנית סדירה: אירובית, בונה כוח, משפרת שווי-משקל.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cs typeface="David"/>
              </a:rPr>
              <a:t>תזונה מאוזנת קלורית, עשירה בפירות, ירקות, סובין וסידן, אך דלת שומן רווי, שומן טראנס וכולסטרול, שמירה על משקל גוף תקין, התחסנות במועד כנגד שפעת, דלקת ריאות וטטנוס-דיפתריה, הימנעות מעישון, שתייה כהילה מופרזת, היחשפות רבה לשמש, והתנהגות מועדת להיפצעות (נהיגה/הליכה לא זהירה, אי-סילוק מכשולים ביתיים, אי-חגירת חגורות בטיחות ברכב, אי-חבישת קסדה בנהיגה דו-גלגלית)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cs typeface="David"/>
              </a:rPr>
              <a:t>הקפדה לבצע מעקב תקופתי של לחץ הדם וכולסטרול  ובדיקות סקירה לסרטן השד והמעי הגס.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228600" y="677880"/>
            <a:ext cx="10096560" cy="19033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afd00"/>
                </a:solidFill>
                <a:latin typeface="Arial"/>
                <a:cs typeface="David"/>
              </a:rPr>
              <a:t>המלצות לצמרת משרד הבריאות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d00"/>
            </a:gs>
            <a:gs pos="100000">
              <a:srgbClr val="fb7d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76320" y="1676520"/>
            <a:ext cx="10096560" cy="3110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20"/>
                </a:solidFill>
                <a:uFillTx/>
                <a:latin typeface="Arial"/>
              </a:rPr>
              <a:t>1</a:t>
            </a:r>
            <a:r>
              <a:rPr b="1" lang="he-IL" sz="2400" spc="-1" strike="noStrike" u="sng">
                <a:solidFill>
                  <a:srgbClr val="000020"/>
                </a:solidFill>
                <a:uFillTx/>
                <a:latin typeface="Arial"/>
              </a:rPr>
              <a:t>. מידע (המשך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cs typeface="David"/>
              </a:rPr>
              <a:t>ד. </a:t>
            </a:r>
            <a:r>
              <a:rPr b="1" lang="he-IL" sz="2200" spc="-1" strike="noStrike" u="sng">
                <a:solidFill>
                  <a:srgbClr val="000020"/>
                </a:solidFill>
                <a:uFillTx/>
                <a:latin typeface="Arial"/>
                <a:cs typeface="David"/>
              </a:rPr>
              <a:t>טרם הוכחה יעילות/בטיחות ההתערבויות הבאות למטרות "אנטי-אייג'ינג":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1</a:t>
            </a: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)    טיפול הורמונאלי: כגון הורמון גדילה,</a:t>
            </a:r>
            <a:r>
              <a:rPr b="1" lang="en-US" sz="1800" spc="-1" strike="noStrike">
                <a:solidFill>
                  <a:srgbClr val="000020"/>
                </a:solidFill>
                <a:latin typeface="Arial"/>
                <a:ea typeface="ＭＳ Ｐゴシック"/>
              </a:rPr>
              <a:t>DHEA</a:t>
            </a:r>
            <a:r>
              <a:rPr b="1" lang="en-US" sz="2200" spc="-1" strike="noStrike">
                <a:solidFill>
                  <a:srgbClr val="000020"/>
                </a:solidFill>
                <a:latin typeface="Arial"/>
                <a:ea typeface="ＭＳ Ｐゴシック"/>
              </a:rPr>
              <a:t> </a:t>
            </a:r>
            <a:r>
              <a:rPr b="1" lang="ar-SA" sz="2200" spc="-1" strike="noStrike">
                <a:solidFill>
                  <a:srgbClr val="000020"/>
                </a:solidFill>
                <a:latin typeface="Arial"/>
                <a:ea typeface="David"/>
              </a:rPr>
              <a:t>, </a:t>
            </a:r>
            <a:r>
              <a:rPr b="1" lang="he-IL" sz="2200" spc="-1" strike="noStrike">
                <a:solidFill>
                  <a:srgbClr val="000020"/>
                </a:solidFill>
                <a:latin typeface="Arial"/>
                <a:cs typeface="David"/>
              </a:rPr>
              <a:t>טסטוסטרון, אסטרוגן, הורמון בלוטת התריס, מלטונין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2</a:t>
            </a: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)     טיפול בנוגדי חמצון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3</a:t>
            </a: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)     טיפול בתוספי מזון/עשבי מרפא למיניהם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4</a:t>
            </a: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)     טיפול גנטי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buClr>
                <a:srgbClr val="00002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 טיפול בהשתלת רקמות צעירות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228600" y="677880"/>
            <a:ext cx="10096560" cy="19033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afd00"/>
                </a:solidFill>
                <a:latin typeface="Arial"/>
                <a:cs typeface="David"/>
              </a:rPr>
              <a:t>המלצות לצמרת משרד הבריאות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-76320" y="4800600"/>
            <a:ext cx="10325160" cy="2775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cs typeface="David"/>
              </a:rPr>
              <a:t>ה. בתחום "אנטי-אייג'ינג" יש לבחון יעילות ובטיחות טיפולים קיימים וחדשים על פי אמות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     מידה נתמכות - ראיות המקובלות, תוך הקפדה מיוחדת על בטיחות לטווח הארוך. 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cs typeface="David"/>
              </a:rPr>
              <a:t>ו.  לא קיימת התמחות "אנטי-אייג'ינג"/עיכוב תהליכי הזדקנות מוכרת ע"י רשויות הבריאות /    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     ארגוני הרופאים הארציים בארץ או בארה"ב.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0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d00"/>
            </a:gs>
            <a:gs pos="100000">
              <a:srgbClr val="fb7d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76320" y="1635120"/>
            <a:ext cx="10096560" cy="4549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cs typeface="David"/>
              </a:rPr>
              <a:t>א. יש להגדיר בבהירות ובצורה חד-משמעית ולפרסם לציבור הרופאים ועבור הציבור מה נכלל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     בטיפולי "אנטי-אייג'ינג" האסורים ולהגדיר גבולות העיסוק הרפואי הנאות בתחום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     עיכוב מחלות התלויות בגיל.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cs typeface="David"/>
              </a:rPr>
              <a:t>ב. יש ללמוד מהניסיון במדינות נאורות בחו"ל ולאסור שיווק ופרסום מוצרים בשטח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     אנטי-אייג'ינג שאין הוכחה ליעילותם ובטיחותם על פי קנה-מידה נתמך-ראיות מקובל.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cs typeface="David"/>
              </a:rPr>
              <a:t>ג.  יש לבחון את </a:t>
            </a: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1</a:t>
            </a: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) רמת האכיפה ו-</a:t>
            </a: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2</a:t>
            </a: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) מכשולים המגבילים את יכולת אכיפת החוק האוסר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     רישום תרופות לא מאושרות, או שלא מאושרות להתוויה עבורה נרשמים ע"י מטפלים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     בתחום "אנטי-אייג'ינג. יש לפעול בנמרצות לסגור פערים/פרצות הקיימים.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228600" y="144360"/>
            <a:ext cx="10096560" cy="998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afd00"/>
                </a:solidFill>
                <a:latin typeface="Arial"/>
                <a:cs typeface="David"/>
              </a:rPr>
              <a:t>מדיניות 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0" y="4162320"/>
            <a:ext cx="10287000" cy="4786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cs typeface="David"/>
              </a:rPr>
              <a:t>ד. יש לעודד ביצוע רפואה מונעת נתמכת-ראיות בגיל המבוגר על ידי רופאים גריאטריים,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    רופאים ראשוניים, ומומחים ברפואה מונעת/בריאות הציבור ע"י שלש יוזמות: יש לעודד 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    ההכשרה המניעתית לאנשי המקצוע הנ"ל החל מבית הספר לרפואה ודרך תוכניות ההתמחות.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    יש לאמץ יעדי עשור לאומיים מדידים בתחום המניעה. יש לתמרץ ולבקר השגת רפי ביצוע 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    שנתיים שייקבעו בשיתוף קופות החולים והנהלות בתי-החולים הממשלתיים.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cs typeface="David"/>
              </a:rPr>
              <a:t>ה. יש לתמוך במחקר ופיתוח ביוגרונטולוגי בתחום הארכת תוחלת החיים. התחום הינו בעל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    פוטנציאל רב, ומימושו עשוי להביא לשיפור איכות ואורך חיי האוכלוסיה הבוגרת בישראל,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20"/>
                </a:solidFill>
                <a:latin typeface="Arial"/>
                <a:ea typeface="David"/>
              </a:rPr>
              <a:t>    על תרומתם הערכית והכלכלית למדינה.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0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5320" y="-360"/>
            <a:ext cx="10201320" cy="152388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HEALTH     PROMOTION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IN ADULTS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(“ANTI-AGING ?”)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625" name="Object 3" descr=""/>
          <p:cNvPicPr/>
          <p:nvPr/>
        </p:nvPicPr>
        <p:blipFill>
          <a:blip r:embed="rId1"/>
          <a:stretch/>
        </p:blipFill>
        <p:spPr>
          <a:xfrm>
            <a:off x="8763120" y="4800600"/>
            <a:ext cx="1523880" cy="1011240"/>
          </a:xfrm>
          <a:prstGeom prst="rect">
            <a:avLst/>
          </a:prstGeom>
          <a:ln w="0">
            <a:noFill/>
          </a:ln>
          <a:effectLst>
            <a:outerShdw dist="52300" dir="4563564" blurRad="0" rotWithShape="0">
              <a:srgbClr val="fafd00"/>
            </a:outerShdw>
          </a:effectLst>
        </p:spPr>
      </p:pic>
      <p:pic>
        <p:nvPicPr>
          <p:cNvPr id="626" name="Object 4" descr=""/>
          <p:cNvPicPr/>
          <p:nvPr/>
        </p:nvPicPr>
        <p:blipFill>
          <a:blip r:embed="rId2"/>
          <a:stretch/>
        </p:blipFill>
        <p:spPr>
          <a:xfrm>
            <a:off x="5638680" y="2406600"/>
            <a:ext cx="1371600" cy="64152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fafd00"/>
            </a:outerShdw>
          </a:effectLst>
        </p:spPr>
      </p:pic>
      <p:pic>
        <p:nvPicPr>
          <p:cNvPr id="627" name="Object 5" descr=""/>
          <p:cNvPicPr/>
          <p:nvPr/>
        </p:nvPicPr>
        <p:blipFill>
          <a:blip r:embed="rId3"/>
          <a:stretch/>
        </p:blipFill>
        <p:spPr>
          <a:xfrm>
            <a:off x="8648640" y="2846520"/>
            <a:ext cx="1295640" cy="1122120"/>
          </a:xfrm>
          <a:prstGeom prst="rect">
            <a:avLst/>
          </a:prstGeom>
          <a:ln w="0">
            <a:noFill/>
          </a:ln>
          <a:effectLst>
            <a:outerShdw dist="56832" dir="19996359" blurRad="0" rotWithShape="0">
              <a:srgbClr val="fafd00"/>
            </a:outerShdw>
          </a:effectLst>
        </p:spPr>
      </p:pic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5320" y="5867280"/>
            <a:ext cx="43340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* DRUG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85680" y="1600200"/>
            <a:ext cx="10201320" cy="764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9"/>
                </a:solidFill>
                <a:uFillTx/>
                <a:latin typeface="Arial"/>
              </a:rPr>
              <a:t>M A J O R    I N T E R V E N T I O N 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Text Box 8"/>
          <p:cNvSpPr/>
          <p:nvPr/>
        </p:nvSpPr>
        <p:spPr>
          <a:xfrm>
            <a:off x="0" y="23623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*  PHYSICAL  ACTIVITY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1" name="Text Box 9"/>
          <p:cNvSpPr/>
          <p:nvPr/>
        </p:nvSpPr>
        <p:spPr>
          <a:xfrm>
            <a:off x="85680" y="3003480"/>
            <a:ext cx="83725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* AVOIDING / STOPPING   SMOKING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0" y="3809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*  WEIGHT   LOS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0" y="4511520"/>
            <a:ext cx="9944280" cy="153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* DIET (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OOD SUPPLEMENTS / VITAMINS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            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INERALS / ANTI  OXIDANTS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  etc.)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634" name="Object 12" descr=""/>
          <p:cNvPicPr/>
          <p:nvPr/>
        </p:nvPicPr>
        <p:blipFill>
          <a:blip r:embed="rId4"/>
          <a:stretch/>
        </p:blipFill>
        <p:spPr>
          <a:xfrm>
            <a:off x="3124080" y="6019920"/>
            <a:ext cx="114300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5" name="Object 13"/>
          <p:cNvGraphicFramePr/>
          <p:nvPr/>
        </p:nvGraphicFramePr>
        <p:xfrm>
          <a:off x="4876920" y="3657600"/>
          <a:ext cx="327636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3657600"/>
                    <a:ext cx="3276360" cy="1143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fffff9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7" name="Object 14"/>
          <p:cNvGraphicFramePr/>
          <p:nvPr/>
        </p:nvGraphicFramePr>
        <p:xfrm>
          <a:off x="5943600" y="3733920"/>
          <a:ext cx="1600200" cy="96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8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3733920"/>
                    <a:ext cx="1600200" cy="969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fffff9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9" name="Object 15"/>
          <p:cNvGraphicFramePr/>
          <p:nvPr/>
        </p:nvGraphicFramePr>
        <p:xfrm>
          <a:off x="6248520" y="3657600"/>
          <a:ext cx="685800" cy="96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0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3657600"/>
                    <a:ext cx="685800" cy="969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fffff9"/>
                    </a:outerShdw>
                  </a:effectLst>
                </p:spPr>
              </p:pic>
            </p:oleObj>
          </a:graphicData>
        </a:graphic>
      </p:graphicFrame>
      <p:sp>
        <p:nvSpPr>
          <p:cNvPr id="641" name="WordArt 16"/>
          <p:cNvSpPr txBox="1"/>
          <p:nvPr/>
        </p:nvSpPr>
        <p:spPr>
          <a:xfrm rot="1848000">
            <a:off x="-880920" y="2263680"/>
            <a:ext cx="9942480" cy="398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0100"/>
                    </a:gs>
                    <a:gs pos="50000">
                      <a:srgbClr val="fffff9"/>
                    </a:gs>
                    <a:gs pos="100000">
                      <a:srgbClr val="fc0100"/>
                    </a:gs>
                  </a:gsLst>
                  <a:lin ang="1692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GENE   THERAP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0100"/>
                  </a:gs>
                  <a:gs pos="50000">
                    <a:srgbClr val="fffff9"/>
                  </a:gs>
                  <a:gs pos="100000">
                    <a:srgbClr val="fc0100"/>
                  </a:gs>
                </a:gsLst>
                <a:lin ang="1692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ut thruBlk="true"/>
  </p:transition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0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500"/>
                            </p:stCondLst>
                            <p:childTnLst>
                              <p:par>
                                <p:cTn id="142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7" nodeType="afterEffect" fill="hold" presetClass="entr" presetID="17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500"/>
                            </p:stCondLst>
                            <p:childTnLst>
                              <p:par>
                                <p:cTn id="147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76320" y="2209680"/>
            <a:ext cx="518148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THEROSCLEROSIS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MI, STROKE, PVD, KIDNEYS…)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                           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0" y="264960"/>
            <a:ext cx="1028700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I N H I B I T I O N     OF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GE  RELATED DISEASES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0" y="1523880"/>
            <a:ext cx="10287000" cy="581400"/>
          </a:xfrm>
          <a:prstGeom prst="rect">
            <a:avLst/>
          </a:prstGeom>
          <a:solidFill>
            <a:srgbClr val="0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9"/>
                </a:solidFill>
                <a:latin typeface="Arial"/>
              </a:rPr>
              <a:t>PRIMARY  &amp;  SECONDARY  PREVENTION  OF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0" y="2705040"/>
            <a:ext cx="1028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646" name="Object 6" descr=""/>
          <p:cNvPicPr/>
          <p:nvPr/>
        </p:nvPicPr>
        <p:blipFill>
          <a:blip r:embed="rId1"/>
          <a:stretch/>
        </p:blipFill>
        <p:spPr>
          <a:xfrm>
            <a:off x="4114800" y="2209680"/>
            <a:ext cx="1371600" cy="64152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fafd00"/>
            </a:outerShdw>
          </a:effectLst>
        </p:spPr>
      </p:pic>
      <p:pic>
        <p:nvPicPr>
          <p:cNvPr id="647" name="Object 7" descr=""/>
          <p:cNvPicPr/>
          <p:nvPr/>
        </p:nvPicPr>
        <p:blipFill>
          <a:blip r:embed="rId2"/>
          <a:stretch/>
        </p:blipFill>
        <p:spPr>
          <a:xfrm>
            <a:off x="5600880" y="2103480"/>
            <a:ext cx="799920" cy="658800"/>
          </a:xfrm>
          <a:prstGeom prst="rect">
            <a:avLst/>
          </a:prstGeom>
          <a:ln w="0">
            <a:noFill/>
          </a:ln>
          <a:effectLst>
            <a:outerShdw dist="56832" dir="19996359" blurRad="0" rotWithShape="0">
              <a:srgbClr val="fafd00"/>
            </a:outerShdw>
          </a:effectLst>
        </p:spPr>
      </p:pic>
      <p:graphicFrame>
        <p:nvGraphicFramePr>
          <p:cNvPr id="648" name="Object 8"/>
          <p:cNvGraphicFramePr/>
          <p:nvPr/>
        </p:nvGraphicFramePr>
        <p:xfrm>
          <a:off x="6705720" y="2133720"/>
          <a:ext cx="1523880" cy="6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2133720"/>
                    <a:ext cx="1523880" cy="628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fffff9"/>
                    </a:outerShdw>
                  </a:effectLst>
                </p:spPr>
              </p:pic>
            </p:oleObj>
          </a:graphicData>
        </a:graphic>
      </p:graphicFrame>
      <p:pic>
        <p:nvPicPr>
          <p:cNvPr id="650" name="Object 9" descr=""/>
          <p:cNvPicPr/>
          <p:nvPr/>
        </p:nvPicPr>
        <p:blipFill>
          <a:blip r:embed="rId5"/>
          <a:stretch/>
        </p:blipFill>
        <p:spPr>
          <a:xfrm>
            <a:off x="8458200" y="2019240"/>
            <a:ext cx="990720" cy="723960"/>
          </a:xfrm>
          <a:prstGeom prst="rect">
            <a:avLst/>
          </a:prstGeom>
          <a:ln w="0">
            <a:noFill/>
          </a:ln>
          <a:effectLst>
            <a:outerShdw dist="52300" dir="4563564" blurRad="0" rotWithShape="0">
              <a:srgbClr val="fafd00"/>
            </a:outerShdw>
          </a:effectLst>
        </p:spPr>
      </p:pic>
      <p:pic>
        <p:nvPicPr>
          <p:cNvPr id="651" name="Object 10" descr=""/>
          <p:cNvPicPr/>
          <p:nvPr/>
        </p:nvPicPr>
        <p:blipFill>
          <a:blip r:embed="rId6"/>
          <a:stretch/>
        </p:blipFill>
        <p:spPr>
          <a:xfrm>
            <a:off x="152280" y="4146480"/>
            <a:ext cx="1143000" cy="118764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11"/>
          <p:cNvSpPr/>
          <p:nvPr/>
        </p:nvSpPr>
        <p:spPr>
          <a:xfrm>
            <a:off x="1371600" y="3510000"/>
            <a:ext cx="9220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ANTI  COAGULATION &amp; PLATELET AGGREGATION (</a:t>
            </a:r>
            <a:r>
              <a:rPr b="1" lang="en-US" sz="2000" spc="-1" strike="noStrike">
                <a:solidFill>
                  <a:srgbClr val="fffff9"/>
                </a:solidFill>
                <a:latin typeface="Arial"/>
              </a:rPr>
              <a:t>ASPIRIN</a:t>
            </a: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CHOLESTEROL LOWERING  DRUG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BLOOD PRESSURE LOWERING DRUG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BETA BLOCKER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ACE INHIBITOR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VITAMINS?, ANTI OXIDANTS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3" name="Text Box 12"/>
          <p:cNvSpPr/>
          <p:nvPr/>
        </p:nvSpPr>
        <p:spPr>
          <a:xfrm>
            <a:off x="152280" y="3048120"/>
            <a:ext cx="10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VELOPING  IMPROVED  MEANS  FOR  EARLY  DETEC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75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2925"/>
                            </p:stCondLst>
                            <p:childTnLst>
                              <p:par>
                                <p:cTn id="1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3425"/>
                            </p:stCondLst>
                            <p:childTnLst>
                              <p:par>
                                <p:cTn id="14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4925"/>
                            </p:stCondLst>
                            <p:childTnLst>
                              <p:par>
                                <p:cTn id="14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6425"/>
                            </p:stCondLst>
                            <p:childTnLst>
                              <p:par>
                                <p:cTn id="150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3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1800"/>
                            </p:stCondLst>
                            <p:childTnLst>
                              <p:par>
                                <p:cTn id="1513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152280" y="2286000"/>
            <a:ext cx="3581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 A N C E R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0" y="264960"/>
            <a:ext cx="1028700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I N H I B I T I O N     OF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GE  RELATED DISEASES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0" y="1523880"/>
            <a:ext cx="10287000" cy="581400"/>
          </a:xfrm>
          <a:prstGeom prst="rect">
            <a:avLst/>
          </a:prstGeom>
          <a:solidFill>
            <a:srgbClr val="0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9"/>
                </a:solidFill>
                <a:latin typeface="Arial"/>
              </a:rPr>
              <a:t>PRIMARY  &amp;  SECONDARY  PREVENTION  OF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657" name="Object 5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1371600" cy="64152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fafd00"/>
            </a:outerShdw>
          </a:effectLst>
        </p:spPr>
      </p:pic>
      <p:pic>
        <p:nvPicPr>
          <p:cNvPr id="658" name="Object 6" descr=""/>
          <p:cNvPicPr/>
          <p:nvPr/>
        </p:nvPicPr>
        <p:blipFill>
          <a:blip r:embed="rId2"/>
          <a:stretch/>
        </p:blipFill>
        <p:spPr>
          <a:xfrm>
            <a:off x="5334120" y="2160720"/>
            <a:ext cx="799920" cy="658800"/>
          </a:xfrm>
          <a:prstGeom prst="rect">
            <a:avLst/>
          </a:prstGeom>
          <a:ln w="0">
            <a:noFill/>
          </a:ln>
          <a:effectLst>
            <a:outerShdw dist="56832" dir="19996359" blurRad="0" rotWithShape="0">
              <a:srgbClr val="fafd00"/>
            </a:outerShdw>
          </a:effectLst>
        </p:spPr>
      </p:pic>
      <p:graphicFrame>
        <p:nvGraphicFramePr>
          <p:cNvPr id="659" name="Object 7"/>
          <p:cNvGraphicFramePr/>
          <p:nvPr/>
        </p:nvGraphicFramePr>
        <p:xfrm>
          <a:off x="6553080" y="2133720"/>
          <a:ext cx="1524240" cy="6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2133720"/>
                    <a:ext cx="1524240" cy="628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fffff9"/>
                    </a:outerShdw>
                  </a:effectLst>
                </p:spPr>
              </p:pic>
            </p:oleObj>
          </a:graphicData>
        </a:graphic>
      </p:graphicFrame>
      <p:pic>
        <p:nvPicPr>
          <p:cNvPr id="661" name="Object 8" descr=""/>
          <p:cNvPicPr/>
          <p:nvPr/>
        </p:nvPicPr>
        <p:blipFill>
          <a:blip r:embed="rId5"/>
          <a:stretch/>
        </p:blipFill>
        <p:spPr>
          <a:xfrm>
            <a:off x="8458200" y="2019240"/>
            <a:ext cx="990720" cy="723960"/>
          </a:xfrm>
          <a:prstGeom prst="rect">
            <a:avLst/>
          </a:prstGeom>
          <a:ln w="0">
            <a:noFill/>
          </a:ln>
          <a:effectLst>
            <a:outerShdw dist="52300" dir="4563564" blurRad="0" rotWithShape="0">
              <a:srgbClr val="fafd00"/>
            </a:outerShdw>
          </a:effectLst>
        </p:spPr>
      </p:pic>
      <p:pic>
        <p:nvPicPr>
          <p:cNvPr id="662" name="Object 9" descr=""/>
          <p:cNvPicPr/>
          <p:nvPr/>
        </p:nvPicPr>
        <p:blipFill>
          <a:blip r:embed="rId6"/>
          <a:stretch/>
        </p:blipFill>
        <p:spPr>
          <a:xfrm>
            <a:off x="76320" y="3917880"/>
            <a:ext cx="1143000" cy="118764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10"/>
          <p:cNvSpPr/>
          <p:nvPr/>
        </p:nvSpPr>
        <p:spPr>
          <a:xfrm>
            <a:off x="1219320" y="3429000"/>
            <a:ext cx="90676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GENETIC  MANIPULATIONS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MONOCLONAL  ANTIBODI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ANTI  COAGULATION &amp; PLATELET AGGREGATION (SECONDARY, PRIMARY?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VITAMINS?, ANTI OXIDANTS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DRUGS FOR  SPECIFIC CANCERS (PREVENTION &amp; CURE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4" name="Text Box 11"/>
          <p:cNvSpPr/>
          <p:nvPr/>
        </p:nvSpPr>
        <p:spPr>
          <a:xfrm>
            <a:off x="152280" y="2851200"/>
            <a:ext cx="10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VELOPING  IMPROVED  MEANS  FOR  EARLY  DETEC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553" dur="indefinite" restart="never" nodeType="tmRoot">
          <p:childTnLst>
            <p:seq>
              <p:cTn id="1554" dur="indefinite" nodeType="mainSeq">
                <p:childTnLst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75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450"/>
                            </p:stCondLst>
                            <p:childTnLst>
                              <p:par>
                                <p:cTn id="1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950"/>
                            </p:stCondLst>
                            <p:childTnLst>
                              <p:par>
                                <p:cTn id="1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1450"/>
                            </p:stCondLst>
                            <p:childTnLst>
                              <p:par>
                                <p:cTn id="156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950"/>
                            </p:stCondLst>
                            <p:childTnLst>
                              <p:par>
                                <p:cTn id="15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3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3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1800"/>
                            </p:stCondLst>
                            <p:childTnLst>
                              <p:par>
                                <p:cTn id="1586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152280" y="2286000"/>
            <a:ext cx="35816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STEOPOROSIS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0" y="264960"/>
            <a:ext cx="1028700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I N H I B I T I O N     OF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GE  RELATED DISEASES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0" y="1523880"/>
            <a:ext cx="10287000" cy="581400"/>
          </a:xfrm>
          <a:prstGeom prst="rect">
            <a:avLst/>
          </a:prstGeom>
          <a:solidFill>
            <a:srgbClr val="0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9"/>
                </a:solidFill>
                <a:latin typeface="Arial"/>
              </a:rPr>
              <a:t>PRIMARY  &amp;  SECONDARY  PREVENTION  OF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668" name="Object 5" descr=""/>
          <p:cNvPicPr/>
          <p:nvPr/>
        </p:nvPicPr>
        <p:blipFill>
          <a:blip r:embed="rId1"/>
          <a:stretch/>
        </p:blipFill>
        <p:spPr>
          <a:xfrm>
            <a:off x="3581280" y="2209680"/>
            <a:ext cx="1371600" cy="64152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fafd00"/>
            </a:outerShdw>
          </a:effectLst>
        </p:spPr>
      </p:pic>
      <p:pic>
        <p:nvPicPr>
          <p:cNvPr id="669" name="Object 6" descr=""/>
          <p:cNvPicPr/>
          <p:nvPr/>
        </p:nvPicPr>
        <p:blipFill>
          <a:blip r:embed="rId2"/>
          <a:stretch/>
        </p:blipFill>
        <p:spPr>
          <a:xfrm>
            <a:off x="5334120" y="2160720"/>
            <a:ext cx="799920" cy="658800"/>
          </a:xfrm>
          <a:prstGeom prst="rect">
            <a:avLst/>
          </a:prstGeom>
          <a:ln w="0">
            <a:noFill/>
          </a:ln>
          <a:effectLst>
            <a:outerShdw dist="56832" dir="19996359" blurRad="0" rotWithShape="0">
              <a:srgbClr val="fafd00"/>
            </a:outerShdw>
          </a:effectLst>
        </p:spPr>
      </p:pic>
      <p:graphicFrame>
        <p:nvGraphicFramePr>
          <p:cNvPr id="670" name="Object 7"/>
          <p:cNvGraphicFramePr/>
          <p:nvPr/>
        </p:nvGraphicFramePr>
        <p:xfrm>
          <a:off x="6553080" y="2133720"/>
          <a:ext cx="1524240" cy="6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2133720"/>
                    <a:ext cx="1524240" cy="628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fffff9"/>
                    </a:outerShdw>
                  </a:effectLst>
                </p:spPr>
              </p:pic>
            </p:oleObj>
          </a:graphicData>
        </a:graphic>
      </p:graphicFrame>
      <p:pic>
        <p:nvPicPr>
          <p:cNvPr id="672" name="Object 8" descr=""/>
          <p:cNvPicPr/>
          <p:nvPr/>
        </p:nvPicPr>
        <p:blipFill>
          <a:blip r:embed="rId5"/>
          <a:stretch/>
        </p:blipFill>
        <p:spPr>
          <a:xfrm>
            <a:off x="8458200" y="2019240"/>
            <a:ext cx="990720" cy="723960"/>
          </a:xfrm>
          <a:prstGeom prst="rect">
            <a:avLst/>
          </a:prstGeom>
          <a:ln w="0">
            <a:noFill/>
          </a:ln>
          <a:effectLst>
            <a:outerShdw dist="52300" dir="4563564" blurRad="0" rotWithShape="0">
              <a:srgbClr val="fafd00"/>
            </a:outerShdw>
          </a:effectLst>
        </p:spPr>
      </p:pic>
      <p:pic>
        <p:nvPicPr>
          <p:cNvPr id="673" name="Object 9" descr=""/>
          <p:cNvPicPr/>
          <p:nvPr/>
        </p:nvPicPr>
        <p:blipFill>
          <a:blip r:embed="rId6"/>
          <a:stretch/>
        </p:blipFill>
        <p:spPr>
          <a:xfrm>
            <a:off x="76320" y="3917880"/>
            <a:ext cx="1143000" cy="118764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10"/>
          <p:cNvSpPr/>
          <p:nvPr/>
        </p:nvSpPr>
        <p:spPr>
          <a:xfrm>
            <a:off x="1295280" y="3429000"/>
            <a:ext cx="8991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CALCIUM, OTHER MINERALS  &amp;  TRACE  ELEMENTS?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VITAMIN 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ESTROGEN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RALOXIFE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BISPHOSPHONAT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CALCITONIN, PTH EXTRACTS? (SECONDARY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Text Box 11"/>
          <p:cNvSpPr/>
          <p:nvPr/>
        </p:nvSpPr>
        <p:spPr>
          <a:xfrm>
            <a:off x="152280" y="2851200"/>
            <a:ext cx="10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VELOPING  IMPROVED  MEANS  FOR  EARLY  DETEC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Text Box 12"/>
          <p:cNvSpPr/>
          <p:nvPr/>
        </p:nvSpPr>
        <p:spPr>
          <a:xfrm>
            <a:off x="5257800" y="20574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2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75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75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900"/>
                            </p:stCondLst>
                            <p:childTnLst>
                              <p:par>
                                <p:cTn id="1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1400"/>
                            </p:stCondLst>
                            <p:childTnLst>
                              <p:par>
                                <p:cTn id="16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1900"/>
                            </p:stCondLst>
                            <p:childTnLst>
                              <p:par>
                                <p:cTn id="163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400"/>
                            </p:stCondLst>
                            <p:childTnLst>
                              <p:par>
                                <p:cTn id="16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5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a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10029960" cy="8380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9" name="Object 6" descr=""/>
          <p:cNvPicPr/>
          <p:nvPr/>
        </p:nvPicPr>
        <p:blipFill>
          <a:blip r:embed="rId1"/>
          <a:stretch/>
        </p:blipFill>
        <p:spPr>
          <a:xfrm>
            <a:off x="990720" y="5729400"/>
            <a:ext cx="533160" cy="67140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</p:pic>
      <p:pic>
        <p:nvPicPr>
          <p:cNvPr id="120" name="Object 7" descr=""/>
          <p:cNvPicPr/>
          <p:nvPr/>
        </p:nvPicPr>
        <p:blipFill>
          <a:blip r:embed="rId2"/>
          <a:stretch/>
        </p:blipFill>
        <p:spPr>
          <a:xfrm>
            <a:off x="1523880" y="5562720"/>
            <a:ext cx="914400" cy="823680"/>
          </a:xfrm>
          <a:prstGeom prst="rect">
            <a:avLst/>
          </a:prstGeom>
          <a:ln w="0">
            <a:noFill/>
          </a:ln>
          <a:effectLst>
            <a:outerShdw dist="40186" dir="17296359" blurRad="0" rotWithShape="0">
              <a:srgbClr val="fafd00"/>
            </a:outerShdw>
          </a:effectLst>
        </p:spPr>
      </p:pic>
      <p:pic>
        <p:nvPicPr>
          <p:cNvPr id="121" name="Object 11" descr=""/>
          <p:cNvPicPr/>
          <p:nvPr/>
        </p:nvPicPr>
        <p:blipFill>
          <a:blip r:embed="rId3"/>
          <a:stretch/>
        </p:blipFill>
        <p:spPr>
          <a:xfrm>
            <a:off x="76320" y="5715000"/>
            <a:ext cx="914400" cy="1066680"/>
          </a:xfrm>
          <a:prstGeom prst="rect">
            <a:avLst/>
          </a:prstGeom>
          <a:ln w="0">
            <a:noFill/>
          </a:ln>
          <a:effectLst>
            <a:outerShdw dist="45929" dir="19571123" blurRad="0" rotWithShape="0">
              <a:srgbClr val="676767"/>
            </a:outerShdw>
          </a:effectLst>
        </p:spPr>
      </p:pic>
      <p:pic>
        <p:nvPicPr>
          <p:cNvPr id="122" name="Object 12" descr=""/>
          <p:cNvPicPr/>
          <p:nvPr/>
        </p:nvPicPr>
        <p:blipFill>
          <a:blip r:embed="rId4"/>
          <a:stretch/>
        </p:blipFill>
        <p:spPr>
          <a:xfrm>
            <a:off x="7543800" y="4038480"/>
            <a:ext cx="2743200" cy="1967040"/>
          </a:xfrm>
          <a:prstGeom prst="rect">
            <a:avLst/>
          </a:prstGeom>
          <a:ln w="0">
            <a:noFill/>
          </a:ln>
          <a:effectLst>
            <a:outerShdw dist="127008" dir="8583908" blurRad="0" rotWithShape="0">
              <a:srgbClr val="ffffff"/>
            </a:outerShdw>
          </a:effectLst>
        </p:spPr>
      </p:pic>
      <p:sp>
        <p:nvSpPr>
          <p:cNvPr id="123" name="Text Box 13"/>
          <p:cNvSpPr/>
          <p:nvPr/>
        </p:nvSpPr>
        <p:spPr>
          <a:xfrm>
            <a:off x="3206880" y="5334120"/>
            <a:ext cx="984240" cy="459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8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920880" y="632448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.C</a:t>
            </a: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25" name="Object 17" descr=""/>
          <p:cNvPicPr/>
          <p:nvPr/>
        </p:nvPicPr>
        <p:blipFill>
          <a:blip r:embed="rId5"/>
          <a:stretch/>
        </p:blipFill>
        <p:spPr>
          <a:xfrm>
            <a:off x="7543800" y="1905120"/>
            <a:ext cx="2743200" cy="2590560"/>
          </a:xfrm>
          <a:prstGeom prst="rect">
            <a:avLst/>
          </a:prstGeom>
          <a:ln w="0">
            <a:noFill/>
          </a:ln>
          <a:effectLst>
            <a:outerShdw dist="200703" dir="11904147" blurRad="0" rotWithShape="0">
              <a:srgbClr val="fafd00"/>
            </a:outerShdw>
          </a:effectLst>
        </p:spPr>
      </p:pic>
      <p:sp>
        <p:nvSpPr>
          <p:cNvPr id="126" name="Text Box 18"/>
          <p:cNvSpPr/>
          <p:nvPr/>
        </p:nvSpPr>
        <p:spPr>
          <a:xfrm>
            <a:off x="7772400" y="3625920"/>
            <a:ext cx="210492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20"/>
                </a:solidFill>
                <a:latin typeface="Arial"/>
              </a:rPr>
              <a:t>21st.  CENTURY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 rot="19200">
            <a:off x="235800" y="1781280"/>
            <a:ext cx="8831160" cy="31932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N   THE   21st.   CENTURY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,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THE   MAJOR   FACTOR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AFFECTING   HEALTH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OF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THE  GENERAL  POPULATION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                                                 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1905120" y="6156360"/>
            <a:ext cx="4572000" cy="703440"/>
          </a:xfrm>
          <a:prstGeom prst="rect">
            <a:avLst/>
          </a:prstGeom>
          <a:noFill/>
          <a:ln w="0">
            <a:noFill/>
          </a:ln>
          <a:effectLst>
            <a:outerShdw dist="40186" dir="15103642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BIOLOGICAL  -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6629400" y="6095880"/>
            <a:ext cx="3657600" cy="764280"/>
          </a:xfrm>
          <a:prstGeom prst="rect">
            <a:avLst/>
          </a:prstGeom>
          <a:noFill/>
          <a:ln w="0">
            <a:noFill/>
          </a:ln>
          <a:effectLst>
            <a:outerShdw dist="40186" dir="15103642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G I N G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!!!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30" name="Object 27" descr=""/>
          <p:cNvPicPr/>
          <p:nvPr/>
        </p:nvPicPr>
        <p:blipFill>
          <a:blip r:embed="rId6"/>
          <a:stretch/>
        </p:blipFill>
        <p:spPr>
          <a:xfrm>
            <a:off x="2209680" y="5334120"/>
            <a:ext cx="984240" cy="838080"/>
          </a:xfrm>
          <a:prstGeom prst="rect">
            <a:avLst/>
          </a:prstGeom>
          <a:ln w="0">
            <a:noFill/>
          </a:ln>
          <a:effectLst>
            <a:outerShdw dist="52300" dir="15363565" blurRad="0" rotWithShape="0">
              <a:srgbClr val="ffffff"/>
            </a:outerShdw>
          </a:effectLst>
        </p:spPr>
      </p:pic>
      <p:pic>
        <p:nvPicPr>
          <p:cNvPr id="131" name="Object 28" descr=""/>
          <p:cNvPicPr/>
          <p:nvPr/>
        </p:nvPicPr>
        <p:blipFill>
          <a:blip r:embed="rId7"/>
          <a:stretch/>
        </p:blipFill>
        <p:spPr>
          <a:xfrm>
            <a:off x="2895480" y="5105520"/>
            <a:ext cx="1212840" cy="914400"/>
          </a:xfrm>
          <a:prstGeom prst="rect">
            <a:avLst/>
          </a:prstGeom>
          <a:ln w="0">
            <a:noFill/>
          </a:ln>
          <a:effectLst>
            <a:outerShdw dist="52300" dir="9963564" blurRad="0" rotWithShape="0">
              <a:srgbClr val="000020"/>
            </a:outerShdw>
          </a:effectLst>
        </p:spPr>
      </p:pic>
      <p:pic>
        <p:nvPicPr>
          <p:cNvPr id="132" name="Object 29" descr=""/>
          <p:cNvPicPr/>
          <p:nvPr/>
        </p:nvPicPr>
        <p:blipFill>
          <a:blip r:embed="rId8"/>
          <a:stretch/>
        </p:blipFill>
        <p:spPr>
          <a:xfrm>
            <a:off x="3657600" y="4876920"/>
            <a:ext cx="1219320" cy="114300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20"/>
            </a:outerShdw>
          </a:effectLst>
        </p:spPr>
      </p:pic>
      <p:sp>
        <p:nvSpPr>
          <p:cNvPr id="133" name="Text Box 30"/>
          <p:cNvSpPr/>
          <p:nvPr/>
        </p:nvSpPr>
        <p:spPr>
          <a:xfrm>
            <a:off x="3809880" y="5257800"/>
            <a:ext cx="98424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090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9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34" name="Object 31" descr=""/>
          <p:cNvPicPr/>
          <p:nvPr/>
        </p:nvPicPr>
        <p:blipFill>
          <a:blip r:embed="rId9"/>
          <a:stretch/>
        </p:blipFill>
        <p:spPr>
          <a:xfrm>
            <a:off x="4572000" y="4648320"/>
            <a:ext cx="1454040" cy="135576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20"/>
            </a:outerShdw>
          </a:effectLst>
        </p:spPr>
      </p:pic>
      <p:sp>
        <p:nvSpPr>
          <p:cNvPr id="135" name="Text Box 32"/>
          <p:cNvSpPr/>
          <p:nvPr/>
        </p:nvSpPr>
        <p:spPr>
          <a:xfrm>
            <a:off x="4876920" y="5105520"/>
            <a:ext cx="1441440" cy="520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152280" y="2286000"/>
            <a:ext cx="58676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EMENTIA, ALZHEIMER’S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0" y="264960"/>
            <a:ext cx="1028700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I N H I B I T I O N     OF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GE  RELATED DISEASES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0" y="1523880"/>
            <a:ext cx="10287000" cy="581400"/>
          </a:xfrm>
          <a:prstGeom prst="rect">
            <a:avLst/>
          </a:prstGeom>
          <a:solidFill>
            <a:srgbClr val="0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9"/>
                </a:solidFill>
                <a:latin typeface="Arial"/>
              </a:rPr>
              <a:t>PRIMARY  &amp;  SECONDARY  PREVENTION  OF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680" name="Object 5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1371600" cy="64152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fafd00"/>
            </a:outerShdw>
          </a:effectLst>
        </p:spPr>
      </p:pic>
      <p:pic>
        <p:nvPicPr>
          <p:cNvPr id="681" name="Object 6" descr=""/>
          <p:cNvPicPr/>
          <p:nvPr/>
        </p:nvPicPr>
        <p:blipFill>
          <a:blip r:embed="rId2"/>
          <a:stretch/>
        </p:blipFill>
        <p:spPr>
          <a:xfrm>
            <a:off x="7048440" y="2160720"/>
            <a:ext cx="800280" cy="658800"/>
          </a:xfrm>
          <a:prstGeom prst="rect">
            <a:avLst/>
          </a:prstGeom>
          <a:ln w="0">
            <a:noFill/>
          </a:ln>
          <a:effectLst>
            <a:outerShdw dist="56832" dir="19996359" blurRad="0" rotWithShape="0">
              <a:srgbClr val="fafd00"/>
            </a:outerShdw>
          </a:effectLst>
        </p:spPr>
      </p:pic>
      <p:pic>
        <p:nvPicPr>
          <p:cNvPr id="682" name="Object 7" descr=""/>
          <p:cNvPicPr/>
          <p:nvPr/>
        </p:nvPicPr>
        <p:blipFill>
          <a:blip r:embed="rId3"/>
          <a:stretch/>
        </p:blipFill>
        <p:spPr>
          <a:xfrm>
            <a:off x="8458200" y="2019240"/>
            <a:ext cx="990720" cy="723960"/>
          </a:xfrm>
          <a:prstGeom prst="rect">
            <a:avLst/>
          </a:prstGeom>
          <a:ln w="0">
            <a:noFill/>
          </a:ln>
          <a:effectLst>
            <a:outerShdw dist="52300" dir="4563564" blurRad="0" rotWithShape="0">
              <a:srgbClr val="fafd00"/>
            </a:outerShdw>
          </a:effectLst>
        </p:spPr>
      </p:pic>
      <p:pic>
        <p:nvPicPr>
          <p:cNvPr id="683" name="Object 8" descr=""/>
          <p:cNvPicPr/>
          <p:nvPr/>
        </p:nvPicPr>
        <p:blipFill>
          <a:blip r:embed="rId4"/>
          <a:stretch/>
        </p:blipFill>
        <p:spPr>
          <a:xfrm>
            <a:off x="76320" y="4952880"/>
            <a:ext cx="990360" cy="118764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9"/>
          <p:cNvSpPr/>
          <p:nvPr/>
        </p:nvSpPr>
        <p:spPr>
          <a:xfrm>
            <a:off x="1066680" y="3429000"/>
            <a:ext cx="899172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EDUCATION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MENTAL  &amp;  SOCIAL  ACTIVITI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VASCULAR PROTECTION (   </a:t>
            </a:r>
            <a:r>
              <a:rPr b="1" lang="en-US" sz="1800" spc="-1" strike="noStrike">
                <a:solidFill>
                  <a:srgbClr val="fffff9"/>
                </a:solidFill>
                <a:latin typeface="Arial"/>
              </a:rPr>
              <a:t>B.P., CHOLESTEROL  LOWERING,</a:t>
            </a:r>
            <a:r>
              <a:rPr b="1" lang="en-US" sz="2000" spc="-1" strike="noStrike">
                <a:solidFill>
                  <a:srgbClr val="fffff9"/>
                </a:solidFill>
                <a:latin typeface="Arial"/>
              </a:rPr>
              <a:t>  etc.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DONEPEZIL, RIBOSTIGMIN…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ESTROGENS 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ANTI  INFLAMATORY  DRUGS  (NSAID) 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152280" y="2851200"/>
            <a:ext cx="10134720" cy="45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9090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VELOPING  IMPROVED  MEANS  FOR  EARLY  DETEC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6" name="Line 11"/>
          <p:cNvSpPr/>
          <p:nvPr/>
        </p:nvSpPr>
        <p:spPr>
          <a:xfrm>
            <a:off x="5257800" y="4572000"/>
            <a:ext cx="0" cy="380880"/>
          </a:xfrm>
          <a:prstGeom prst="line">
            <a:avLst/>
          </a:prstGeom>
          <a:ln w="60480">
            <a:solidFill>
              <a:srgbClr val="fafd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0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75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75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52280" y="2286000"/>
            <a:ext cx="35053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EPRESSION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0" y="264960"/>
            <a:ext cx="1028700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I N H I B I T I O N     OF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GE  RELATED DISEASES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0" y="1523880"/>
            <a:ext cx="10287000" cy="581400"/>
          </a:xfrm>
          <a:prstGeom prst="rect">
            <a:avLst/>
          </a:prstGeom>
          <a:solidFill>
            <a:srgbClr val="0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9"/>
                </a:solidFill>
                <a:latin typeface="Arial"/>
              </a:rPr>
              <a:t>PRIMARY  &amp;  SECONDARY  PREVENTION  OF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690" name="Object 5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1371600" cy="64152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fafd00"/>
            </a:outerShdw>
          </a:effectLst>
        </p:spPr>
      </p:pic>
      <p:pic>
        <p:nvPicPr>
          <p:cNvPr id="691" name="Object 6" descr=""/>
          <p:cNvPicPr/>
          <p:nvPr/>
        </p:nvPicPr>
        <p:blipFill>
          <a:blip r:embed="rId2"/>
          <a:stretch/>
        </p:blipFill>
        <p:spPr>
          <a:xfrm>
            <a:off x="76320" y="5060880"/>
            <a:ext cx="990360" cy="118764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7"/>
          <p:cNvSpPr/>
          <p:nvPr/>
        </p:nvSpPr>
        <p:spPr>
          <a:xfrm>
            <a:off x="1066680" y="3857760"/>
            <a:ext cx="899172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PSYCHOLOGICAL  MEAN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AVOIDING  SOCIAL  ISOL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TREATING  UNDERLYING  MEDICAL CAUS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9"/>
                </a:solidFill>
                <a:latin typeface="Arial"/>
              </a:rPr>
              <a:t>D R U G S  ? ?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152280" y="2851200"/>
            <a:ext cx="10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VELOPING  IMPROVED  MEANS  FOR  EARLY  DETEC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0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75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75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75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10201320" cy="10670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Times New Roman"/>
              </a:rPr>
              <a:t>DEFINITION  OF AGING</a:t>
            </a:r>
            <a:endParaRPr b="0" lang="en-US" sz="6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840120" y="3641760"/>
            <a:ext cx="174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440" y="1754280"/>
            <a:ext cx="10284120" cy="20386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NY    TIME - DEPENDENT    CHANGES  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HICH    OCCUR    AFTER    MATURITY   OF  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SIZE,  FORM   AND  FUNCTION  IS  REACHED.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                                         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(Rockstein , 1977)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7920" y="1835280"/>
            <a:ext cx="414360" cy="368280"/>
          </a:xfrm>
          <a:custGeom>
            <a:avLst/>
            <a:gdLst>
              <a:gd name="textAreaLeft" fmla="*/ 94320 w 414360"/>
              <a:gd name="textAreaRight" fmla="*/ 320040 w 414360"/>
              <a:gd name="textAreaTop" fmla="*/ 83880 h 368280"/>
              <a:gd name="textAreaBottom" fmla="*/ 284400 h 36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20" y="3898800"/>
            <a:ext cx="414360" cy="368280"/>
          </a:xfrm>
          <a:custGeom>
            <a:avLst/>
            <a:gdLst>
              <a:gd name="textAreaLeft" fmla="*/ 94320 w 414360"/>
              <a:gd name="textAreaRight" fmla="*/ 320040 w 414360"/>
              <a:gd name="textAreaTop" fmla="*/ 83880 h 368280"/>
              <a:gd name="textAreaBottom" fmla="*/ 284400 h 36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04720" y="3765600"/>
            <a:ext cx="97822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HE     PROGRESSIVE    PHYSIOLOGIC, CELLULAR,  BIOSOCIAL,   CULTURAL    AND PSYCHOLOGICAL   CHANGES    THAT  TAKE   PLACE   AT  LEAST   FROM  THE  MOMENT   OF  CONCEPTION    UNTIL  DEATH.                                                                                         (Young, 1983)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01320" cy="1523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afd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Times New Roman"/>
              </a:rPr>
              <a:t>      </a:t>
            </a:r>
            <a:r>
              <a:rPr b="1" lang="en-US" sz="6000" spc="-1" strike="noStrike">
                <a:solidFill>
                  <a:srgbClr val="fc0128"/>
                </a:solidFill>
                <a:latin typeface="Arial"/>
              </a:rPr>
              <a:t>THEORIES   OF   AGING</a:t>
            </a:r>
            <a:endParaRPr b="0" lang="en-US" sz="6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93680" y="1692360"/>
            <a:ext cx="10283760" cy="228348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T   THE   PRESENT   TIME,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 IT  IS  IMPOSSIBLE   TO  TELL  WHETHER  ALL  THE  PIECES  OF THE  AGING  PUZZLLE  ARE   AT   HAND...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                                 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90440" y="3505320"/>
            <a:ext cx="10287000" cy="105372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UNTIL   A   GENERAL THEORY APPEARE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THAT  WILL  UNIFY  THE  FACTS….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5295960" y="6095880"/>
            <a:ext cx="4991040" cy="116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(G.B. Moment 1982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90440" y="4400640"/>
            <a:ext cx="10287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NO   ONE   CAN   OFFER  MORE   THAN   AN 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INFORMED   GUESS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AS  TO  WHERE   THE  KEY  FACTS  LIE.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3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6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2T02:47:18Z</dcterms:created>
  <dc:creator>DORON</dc:creator>
  <dc:description/>
  <cp:keywords/>
  <dc:language>en-US</dc:language>
  <cp:lastModifiedBy>user</cp:lastModifiedBy>
  <dcterms:modified xsi:type="dcterms:W3CDTF">2010-08-21T16:54:38Z</dcterms:modified>
  <cp:revision>301</cp:revision>
  <dc:subject/>
  <dc:title>ZINC 96</dc:title>
</cp:coreProperties>
</file>