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2.wmf" ContentType="image/x-wmf"/>
  <Override PartName="/ppt/media/image9.wmf" ContentType="image/x-wmf"/>
  <Override PartName="/ppt/media/image39.wmf" ContentType="image/x-wmf"/>
  <Override PartName="/ppt/media/image32.wmf" ContentType="image/x-wmf"/>
  <Override PartName="/ppt/media/image33.wmf" ContentType="image/x-wmf"/>
  <Override PartName="/ppt/media/image8.wmf" ContentType="image/x-wmf"/>
  <Override PartName="/ppt/media/image13.wmf" ContentType="image/x-wmf"/>
  <Override PartName="/ppt/media/image41.wmf" ContentType="image/x-wmf"/>
  <Override PartName="/ppt/media/image38.png" ContentType="image/png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36.wmf" ContentType="image/x-wm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1.docx" ContentType="application/vnd.openxmlformats-officedocument.wordprocessingml.documen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10288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9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9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-36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388584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48825D-174E-4140-9003-0D76DFC76FC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857160" y="851040"/>
            <a:ext cx="514368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938260C-334D-415E-8F9B-7F8628E2A532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80D06C4-7E4B-4872-A253-55FE957AC4F9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AC6E1B7-9542-41BF-B181-E20EF401ADB3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59B00E0-CF90-437A-886D-5BA4842A01C9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858960" y="85248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E105E94-7CB6-4DAC-ACC0-96CDEC4B8D61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858960" y="85248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80A591-A098-471E-BC79-61DE6B088629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6FA2A37-057F-472F-9BD4-E0D7067278F8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6A8356F-FA66-49DC-B12B-FB24125AABAA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D0B117C-254E-43E9-9FA0-BFC2E13A9F0C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858960" y="85248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44600C6-7145-49FC-A70A-6D87DA10C422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E55F58C-C7C8-46F9-8873-83B524DAA47B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CA5670-492D-4390-9A5D-46712E00B66B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17E849-EC9F-4589-9223-F69597E56CEA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9E6D46-DB8C-4AB8-BDD3-BF8A96C49D57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A13757-3E83-41B4-96D7-49733E3D73EE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79E9AE-653C-4B80-8E56-8C5CD22E7608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0DD2DEC-6030-445A-A359-CE62E3D044C1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5A8513-2A27-4545-8C85-AAD427F957D0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276F44-774C-4B26-A9C0-F6841BC2AA38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A3A835-298C-482C-A1B3-6BEE66F0A654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CA8F57-0AB3-4AAD-BB5F-CB54ADB81C67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C539F8F-0607-46A4-A861-162CEF9AE68F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322FC9C-14B3-484E-9CBB-F8BD401957CB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00144C5-FB10-4073-AFEC-8D6F4B6D892E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5379-57C9-4DB9-8C8D-EC865D9F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094F-2894-43F1-8534-BDC1DFE7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DB4D-A37A-48BB-B6B5-C9A593E4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5FCF-168A-4000-A2EF-332F2D7C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4F01-32BB-4885-AAC6-83FB6883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93DF-47E4-4615-966D-CFBD01B5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AA39-8DFB-48D2-8AB4-0EF91E5F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1E9B-5DC2-4958-A18A-E0169231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85560" y="3427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6B2-0117-45A6-B512-880E9C24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8BA-24C2-471C-A4A0-B9F58E5C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1F5-F9F4-468B-AD8B-6623F793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971-9326-42F7-84CC-19DF76BB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395F-0685-4583-B750-9FD3E941F132}" type="slidenum"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523880"/>
            <a:ext cx="102726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733400"/>
            <a:ext cx="102726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2"/>
          <a:srcRect l="21988" t="0" r="0" b="0"/>
          <a:stretch/>
        </p:blipFill>
        <p:spPr>
          <a:xfrm>
            <a:off x="590400" y="52560"/>
            <a:ext cx="141948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5.wmf"/><Relationship Id="rId14" Type="http://schemas.openxmlformats.org/officeDocument/2006/relationships/image" Target="../media/image43.wmf"/><Relationship Id="rId1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image" Target="../media/image21.wmf"/><Relationship Id="rId9" Type="http://schemas.openxmlformats.org/officeDocument/2006/relationships/image" Target="../media/image21.wmf"/><Relationship Id="rId10" Type="http://schemas.openxmlformats.org/officeDocument/2006/relationships/image" Target="../media/image21.wmf"/><Relationship Id="rId11" Type="http://schemas.openxmlformats.org/officeDocument/2006/relationships/image" Target="../media/image21.wmf"/><Relationship Id="rId12" Type="http://schemas.openxmlformats.org/officeDocument/2006/relationships/image" Target="../media/image21.wmf"/><Relationship Id="rId13" Type="http://schemas.openxmlformats.org/officeDocument/2006/relationships/image" Target="../media/image21.wmf"/><Relationship Id="rId14" Type="http://schemas.openxmlformats.org/officeDocument/2006/relationships/image" Target="../media/image22.wmf"/><Relationship Id="rId15" Type="http://schemas.openxmlformats.org/officeDocument/2006/relationships/image" Target="../media/image22.wmf"/><Relationship Id="rId16" Type="http://schemas.openxmlformats.org/officeDocument/2006/relationships/image" Target="../media/image22.wmf"/><Relationship Id="rId17" Type="http://schemas.openxmlformats.org/officeDocument/2006/relationships/image" Target="../media/image23.wmf"/><Relationship Id="rId18" Type="http://schemas.openxmlformats.org/officeDocument/2006/relationships/image" Target="../media/image23.wmf"/><Relationship Id="rId19" Type="http://schemas.openxmlformats.org/officeDocument/2006/relationships/image" Target="../media/image23.wmf"/><Relationship Id="rId20" Type="http://schemas.openxmlformats.org/officeDocument/2006/relationships/image" Target="../media/image24.wmf"/><Relationship Id="rId21" Type="http://schemas.openxmlformats.org/officeDocument/2006/relationships/image" Target="../media/image25.wmf"/><Relationship Id="rId22" Type="http://schemas.openxmlformats.org/officeDocument/2006/relationships/image" Target="../media/image26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50" descr="C:\WINDOWS\שולחן עבודה\shelet.tif"/>
          <p:cNvPicPr/>
          <p:nvPr/>
        </p:nvPicPr>
        <p:blipFill>
          <a:blip r:embed="rId1"/>
          <a:stretch/>
        </p:blipFill>
        <p:spPr>
          <a:xfrm>
            <a:off x="3886200" y="76320"/>
            <a:ext cx="2819520" cy="1407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051"/>
          <p:cNvSpPr/>
          <p:nvPr/>
        </p:nvSpPr>
        <p:spPr>
          <a:xfrm>
            <a:off x="0" y="1905120"/>
            <a:ext cx="10515600" cy="2116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David"/>
                <a:cs typeface="David"/>
              </a:rPr>
              <a:t>הכנס  הרביעי  של  </a:t>
            </a:r>
            <a:r>
              <a:rPr b="1" lang="he-IL" sz="4400" spc="-1" strike="noStrike">
                <a:solidFill>
                  <a:srgbClr val="ffffff"/>
                </a:solidFill>
                <a:latin typeface="David"/>
                <a:cs typeface="David"/>
              </a:rPr>
              <a:t>העמותה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David"/>
                <a:ea typeface="David"/>
              </a:rPr>
              <a:t> לעיכוב  </a:t>
            </a:r>
            <a:r>
              <a:rPr b="1" lang="he-IL" sz="4000" spc="-1" strike="noStrike">
                <a:solidFill>
                  <a:srgbClr val="ffffff"/>
                </a:solidFill>
                <a:latin typeface="David"/>
                <a:cs typeface="David"/>
              </a:rPr>
              <a:t>תהליכים  התלויים</a:t>
            </a:r>
            <a:r>
              <a:rPr b="1" lang="he-IL" sz="4000" spc="-1" strike="noStrike">
                <a:solidFill>
                  <a:srgbClr val="fc0128"/>
                </a:solidFill>
                <a:latin typeface="David"/>
                <a:ea typeface="David"/>
              </a:rPr>
              <a:t> </a:t>
            </a:r>
            <a:r>
              <a:rPr b="1" lang="he-IL" sz="4000" spc="-1" strike="noStrike">
                <a:solidFill>
                  <a:srgbClr val="ffffff"/>
                </a:solidFill>
                <a:latin typeface="David"/>
                <a:cs typeface="David"/>
              </a:rPr>
              <a:t>בגיל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ffffff"/>
                </a:solidFill>
                <a:uFillTx/>
                <a:latin typeface="David"/>
                <a:cs typeface="David"/>
              </a:rPr>
              <a:t>במסגרת  הכנס  השני  לרפואה  בקהילה</a:t>
            </a:r>
            <a:r>
              <a:rPr b="1" lang="he-IL" sz="54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Text Box 2052"/>
          <p:cNvSpPr/>
          <p:nvPr/>
        </p:nvSpPr>
        <p:spPr>
          <a:xfrm>
            <a:off x="0" y="5662440"/>
            <a:ext cx="10287000" cy="1081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cece"/>
                </a:solidFill>
                <a:latin typeface="David"/>
                <a:ea typeface="David"/>
              </a:rPr>
              <a:t>11</a:t>
            </a:r>
            <a:r>
              <a:rPr b="1" lang="he-IL" sz="3600" spc="-1" strike="noStrike">
                <a:solidFill>
                  <a:srgbClr val="00cece"/>
                </a:solidFill>
                <a:latin typeface="David"/>
                <a:ea typeface="David"/>
              </a:rPr>
              <a:t> בספטמבר </a:t>
            </a:r>
            <a:r>
              <a:rPr b="1" lang="he-IL" sz="3600" spc="-1" strike="noStrike">
                <a:solidFill>
                  <a:srgbClr val="00cece"/>
                </a:solidFill>
                <a:latin typeface="David"/>
                <a:ea typeface="David"/>
              </a:rPr>
              <a:t>2002</a:t>
            </a:r>
            <a:r>
              <a:rPr b="1" lang="he-IL" sz="3600" spc="-1" strike="noStrike">
                <a:solidFill>
                  <a:srgbClr val="00cece"/>
                </a:solidFill>
                <a:latin typeface="David"/>
                <a:ea typeface="David"/>
              </a:rPr>
              <a:t> - מלון דויד אינטרקונטיננטל, תל אביב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Text Box 2053"/>
          <p:cNvSpPr/>
          <p:nvPr/>
        </p:nvSpPr>
        <p:spPr>
          <a:xfrm>
            <a:off x="0" y="2590920"/>
            <a:ext cx="10287000" cy="304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afd00"/>
                </a:solidFill>
                <a:latin typeface="Arial"/>
                <a:cs typeface="Levenim MT"/>
              </a:rPr>
              <a:t>עיכוב תהליכי הזדקנות –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afd00"/>
                </a:solidFill>
                <a:latin typeface="Arial"/>
                <a:cs typeface="Levenim MT"/>
              </a:rPr>
              <a:t>עובדות מול פנטזיות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71720" y="533520"/>
            <a:ext cx="7972560" cy="129528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SURVIVAL  CURVES</a:t>
            </a:r>
            <a:endParaRPr b="0" lang="en-US" sz="48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360360" y="1670040"/>
          <a:ext cx="9605880" cy="51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1670040"/>
                    <a:ext cx="960588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4"/>
          <p:cNvSpPr/>
          <p:nvPr/>
        </p:nvSpPr>
        <p:spPr>
          <a:xfrm>
            <a:off x="5481720" y="6167520"/>
            <a:ext cx="86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4367160" y="6167520"/>
            <a:ext cx="138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52960" y="6151680"/>
            <a:ext cx="1037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6510240" y="6167520"/>
            <a:ext cx="1552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66840" y="3157560"/>
            <a:ext cx="23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urvival%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71720" y="533520"/>
            <a:ext cx="7972560" cy="129528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SURVIVAL  CURVES</a:t>
            </a:r>
            <a:endParaRPr b="0" lang="en-US" sz="48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152" name="Object 3"/>
          <p:cNvGraphicFramePr/>
          <p:nvPr/>
        </p:nvGraphicFramePr>
        <p:xfrm>
          <a:off x="61920" y="1600200"/>
          <a:ext cx="9707400" cy="51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600200"/>
                    <a:ext cx="97074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8"/>
          <p:cNvSpPr/>
          <p:nvPr/>
        </p:nvSpPr>
        <p:spPr>
          <a:xfrm>
            <a:off x="6853320" y="6167520"/>
            <a:ext cx="138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5205240" y="6167520"/>
            <a:ext cx="97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3510000" y="6151680"/>
            <a:ext cx="103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8291520" y="6167520"/>
            <a:ext cx="790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302400" y="2860560"/>
            <a:ext cx="17161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urviva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     %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2362320" y="4000680"/>
            <a:ext cx="4195800" cy="0"/>
          </a:xfrm>
          <a:prstGeom prst="line">
            <a:avLst/>
          </a:prstGeom>
          <a:ln w="57240">
            <a:solidFill>
              <a:srgbClr val="fafd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71720" y="533520"/>
            <a:ext cx="7972560" cy="129528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SURVIVAL  CURVES</a:t>
            </a:r>
            <a:endParaRPr b="0" lang="en-US" sz="48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306360" y="1600200"/>
          <a:ext cx="9707760" cy="51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1600200"/>
                    <a:ext cx="970776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Line 4"/>
          <p:cNvSpPr/>
          <p:nvPr/>
        </p:nvSpPr>
        <p:spPr>
          <a:xfrm>
            <a:off x="2590920" y="4013280"/>
            <a:ext cx="6705360" cy="25200"/>
          </a:xfrm>
          <a:prstGeom prst="line">
            <a:avLst/>
          </a:prstGeom>
          <a:ln w="57240">
            <a:solidFill>
              <a:srgbClr val="fafd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6853320" y="6167520"/>
            <a:ext cx="138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5205240" y="6167520"/>
            <a:ext cx="97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510000" y="6151680"/>
            <a:ext cx="103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8291520" y="6167520"/>
            <a:ext cx="790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02400" y="2860560"/>
            <a:ext cx="17161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urviva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     %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6705720" y="3200400"/>
            <a:ext cx="2666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POTHETICAL   21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ENTURY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71360" y="151920"/>
            <a:ext cx="6372360" cy="129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SURVIVAL  CURVES</a:t>
            </a:r>
            <a:endParaRPr b="0" lang="en-US" sz="48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171" name="Object 3"/>
          <p:cNvGraphicFramePr/>
          <p:nvPr/>
        </p:nvGraphicFramePr>
        <p:xfrm>
          <a:off x="0" y="1266840"/>
          <a:ext cx="1019808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6840"/>
                    <a:ext cx="1019808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Line 6"/>
          <p:cNvSpPr/>
          <p:nvPr/>
        </p:nvSpPr>
        <p:spPr>
          <a:xfrm>
            <a:off x="2438280" y="3886200"/>
            <a:ext cx="495324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6686640" y="617220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5029200" y="6172200"/>
            <a:ext cx="53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3581280" y="6172200"/>
            <a:ext cx="53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8040600" y="6172200"/>
            <a:ext cx="77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-1800" y="3170160"/>
            <a:ext cx="2242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URVIVA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3886200" y="3886200"/>
            <a:ext cx="0" cy="220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5181480" y="3886200"/>
            <a:ext cx="0" cy="220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" name="Line 14"/>
          <p:cNvSpPr/>
          <p:nvPr/>
        </p:nvSpPr>
        <p:spPr>
          <a:xfrm>
            <a:off x="7391520" y="3886200"/>
            <a:ext cx="0" cy="220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3809880" y="5943600"/>
            <a:ext cx="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5334120" y="5943600"/>
            <a:ext cx="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" name="Line 17"/>
          <p:cNvSpPr/>
          <p:nvPr/>
        </p:nvSpPr>
        <p:spPr>
          <a:xfrm>
            <a:off x="6858000" y="5943600"/>
            <a:ext cx="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8400960" y="5943600"/>
            <a:ext cx="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2438280" y="3886200"/>
            <a:ext cx="2743200" cy="0"/>
          </a:xfrm>
          <a:prstGeom prst="line">
            <a:avLst/>
          </a:prstGeom>
          <a:ln w="57240">
            <a:solidFill>
              <a:srgbClr val="ffcc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5000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10201320" cy="518148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10029960" cy="8380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HEALTH     PROMOTION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400" spc="-1" strike="noStrike">
                <a:solidFill>
                  <a:srgbClr val="00cece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  A  RAPIDLY  CHANGING</a:t>
            </a:r>
            <a:r>
              <a:rPr b="1" lang="en-US" sz="3600" spc="-1" strike="noStrike">
                <a:solidFill>
                  <a:srgbClr val="00cece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ORLD   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762120" y="2514600"/>
            <a:ext cx="7315200" cy="16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afd00"/>
                </a:solidFill>
                <a:uFillTx/>
                <a:latin typeface="Arial"/>
              </a:rPr>
              <a:t>DEMOGRAPHIC   CHANGE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90" name="Object 19" descr=""/>
          <p:cNvPicPr/>
          <p:nvPr/>
        </p:nvPicPr>
        <p:blipFill>
          <a:blip r:embed="rId1"/>
          <a:stretch/>
        </p:blipFill>
        <p:spPr>
          <a:xfrm>
            <a:off x="8001000" y="1295280"/>
            <a:ext cx="2055960" cy="2212920"/>
          </a:xfrm>
          <a:prstGeom prst="rect">
            <a:avLst/>
          </a:prstGeom>
          <a:ln w="0">
            <a:noFill/>
          </a:ln>
          <a:effectLst>
            <a:outerShdw dist="134955" dir="19127120" blurRad="0" rotWithShape="0">
              <a:srgbClr val="fafd00"/>
            </a:outerShdw>
          </a:effectLst>
        </p:spPr>
      </p:pic>
      <p:pic>
        <p:nvPicPr>
          <p:cNvPr id="191" name="Object 21" descr=""/>
          <p:cNvPicPr/>
          <p:nvPr/>
        </p:nvPicPr>
        <p:blipFill>
          <a:blip r:embed="rId2"/>
          <a:stretch/>
        </p:blipFill>
        <p:spPr>
          <a:xfrm>
            <a:off x="7848720" y="1752480"/>
            <a:ext cx="2590560" cy="2352960"/>
          </a:xfrm>
          <a:prstGeom prst="rect">
            <a:avLst/>
          </a:prstGeom>
          <a:ln w="0">
            <a:noFill/>
          </a:ln>
          <a:effectLst>
            <a:outerShdw dist="127008" dir="8583908" blurRad="0" rotWithShape="0">
              <a:srgbClr val="00cece"/>
            </a:outerShdw>
          </a:effectLst>
        </p:spPr>
      </p:pic>
      <p:sp>
        <p:nvSpPr>
          <p:cNvPr id="192" name="Text Box 23"/>
          <p:cNvSpPr/>
          <p:nvPr/>
        </p:nvSpPr>
        <p:spPr>
          <a:xfrm>
            <a:off x="152280" y="3727440"/>
            <a:ext cx="8991720" cy="26834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5"/>
                </a:solidFill>
                <a:latin typeface="Arial"/>
              </a:rPr>
              <a:t>A  Rapid  Increase in the</a:t>
            </a:r>
            <a:r>
              <a:rPr b="1" lang="en-US" sz="2200" spc="-1" strike="noStrike">
                <a:solidFill>
                  <a:srgbClr val="fffff5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cece"/>
                </a:solidFill>
                <a:latin typeface="Arial"/>
              </a:rPr>
              <a:t>Average  Life  Span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5"/>
                </a:solidFill>
                <a:latin typeface="Arial"/>
              </a:rPr>
              <a:t>More  People  Reach  Advanced  Ag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2400" y="75960"/>
            <a:ext cx="9515520" cy="685800"/>
          </a:xfrm>
          <a:prstGeom prst="rect">
            <a:avLst/>
          </a:prstGeom>
          <a:noFill/>
          <a:ln w="0">
            <a:noFill/>
          </a:ln>
          <a:effectLst>
            <a:outerShdw dist="28496" dir="6974480" blurRad="0" rotWithShape="0">
              <a:srgbClr val="fafd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POPULATION    BALANCE</a:t>
            </a:r>
            <a:endParaRPr b="0" lang="en-US" sz="48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194" name="Object 3"/>
          <p:cNvGraphicFramePr/>
          <p:nvPr/>
        </p:nvGraphicFramePr>
        <p:xfrm>
          <a:off x="0" y="1214280"/>
          <a:ext cx="1028556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4280"/>
                    <a:ext cx="102855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Line 5"/>
          <p:cNvSpPr/>
          <p:nvPr/>
        </p:nvSpPr>
        <p:spPr>
          <a:xfrm>
            <a:off x="2486160" y="1905120"/>
            <a:ext cx="0" cy="4114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486400" y="6172200"/>
            <a:ext cx="85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4371840" y="617220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257640" y="6156360"/>
            <a:ext cx="102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6515280" y="6172200"/>
            <a:ext cx="1542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000240" y="1965240"/>
            <a:ext cx="3257640" cy="13114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ANCIENT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ROME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2486160" y="1562040"/>
            <a:ext cx="561960" cy="1866960"/>
          </a:xfrm>
          <a:prstGeom prst="rtTriangle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2486160" y="3429000"/>
            <a:ext cx="514080" cy="2590920"/>
          </a:xfrm>
          <a:prstGeom prst="rect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152280" y="3184560"/>
            <a:ext cx="2743200" cy="4582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0001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Rectangle 14"/>
          <p:cNvSpPr/>
          <p:nvPr/>
        </p:nvSpPr>
        <p:spPr>
          <a:xfrm>
            <a:off x="7219800" y="838080"/>
            <a:ext cx="2953080" cy="45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rfinkel  D., 1997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Rectangle 15"/>
          <p:cNvSpPr/>
          <p:nvPr/>
        </p:nvSpPr>
        <p:spPr>
          <a:xfrm>
            <a:off x="2476440" y="2895480"/>
            <a:ext cx="77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" name="Rectangle 16"/>
          <p:cNvSpPr/>
          <p:nvPr/>
        </p:nvSpPr>
        <p:spPr>
          <a:xfrm>
            <a:off x="3000240" y="5410080"/>
            <a:ext cx="2143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IVE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Freeform 17"/>
          <p:cNvSpPr/>
          <p:nvPr/>
        </p:nvSpPr>
        <p:spPr>
          <a:xfrm>
            <a:off x="5908680" y="5638680"/>
            <a:ext cx="1635120" cy="381240"/>
          </a:xfrm>
          <a:custGeom>
            <a:avLst/>
            <a:gdLst>
              <a:gd name="textAreaLeft" fmla="*/ 0 w 1635120"/>
              <a:gd name="textAreaRight" fmla="*/ 1635480 w 16351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030" h="169">
                <a:moveTo>
                  <a:pt x="0" y="0"/>
                </a:moveTo>
                <a:lnTo>
                  <a:pt x="0" y="168"/>
                </a:lnTo>
                <a:lnTo>
                  <a:pt x="1029" y="168"/>
                </a:lnTo>
                <a:lnTo>
                  <a:pt x="996" y="150"/>
                </a:lnTo>
                <a:lnTo>
                  <a:pt x="447" y="132"/>
                </a:lnTo>
                <a:lnTo>
                  <a:pt x="0" y="1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-76320"/>
            <a:ext cx="8039160" cy="990720"/>
          </a:xfrm>
          <a:prstGeom prst="rect">
            <a:avLst/>
          </a:prstGeom>
          <a:noFill/>
          <a:ln w="0">
            <a:noFill/>
          </a:ln>
          <a:effectLst>
            <a:outerShdw dist="28496" dir="6974480" blurRad="0" rotWithShape="0">
              <a:srgbClr val="fafd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POPULATION  BALANCE</a:t>
            </a:r>
            <a:endParaRPr b="0" lang="en-US" sz="48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210" name="Object 3"/>
          <p:cNvGraphicFramePr/>
          <p:nvPr/>
        </p:nvGraphicFramePr>
        <p:xfrm>
          <a:off x="-20520" y="1143000"/>
          <a:ext cx="10250280" cy="54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520" y="1143000"/>
                    <a:ext cx="1025028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Rectangle 6"/>
          <p:cNvSpPr/>
          <p:nvPr/>
        </p:nvSpPr>
        <p:spPr>
          <a:xfrm>
            <a:off x="6858000" y="60958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5211720" y="6095880"/>
            <a:ext cx="96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3514680" y="6080040"/>
            <a:ext cx="1028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8298000" y="6095880"/>
            <a:ext cx="77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438280" y="1447920"/>
            <a:ext cx="905040" cy="4514760"/>
          </a:xfrm>
          <a:prstGeom prst="rect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3586320" y="2452680"/>
            <a:ext cx="2045880" cy="8236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2 0 0 0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AutoShape 12"/>
          <p:cNvSpPr/>
          <p:nvPr/>
        </p:nvSpPr>
        <p:spPr>
          <a:xfrm>
            <a:off x="7458120" y="5029200"/>
            <a:ext cx="1114560" cy="91440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" name="AutoShape 13"/>
          <p:cNvSpPr/>
          <p:nvPr/>
        </p:nvSpPr>
        <p:spPr>
          <a:xfrm>
            <a:off x="8143920" y="5562720"/>
            <a:ext cx="1800360" cy="38088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" name="AutoShape 14"/>
          <p:cNvSpPr/>
          <p:nvPr/>
        </p:nvSpPr>
        <p:spPr>
          <a:xfrm>
            <a:off x="2486160" y="1905120"/>
            <a:ext cx="771480" cy="75960"/>
          </a:xfrm>
          <a:prstGeom prst="rtTriangle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144360" y="3032280"/>
            <a:ext cx="2256120" cy="4582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0001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6983280" y="762120"/>
            <a:ext cx="296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rfinkel  D., 1997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3" name="Rectangle 17"/>
          <p:cNvSpPr/>
          <p:nvPr/>
        </p:nvSpPr>
        <p:spPr>
          <a:xfrm>
            <a:off x="3583080" y="3352680"/>
            <a:ext cx="2830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IV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2657520" y="2422440"/>
            <a:ext cx="428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5560" cy="9907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afd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GERIATRIC   BOOM  CATASTROPHE</a:t>
            </a: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226" name="Object 1027"/>
          <p:cNvGraphicFramePr/>
          <p:nvPr/>
        </p:nvGraphicFramePr>
        <p:xfrm>
          <a:off x="157320" y="1390680"/>
          <a:ext cx="10091520" cy="538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1390680"/>
                    <a:ext cx="10091520" cy="53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1029"/>
          <p:cNvSpPr/>
          <p:nvPr/>
        </p:nvSpPr>
        <p:spPr>
          <a:xfrm>
            <a:off x="6858000" y="617220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9" name="Rectangle 1030"/>
          <p:cNvSpPr/>
          <p:nvPr/>
        </p:nvSpPr>
        <p:spPr>
          <a:xfrm>
            <a:off x="5211720" y="6172200"/>
            <a:ext cx="96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" name="Rectangle 1031"/>
          <p:cNvSpPr/>
          <p:nvPr/>
        </p:nvSpPr>
        <p:spPr>
          <a:xfrm>
            <a:off x="3514680" y="6156360"/>
            <a:ext cx="1028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" name="Rectangle 1032"/>
          <p:cNvSpPr/>
          <p:nvPr/>
        </p:nvSpPr>
        <p:spPr>
          <a:xfrm>
            <a:off x="8298000" y="6172200"/>
            <a:ext cx="77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" name="Rectangle 1033"/>
          <p:cNvSpPr/>
          <p:nvPr/>
        </p:nvSpPr>
        <p:spPr>
          <a:xfrm>
            <a:off x="3772080" y="3200400"/>
            <a:ext cx="3257280" cy="1433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0001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df0001"/>
                </a:solidFill>
                <a:latin typeface="Arial"/>
              </a:rPr>
              <a:t>21 st.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0001"/>
                </a:solidFill>
                <a:latin typeface="Arial"/>
              </a:rPr>
              <a:t>CENTUR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3" name="Rectangle 1034"/>
          <p:cNvSpPr/>
          <p:nvPr/>
        </p:nvSpPr>
        <p:spPr>
          <a:xfrm>
            <a:off x="297360" y="3260880"/>
            <a:ext cx="2181600" cy="4582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0001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Rectangle 1035"/>
          <p:cNvSpPr/>
          <p:nvPr/>
        </p:nvSpPr>
        <p:spPr>
          <a:xfrm>
            <a:off x="3687840" y="2743200"/>
            <a:ext cx="2293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IV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" name="Rectangle 1036"/>
          <p:cNvSpPr/>
          <p:nvPr/>
        </p:nvSpPr>
        <p:spPr>
          <a:xfrm>
            <a:off x="7288200" y="914400"/>
            <a:ext cx="288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rfinkel  D., 1997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Rectangle 1037"/>
          <p:cNvSpPr/>
          <p:nvPr/>
        </p:nvSpPr>
        <p:spPr>
          <a:xfrm>
            <a:off x="2743200" y="2514600"/>
            <a:ext cx="428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7" name="Rectangle 1038"/>
          <p:cNvSpPr/>
          <p:nvPr/>
        </p:nvSpPr>
        <p:spPr>
          <a:xfrm>
            <a:off x="7507440" y="4495680"/>
            <a:ext cx="2320920" cy="458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0" y="3124080"/>
            <a:ext cx="10287000" cy="36709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5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5"/>
                </a:solidFill>
                <a:latin typeface="Arial"/>
              </a:rPr>
              <a:t>Four Living Generations in Many Families.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5"/>
                </a:solidFill>
                <a:latin typeface="Arial"/>
              </a:rPr>
              <a:t>A Rapidly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istorted Balance</a:t>
            </a:r>
            <a:r>
              <a:rPr b="1" lang="en-US" sz="3600" spc="-1" strike="noStrike">
                <a:solidFill>
                  <a:srgbClr val="fffff5"/>
                </a:solidFill>
                <a:latin typeface="Arial"/>
              </a:rPr>
              <a:t> Between the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5"/>
                </a:solidFill>
                <a:latin typeface="Arial"/>
              </a:rPr>
              <a:t>Sick, Debilitated, Non-productive, Poor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5"/>
                </a:solidFill>
                <a:latin typeface="Arial"/>
              </a:rPr>
              <a:t>Elders - and the Young, Healthy, Productive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5"/>
                </a:solidFill>
                <a:latin typeface="Arial"/>
              </a:rPr>
              <a:t>Population that has to Bear the Burden.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266400"/>
            <a:ext cx="10029960" cy="723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HEALTH     PROMOTION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400" spc="-1" strike="noStrike">
                <a:solidFill>
                  <a:srgbClr val="00cece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  A  RAPIDLY  CHANGING</a:t>
            </a:r>
            <a:r>
              <a:rPr b="1" lang="en-US" sz="3600" spc="-1" strike="noStrike">
                <a:solidFill>
                  <a:srgbClr val="00cece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ORLD   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0" y="1295280"/>
            <a:ext cx="10287000" cy="19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POPULATION BALANCE 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&amp;   SOCIAL   CHANG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266400"/>
            <a:ext cx="10029960" cy="723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HEALTH     PROMOTION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400" spc="-1" strike="noStrike">
                <a:solidFill>
                  <a:srgbClr val="00cece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  A  RAPIDLY  CHANGING</a:t>
            </a:r>
            <a:r>
              <a:rPr b="1" lang="en-US" sz="3600" spc="-1" strike="noStrike">
                <a:solidFill>
                  <a:srgbClr val="00cece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ORLD   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0" y="1905120"/>
            <a:ext cx="1028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afd00"/>
                </a:solidFill>
                <a:uFillTx/>
                <a:latin typeface="Arial"/>
              </a:rPr>
              <a:t>ECONOMIC / FINANCIAL  PROBLEM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0" y="2514600"/>
            <a:ext cx="10363320" cy="417744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5"/>
                </a:solidFill>
                <a:latin typeface="Arial"/>
              </a:rPr>
              <a:t>Expenditures for the Elderly and Disabled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5"/>
                </a:solidFill>
                <a:latin typeface="Arial"/>
              </a:rPr>
              <a:t>are Growing Rapidly in an Alarming Rate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b0f2b"/>
                </a:solidFill>
                <a:latin typeface="Arial"/>
              </a:rPr>
              <a:t>Social Security Resources &amp; Health Insurance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b0f2b"/>
                </a:solidFill>
                <a:latin typeface="Arial"/>
              </a:rPr>
              <a:t>may  NOT  Suffice</a:t>
            </a:r>
            <a:r>
              <a:rPr b="1" lang="en-US" sz="3600" spc="-1" strike="noStrike">
                <a:solidFill>
                  <a:srgbClr val="fffff5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0"/>
            <a:ext cx="10744200" cy="723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6" name="Picture 5" descr="C:\WINDOWS\שולחן עבודה\shelet.tif"/>
          <p:cNvPicPr/>
          <p:nvPr/>
        </p:nvPicPr>
        <p:blipFill>
          <a:blip r:embed="rId1"/>
          <a:stretch/>
        </p:blipFill>
        <p:spPr>
          <a:xfrm>
            <a:off x="457200" y="1066680"/>
            <a:ext cx="952488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7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Object 2"/>
          <p:cNvGraphicFramePr/>
          <p:nvPr/>
        </p:nvGraphicFramePr>
        <p:xfrm>
          <a:off x="7229520" y="609480"/>
          <a:ext cx="282744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9520" y="609480"/>
                    <a:ext cx="282744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3"/>
          <p:cNvGraphicFramePr/>
          <p:nvPr/>
        </p:nvGraphicFramePr>
        <p:xfrm>
          <a:off x="1709640" y="1447920"/>
          <a:ext cx="410364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9640" y="1447920"/>
                    <a:ext cx="4103640" cy="9903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32840"/>
            <a:ext cx="9410760" cy="114300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"/>
              </a:rPr>
              <a:t>GLOBAL BURDEN OF DISEASE</a:t>
            </a:r>
            <a:endParaRPr b="0" lang="en-US" sz="46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249" name="Object 5"/>
          <p:cNvGraphicFramePr/>
          <p:nvPr/>
        </p:nvGraphicFramePr>
        <p:xfrm>
          <a:off x="1790640" y="2362320"/>
          <a:ext cx="3772080" cy="42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0640" y="2362320"/>
                    <a:ext cx="3772080" cy="4267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2300" dir="4563564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1" name="Object 6"/>
          <p:cNvGraphicFramePr/>
          <p:nvPr/>
        </p:nvGraphicFramePr>
        <p:xfrm>
          <a:off x="5408640" y="3886200"/>
          <a:ext cx="4630680" cy="236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08640" y="3886200"/>
                    <a:ext cx="4630680" cy="2362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f0066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3" name="Object 7"/>
          <p:cNvGraphicFramePr/>
          <p:nvPr/>
        </p:nvGraphicFramePr>
        <p:xfrm>
          <a:off x="1195560" y="4173480"/>
          <a:ext cx="6176880" cy="268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95560" y="4173480"/>
                    <a:ext cx="6176880" cy="2683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  <p:sp>
        <p:nvSpPr>
          <p:cNvPr id="255" name="Rectangle 8"/>
          <p:cNvSpPr/>
          <p:nvPr/>
        </p:nvSpPr>
        <p:spPr>
          <a:xfrm>
            <a:off x="7772400" y="5715000"/>
            <a:ext cx="203688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Levenim MT"/>
              </a:rPr>
              <a:t>ETHIC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 rot="20040000">
            <a:off x="7000920" y="5041800"/>
            <a:ext cx="2130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0"/>
                </a:solidFill>
                <a:latin typeface="Arial"/>
                <a:ea typeface="Levenim MT"/>
              </a:rPr>
              <a:t>LAW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 rot="18181200">
            <a:off x="5217120" y="4764600"/>
            <a:ext cx="221472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DICIN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 rot="19080000">
            <a:off x="5969160" y="4731840"/>
            <a:ext cx="280008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Times New Roman"/>
                <a:ea typeface="Levenim MT"/>
              </a:rPr>
              <a:t>HUMANIT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1987560" y="2360520"/>
            <a:ext cx="195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Levenim MT"/>
              </a:rPr>
              <a:t>COS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10201320" cy="4419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0" y="1766880"/>
            <a:ext cx="10287000" cy="5814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ffff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c0100"/>
                </a:solidFill>
                <a:uFillTx/>
                <a:latin typeface="Arial"/>
              </a:rPr>
              <a:t>THE    VISCOUS    CIRCL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-360" y="266400"/>
            <a:ext cx="10029960" cy="723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HEALTH     PROMOTION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400" spc="-1" strike="noStrike">
                <a:solidFill>
                  <a:srgbClr val="00cece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  A  RAPIDLY  CHANGING</a:t>
            </a:r>
            <a:r>
              <a:rPr b="1" lang="en-US" sz="3600" spc="-1" strike="noStrike">
                <a:solidFill>
                  <a:srgbClr val="00cece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ORLD   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263" name="Object 0" descr=""/>
          <p:cNvPicPr/>
          <p:nvPr/>
        </p:nvPicPr>
        <p:blipFill>
          <a:blip r:embed="rId1"/>
          <a:stretch/>
        </p:blipFill>
        <p:spPr>
          <a:xfrm>
            <a:off x="7620120" y="4114800"/>
            <a:ext cx="2666880" cy="11430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8"/>
          <p:cNvSpPr/>
          <p:nvPr/>
        </p:nvSpPr>
        <p:spPr>
          <a:xfrm>
            <a:off x="76320" y="2378160"/>
            <a:ext cx="102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Magnitude of the Geriatric Boom Forces Governments &amp;  Health  Services to Divert Most Resources to the Task of “Putting Out Fires”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228600" y="5105520"/>
            <a:ext cx="10287000" cy="1572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owever, From the  Point of View of  Medical &amp; Economic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/Benefit,  The Investment in Inhibition &amp; Prevention is Preferable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Investment  in Treatment  of  Diseases  and  Their  Complications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181080" y="3429000"/>
            <a:ext cx="10029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refore, Fewer and Fewer Resources are Made Available for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vention, Health Promotion and  Research into the Process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ich Lie at the Root of the Problem.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69360" y="152280"/>
            <a:ext cx="9687240" cy="137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afd00"/>
                </a:solidFill>
                <a:latin typeface="Arial"/>
              </a:rPr>
              <a:t>I N H I B I T I O N </a:t>
            </a:r>
            <a:r>
              <a:rPr b="1" lang="en-US" sz="7200" spc="-1" strike="noStrike">
                <a:solidFill>
                  <a:srgbClr val="fafd00"/>
                </a:solidFill>
                <a:latin typeface="Arial"/>
              </a:rPr>
              <a:t>  </a:t>
            </a:r>
            <a:br>
              <a:rPr sz="7200"/>
            </a:br>
            <a:r>
              <a:rPr b="1" lang="en-US" sz="5100" spc="-1" strike="noStrike">
                <a:solidFill>
                  <a:srgbClr val="fc0128"/>
                </a:solidFill>
                <a:latin typeface="Arial"/>
              </a:rPr>
              <a:t>OF</a:t>
            </a:r>
            <a:r>
              <a:rPr b="1" lang="en-US" sz="51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5100" spc="-1" strike="noStrike">
                <a:solidFill>
                  <a:srgbClr val="fc0128"/>
                </a:solidFill>
                <a:latin typeface="Arial"/>
              </a:rPr>
              <a:t>GERIATRIC   BOOM</a:t>
            </a: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268" name="Object 1024"/>
          <p:cNvGraphicFramePr/>
          <p:nvPr/>
        </p:nvGraphicFramePr>
        <p:xfrm>
          <a:off x="584280" y="1859040"/>
          <a:ext cx="9131400" cy="487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1859040"/>
                    <a:ext cx="913140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Rectangle 4"/>
          <p:cNvSpPr/>
          <p:nvPr/>
        </p:nvSpPr>
        <p:spPr>
          <a:xfrm>
            <a:off x="6858000" y="624852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5211720" y="6248520"/>
            <a:ext cx="96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3514680" y="6232680"/>
            <a:ext cx="1028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8298000" y="6248520"/>
            <a:ext cx="77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5124600" y="4991040"/>
            <a:ext cx="1209600" cy="457200"/>
          </a:xfrm>
          <a:prstGeom prst="rightArrow">
            <a:avLst>
              <a:gd name="adj1" fmla="val 50000"/>
              <a:gd name="adj2" fmla="val 132295"/>
            </a:avLst>
          </a:prstGeom>
          <a:solidFill>
            <a:srgbClr val="fafd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AutoShape 9"/>
          <p:cNvSpPr/>
          <p:nvPr/>
        </p:nvSpPr>
        <p:spPr>
          <a:xfrm>
            <a:off x="5454720" y="3454560"/>
            <a:ext cx="1320840" cy="253800"/>
          </a:xfrm>
          <a:prstGeom prst="rightArrow">
            <a:avLst>
              <a:gd name="adj1" fmla="val 50000"/>
              <a:gd name="adj2" fmla="val 260237"/>
            </a:avLst>
          </a:prstGeom>
          <a:solidFill>
            <a:srgbClr val="fafd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>
            <a:off x="4800600" y="5905440"/>
            <a:ext cx="380880" cy="3812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afd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609480" y="3489480"/>
            <a:ext cx="2743200" cy="39744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0001"/>
                </a:solidFill>
                <a:latin typeface="Arial"/>
              </a:rPr>
              <a:t>POPULATION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3581280" y="4038480"/>
            <a:ext cx="3000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IV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2971800" y="2422440"/>
            <a:ext cx="428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6943680" y="1523880"/>
            <a:ext cx="334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rfinkel  D., 1997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1" name="AutoShape 15"/>
          <p:cNvSpPr/>
          <p:nvPr/>
        </p:nvSpPr>
        <p:spPr>
          <a:xfrm>
            <a:off x="9686880" y="5029200"/>
            <a:ext cx="514440" cy="114300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7543800" y="5105520"/>
            <a:ext cx="1752480" cy="381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EPENDENT</a:t>
            </a:r>
            <a:endParaRPr b="0" lang="en-US" sz="19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AutoShape 19"/>
          <p:cNvSpPr/>
          <p:nvPr/>
        </p:nvSpPr>
        <p:spPr>
          <a:xfrm>
            <a:off x="4191120" y="5029200"/>
            <a:ext cx="1209600" cy="457200"/>
          </a:xfrm>
          <a:prstGeom prst="rightArrow">
            <a:avLst>
              <a:gd name="adj1" fmla="val 50000"/>
              <a:gd name="adj2" fmla="val 132295"/>
            </a:avLst>
          </a:prstGeom>
          <a:solidFill>
            <a:srgbClr val="fafd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5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9"/>
            </a:gs>
            <a:gs pos="100000">
              <a:srgbClr val="fdc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027" descr="C:\WINDOWS\שולחן עבודה\shelet.tif"/>
          <p:cNvPicPr/>
          <p:nvPr/>
        </p:nvPicPr>
        <p:blipFill>
          <a:blip r:embed="rId1"/>
          <a:stretch/>
        </p:blipFill>
        <p:spPr>
          <a:xfrm>
            <a:off x="3886200" y="76320"/>
            <a:ext cx="2819520" cy="140796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1028"/>
          <p:cNvSpPr/>
          <p:nvPr/>
        </p:nvSpPr>
        <p:spPr>
          <a:xfrm>
            <a:off x="76320" y="1600200"/>
            <a:ext cx="10515600" cy="32594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c0128"/>
                </a:solidFill>
                <a:latin typeface="David"/>
                <a:ea typeface="David"/>
              </a:rPr>
              <a:t>  </a:t>
            </a:r>
            <a:r>
              <a:rPr b="1" lang="he-IL" sz="5400" spc="-1" strike="noStrike" u="sng">
                <a:solidFill>
                  <a:srgbClr val="fc0128"/>
                </a:solidFill>
                <a:uFillTx/>
                <a:latin typeface="David"/>
                <a:cs typeface="David"/>
              </a:rPr>
              <a:t>יעדי  העמותה:</a:t>
            </a:r>
            <a:r>
              <a:rPr b="1" lang="he-IL" sz="5400" spc="-1" strike="noStrike">
                <a:solidFill>
                  <a:srgbClr val="fc0128"/>
                </a:solidFill>
                <a:latin typeface="David"/>
                <a:ea typeface="David"/>
              </a:rPr>
              <a:t> 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c0128"/>
                </a:solidFill>
                <a:latin typeface="David"/>
                <a:ea typeface="David"/>
              </a:rPr>
              <a:t>   </a:t>
            </a:r>
            <a:r>
              <a:rPr b="1" lang="he-IL" sz="3200" spc="-1" strike="noStrike">
                <a:solidFill>
                  <a:srgbClr val="0327d9"/>
                </a:solidFill>
                <a:latin typeface="David"/>
                <a:ea typeface="David"/>
              </a:rPr>
              <a:t>  </a:t>
            </a:r>
            <a:r>
              <a:rPr b="1" lang="he-IL" sz="4800" spc="-1" strike="noStrike">
                <a:solidFill>
                  <a:srgbClr val="0327d9"/>
                </a:solidFill>
                <a:latin typeface="David"/>
                <a:ea typeface="David"/>
              </a:rPr>
              <a:t>*  </a:t>
            </a: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לחנך  הציבור</a:t>
            </a:r>
            <a:r>
              <a:rPr b="1" lang="en-US" sz="4000" spc="-1" strike="noStrike">
                <a:solidFill>
                  <a:srgbClr val="0327d9"/>
                </a:solidFill>
                <a:latin typeface="David"/>
                <a:ea typeface="David"/>
              </a:rPr>
              <a:t> </a:t>
            </a: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ולהביא </a:t>
            </a:r>
            <a:r>
              <a:rPr b="1" lang="en-US" sz="4000" spc="-1" strike="noStrike">
                <a:solidFill>
                  <a:srgbClr val="0327d9"/>
                </a:solidFill>
                <a:latin typeface="David"/>
                <a:ea typeface="David"/>
              </a:rPr>
              <a:t> </a:t>
            </a:r>
            <a:r>
              <a:rPr b="1" lang="he-IL" sz="4000" spc="-1" strike="noStrike">
                <a:solidFill>
                  <a:srgbClr val="0327d9"/>
                </a:solidFill>
                <a:latin typeface="David"/>
                <a:cs typeface="David"/>
              </a:rPr>
              <a:t>למודעות </a:t>
            </a:r>
            <a:r>
              <a:rPr b="1" lang="en-US" sz="4000" spc="-1" strike="noStrike">
                <a:solidFill>
                  <a:srgbClr val="0327d9"/>
                </a:solidFill>
                <a:latin typeface="David"/>
                <a:ea typeface="David"/>
              </a:rPr>
              <a:t> </a:t>
            </a:r>
            <a:r>
              <a:rPr b="1" lang="he-IL" sz="4000" spc="-1" strike="noStrike">
                <a:solidFill>
                  <a:srgbClr val="0327d9"/>
                </a:solidFill>
                <a:latin typeface="David"/>
                <a:cs typeface="David"/>
              </a:rPr>
              <a:t>כי </a:t>
            </a:r>
            <a:r>
              <a:rPr b="1" lang="en-US" sz="4000" spc="-1" strike="noStrike">
                <a:solidFill>
                  <a:srgbClr val="0327d9"/>
                </a:solidFill>
                <a:latin typeface="David"/>
                <a:ea typeface="David"/>
              </a:rPr>
              <a:t> </a:t>
            </a:r>
            <a:r>
              <a:rPr b="1" lang="he-IL" sz="4000" spc="-1" strike="noStrike">
                <a:solidFill>
                  <a:srgbClr val="0327d9"/>
                </a:solidFill>
                <a:latin typeface="David"/>
                <a:cs typeface="David"/>
              </a:rPr>
              <a:t>ניתן  לעכב 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       חלק  מהתהליכים</a:t>
            </a:r>
            <a:r>
              <a:rPr b="1" lang="en-US" sz="4000" spc="-1" strike="noStrike">
                <a:solidFill>
                  <a:srgbClr val="0327d9"/>
                </a:solidFill>
                <a:latin typeface="David"/>
                <a:ea typeface="David"/>
              </a:rPr>
              <a:t> </a:t>
            </a: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והמחלות</a:t>
            </a:r>
            <a:r>
              <a:rPr b="1" lang="en-US" sz="4000" spc="-1" strike="noStrike">
                <a:solidFill>
                  <a:srgbClr val="0327d9"/>
                </a:solidFill>
                <a:latin typeface="David"/>
                <a:ea typeface="David"/>
              </a:rPr>
              <a:t> </a:t>
            </a: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התלויות </a:t>
            </a:r>
            <a:r>
              <a:rPr b="1" lang="en-US" sz="4000" spc="-1" strike="noStrike">
                <a:solidFill>
                  <a:srgbClr val="0327d9"/>
                </a:solidFill>
                <a:latin typeface="David"/>
                <a:ea typeface="David"/>
              </a:rPr>
              <a:t> </a:t>
            </a:r>
            <a:r>
              <a:rPr b="1" lang="he-IL" sz="4000" spc="-1" strike="noStrike">
                <a:solidFill>
                  <a:srgbClr val="0327d9"/>
                </a:solidFill>
                <a:latin typeface="David"/>
                <a:cs typeface="David"/>
              </a:rPr>
              <a:t>בגיל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6" name="Text Box 1029"/>
          <p:cNvSpPr/>
          <p:nvPr/>
        </p:nvSpPr>
        <p:spPr>
          <a:xfrm>
            <a:off x="0" y="3637080"/>
            <a:ext cx="10515600" cy="3493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327d9"/>
                </a:solidFill>
                <a:latin typeface="David"/>
                <a:ea typeface="David"/>
              </a:rPr>
              <a:t>  *</a:t>
            </a: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 להקים מרכזי מידע, בדיקה,טיפול וייעוץ למבוגרים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      במגוון נושאים: רפואה,פסיכולוגיה,סיעוד,דיאטה,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      פעילות גופנית, שירות סוציאלי, כלכלה ועסקים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Text Box 1031"/>
          <p:cNvSpPr/>
          <p:nvPr/>
        </p:nvSpPr>
        <p:spPr>
          <a:xfrm>
            <a:off x="-76320" y="5562720"/>
            <a:ext cx="10287000" cy="321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buClr>
                <a:srgbClr val="0327d9"/>
              </a:buClr>
              <a:buSzPct val="135000"/>
              <a:buFont typeface="Davi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27d9"/>
                </a:solidFill>
                <a:latin typeface="David"/>
                <a:ea typeface="David"/>
              </a:rPr>
              <a:t>  </a:t>
            </a:r>
            <a:r>
              <a:rPr b="1" lang="he-IL" sz="4000" spc="-1" strike="noStrike">
                <a:solidFill>
                  <a:srgbClr val="0327d9"/>
                </a:solidFill>
                <a:latin typeface="David"/>
                <a:cs typeface="David"/>
              </a:rPr>
              <a:t>לגייס תרומות למחקרים שיתרמו לנושא  עיכוב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    תהליכים ו/או עיכוב המחלות התלויות בגיל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3"/>
          <p:cNvSpPr/>
          <p:nvPr/>
        </p:nvSpPr>
        <p:spPr>
          <a:xfrm>
            <a:off x="1066680" y="1143000"/>
            <a:ext cx="8991720" cy="457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f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0" y="2828880"/>
            <a:ext cx="10287000" cy="25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EMBRYO     CHILD      YOUNG    MIDDLE AGE      ELDERLY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MBRYO      CHILD       YOUNG            MIDDLE AGE     ELDERLY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                              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EMBRYO      CHILD              YOUNG             MIDDLE AGE      ELDERLY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                                                        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                                                 </a:t>
            </a:r>
            <a:r>
              <a:rPr b="1" lang="en-US" sz="1600" spc="-1" strike="noStrike">
                <a:solidFill>
                  <a:srgbClr val="f95ab7"/>
                </a:solidFill>
                <a:latin typeface="Arial"/>
              </a:rPr>
              <a:t>EMBRYO           CHILD                YOUNG            MIDDLE AGE   ELDERLY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EMBRYO            CHILD             YOUNG       MIDDLE AGE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480" y="142560"/>
            <a:ext cx="10029960" cy="723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HEALTH     PROMOTION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400" spc="-1" strike="noStrike">
                <a:solidFill>
                  <a:srgbClr val="00cece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  A  RAPIDLY  CHANGING</a:t>
            </a:r>
            <a:r>
              <a:rPr b="1" lang="en-US" sz="3600" spc="-1" strike="noStrike">
                <a:solidFill>
                  <a:srgbClr val="00cece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ORLD   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1066680" y="4876920"/>
            <a:ext cx="7239240" cy="761760"/>
          </a:xfrm>
          <a:prstGeom prst="leftArrow">
            <a:avLst>
              <a:gd name="adj1" fmla="val 50000"/>
              <a:gd name="adj2" fmla="val 237583"/>
            </a:avLst>
          </a:prstGeom>
          <a:solidFill>
            <a:srgbClr val="fafd00"/>
          </a:solidFill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657600" y="2666880"/>
            <a:ext cx="2286000" cy="457200"/>
          </a:xfrm>
          <a:prstGeom prst="leftArrow">
            <a:avLst>
              <a:gd name="adj1" fmla="val 33333"/>
              <a:gd name="adj2" fmla="val 114931"/>
            </a:avLst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4572000" y="3048120"/>
            <a:ext cx="1447920" cy="1904760"/>
          </a:xfrm>
          <a:prstGeom prst="flowChartAlternateProcess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-76320" y="5711760"/>
            <a:ext cx="10287000" cy="38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PREVENTION  SHOULD  START AS  EARLY  AS  POSSIBL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 rot="1152600">
            <a:off x="5577840" y="3123720"/>
            <a:ext cx="4709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  E  R  I  A  T  R  I  C  I  A N 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 rot="1152600">
            <a:off x="75960" y="4038120"/>
            <a:ext cx="3657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 E D I A T R I C I A N 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1214280" y="1135080"/>
            <a:ext cx="8001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O   IS   GOING   TO   DO   I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??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685800" y="1849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 WHOM ??   WHEN  TO  START ?    HOW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9" name="Text Box 15"/>
          <p:cNvSpPr/>
          <p:nvPr/>
        </p:nvSpPr>
        <p:spPr>
          <a:xfrm rot="1152600">
            <a:off x="2282400" y="3719160"/>
            <a:ext cx="6181920" cy="520560"/>
          </a:xfrm>
          <a:prstGeom prst="rect">
            <a:avLst/>
          </a:prstGeom>
          <a:solidFill>
            <a:srgbClr val="f95ab7"/>
          </a:solidFill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 A M I L Y    P H Y S  I  C  I  A N S ?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3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700"/>
                            </p:stCondLst>
                            <p:childTnLst>
                              <p:par>
                                <p:cTn id="4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3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3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1828800"/>
            <a:ext cx="10247400" cy="4965840"/>
          </a:xfrm>
          <a:prstGeom prst="rect">
            <a:avLst/>
          </a:prstGeom>
          <a:noFill/>
          <a:ln w="0">
            <a:noFill/>
          </a:ln>
          <a:effectLst>
            <a:outerShdw dist="81185" dir="84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1030320" y="15840"/>
            <a:ext cx="9169200" cy="1551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NTI  AGING  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EXPERTS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"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....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154080" y="2651040"/>
            <a:ext cx="10047240" cy="344196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03" name="Object 0"/>
          <p:cNvGraphicFramePr/>
          <p:nvPr/>
        </p:nvGraphicFramePr>
        <p:xfrm rot="10800000">
          <a:off x="771480" y="5997240"/>
          <a:ext cx="8732880" cy="9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771480" y="5997240"/>
                    <a:ext cx="873288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-360" y="342720"/>
            <a:ext cx="102870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306" name="Object 1"/>
          <p:cNvGraphicFramePr/>
          <p:nvPr/>
        </p:nvGraphicFramePr>
        <p:xfrm>
          <a:off x="1066680" y="5257800"/>
          <a:ext cx="17226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257800"/>
                    <a:ext cx="1722600" cy="990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308" name="Object 2"/>
          <p:cNvGraphicFramePr/>
          <p:nvPr/>
        </p:nvGraphicFramePr>
        <p:xfrm>
          <a:off x="514440" y="2209680"/>
          <a:ext cx="9772560" cy="434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440" y="2209680"/>
                    <a:ext cx="97725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3"/>
          <p:cNvGraphicFramePr/>
          <p:nvPr/>
        </p:nvGraphicFramePr>
        <p:xfrm>
          <a:off x="0" y="4952880"/>
          <a:ext cx="73512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1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952880"/>
                    <a:ext cx="735120" cy="990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312" name="Object 4"/>
          <p:cNvGraphicFramePr/>
          <p:nvPr/>
        </p:nvGraphicFramePr>
        <p:xfrm>
          <a:off x="341280" y="5486400"/>
          <a:ext cx="954000" cy="99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280" y="5486400"/>
                    <a:ext cx="954000" cy="990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sp>
        <p:nvSpPr>
          <p:cNvPr id="314" name="Rectangle 11"/>
          <p:cNvSpPr/>
          <p:nvPr/>
        </p:nvSpPr>
        <p:spPr>
          <a:xfrm>
            <a:off x="2789280" y="2533680"/>
            <a:ext cx="5516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YES, TAKE THIS PILL AND YOU WILL BE YOUNG FOREVER !!!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(HA, HA, HA…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5" name="Arc 12"/>
          <p:cNvSpPr/>
          <p:nvPr/>
        </p:nvSpPr>
        <p:spPr>
          <a:xfrm flipV="1">
            <a:off x="3809880" y="3351960"/>
            <a:ext cx="1268640" cy="838440"/>
          </a:xfrm>
          <a:custGeom>
            <a:avLst/>
            <a:gdLst>
              <a:gd name="textAreaLeft" fmla="*/ 0 w 1268640"/>
              <a:gd name="textAreaRight" fmla="*/ 1269000 w 1268640"/>
              <a:gd name="textAreaTop" fmla="*/ -360 h 838440"/>
              <a:gd name="textAreaBottom" fmla="*/ 838440 h 838440"/>
            </a:gdLst>
            <a:ahLst/>
            <a:rect l="textAreaLeft" t="textAreaTop" r="textAreaRight" b="textAreaBottom"/>
            <a:pathLst>
              <a:path fill="none" w="21155" h="21600">
                <a:moveTo>
                  <a:pt x="-1" y="0"/>
                </a:moveTo>
                <a:cubicBezTo>
                  <a:pt x="10248" y="0"/>
                  <a:pt x="19086" y="7202"/>
                  <a:pt x="21155" y="17239"/>
                </a:cubicBezTo>
              </a:path>
              <a:path stroke="0" w="21155" h="21600">
                <a:moveTo>
                  <a:pt x="-1" y="0"/>
                </a:moveTo>
                <a:cubicBezTo>
                  <a:pt x="10248" y="0"/>
                  <a:pt x="19086" y="7202"/>
                  <a:pt x="21155" y="17239"/>
                </a:cubicBez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Arc 13"/>
          <p:cNvSpPr/>
          <p:nvPr/>
        </p:nvSpPr>
        <p:spPr>
          <a:xfrm flipV="1">
            <a:off x="3728880" y="3351960"/>
            <a:ext cx="1509840" cy="838440"/>
          </a:xfrm>
          <a:custGeom>
            <a:avLst/>
            <a:gdLst>
              <a:gd name="textAreaLeft" fmla="*/ 0 w 1509840"/>
              <a:gd name="textAreaRight" fmla="*/ 1510200 w 1509840"/>
              <a:gd name="textAreaTop" fmla="*/ -360 h 838440"/>
              <a:gd name="textAreaBottom" fmla="*/ 838440 h 838440"/>
            </a:gdLst>
            <a:ahLst/>
            <a:rect l="textAreaLeft" t="textAreaTop" r="textAreaRight" b="textAreaBottom"/>
            <a:pathLst>
              <a:path fill="none" w="25189" h="21600">
                <a:moveTo>
                  <a:pt x="-1" y="627"/>
                </a:moveTo>
                <a:cubicBezTo>
                  <a:pt x="1691" y="210"/>
                  <a:pt x="3427" y="-1"/>
                  <a:pt x="5170" y="0"/>
                </a:cubicBezTo>
                <a:cubicBezTo>
                  <a:pt x="13967" y="0"/>
                  <a:pt x="21885" y="5334"/>
                  <a:pt x="25188" y="13488"/>
                </a:cubicBezTo>
              </a:path>
              <a:path stroke="0" w="25189" h="21600">
                <a:moveTo>
                  <a:pt x="-1" y="627"/>
                </a:moveTo>
                <a:cubicBezTo>
                  <a:pt x="1691" y="210"/>
                  <a:pt x="3427" y="-1"/>
                  <a:pt x="5170" y="0"/>
                </a:cubicBezTo>
                <a:cubicBezTo>
                  <a:pt x="13967" y="0"/>
                  <a:pt x="21885" y="5334"/>
                  <a:pt x="25188" y="13488"/>
                </a:cubicBezTo>
                <a:lnTo>
                  <a:pt x="5170" y="21600"/>
                </a:lnTo>
                <a:close/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Arc 14"/>
          <p:cNvSpPr/>
          <p:nvPr/>
        </p:nvSpPr>
        <p:spPr>
          <a:xfrm flipV="1">
            <a:off x="3863880" y="3276720"/>
            <a:ext cx="1317600" cy="914400"/>
          </a:xfrm>
          <a:custGeom>
            <a:avLst/>
            <a:gdLst>
              <a:gd name="textAreaLeft" fmla="*/ 0 w 1317600"/>
              <a:gd name="textAreaRight" fmla="*/ 1317960 w 131760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fill="none" w="21975" h="21600">
                <a:moveTo>
                  <a:pt x="-1" y="57"/>
                </a:moveTo>
                <a:cubicBezTo>
                  <a:pt x="525" y="19"/>
                  <a:pt x="1052" y="-1"/>
                  <a:pt x="1579" y="0"/>
                </a:cubicBezTo>
                <a:cubicBezTo>
                  <a:pt x="10767" y="0"/>
                  <a:pt x="18950" y="5812"/>
                  <a:pt x="21974" y="14489"/>
                </a:cubicBezTo>
              </a:path>
              <a:path stroke="0" w="21975" h="21600">
                <a:moveTo>
                  <a:pt x="-1" y="57"/>
                </a:moveTo>
                <a:cubicBezTo>
                  <a:pt x="525" y="19"/>
                  <a:pt x="1052" y="-1"/>
                  <a:pt x="1579" y="0"/>
                </a:cubicBezTo>
                <a:cubicBezTo>
                  <a:pt x="10767" y="0"/>
                  <a:pt x="18950" y="5812"/>
                  <a:pt x="21974" y="14489"/>
                </a:cubicBezTo>
                <a:lnTo>
                  <a:pt x="1579" y="21600"/>
                </a:lnTo>
                <a:close/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18" name="Object 5"/>
          <p:cNvGraphicFramePr/>
          <p:nvPr/>
        </p:nvGraphicFramePr>
        <p:xfrm>
          <a:off x="5867280" y="5029200"/>
          <a:ext cx="954360" cy="99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9" name="Object 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67280" y="5029200"/>
                    <a:ext cx="954360" cy="990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3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9"/>
            </a:gs>
            <a:gs pos="100000">
              <a:srgbClr val="fdc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0" y="1752480"/>
            <a:ext cx="9982080" cy="33858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</a:t>
            </a:r>
            <a:r>
              <a:rPr b="1" lang="he-IL" sz="5400" spc="-1" strike="noStrike">
                <a:solidFill>
                  <a:srgbClr val="0327d9"/>
                </a:solidFill>
                <a:latin typeface="David"/>
                <a:cs typeface="David"/>
              </a:rPr>
              <a:t>הועדה רואה במונח  ”אנטי-אייג’ינג</a:t>
            </a:r>
            <a:r>
              <a:rPr b="1" lang="he-IL" sz="5400" spc="-1" strike="noStrike">
                <a:solidFill>
                  <a:srgbClr val="0327d9"/>
                </a:solidFill>
                <a:latin typeface="Times New Roman"/>
                <a:ea typeface="David"/>
              </a:rPr>
              <a:t>” כמונח  בעל  קונוטציה שלילית  כלפי הזקנה  ועל  כן  יש  לפעול  לשנותו.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76320" y="228600"/>
            <a:ext cx="10210680" cy="1299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300" spc="-1" strike="noStrike">
                <a:solidFill>
                  <a:srgbClr val="000020"/>
                </a:solidFill>
                <a:latin typeface="Arial"/>
                <a:cs typeface="Levenim MT"/>
              </a:rPr>
              <a:t>סיכום והחלטות ועדת המדע והטכנולוגיה של הכנסת מישיבתה ביום 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2/7/02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 בנושא “אנטי-אייג’ינג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”   </a:t>
            </a:r>
            <a:r>
              <a:rPr b="1" lang="he-IL" sz="3200" spc="-1" strike="noStrike">
                <a:solidFill>
                  <a:srgbClr val="000020"/>
                </a:solidFill>
                <a:latin typeface="Arial"/>
                <a:ea typeface="Levenim MT"/>
              </a:rPr>
              <a:t>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685800" y="4267080"/>
            <a:ext cx="89154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0327d9"/>
                </a:solidFill>
                <a:latin typeface="David"/>
                <a:cs typeface="David"/>
              </a:rPr>
              <a:t>המינוח  צריך  לענות  על  היעד  של  הארכת    תקופת   הבריאות  ודחיית  תופעות  התלויות  בגיל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9"/>
            </a:gs>
            <a:gs pos="100000">
              <a:srgbClr val="fdc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0" y="1905120"/>
            <a:ext cx="9982080" cy="4360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327d9"/>
                </a:solidFill>
                <a:latin typeface="David"/>
                <a:cs typeface="David"/>
              </a:rPr>
              <a:t>מהעדויות ששמעה, לרבות מבעלי המכונים הפרטיים עצמם - הועדה נדהמה לגלות שהמכונים… מתקיימים מחוץ לתחום הרפואה המוכרת …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327d9"/>
                </a:solidFill>
                <a:latin typeface="David"/>
                <a:cs typeface="David"/>
              </a:rPr>
              <a:t>תחום המקצוע של ה”אנטי-אייג’ינג</a:t>
            </a:r>
            <a:r>
              <a:rPr b="1" lang="he-IL" sz="4000" spc="-1" strike="noStrike">
                <a:solidFill>
                  <a:srgbClr val="0327d9"/>
                </a:solidFill>
                <a:latin typeface="Times New Roman"/>
                <a:ea typeface="David"/>
              </a:rPr>
              <a:t>”, אינו מוכר בישראל ובאף מקום בעולם ע”י ההסתדרות הרפואית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76320" y="228600"/>
            <a:ext cx="10210680" cy="1299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300" spc="-1" strike="noStrike">
                <a:solidFill>
                  <a:srgbClr val="000020"/>
                </a:solidFill>
                <a:latin typeface="Arial"/>
                <a:cs typeface="Levenim MT"/>
              </a:rPr>
              <a:t>סיכום והחלטות ועדת המדע והטכנולוגיה של הכנסת מישיבתה ביום 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2/7/02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 בנושא “אנטי-אייג’ינג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”   </a:t>
            </a:r>
            <a:r>
              <a:rPr b="1" lang="he-IL" sz="3200" spc="-1" strike="noStrike">
                <a:solidFill>
                  <a:srgbClr val="000020"/>
                </a:solidFill>
                <a:latin typeface="Arial"/>
                <a:ea typeface="Levenim MT"/>
              </a:rPr>
              <a:t>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0" y="4952880"/>
            <a:ext cx="998208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(בארה”ב  למשל, קיימת עמותה פרטית  לנושא המכשירה, בוחנת ונותנת תעודות הסמכה פרטיות -ללא הכרה של גוף מוסמך אחר)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9"/>
            </a:gs>
            <a:gs pos="100000">
              <a:srgbClr val="fdc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026"/>
          <p:cNvSpPr/>
          <p:nvPr/>
        </p:nvSpPr>
        <p:spPr>
          <a:xfrm>
            <a:off x="0" y="3581280"/>
            <a:ext cx="9982080" cy="33836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327d9"/>
                </a:solidFill>
                <a:latin typeface="David"/>
                <a:cs typeface="David"/>
              </a:rPr>
              <a:t>הועדה מוחה בפני שר הבריאות על חוסר הטיפול בסוגיות הקשורות לאכיפת החוק בתחום דחית הזקנה …    הועדה תובעת ממשרד הבריאות… להתקין תקנות שיסדירו את רישוי העוסקים בתחום “עיכוב הזקנה” (אנטי-אייג’ינג</a:t>
            </a:r>
            <a:r>
              <a:rPr b="1" lang="he-IL" sz="4000" spc="-1" strike="noStrike">
                <a:solidFill>
                  <a:srgbClr val="0327d9"/>
                </a:solidFill>
                <a:latin typeface="Times New Roman"/>
                <a:ea typeface="David"/>
              </a:rPr>
              <a:t>”)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7" name="Text Box 1027"/>
          <p:cNvSpPr/>
          <p:nvPr/>
        </p:nvSpPr>
        <p:spPr>
          <a:xfrm>
            <a:off x="76320" y="228600"/>
            <a:ext cx="10210680" cy="1299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300" spc="-1" strike="noStrike">
                <a:solidFill>
                  <a:srgbClr val="000020"/>
                </a:solidFill>
                <a:latin typeface="Arial"/>
                <a:cs typeface="Levenim MT"/>
              </a:rPr>
              <a:t>סיכום והחלטות ועדת המדע והטכנולוגיה של הכנסת מישיבתה ביום 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2/7/02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 בנושא “אנטי-אייג’ינג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”   </a:t>
            </a:r>
            <a:r>
              <a:rPr b="1" lang="he-IL" sz="3200" spc="-1" strike="noStrike">
                <a:solidFill>
                  <a:srgbClr val="000020"/>
                </a:solidFill>
                <a:latin typeface="Arial"/>
                <a:ea typeface="Levenim MT"/>
              </a:rPr>
              <a:t>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Text Box 1028"/>
          <p:cNvSpPr/>
          <p:nvPr/>
        </p:nvSpPr>
        <p:spPr>
          <a:xfrm>
            <a:off x="0" y="1905120"/>
            <a:ext cx="9982080" cy="211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327d9"/>
                </a:solidFill>
                <a:latin typeface="David"/>
                <a:cs typeface="David"/>
              </a:rPr>
              <a:t>כמו כן, התברר לועדה שהטיפולים כרוכים      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                                       בתשלומים כספיים גדולים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9"/>
            </a:gs>
            <a:gs pos="100000">
              <a:srgbClr val="fdc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026"/>
          <p:cNvSpPr/>
          <p:nvPr/>
        </p:nvSpPr>
        <p:spPr>
          <a:xfrm>
            <a:off x="0" y="4332240"/>
            <a:ext cx="9982080" cy="27248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327d9"/>
                </a:solidFill>
                <a:latin typeface="David"/>
                <a:cs typeface="David"/>
              </a:rPr>
              <a:t>הועדה  לא  יכולה  לקבל  הטלת  האחריות על  הצרכנים  בלבד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327d9"/>
                </a:solidFill>
                <a:latin typeface="David"/>
                <a:cs typeface="David"/>
              </a:rPr>
              <a:t>והמתנת משרדי הממשלה לתלונות פרטניות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0" name="Text Box 1027"/>
          <p:cNvSpPr/>
          <p:nvPr/>
        </p:nvSpPr>
        <p:spPr>
          <a:xfrm>
            <a:off x="76320" y="228600"/>
            <a:ext cx="10210680" cy="1299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300" spc="-1" strike="noStrike">
                <a:solidFill>
                  <a:srgbClr val="000020"/>
                </a:solidFill>
                <a:latin typeface="Arial"/>
                <a:cs typeface="Levenim MT"/>
              </a:rPr>
              <a:t>סיכום והחלטות ועדת המדע והטכנולוגיה של הכנסת מישיבתה ביום 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2/7/02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 בנושא “אנטי-אייג’ינג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”   </a:t>
            </a:r>
            <a:r>
              <a:rPr b="1" lang="he-IL" sz="3200" spc="-1" strike="noStrike">
                <a:solidFill>
                  <a:srgbClr val="000020"/>
                </a:solidFill>
                <a:latin typeface="Arial"/>
                <a:ea typeface="Levenim MT"/>
              </a:rPr>
              <a:t>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" name="Text Box 1028"/>
          <p:cNvSpPr/>
          <p:nvPr/>
        </p:nvSpPr>
        <p:spPr>
          <a:xfrm>
            <a:off x="0" y="1905120"/>
            <a:ext cx="9982080" cy="316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327d9"/>
                </a:solidFill>
                <a:latin typeface="David"/>
                <a:cs typeface="David"/>
              </a:rPr>
              <a:t>הועדה  תובעת  לקבל  ממשרד  הבריאות  והמשרד לביטחון  פנים, את  הליך</a:t>
            </a:r>
            <a:r>
              <a:rPr b="1" lang="en-US" sz="4000" spc="-1" strike="noStrike">
                <a:solidFill>
                  <a:srgbClr val="0327d9"/>
                </a:solidFill>
                <a:latin typeface="David"/>
                <a:ea typeface="David"/>
              </a:rPr>
              <a:t> </a:t>
            </a: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</a:t>
            </a:r>
            <a:r>
              <a:rPr b="1" lang="he-IL" sz="4400" spc="-1" strike="noStrike">
                <a:solidFill>
                  <a:srgbClr val="fc0128"/>
                </a:solidFill>
                <a:latin typeface="David"/>
                <a:cs typeface="David"/>
              </a:rPr>
              <a:t>האכיפה  והעמדה  לדין</a:t>
            </a: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במצב  בו  </a:t>
            </a:r>
            <a:r>
              <a:rPr b="1" lang="he-IL" sz="4400" spc="-1" strike="noStrike">
                <a:solidFill>
                  <a:srgbClr val="fc0128"/>
                </a:solidFill>
                <a:latin typeface="David"/>
                <a:cs typeface="David"/>
              </a:rPr>
              <a:t>מתקיימת  עבירה  על  החוק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3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a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10201320" cy="4419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10029960" cy="8380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HEALTH     PROMOTION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400" spc="-1" strike="noStrike">
                <a:solidFill>
                  <a:srgbClr val="00cece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  A  RAPIDLY  CHANGING</a:t>
            </a:r>
            <a:r>
              <a:rPr b="1" lang="en-US" sz="3600" spc="-1" strike="noStrike">
                <a:solidFill>
                  <a:srgbClr val="00cece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ORLD   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59" name="Object 10" descr=""/>
          <p:cNvPicPr/>
          <p:nvPr/>
        </p:nvPicPr>
        <p:blipFill>
          <a:blip r:embed="rId1"/>
          <a:stretch/>
        </p:blipFill>
        <p:spPr>
          <a:xfrm>
            <a:off x="2022480" y="5297400"/>
            <a:ext cx="984240" cy="987480"/>
          </a:xfrm>
          <a:prstGeom prst="rect">
            <a:avLst/>
          </a:prstGeom>
          <a:ln w="0">
            <a:noFill/>
          </a:ln>
          <a:effectLst>
            <a:outerShdw dist="52300" dir="15363565" blurRad="0" rotWithShape="0">
              <a:srgbClr val="ffffff"/>
            </a:outerShdw>
          </a:effectLst>
        </p:spPr>
      </p:pic>
      <p:pic>
        <p:nvPicPr>
          <p:cNvPr id="60" name="Object 15" descr=""/>
          <p:cNvPicPr/>
          <p:nvPr/>
        </p:nvPicPr>
        <p:blipFill>
          <a:blip r:embed="rId2"/>
          <a:stretch/>
        </p:blipFill>
        <p:spPr>
          <a:xfrm>
            <a:off x="800280" y="5729400"/>
            <a:ext cx="533160" cy="671400"/>
          </a:xfrm>
          <a:prstGeom prst="rect">
            <a:avLst/>
          </a:prstGeom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</p:pic>
      <p:pic>
        <p:nvPicPr>
          <p:cNvPr id="61" name="Object 16" descr=""/>
          <p:cNvPicPr/>
          <p:nvPr/>
        </p:nvPicPr>
        <p:blipFill>
          <a:blip r:embed="rId3"/>
          <a:stretch/>
        </p:blipFill>
        <p:spPr>
          <a:xfrm>
            <a:off x="1333440" y="5638680"/>
            <a:ext cx="914400" cy="824040"/>
          </a:xfrm>
          <a:prstGeom prst="rect">
            <a:avLst/>
          </a:prstGeom>
          <a:ln w="0">
            <a:noFill/>
          </a:ln>
          <a:effectLst>
            <a:outerShdw dist="40186" dir="17296359" blurRad="0" rotWithShape="0">
              <a:srgbClr val="fafd00"/>
            </a:outerShdw>
          </a:effectLst>
        </p:spPr>
      </p:pic>
      <p:pic>
        <p:nvPicPr>
          <p:cNvPr id="62" name="Object 17" descr=""/>
          <p:cNvPicPr/>
          <p:nvPr/>
        </p:nvPicPr>
        <p:blipFill>
          <a:blip r:embed="rId4"/>
          <a:stretch/>
        </p:blipFill>
        <p:spPr>
          <a:xfrm>
            <a:off x="2597040" y="4992840"/>
            <a:ext cx="1365480" cy="1292040"/>
          </a:xfrm>
          <a:prstGeom prst="rect">
            <a:avLst/>
          </a:prstGeom>
          <a:ln w="0">
            <a:noFill/>
          </a:ln>
          <a:effectLst>
            <a:outerShdw dist="52300" dir="9963564" blurRad="0" rotWithShape="0">
              <a:srgbClr val="000020"/>
            </a:outerShdw>
          </a:effectLst>
        </p:spPr>
      </p:pic>
      <p:pic>
        <p:nvPicPr>
          <p:cNvPr id="63" name="Object 18" descr=""/>
          <p:cNvPicPr/>
          <p:nvPr/>
        </p:nvPicPr>
        <p:blipFill>
          <a:blip r:embed="rId5"/>
          <a:stretch/>
        </p:blipFill>
        <p:spPr>
          <a:xfrm>
            <a:off x="3670200" y="4516560"/>
            <a:ext cx="1663920" cy="1666800"/>
          </a:xfrm>
          <a:prstGeom prst="rect">
            <a:avLst/>
          </a:prstGeom>
          <a:ln w="0">
            <a:noFill/>
          </a:ln>
          <a:effectLst>
            <a:outerShdw dist="40186" dir="9703641" blurRad="0" rotWithShape="0">
              <a:srgbClr val="000020"/>
            </a:outerShdw>
          </a:effectLst>
        </p:spPr>
      </p:pic>
      <p:pic>
        <p:nvPicPr>
          <p:cNvPr id="64" name="Object 19" descr=""/>
          <p:cNvPicPr/>
          <p:nvPr/>
        </p:nvPicPr>
        <p:blipFill>
          <a:blip r:embed="rId6"/>
          <a:stretch/>
        </p:blipFill>
        <p:spPr>
          <a:xfrm>
            <a:off x="4641840" y="4343400"/>
            <a:ext cx="2133720" cy="1951200"/>
          </a:xfrm>
          <a:prstGeom prst="rect">
            <a:avLst/>
          </a:prstGeom>
          <a:ln w="0">
            <a:noFill/>
          </a:ln>
          <a:effectLst>
            <a:outerShdw dist="40186" dir="9703641" blurRad="0" rotWithShape="0">
              <a:srgbClr val="000020"/>
            </a:outerShdw>
          </a:effectLst>
        </p:spPr>
      </p:pic>
      <p:pic>
        <p:nvPicPr>
          <p:cNvPr id="65" name="Object 22" descr=""/>
          <p:cNvPicPr/>
          <p:nvPr/>
        </p:nvPicPr>
        <p:blipFill>
          <a:blip r:embed="rId7"/>
          <a:stretch/>
        </p:blipFill>
        <p:spPr>
          <a:xfrm>
            <a:off x="76320" y="5715000"/>
            <a:ext cx="914400" cy="1066680"/>
          </a:xfrm>
          <a:prstGeom prst="rect">
            <a:avLst/>
          </a:prstGeom>
          <a:ln w="0">
            <a:noFill/>
          </a:ln>
          <a:effectLst>
            <a:outerShdw dist="45929" dir="19571123" blurRad="0" rotWithShape="0">
              <a:srgbClr val="676767"/>
            </a:outerShdw>
          </a:effectLst>
        </p:spPr>
      </p:pic>
      <p:sp>
        <p:nvSpPr>
          <p:cNvPr id="66" name="Text Box 29"/>
          <p:cNvSpPr/>
          <p:nvPr/>
        </p:nvSpPr>
        <p:spPr>
          <a:xfrm>
            <a:off x="2971800" y="5334120"/>
            <a:ext cx="984240" cy="459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18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3962520" y="5181480"/>
            <a:ext cx="98424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0909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19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1"/>
          <p:cNvSpPr/>
          <p:nvPr/>
        </p:nvSpPr>
        <p:spPr>
          <a:xfrm>
            <a:off x="5334120" y="4890960"/>
            <a:ext cx="1441440" cy="520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Text Box 32"/>
          <p:cNvSpPr/>
          <p:nvPr/>
        </p:nvSpPr>
        <p:spPr>
          <a:xfrm>
            <a:off x="920880" y="6324480"/>
            <a:ext cx="9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.C</a:t>
            </a: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Text Box 37"/>
          <p:cNvSpPr/>
          <p:nvPr/>
        </p:nvSpPr>
        <p:spPr>
          <a:xfrm rot="4200">
            <a:off x="243720" y="1874880"/>
            <a:ext cx="10194840" cy="3110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HROUGHOUT </a:t>
            </a:r>
            <a:r>
              <a:rPr b="1" lang="he-IL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ISTORRY, </a:t>
            </a:r>
            <a:r>
              <a:rPr b="1" lang="he-IL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HE  MAJOR   FACTORS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FFECTING </a:t>
            </a:r>
            <a:r>
              <a:rPr b="1" lang="he-IL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HE  </a:t>
            </a:r>
            <a:r>
              <a:rPr b="1" lang="he-IL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EALTH 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F </a:t>
            </a:r>
            <a:r>
              <a:rPr b="1" lang="he-IL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HE  </a:t>
            </a:r>
            <a:r>
              <a:rPr b="1" lang="he-IL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NERAL  POPULATION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ERE 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 ENVIRONMENTAL                                                  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Text Box 38"/>
          <p:cNvSpPr/>
          <p:nvPr/>
        </p:nvSpPr>
        <p:spPr>
          <a:xfrm rot="20510400">
            <a:off x="7351560" y="2971440"/>
            <a:ext cx="255600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GIENE &amp;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NIT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Text Box 39"/>
          <p:cNvSpPr/>
          <p:nvPr/>
        </p:nvSpPr>
        <p:spPr>
          <a:xfrm rot="20671200">
            <a:off x="7516800" y="4093920"/>
            <a:ext cx="2617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UTRI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 rot="20938800">
            <a:off x="7139880" y="4796640"/>
            <a:ext cx="2803680" cy="17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MUNIZATION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GAINS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FECTIONS            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10201320" cy="4419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0" y="2019240"/>
            <a:ext cx="10287000" cy="1410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9"/>
                </a:solidFill>
                <a:latin typeface="Arial"/>
              </a:rPr>
              <a:t>ALTERNATIVE  MEDICINE - THE RISKS OF UNTESTED AND UNREGULATED MEDICINE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-360" y="228240"/>
            <a:ext cx="10287000" cy="11430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NTI  AGING  MEDICINE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0" y="3792600"/>
            <a:ext cx="10201320" cy="147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9"/>
                </a:solidFill>
                <a:latin typeface="Arial"/>
              </a:rPr>
              <a:t>New England Journal Medicine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9"/>
                </a:solidFill>
                <a:latin typeface="Arial"/>
              </a:rPr>
              <a:t>1998; 339: 839 - 841  ( Editorial )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0" y="5592600"/>
            <a:ext cx="10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Marcia Angell &amp; Jerome P. Kassier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10201320" cy="4419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85680" y="1865160"/>
            <a:ext cx="1020132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THERE  CAN’T BE   TWO  KINDS   OF  MEDICINE -  CONVENTIONAL   AND   ALTERNATIVE… 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152280" y="3254400"/>
            <a:ext cx="9448920" cy="30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THERE  IS   ONLY   MEDICINE   THAT   HAS  BEEN   ADEQUATELY   TESTED               AND  MEDICINE   THAT  HAS  NOT,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MEDICINE  THAT  WORKS   AND  MEDICINE  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THAT  MAY  OR   MAY  NOT  WORK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7010280" y="6400800"/>
            <a:ext cx="3191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New Eng J Med 1998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NTI  AGING  MEDICINE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p:transition spd="slow">
    <p:cut thruBlk="true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10201320" cy="4419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0" y="1676520"/>
            <a:ext cx="10287000" cy="3278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ONCE  TESTED…, IT  NO LONGER MATTERS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WHETHER  IT  WAS  CONSIDERED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ALTERNATIVE  AT  THE  OUTSET.  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IF … FOUND TO BE  REASONABLY  SAFE  AND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EFFECTIVE,     IT  WILL  BE   ACCEPTED.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7010280" y="6324480"/>
            <a:ext cx="3191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New Eng J Med 1998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85680" y="4308480"/>
            <a:ext cx="10201320" cy="28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BUT  ASSERTIONS,  SPECULATION, AND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                                                      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ESTIMONIALS 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DO  NOT  SUBSTITUTE  FOR  EVIDENCE.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 rtl="1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NTI  AGING  MEDICINE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p:transition spd="slow">
    <p:cut thruBlk="true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3"/>
          <p:cNvSpPr/>
          <p:nvPr/>
        </p:nvSpPr>
        <p:spPr>
          <a:xfrm>
            <a:off x="152280" y="1287360"/>
            <a:ext cx="10134720" cy="1604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 MOST DISTURBING  ASPECT OF  THE  ANTI-AGING  MEDICINE MOVEMENT  IS  IT’S  CLEAR CUT COMMERCIALITY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247680" y="6324480"/>
            <a:ext cx="10115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United States General Accounting Office (GAO), Report Sept. 200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314280" y="2138400"/>
            <a:ext cx="9972720" cy="31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MANY OF THE ANTI-AGING PRODUCTS:   MIGHT EVEN POSE PHYSICAL  AND  ECONOMIC HARM…  SENIORS  ARE PARTICULARLY  SUSCEPTIBLE…  RISK  OF  POSSIBLY DANGEROUS  DRUG   INTERACTIONS.   MANY PRODUCTS WERE  FOUND  NOT TO  MEET … CRITERIA  GIVEN  ON THE LABEL… ONE IN 10 HERBAL PRODUCTS MAY BE CONTAMINATED  BY PESTICIDES  AND  HEAVY  METALS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NTI  AGING  MEDICINE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314280" y="5094360"/>
            <a:ext cx="10049040" cy="17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FALSE  HOPES  OF  REJUVENATION  BY  ALTERNATIVE MEDICINE  AND  ANTI - AGING  PRODUCTS… DELAYS APPROPRIATE  PROFESSIONAL  THERAPY  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 rtl="1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0af4"/>
            </a:gs>
            <a:gs pos="100000">
              <a:srgbClr val="f95a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026"/>
          <p:cNvSpPr/>
          <p:nvPr/>
        </p:nvSpPr>
        <p:spPr>
          <a:xfrm>
            <a:off x="0" y="1828800"/>
            <a:ext cx="10247400" cy="4965840"/>
          </a:xfrm>
          <a:prstGeom prst="rect">
            <a:avLst/>
          </a:prstGeom>
          <a:noFill/>
          <a:ln w="0">
            <a:noFill/>
          </a:ln>
          <a:effectLst>
            <a:outerShdw dist="81185" dir="84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3" name="Rectangle 1027"/>
          <p:cNvSpPr/>
          <p:nvPr/>
        </p:nvSpPr>
        <p:spPr>
          <a:xfrm>
            <a:off x="771480" y="15840"/>
            <a:ext cx="9428040" cy="1551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THE  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"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NTI   AGING   EXPERT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"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. THE  FAMILY  PHYSICIAN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4" name="Rectangle 1028"/>
          <p:cNvSpPr/>
          <p:nvPr/>
        </p:nvSpPr>
        <p:spPr>
          <a:xfrm>
            <a:off x="154080" y="2651040"/>
            <a:ext cx="10047240" cy="344196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5" name="Object 1024"/>
          <p:cNvGraphicFramePr/>
          <p:nvPr/>
        </p:nvGraphicFramePr>
        <p:xfrm rot="10800000">
          <a:off x="771480" y="5997240"/>
          <a:ext cx="8732880" cy="9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771480" y="5997240"/>
                    <a:ext cx="873288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342720"/>
            <a:ext cx="102870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358" name="Object 1025"/>
          <p:cNvGraphicFramePr/>
          <p:nvPr/>
        </p:nvGraphicFramePr>
        <p:xfrm>
          <a:off x="1030320" y="1828800"/>
          <a:ext cx="7961400" cy="496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0320" y="1828800"/>
                    <a:ext cx="7961400" cy="4965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360" name="Object 1026"/>
          <p:cNvGraphicFramePr/>
          <p:nvPr/>
        </p:nvGraphicFramePr>
        <p:xfrm>
          <a:off x="1828800" y="3886200"/>
          <a:ext cx="1676520" cy="144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3886200"/>
                    <a:ext cx="1676520" cy="1447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7353" dir="1023752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pic>
        <p:nvPicPr>
          <p:cNvPr id="362" name="Object 1027" descr=""/>
          <p:cNvPicPr/>
          <p:nvPr/>
        </p:nvPicPr>
        <p:blipFill>
          <a:blip r:embed="rId7"/>
          <a:stretch/>
        </p:blipFill>
        <p:spPr>
          <a:xfrm>
            <a:off x="6324480" y="2819520"/>
            <a:ext cx="266724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0af4"/>
            </a:gs>
            <a:gs pos="100000">
              <a:srgbClr val="f95a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0" y="1828800"/>
            <a:ext cx="10247400" cy="4965840"/>
          </a:xfrm>
          <a:prstGeom prst="rect">
            <a:avLst/>
          </a:prstGeom>
          <a:noFill/>
          <a:ln w="0">
            <a:noFill/>
          </a:ln>
          <a:effectLst>
            <a:outerShdw dist="81185" dir="84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771480" y="15840"/>
            <a:ext cx="9428040" cy="1551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THE  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"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NTI   AGING   EXPERT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"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. THE  FAMILY  PHYSICIAN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154080" y="2651040"/>
            <a:ext cx="10047240" cy="344196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6" name="Object 0"/>
          <p:cNvGraphicFramePr/>
          <p:nvPr/>
        </p:nvGraphicFramePr>
        <p:xfrm rot="10800000">
          <a:off x="771480" y="5997240"/>
          <a:ext cx="8732880" cy="9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771480" y="5997240"/>
                    <a:ext cx="873288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-360" y="342720"/>
            <a:ext cx="102870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369" name="Object 1"/>
          <p:cNvGraphicFramePr/>
          <p:nvPr/>
        </p:nvGraphicFramePr>
        <p:xfrm>
          <a:off x="1030320" y="1828800"/>
          <a:ext cx="7961400" cy="496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0320" y="1828800"/>
                    <a:ext cx="7961400" cy="4965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371" name="Object 2"/>
          <p:cNvGraphicFramePr/>
          <p:nvPr/>
        </p:nvGraphicFramePr>
        <p:xfrm>
          <a:off x="1828800" y="3786120"/>
          <a:ext cx="1676520" cy="144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3786120"/>
                    <a:ext cx="1676520" cy="1447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7353" dir="1023752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pic>
        <p:nvPicPr>
          <p:cNvPr id="373" name="Object 3" descr=""/>
          <p:cNvPicPr/>
          <p:nvPr/>
        </p:nvPicPr>
        <p:blipFill>
          <a:blip r:embed="rId7"/>
          <a:stretch/>
        </p:blipFill>
        <p:spPr>
          <a:xfrm>
            <a:off x="6324480" y="2819520"/>
            <a:ext cx="2667240" cy="25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Object 4"/>
          <p:cNvGraphicFramePr/>
          <p:nvPr/>
        </p:nvGraphicFramePr>
        <p:xfrm>
          <a:off x="8626320" y="1905120"/>
          <a:ext cx="669960" cy="761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5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626320" y="1905120"/>
                    <a:ext cx="669960" cy="7617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376" name="Object 5"/>
          <p:cNvGraphicFramePr/>
          <p:nvPr/>
        </p:nvGraphicFramePr>
        <p:xfrm>
          <a:off x="7772400" y="2362320"/>
          <a:ext cx="777960" cy="533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77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772400" y="2362320"/>
                    <a:ext cx="777960" cy="5331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sp>
        <p:nvSpPr>
          <p:cNvPr id="378" name="AutoShape 12"/>
          <p:cNvSpPr/>
          <p:nvPr/>
        </p:nvSpPr>
        <p:spPr>
          <a:xfrm rot="20607000">
            <a:off x="1828440" y="1828440"/>
            <a:ext cx="3505320" cy="1752480"/>
          </a:xfrm>
          <a:prstGeom prst="cloudCallout">
            <a:avLst>
              <a:gd name="adj1" fmla="val -42662"/>
              <a:gd name="adj2" fmla="val 58694"/>
            </a:avLst>
          </a:prstGeom>
          <a:gradFill rotWithShape="0">
            <a:gsLst>
              <a:gs pos="0">
                <a:srgbClr val="0066ff"/>
              </a:gs>
              <a:gs pos="100000">
                <a:srgbClr val="f95ab7"/>
              </a:gs>
            </a:gsLst>
            <a:lin ang="5400000"/>
          </a:gradFill>
          <a:ln w="12600">
            <a:solidFill>
              <a:srgbClr val="fafd00"/>
            </a:solidFill>
            <a:miter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IDENCE  BASE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amp; GOOD PRACTIC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CINE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9" name="AutoShape 13"/>
          <p:cNvSpPr/>
          <p:nvPr/>
        </p:nvSpPr>
        <p:spPr>
          <a:xfrm>
            <a:off x="7620120" y="1600200"/>
            <a:ext cx="1960560" cy="1752480"/>
          </a:xfrm>
          <a:prstGeom prst="cloudCallout">
            <a:avLst>
              <a:gd name="adj1" fmla="val -32833"/>
              <a:gd name="adj2" fmla="val 38675"/>
            </a:avLst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80" name="Object 6"/>
          <p:cNvGraphicFramePr/>
          <p:nvPr/>
        </p:nvGraphicFramePr>
        <p:xfrm>
          <a:off x="7985160" y="1981080"/>
          <a:ext cx="777960" cy="533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81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985160" y="1981080"/>
                    <a:ext cx="777960" cy="5335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sp>
        <p:nvSpPr>
          <p:cNvPr id="382" name="AutoShape 15"/>
          <p:cNvSpPr/>
          <p:nvPr/>
        </p:nvSpPr>
        <p:spPr>
          <a:xfrm rot="16204800">
            <a:off x="5556240" y="1150200"/>
            <a:ext cx="1598760" cy="2957400"/>
          </a:xfrm>
          <a:prstGeom prst="wedgeEllipseCallout">
            <a:avLst>
              <a:gd name="adj1" fmla="val -41000"/>
              <a:gd name="adj2" fmla="val 44527"/>
            </a:avLst>
          </a:prstGeom>
          <a:noFill/>
          <a:ln w="38160">
            <a:solidFill>
              <a:srgbClr val="fafd00"/>
            </a:solidFill>
            <a:miter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MAKE  MONEY !</a:t>
            </a: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BLICITY,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83" name="Object 7" descr=""/>
          <p:cNvPicPr/>
          <p:nvPr/>
        </p:nvPicPr>
        <p:blipFill>
          <a:blip r:embed="rId14"/>
          <a:stretch/>
        </p:blipFill>
        <p:spPr>
          <a:xfrm>
            <a:off x="7315200" y="2971800"/>
            <a:ext cx="2884320" cy="762120"/>
          </a:xfrm>
          <a:prstGeom prst="rect">
            <a:avLst/>
          </a:prstGeom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</p:pic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3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053"/>
          <p:cNvSpPr/>
          <p:nvPr/>
        </p:nvSpPr>
        <p:spPr>
          <a:xfrm>
            <a:off x="0" y="2209680"/>
            <a:ext cx="10287000" cy="47156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USE   AGGRESSIVE   METHODS  OF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MARKETING    TO   PROMOT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                                  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THEIR  CLINICS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(MEDIA, FAMOUS   ACTORS  &amp;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                                     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CELERITIES, Etc.)  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5" name="Text Box 2055"/>
          <p:cNvSpPr/>
          <p:nvPr/>
        </p:nvSpPr>
        <p:spPr>
          <a:xfrm>
            <a:off x="0" y="1859040"/>
            <a:ext cx="10029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  THE  FAMILY  PHYSICIAN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10029960" cy="11430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NTI  AGING  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EXPERTS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"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p:transition spd="slow">
    <p:cut thruBlk="true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3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3"/>
          <p:cNvSpPr/>
          <p:nvPr/>
        </p:nvSpPr>
        <p:spPr>
          <a:xfrm>
            <a:off x="0" y="1523880"/>
            <a:ext cx="10287000" cy="2505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*  CLAIM  TO  SOLVE  A  PROBLEM  THAT  IS 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REALLY  ESSENTIAL - INHIBITION OF AGING…  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0" y="4200480"/>
            <a:ext cx="10287000" cy="267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*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AIM TO BE EXPERTS IN THE FIELD AND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HEREFORE  SUPERIOR  TO  THE  FAMILY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HYSICIAN  THOUGH,  IN MANY CASES  ARE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NOT  SPECIALISTS  IN  ANY  MEDICAL  FIELD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304920" y="2590920"/>
            <a:ext cx="9982080" cy="21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 GOAL   IS  ACTUALLY  INDISTIGUISHABL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 CONVENTIONAL  HEALTH  PROMOTIO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FERED  BY  THE  FAMILY  PHYSICIA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NTI  AGING  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EXPERTS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"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p:transition spd="slow">
    <p:cut thruBlk="true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2"/>
          <p:cNvSpPr/>
          <p:nvPr/>
        </p:nvSpPr>
        <p:spPr>
          <a:xfrm>
            <a:off x="0" y="1523880"/>
            <a:ext cx="10287000" cy="3209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*  PERFORM   (&amp; SEND  TO  THE  U.S.)  MANY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EXPENSIVE  LABORATORY  TESTS   WITH  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ATTRACTIVE   NAMES :  “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LL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   MINERALS 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VITAMINS   AND   ANTI OXIDANTS ” … 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10029960" cy="11430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0" y="4191120"/>
            <a:ext cx="10287000" cy="30855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FOR    MANY   OF   THESE   TESTS,  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NOTHING    PRACTICAL   CAN  BE   DONE  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WITH   THE   RESULTS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1285920" y="34308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fc0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NTI  AGING  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EXPERTS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"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027"/>
          <p:cNvSpPr/>
          <p:nvPr/>
        </p:nvSpPr>
        <p:spPr>
          <a:xfrm>
            <a:off x="0" y="2098800"/>
            <a:ext cx="1028700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* GIVE A VERY CLEAR PROMISE: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“COME TO US,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WE’LL MAKE  YOU  YOUNGER  AND  HEALTHIER!”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" name="Text Box 1029"/>
          <p:cNvSpPr/>
          <p:nvPr/>
        </p:nvSpPr>
        <p:spPr>
          <a:xfrm>
            <a:off x="0" y="1676520"/>
            <a:ext cx="10029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  THE  FAMILY  PHYSICIAN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Text Box 1030"/>
          <p:cNvSpPr/>
          <p:nvPr/>
        </p:nvSpPr>
        <p:spPr>
          <a:xfrm>
            <a:off x="0" y="3898800"/>
            <a:ext cx="1028700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* MIX  CONVENTIONAL  ACCEPTED  REMEDIES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WITH UNPROVEN  BUT  VERY  POPULAR  MEAN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WITH APPEALING NAMES (eg. ANCIENT,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ORIENTAL, REJUVENILE, YOUTH INJECTIONS etc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10029960" cy="11430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NTI  AGING  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EXPERTS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"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p:transition spd="slow">
    <p:cut thruBlk="true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a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10201320" cy="4419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10029960" cy="8380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HEALTH     PROMOTION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400" spc="-1" strike="noStrike">
                <a:solidFill>
                  <a:srgbClr val="00cece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  A  RAPIDLY  CHANGING</a:t>
            </a:r>
            <a:r>
              <a:rPr b="1" lang="en-US" sz="3600" spc="-1" strike="noStrike">
                <a:solidFill>
                  <a:srgbClr val="00cece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ORLD   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76" name="Object 1030" descr=""/>
          <p:cNvPicPr/>
          <p:nvPr/>
        </p:nvPicPr>
        <p:blipFill>
          <a:blip r:embed="rId1"/>
          <a:stretch/>
        </p:blipFill>
        <p:spPr>
          <a:xfrm>
            <a:off x="990720" y="5729400"/>
            <a:ext cx="533160" cy="671400"/>
          </a:xfrm>
          <a:prstGeom prst="rect">
            <a:avLst/>
          </a:prstGeom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</p:pic>
      <p:pic>
        <p:nvPicPr>
          <p:cNvPr id="77" name="Object 1031" descr=""/>
          <p:cNvPicPr/>
          <p:nvPr/>
        </p:nvPicPr>
        <p:blipFill>
          <a:blip r:embed="rId2"/>
          <a:stretch/>
        </p:blipFill>
        <p:spPr>
          <a:xfrm>
            <a:off x="1523880" y="5562720"/>
            <a:ext cx="914400" cy="823680"/>
          </a:xfrm>
          <a:prstGeom prst="rect">
            <a:avLst/>
          </a:prstGeom>
          <a:ln w="0">
            <a:noFill/>
          </a:ln>
          <a:effectLst>
            <a:outerShdw dist="40186" dir="17296359" blurRad="0" rotWithShape="0">
              <a:srgbClr val="fafd00"/>
            </a:outerShdw>
          </a:effectLst>
        </p:spPr>
      </p:pic>
      <p:pic>
        <p:nvPicPr>
          <p:cNvPr id="78" name="Object 1035" descr=""/>
          <p:cNvPicPr/>
          <p:nvPr/>
        </p:nvPicPr>
        <p:blipFill>
          <a:blip r:embed="rId3"/>
          <a:stretch/>
        </p:blipFill>
        <p:spPr>
          <a:xfrm>
            <a:off x="76320" y="5715000"/>
            <a:ext cx="914400" cy="1066680"/>
          </a:xfrm>
          <a:prstGeom prst="rect">
            <a:avLst/>
          </a:prstGeom>
          <a:ln w="0">
            <a:noFill/>
          </a:ln>
          <a:effectLst>
            <a:outerShdw dist="45929" dir="19571123" blurRad="0" rotWithShape="0">
              <a:srgbClr val="676767"/>
            </a:outerShdw>
          </a:effectLst>
        </p:spPr>
      </p:pic>
      <p:pic>
        <p:nvPicPr>
          <p:cNvPr id="79" name="Object 1036" descr=""/>
          <p:cNvPicPr/>
          <p:nvPr/>
        </p:nvPicPr>
        <p:blipFill>
          <a:blip r:embed="rId4"/>
          <a:stretch/>
        </p:blipFill>
        <p:spPr>
          <a:xfrm>
            <a:off x="7543800" y="4038480"/>
            <a:ext cx="2743200" cy="1967040"/>
          </a:xfrm>
          <a:prstGeom prst="rect">
            <a:avLst/>
          </a:prstGeom>
          <a:ln w="0">
            <a:noFill/>
          </a:ln>
          <a:effectLst>
            <a:outerShdw dist="127008" dir="8583908" blurRad="0" rotWithShape="0">
              <a:srgbClr val="ffffff"/>
            </a:outerShdw>
          </a:effectLst>
        </p:spPr>
      </p:pic>
      <p:sp>
        <p:nvSpPr>
          <p:cNvPr id="80" name="Text Box 1037"/>
          <p:cNvSpPr/>
          <p:nvPr/>
        </p:nvSpPr>
        <p:spPr>
          <a:xfrm>
            <a:off x="3206880" y="5334120"/>
            <a:ext cx="984240" cy="459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18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Text Box 1040"/>
          <p:cNvSpPr/>
          <p:nvPr/>
        </p:nvSpPr>
        <p:spPr>
          <a:xfrm>
            <a:off x="920880" y="6324480"/>
            <a:ext cx="9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.C</a:t>
            </a: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82" name="Object 1041" descr=""/>
          <p:cNvPicPr/>
          <p:nvPr/>
        </p:nvPicPr>
        <p:blipFill>
          <a:blip r:embed="rId5"/>
          <a:stretch/>
        </p:blipFill>
        <p:spPr>
          <a:xfrm>
            <a:off x="7543800" y="1905120"/>
            <a:ext cx="2743200" cy="2590560"/>
          </a:xfrm>
          <a:prstGeom prst="rect">
            <a:avLst/>
          </a:prstGeom>
          <a:ln w="0">
            <a:noFill/>
          </a:ln>
          <a:effectLst>
            <a:outerShdw dist="200703" dir="11904147" blurRad="0" rotWithShape="0">
              <a:srgbClr val="fafd00"/>
            </a:outerShdw>
          </a:effectLst>
        </p:spPr>
      </p:pic>
      <p:sp>
        <p:nvSpPr>
          <p:cNvPr id="83" name="Text Box 1042"/>
          <p:cNvSpPr/>
          <p:nvPr/>
        </p:nvSpPr>
        <p:spPr>
          <a:xfrm>
            <a:off x="7772400" y="3625920"/>
            <a:ext cx="210492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20"/>
                </a:solidFill>
                <a:latin typeface="Arial"/>
              </a:rPr>
              <a:t>21st.  CENTURY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Text Box 1043"/>
          <p:cNvSpPr/>
          <p:nvPr/>
        </p:nvSpPr>
        <p:spPr>
          <a:xfrm rot="19200">
            <a:off x="235800" y="1781280"/>
            <a:ext cx="8831160" cy="31932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N   THE   21st.   CENTURY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,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THE   MAJOR   FACTOR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AFFECTING   HEALTH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OF 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THE  GENERAL  POPULATION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                                                  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Text Box 1047"/>
          <p:cNvSpPr/>
          <p:nvPr/>
        </p:nvSpPr>
        <p:spPr>
          <a:xfrm>
            <a:off x="1905120" y="6156360"/>
            <a:ext cx="4572000" cy="703440"/>
          </a:xfrm>
          <a:prstGeom prst="rect">
            <a:avLst/>
          </a:prstGeom>
          <a:noFill/>
          <a:ln w="0">
            <a:noFill/>
          </a:ln>
          <a:effectLst>
            <a:outerShdw dist="40186" dir="15103642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BIOLOGICAL  -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Text Box 1050"/>
          <p:cNvSpPr/>
          <p:nvPr/>
        </p:nvSpPr>
        <p:spPr>
          <a:xfrm>
            <a:off x="6629400" y="6095880"/>
            <a:ext cx="3657600" cy="764280"/>
          </a:xfrm>
          <a:prstGeom prst="rect">
            <a:avLst/>
          </a:prstGeom>
          <a:noFill/>
          <a:ln w="0">
            <a:noFill/>
          </a:ln>
          <a:effectLst>
            <a:outerShdw dist="40186" dir="15103642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G I N G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!!!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87" name="Object 1051" descr=""/>
          <p:cNvPicPr/>
          <p:nvPr/>
        </p:nvPicPr>
        <p:blipFill>
          <a:blip r:embed="rId6"/>
          <a:stretch/>
        </p:blipFill>
        <p:spPr>
          <a:xfrm>
            <a:off x="2209680" y="5334120"/>
            <a:ext cx="984240" cy="838080"/>
          </a:xfrm>
          <a:prstGeom prst="rect">
            <a:avLst/>
          </a:prstGeom>
          <a:ln w="0">
            <a:noFill/>
          </a:ln>
          <a:effectLst>
            <a:outerShdw dist="52300" dir="15363565" blurRad="0" rotWithShape="0">
              <a:srgbClr val="ffffff"/>
            </a:outerShdw>
          </a:effectLst>
        </p:spPr>
      </p:pic>
      <p:pic>
        <p:nvPicPr>
          <p:cNvPr id="88" name="Object 1052" descr=""/>
          <p:cNvPicPr/>
          <p:nvPr/>
        </p:nvPicPr>
        <p:blipFill>
          <a:blip r:embed="rId7"/>
          <a:stretch/>
        </p:blipFill>
        <p:spPr>
          <a:xfrm>
            <a:off x="2895480" y="5105520"/>
            <a:ext cx="1212840" cy="914400"/>
          </a:xfrm>
          <a:prstGeom prst="rect">
            <a:avLst/>
          </a:prstGeom>
          <a:ln w="0">
            <a:noFill/>
          </a:ln>
          <a:effectLst>
            <a:outerShdw dist="52300" dir="9963564" blurRad="0" rotWithShape="0">
              <a:srgbClr val="000020"/>
            </a:outerShdw>
          </a:effectLst>
        </p:spPr>
      </p:pic>
      <p:pic>
        <p:nvPicPr>
          <p:cNvPr id="89" name="Object 1053" descr=""/>
          <p:cNvPicPr/>
          <p:nvPr/>
        </p:nvPicPr>
        <p:blipFill>
          <a:blip r:embed="rId8"/>
          <a:stretch/>
        </p:blipFill>
        <p:spPr>
          <a:xfrm>
            <a:off x="3657600" y="4876920"/>
            <a:ext cx="1219320" cy="1143000"/>
          </a:xfrm>
          <a:prstGeom prst="rect">
            <a:avLst/>
          </a:prstGeom>
          <a:ln w="0">
            <a:noFill/>
          </a:ln>
          <a:effectLst>
            <a:outerShdw dist="40186" dir="9703641" blurRad="0" rotWithShape="0">
              <a:srgbClr val="000020"/>
            </a:outerShdw>
          </a:effectLst>
        </p:spPr>
      </p:pic>
      <p:sp>
        <p:nvSpPr>
          <p:cNvPr id="90" name="Text Box 1054"/>
          <p:cNvSpPr/>
          <p:nvPr/>
        </p:nvSpPr>
        <p:spPr>
          <a:xfrm>
            <a:off x="3809880" y="5257800"/>
            <a:ext cx="98424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0909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19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91" name="Object 1055" descr=""/>
          <p:cNvPicPr/>
          <p:nvPr/>
        </p:nvPicPr>
        <p:blipFill>
          <a:blip r:embed="rId9"/>
          <a:stretch/>
        </p:blipFill>
        <p:spPr>
          <a:xfrm>
            <a:off x="4572000" y="4648320"/>
            <a:ext cx="1454040" cy="1355760"/>
          </a:xfrm>
          <a:prstGeom prst="rect">
            <a:avLst/>
          </a:prstGeom>
          <a:ln w="0">
            <a:noFill/>
          </a:ln>
          <a:effectLst>
            <a:outerShdw dist="40186" dir="9703641" blurRad="0" rotWithShape="0">
              <a:srgbClr val="000020"/>
            </a:outerShdw>
          </a:effectLst>
        </p:spPr>
      </p:pic>
      <p:sp>
        <p:nvSpPr>
          <p:cNvPr id="92" name="Text Box 1056"/>
          <p:cNvSpPr/>
          <p:nvPr/>
        </p:nvSpPr>
        <p:spPr>
          <a:xfrm>
            <a:off x="4876920" y="5105520"/>
            <a:ext cx="1441440" cy="520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6"/>
          <p:cNvSpPr/>
          <p:nvPr/>
        </p:nvSpPr>
        <p:spPr>
          <a:xfrm>
            <a:off x="0" y="4267080"/>
            <a:ext cx="10287000" cy="2671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AKE  ADVANTAGE  OF A UNIVERSAL HUMAN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WEAKNESS,  BASED  ON  THE  HOPE  AND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DESIRE  OF  EACH AND  EVERY  ONE  OF US,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O  BE  YOUNG  AND HEALTHY  FOREVER…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0" y="1447920"/>
            <a:ext cx="10287000" cy="3426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* FIGHT SCIENTIFIC CRITICS  USING POPULAR,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PSYCHOLOGICALLY  APPEALING  MANS: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MANY  GREAT INVENTIONS  HAVE NOT BEEN  PROVEN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OR  ACCEPTED INITIALLY…  OBVIOUSLY,  OTHER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OCTORS  ARE   ENVY  BECAUSE  OF  OUR  SUCCESS..”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10029960" cy="11430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NTI  AGING  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EXPERTS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"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p:transition spd="slow">
    <p:cut thruBlk="true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9753480" cy="1523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c0128"/>
                </a:solidFill>
                <a:latin typeface="Arial"/>
              </a:rPr>
              <a:t>DEFINITION OF  AGING</a:t>
            </a:r>
            <a:endParaRPr b="0" lang="en-US" sz="6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6320" y="1676520"/>
            <a:ext cx="10134360" cy="316548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ging  is  the  Process  that  Convert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                   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Fit  Adults  into  Frailer  Adults 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ith  a  Progressive  Increased  Risk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                      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of  Illness, Injury  and  Death.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0" y="5365800"/>
            <a:ext cx="1028700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Miriam"/>
              </a:rPr>
              <a:t>Richard A. Miller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Miriam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iriam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iriam"/>
              </a:rPr>
              <a:t>J Gerontol, Biological Sciences 1999:  54A: 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iriam"/>
              </a:rPr>
              <a:t>297 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iriam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iriam"/>
              </a:rPr>
              <a:t>307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iriam"/>
              </a:rPr>
              <a:t>.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6"/>
          <p:cNvGraphicFramePr/>
          <p:nvPr/>
        </p:nvGraphicFramePr>
        <p:xfrm>
          <a:off x="4991040" y="1978200"/>
          <a:ext cx="3314880" cy="35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91040" y="1978200"/>
                    <a:ext cx="3314880" cy="3508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18900000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10287000" cy="685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afd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THE   “BAD  SIDE”  OF   AGING:</a:t>
            </a:r>
            <a:br>
              <a:rPr sz="4400"/>
            </a:br>
            <a:br>
              <a:rPr sz="4400"/>
            </a:br>
            <a:r>
              <a:rPr b="1" lang="en-US" sz="3400" spc="-1" strike="noStrike">
                <a:solidFill>
                  <a:srgbClr val="fc0128"/>
                </a:solidFill>
                <a:latin typeface="Arial"/>
              </a:rPr>
              <a:t>AGE - RELATED   DISEASES  &amp;  DISFUNCTIONS</a:t>
            </a:r>
            <a:endParaRPr b="0" lang="en-US" sz="3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3504960"/>
            <a:ext cx="10201320" cy="113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IMPAIRED  IMMUNITY                                  INCONTINENCE 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OSTEOPOROSIS  &amp;  OSTEOARTHROSIS 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0" y="1978200"/>
            <a:ext cx="10287000" cy="1463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THEROSCLEROSIS        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                             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 A N C E R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                                           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 E M E N T I A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                                                   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 E P R E S S I O N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0" y="4765680"/>
            <a:ext cx="10287000" cy="2268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IABETES   MELLITUS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ATARACT,       GLAUCOMA,   AMD,  RESBYOPIA,          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HEARING  LOSS,  PRESBYACUSIS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ROSTATIC   HYPERTROPHY,   PARKINSON’S  DISEAS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a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10029960" cy="8380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HEALTH     PROMOTION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400" spc="-1" strike="noStrike">
                <a:solidFill>
                  <a:srgbClr val="00cece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  A  RAPIDLY  CHANGING</a:t>
            </a:r>
            <a:r>
              <a:rPr b="1" lang="en-US" sz="3600" spc="-1" strike="noStrike">
                <a:solidFill>
                  <a:srgbClr val="00cece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ORLD   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0" y="1905120"/>
            <a:ext cx="10287000" cy="703440"/>
          </a:xfrm>
          <a:prstGeom prst="rect">
            <a:avLst/>
          </a:prstGeom>
          <a:noFill/>
          <a:ln w="0">
            <a:noFill/>
          </a:ln>
          <a:effectLst>
            <a:outerShdw dist="50760" dir="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MEDIAL CARE CHANGE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0" y="2666880"/>
            <a:ext cx="1028700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5"/>
                </a:solidFill>
                <a:latin typeface="Arial"/>
              </a:rPr>
              <a:t>Better Treatment for Acute Diseases  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05" name="Object 17" descr=""/>
          <p:cNvPicPr/>
          <p:nvPr/>
        </p:nvPicPr>
        <p:blipFill>
          <a:blip r:embed="rId1"/>
          <a:stretch/>
        </p:blipFill>
        <p:spPr>
          <a:xfrm>
            <a:off x="7772400" y="3322800"/>
            <a:ext cx="2514600" cy="1630080"/>
          </a:xfrm>
          <a:prstGeom prst="rect">
            <a:avLst/>
          </a:prstGeom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</p:pic>
      <p:pic>
        <p:nvPicPr>
          <p:cNvPr id="106" name="Object 18" descr=""/>
          <p:cNvPicPr/>
          <p:nvPr/>
        </p:nvPicPr>
        <p:blipFill>
          <a:blip r:embed="rId2"/>
          <a:stretch/>
        </p:blipFill>
        <p:spPr>
          <a:xfrm>
            <a:off x="1600200" y="3565440"/>
            <a:ext cx="2286000" cy="1325520"/>
          </a:xfrm>
          <a:prstGeom prst="rect">
            <a:avLst/>
          </a:prstGeom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</p:pic>
      <p:sp>
        <p:nvSpPr>
          <p:cNvPr id="107" name="Text Box 20"/>
          <p:cNvSpPr/>
          <p:nvPr/>
        </p:nvSpPr>
        <p:spPr>
          <a:xfrm>
            <a:off x="0" y="4495680"/>
            <a:ext cx="102870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5"/>
                </a:solidFill>
                <a:latin typeface="Arial"/>
              </a:rPr>
              <a:t>Increased Need for Chronic &amp; Palliative Care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08" name="Object 21" descr=""/>
          <p:cNvPicPr/>
          <p:nvPr/>
        </p:nvPicPr>
        <p:blipFill>
          <a:blip r:embed="rId3"/>
          <a:stretch/>
        </p:blipFill>
        <p:spPr>
          <a:xfrm>
            <a:off x="3886200" y="5530680"/>
            <a:ext cx="3429000" cy="1175040"/>
          </a:xfrm>
          <a:prstGeom prst="rect">
            <a:avLst/>
          </a:prstGeom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</p:pic>
    </p:spTree>
  </p:cSld>
  <p:transition spd="slow">
    <p:cut thruBlk="true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1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320" y="-360"/>
            <a:ext cx="10201320" cy="152388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HEALTH 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PROMOTION   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IN THE  21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T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 CENTURY</a:t>
            </a:r>
            <a:endParaRPr b="0" lang="en-US" sz="48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10" name="Object 8" descr=""/>
          <p:cNvPicPr/>
          <p:nvPr/>
        </p:nvPicPr>
        <p:blipFill>
          <a:blip r:embed="rId1"/>
          <a:stretch/>
        </p:blipFill>
        <p:spPr>
          <a:xfrm>
            <a:off x="7010280" y="5583240"/>
            <a:ext cx="824040" cy="1351080"/>
          </a:xfrm>
          <a:prstGeom prst="rect">
            <a:avLst/>
          </a:prstGeom>
          <a:ln w="0">
            <a:noFill/>
          </a:ln>
          <a:effectLst>
            <a:outerShdw dist="25560" dir="10800000" blurRad="0" rotWithShape="0">
              <a:srgbClr val="fafd00"/>
            </a:outerShdw>
          </a:effectLst>
        </p:spPr>
      </p:pic>
      <p:pic>
        <p:nvPicPr>
          <p:cNvPr id="111" name="Object 9" descr=""/>
          <p:cNvPicPr/>
          <p:nvPr/>
        </p:nvPicPr>
        <p:blipFill>
          <a:blip r:embed="rId2"/>
          <a:stretch/>
        </p:blipFill>
        <p:spPr>
          <a:xfrm>
            <a:off x="5791320" y="5791320"/>
            <a:ext cx="804600" cy="114300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afd00"/>
            </a:outerShdw>
          </a:effectLst>
        </p:spPr>
      </p:pic>
      <p:pic>
        <p:nvPicPr>
          <p:cNvPr id="112" name="Object 10" descr=""/>
          <p:cNvPicPr/>
          <p:nvPr/>
        </p:nvPicPr>
        <p:blipFill>
          <a:blip r:embed="rId3"/>
          <a:stretch/>
        </p:blipFill>
        <p:spPr>
          <a:xfrm>
            <a:off x="4114800" y="5767560"/>
            <a:ext cx="806400" cy="1166760"/>
          </a:xfrm>
          <a:prstGeom prst="rect">
            <a:avLst/>
          </a:prstGeom>
          <a:ln w="0">
            <a:noFill/>
          </a:ln>
          <a:effectLst>
            <a:outerShdw dist="45929" dir="14171123" blurRad="0" rotWithShape="0">
              <a:srgbClr val="fafd00"/>
            </a:outerShdw>
          </a:effectLst>
        </p:spPr>
      </p:pic>
      <p:pic>
        <p:nvPicPr>
          <p:cNvPr id="113" name="Object 11" descr=""/>
          <p:cNvPicPr/>
          <p:nvPr/>
        </p:nvPicPr>
        <p:blipFill>
          <a:blip r:embed="rId4"/>
          <a:stretch/>
        </p:blipFill>
        <p:spPr>
          <a:xfrm>
            <a:off x="-76320" y="5410080"/>
            <a:ext cx="2514600" cy="1447920"/>
          </a:xfrm>
          <a:prstGeom prst="rect">
            <a:avLst/>
          </a:prstGeom>
          <a:ln w="0">
            <a:noFill/>
          </a:ln>
        </p:spPr>
      </p:pic>
      <p:pic>
        <p:nvPicPr>
          <p:cNvPr id="114" name="Object 14" descr=""/>
          <p:cNvPicPr/>
          <p:nvPr/>
        </p:nvPicPr>
        <p:blipFill>
          <a:blip r:embed="rId5"/>
          <a:stretch/>
        </p:blipFill>
        <p:spPr>
          <a:xfrm>
            <a:off x="2362320" y="5562720"/>
            <a:ext cx="914400" cy="12952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afd00"/>
            </a:outerShdw>
          </a:effectLst>
        </p:spPr>
      </p:pic>
      <p:pic>
        <p:nvPicPr>
          <p:cNvPr id="115" name="Object 151" descr=""/>
          <p:cNvPicPr/>
          <p:nvPr/>
        </p:nvPicPr>
        <p:blipFill>
          <a:blip r:embed="rId6"/>
          <a:stretch/>
        </p:blipFill>
        <p:spPr>
          <a:xfrm>
            <a:off x="8186760" y="6019920"/>
            <a:ext cx="2100240" cy="838080"/>
          </a:xfrm>
          <a:prstGeom prst="rect">
            <a:avLst/>
          </a:prstGeom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5320" y="2057400"/>
            <a:ext cx="10201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HOW  CAN   WE   PROMOTE  HEALTH  FOR  PEOPLE  IN  ALL  AGE  GROUP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Text Box 155"/>
          <p:cNvSpPr/>
          <p:nvPr/>
        </p:nvSpPr>
        <p:spPr>
          <a:xfrm>
            <a:off x="0" y="3352680"/>
            <a:ext cx="102870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  THE  PRESENCE  OF  THE  GERIATRIC   BOOM   BURDEN  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" y="228240"/>
            <a:ext cx="10115640" cy="1523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afd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GERIATRIC  BOOM   BURDE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2971800" y="3581280"/>
          <a:ext cx="615960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581280"/>
                    <a:ext cx="6159600" cy="3276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63504" dir="18416092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80" y="1828800"/>
            <a:ext cx="10201320" cy="502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HE    SUM    OF                                                      THE   EXPONENTIALLY   ACCUMULATING  MEDICAL,  ECONOMIC   AND   SOCIAL            AGE - RELATED   PROBLEM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122" name="Object 8"/>
          <p:cNvGraphicFramePr/>
          <p:nvPr/>
        </p:nvGraphicFramePr>
        <p:xfrm>
          <a:off x="1219320" y="4038480"/>
          <a:ext cx="3124080" cy="28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038480"/>
                    <a:ext cx="3124080" cy="28195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pic>
        <p:nvPicPr>
          <p:cNvPr id="124" name="Object 9" descr=""/>
          <p:cNvPicPr/>
          <p:nvPr/>
        </p:nvPicPr>
        <p:blipFill>
          <a:blip r:embed="rId5"/>
          <a:stretch/>
        </p:blipFill>
        <p:spPr>
          <a:xfrm>
            <a:off x="4495680" y="4470480"/>
            <a:ext cx="1716120" cy="2387520"/>
          </a:xfrm>
          <a:prstGeom prst="rect">
            <a:avLst/>
          </a:prstGeom>
          <a:ln w="0">
            <a:noFill/>
          </a:ln>
        </p:spPr>
      </p:pic>
      <p:pic>
        <p:nvPicPr>
          <p:cNvPr id="125" name="Object 10" descr=""/>
          <p:cNvPicPr/>
          <p:nvPr/>
        </p:nvPicPr>
        <p:blipFill>
          <a:blip r:embed="rId6"/>
          <a:stretch/>
        </p:blipFill>
        <p:spPr>
          <a:xfrm>
            <a:off x="4648320" y="4470480"/>
            <a:ext cx="1716120" cy="2387520"/>
          </a:xfrm>
          <a:prstGeom prst="rect">
            <a:avLst/>
          </a:prstGeom>
          <a:ln w="0">
            <a:noFill/>
          </a:ln>
        </p:spPr>
      </p:pic>
      <p:pic>
        <p:nvPicPr>
          <p:cNvPr id="126" name="Object 11" descr=""/>
          <p:cNvPicPr/>
          <p:nvPr/>
        </p:nvPicPr>
        <p:blipFill>
          <a:blip r:embed="rId7"/>
          <a:stretch/>
        </p:blipFill>
        <p:spPr>
          <a:xfrm>
            <a:off x="4648320" y="4470480"/>
            <a:ext cx="1716120" cy="2387520"/>
          </a:xfrm>
          <a:prstGeom prst="rect">
            <a:avLst/>
          </a:prstGeom>
          <a:ln w="0">
            <a:noFill/>
          </a:ln>
        </p:spPr>
      </p:pic>
      <p:pic>
        <p:nvPicPr>
          <p:cNvPr id="127" name="Object 12" descr=""/>
          <p:cNvPicPr/>
          <p:nvPr/>
        </p:nvPicPr>
        <p:blipFill>
          <a:blip r:embed="rId8"/>
          <a:stretch/>
        </p:blipFill>
        <p:spPr>
          <a:xfrm>
            <a:off x="4038480" y="4470480"/>
            <a:ext cx="1716120" cy="2387520"/>
          </a:xfrm>
          <a:prstGeom prst="rect">
            <a:avLst/>
          </a:prstGeom>
          <a:ln w="0">
            <a:noFill/>
          </a:ln>
        </p:spPr>
      </p:pic>
      <p:pic>
        <p:nvPicPr>
          <p:cNvPr id="128" name="Object 13" descr=""/>
          <p:cNvPicPr/>
          <p:nvPr/>
        </p:nvPicPr>
        <p:blipFill>
          <a:blip r:embed="rId9"/>
          <a:stretch/>
        </p:blipFill>
        <p:spPr>
          <a:xfrm>
            <a:off x="4800600" y="4470480"/>
            <a:ext cx="1716120" cy="238752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14" descr=""/>
          <p:cNvPicPr/>
          <p:nvPr/>
        </p:nvPicPr>
        <p:blipFill>
          <a:blip r:embed="rId10"/>
          <a:stretch/>
        </p:blipFill>
        <p:spPr>
          <a:xfrm>
            <a:off x="4952880" y="4470480"/>
            <a:ext cx="1716120" cy="2387520"/>
          </a:xfrm>
          <a:prstGeom prst="rect">
            <a:avLst/>
          </a:prstGeom>
          <a:ln w="0">
            <a:noFill/>
          </a:ln>
        </p:spPr>
      </p:pic>
      <p:pic>
        <p:nvPicPr>
          <p:cNvPr id="130" name="Object 15" descr=""/>
          <p:cNvPicPr/>
          <p:nvPr/>
        </p:nvPicPr>
        <p:blipFill>
          <a:blip r:embed="rId11"/>
          <a:stretch/>
        </p:blipFill>
        <p:spPr>
          <a:xfrm>
            <a:off x="4572000" y="4470480"/>
            <a:ext cx="1716120" cy="238752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16" descr=""/>
          <p:cNvPicPr/>
          <p:nvPr/>
        </p:nvPicPr>
        <p:blipFill>
          <a:blip r:embed="rId12"/>
          <a:stretch/>
        </p:blipFill>
        <p:spPr>
          <a:xfrm>
            <a:off x="5029200" y="4470480"/>
            <a:ext cx="1716120" cy="238752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17" descr=""/>
          <p:cNvPicPr/>
          <p:nvPr/>
        </p:nvPicPr>
        <p:blipFill>
          <a:blip r:embed="rId13"/>
          <a:stretch/>
        </p:blipFill>
        <p:spPr>
          <a:xfrm>
            <a:off x="5446800" y="4546440"/>
            <a:ext cx="1868400" cy="238788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19" descr=""/>
          <p:cNvPicPr/>
          <p:nvPr/>
        </p:nvPicPr>
        <p:blipFill>
          <a:blip r:embed="rId14"/>
          <a:stretch/>
        </p:blipFill>
        <p:spPr>
          <a:xfrm>
            <a:off x="6095880" y="5410080"/>
            <a:ext cx="990720" cy="1524240"/>
          </a:xfrm>
          <a:prstGeom prst="rect">
            <a:avLst/>
          </a:prstGeom>
          <a:ln w="0">
            <a:noFill/>
          </a:ln>
        </p:spPr>
      </p:pic>
      <p:pic>
        <p:nvPicPr>
          <p:cNvPr id="134" name="Object 20" descr=""/>
          <p:cNvPicPr/>
          <p:nvPr/>
        </p:nvPicPr>
        <p:blipFill>
          <a:blip r:embed="rId15"/>
          <a:stretch/>
        </p:blipFill>
        <p:spPr>
          <a:xfrm>
            <a:off x="6324480" y="571500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21" descr=""/>
          <p:cNvPicPr/>
          <p:nvPr/>
        </p:nvPicPr>
        <p:blipFill>
          <a:blip r:embed="rId16"/>
          <a:stretch/>
        </p:blipFill>
        <p:spPr>
          <a:xfrm>
            <a:off x="6629400" y="601992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136" name="Object 22" descr=""/>
          <p:cNvPicPr/>
          <p:nvPr/>
        </p:nvPicPr>
        <p:blipFill>
          <a:blip r:embed="rId17"/>
          <a:stretch/>
        </p:blipFill>
        <p:spPr>
          <a:xfrm>
            <a:off x="6553080" y="6248520"/>
            <a:ext cx="1752840" cy="60948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808080"/>
            </a:outerShdw>
          </a:effectLst>
        </p:spPr>
      </p:pic>
      <p:pic>
        <p:nvPicPr>
          <p:cNvPr id="137" name="Object 23" descr=""/>
          <p:cNvPicPr/>
          <p:nvPr/>
        </p:nvPicPr>
        <p:blipFill>
          <a:blip r:embed="rId18"/>
          <a:stretch/>
        </p:blipFill>
        <p:spPr>
          <a:xfrm>
            <a:off x="6858000" y="6248520"/>
            <a:ext cx="1752480" cy="60948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fafd00"/>
            </a:outerShdw>
          </a:effectLst>
        </p:spPr>
      </p:pic>
      <p:pic>
        <p:nvPicPr>
          <p:cNvPr id="138" name="Object 24" descr=""/>
          <p:cNvPicPr/>
          <p:nvPr/>
        </p:nvPicPr>
        <p:blipFill>
          <a:blip r:embed="rId19"/>
          <a:stretch/>
        </p:blipFill>
        <p:spPr>
          <a:xfrm>
            <a:off x="7848720" y="6324480"/>
            <a:ext cx="1523880" cy="45720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fafd00"/>
            </a:outerShdw>
          </a:effectLst>
        </p:spPr>
      </p:pic>
      <p:pic>
        <p:nvPicPr>
          <p:cNvPr id="139" name="Object 26" descr=""/>
          <p:cNvPicPr/>
          <p:nvPr/>
        </p:nvPicPr>
        <p:blipFill>
          <a:blip r:embed="rId20"/>
          <a:stretch/>
        </p:blipFill>
        <p:spPr>
          <a:xfrm>
            <a:off x="84240" y="5562720"/>
            <a:ext cx="753840" cy="6858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fafd00"/>
            </a:outerShdw>
          </a:effectLst>
        </p:spPr>
      </p:pic>
      <p:pic>
        <p:nvPicPr>
          <p:cNvPr id="140" name="Object 27" descr=""/>
          <p:cNvPicPr/>
          <p:nvPr/>
        </p:nvPicPr>
        <p:blipFill>
          <a:blip r:embed="rId21"/>
          <a:stretch/>
        </p:blipFill>
        <p:spPr>
          <a:xfrm>
            <a:off x="838080" y="5181480"/>
            <a:ext cx="457200" cy="685800"/>
          </a:xfrm>
          <a:prstGeom prst="rect">
            <a:avLst/>
          </a:prstGeom>
          <a:ln w="0">
            <a:noFill/>
          </a:ln>
          <a:effectLst>
            <a:outerShdw dist="12600" dir="5400000" blurRad="0" rotWithShape="0">
              <a:srgbClr val="fafd00"/>
            </a:outerShdw>
          </a:effectLst>
        </p:spPr>
      </p:pic>
      <p:pic>
        <p:nvPicPr>
          <p:cNvPr id="141" name="Object 28" descr=""/>
          <p:cNvPicPr/>
          <p:nvPr/>
        </p:nvPicPr>
        <p:blipFill>
          <a:blip r:embed="rId22"/>
          <a:stretch/>
        </p:blipFill>
        <p:spPr>
          <a:xfrm>
            <a:off x="2514600" y="3733920"/>
            <a:ext cx="1447920" cy="31240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3"/>
          <p:cNvSpPr/>
          <p:nvPr/>
        </p:nvSpPr>
        <p:spPr>
          <a:xfrm>
            <a:off x="2857680" y="228600"/>
            <a:ext cx="41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ARFINKEL 1997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2T02:47:18Z</dcterms:created>
  <dc:creator>DORON</dc:creator>
  <dc:description/>
  <dc:language>en-US</dc:language>
  <cp:lastModifiedBy>דורון</cp:lastModifiedBy>
  <dcterms:modified xsi:type="dcterms:W3CDTF">2010-08-16T16:15:37Z</dcterms:modified>
  <cp:revision>255</cp:revision>
  <dc:subject/>
  <dc:title>ZINC 96</dc:title>
</cp:coreProperties>
</file>