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TYPE.WAV" ContentType="audio/x-wav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41.wmf" ContentType="image/x-wmf"/>
  <Override PartName="/ppt/media/image4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4.jpeg" ContentType="image/jpeg"/>
  <Override PartName="/ppt/media/image6.wmf" ContentType="image/x-wmf"/>
  <Override PartName="/ppt/media/image36.wmf" ContentType="image/x-wmf"/>
  <Override PartName="/ppt/media/image53.jpeg" ContentType="image/jpeg"/>
  <Override PartName="/ppt/media/image43.wmf" ContentType="image/x-wmf"/>
  <Override PartName="/ppt/media/image55.wmf" ContentType="image/x-wmf"/>
  <Override PartName="/ppt/media/image56.jpeg" ContentType="image/jpeg"/>
  <Override PartName="/ppt/media/image33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88584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616382-75EE-4B45-AEB0-692660920C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857160" y="851040"/>
            <a:ext cx="514368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65E2D0-0647-44EF-8AFC-A67EE1DC2C76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4D2469-921C-4C69-8CDD-A21BF156C594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6AF3F7-9328-4AD2-A814-D48C8A4EA76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1FADB2-C8AE-4D49-BEE6-1425F14FCFE1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F439FA-269B-447C-BF2F-06019F8B08B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C8C654-87D5-4409-8BEA-B77368F35F5B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E839FA-182F-4E94-AEAE-A2C171D7764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7B41DF-9B5E-41B5-804F-3B1C5F01F0AA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8306CB-CE51-442B-AB09-4ED0A75A6C2E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B07EB9-AA71-4FA6-8434-7B363FF18B3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7948B4-0CB9-475A-B59B-2D92D92A608E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CB7683-8AC6-4964-AAF3-A19FB0691A8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77B1CD-C62A-48DF-8818-3FDBF0F4A489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913F3C-490E-4B35-A6D4-2C7DB7F51B2E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469713-69DF-472E-80A9-8F6C96F3AB8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DBD34D-E67F-480C-B3A7-802C39DBB504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252D1D-E8BB-4FEB-B203-AAA77109BC9D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1C7CC1-1E4C-4CE9-B023-10B5486F83C7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9759A5-DD7B-47F8-A6F8-221AC5E37610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AF038-6051-457F-B7C3-22B6E1AAE181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8198B3-C4CC-476C-937A-EEAD88EF0B2F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73E795-5892-4C29-A9BC-DF8F28FF86D3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EBBE0B-16D0-42F2-98FB-602D90DE7267}" type="slidenum">
              <a:rPr b="0" i="1" lang="en-US" sz="10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F24-7701-4E32-B18E-3D956A0E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E4E-EF57-4196-9D96-D60A707B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10D-9EC1-4B4B-B928-9F77CBE1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EB9-3194-4278-8C85-7B738DBA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132-4B6B-4832-8976-18FBEF8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2A3-14A3-4859-983B-34B85CA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AF7-5355-47F4-A9F9-322C540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E95-123F-4430-8FC4-C9E70BC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5560" y="3427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A8D-EE24-4AC7-9955-3197629C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481-1B94-41A6-BF61-30AA486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EA9-A857-44F1-9054-99BB9E6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C15-F8A3-4C5E-A68D-E595D27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50000">
              <a:srgbClr val="0000ff"/>
            </a:gs>
            <a:gs pos="100000">
              <a:srgbClr val="0000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1B8-31B5-49E5-BD6F-5390C7F4B8CC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102726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733400"/>
            <a:ext cx="102726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590400" y="52560"/>
            <a:ext cx="141948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image" Target="../media/image14.wmf"/><Relationship Id="rId20" Type="http://schemas.openxmlformats.org/officeDocument/2006/relationships/image" Target="../media/image15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2.wmf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upload.wikimedia.org/wikipedia/he/thumb/9/97/Edengan.jpg/250px-Edengan.jpg" TargetMode="External"/><Relationship Id="rId3" Type="http://schemas.openxmlformats.org/officeDocument/2006/relationships/image" Target="../media/image5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14480" y="222120"/>
            <a:ext cx="10287000" cy="3025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David"/>
              </a:rPr>
              <a:t>לדחות את הבלתי נמנע: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Levenim MT"/>
              </a:rPr>
              <a:t>היבטים היסטוריים, סוציולוגים ומחקריים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Levenim MT"/>
              </a:rPr>
              <a:t> 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Levenim MT"/>
              </a:rPr>
              <a:t> ב –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Levenim MT"/>
              </a:rPr>
              <a:t>ANTI AGING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3809880"/>
            <a:ext cx="10287000" cy="2104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David"/>
                <a:cs typeface="David"/>
              </a:rPr>
              <a:t>הכנס השנתי השמיני של האגודה הישראלית להיסטוריה ופילוסופיה של המדע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-114480" y="5567400"/>
            <a:ext cx="10287360" cy="1823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מוזיאון המדע ע"ש בלומפילד, ירושלים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16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במרץ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2008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90360" y="1447920"/>
          <a:ext cx="103536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360" y="1447920"/>
                    <a:ext cx="103536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3"/>
          <p:cNvSpPr/>
          <p:nvPr/>
        </p:nvSpPr>
        <p:spPr>
          <a:xfrm>
            <a:off x="2400480" y="4038480"/>
            <a:ext cx="716256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734160" y="6404040"/>
            <a:ext cx="138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086440" y="640404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90840" y="638820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8172360" y="640404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80160" y="2860560"/>
            <a:ext cx="1716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-114480" y="-76320"/>
            <a:ext cx="10287360" cy="10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David"/>
              </a:rPr>
              <a:t>השינוי הדמוגרפי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0" y="853920"/>
            <a:ext cx="10287000" cy="1739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Arial"/>
                <a:cs typeface="David"/>
              </a:rPr>
              <a:t>כמה מהר עלתה תוחלת החיים הממוצעת   במאה   האחרונה ?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058080" y="2362320"/>
            <a:ext cx="3195360" cy="1495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מצב  היפותטי במאה ה -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834240" y="409572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 EXPECTANC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8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385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38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38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102870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מהו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קצב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השינוי של העלייה בתוחלת החיים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ATE  OF  INCREASE  IN  LIFESPAN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6480" y="1266840"/>
          <a:ext cx="10185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266840"/>
                    <a:ext cx="10185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Line 4"/>
          <p:cNvSpPr/>
          <p:nvPr/>
        </p:nvSpPr>
        <p:spPr>
          <a:xfrm>
            <a:off x="2438280" y="3886200"/>
            <a:ext cx="49532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198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99104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58128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8251920" y="617220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-1800" y="2819520"/>
            <a:ext cx="2242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3886200" y="3962520"/>
            <a:ext cx="0" cy="2133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5143680" y="3962520"/>
            <a:ext cx="0" cy="2133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7391520" y="3886200"/>
            <a:ext cx="0" cy="2209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80988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529596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712476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872496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2438280" y="3886200"/>
            <a:ext cx="2743200" cy="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8160" y="76320"/>
            <a:ext cx="10318680" cy="22273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קצב העלייה בתוחלת החיים הממוצעת עלה פי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30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!! במאה ה -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20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:  מהי ההשפעה על  </a:t>
            </a:r>
            <a:r>
              <a:rPr b="1" lang="he-IL" sz="60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איכות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 החיים??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6480" y="5546880"/>
            <a:ext cx="10318680" cy="1922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תוצאה  בריאותית לעלייה הענקית  בתוחלת החיים - יותר ויותר סבל ממחלות  כרוניות  "תלויות בגיל"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1828800" y="3429000"/>
            <a:ext cx="30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20"/>
                </a:solidFill>
                <a:latin typeface="Arial"/>
              </a:rPr>
              <a:t>ONE YEAR PER CENTURY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4915080" y="33480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b"/>
                </a:solidFill>
                <a:latin typeface="Arial"/>
              </a:rPr>
              <a:t>30 YEARS </a:t>
            </a:r>
            <a:r>
              <a:rPr b="1" lang="en-US" sz="1400" spc="-1" strike="noStrike">
                <a:solidFill>
                  <a:srgbClr val="fffffb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b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fffffb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b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b"/>
                </a:solidFill>
                <a:latin typeface="Arial"/>
              </a:rPr>
              <a:t>!!!</a:t>
            </a:r>
            <a:r>
              <a:rPr b="0" lang="en-US" sz="2000" spc="-1" strike="noStrike">
                <a:solidFill>
                  <a:srgbClr val="fffffb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92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92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192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192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8520" y="1676160"/>
            <a:ext cx="10287000" cy="5181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txBody>
          <a:bodyPr lIns="90360" rIns="90360" tIns="44280" bIns="44280" anchor="t">
            <a:normAutofit fontScale="83000"/>
          </a:bodyPr>
          <a:p>
            <a:pPr marL="2844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afd00"/>
                </a:solidFill>
                <a:latin typeface="Arial"/>
                <a:ea typeface="David"/>
              </a:rPr>
              <a:t> 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סתיידות   עורקים</a:t>
            </a:r>
            <a:r>
              <a:rPr b="1" lang="he-IL" sz="1200" spc="-1" strike="noStrike">
                <a:solidFill>
                  <a:srgbClr val="fafd00"/>
                </a:solidFill>
                <a:latin typeface="Arial"/>
                <a:ea typeface="David"/>
              </a:rPr>
              <a:t>     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-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חלה כלילית ואי ספיקת לב, אירוע מוחי (שיתוק),     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                                      מגיעת כליות,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בעיות כלי דם ברגליים            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ס  ר  ט  ן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               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ס  ו  כ  ר  ת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- ( סוג 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)    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מחלות ריאה כרוניות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          שיטיון  (דמנציה) - אלצהיימר                         ד י כ א ו ן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אוסטאופורוזיס ומחלות פרקים (אוסטאוארתרוזיס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נ פ י ל ו ת , מחלות תנועה (פרקינסון 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פגיעה  במנגנון  החיסון  / הפרעה  בריפוי  פצעים  ושברים  &gt;&gt; זיהומי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חלות  עיניים (קטרקט, גלאוקומה, ניוון רשתית) &gt;&gt;עיוורון        חירשות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אי שליטה בסוגרים /  הגדלת ערמונית     פצעי  לחץ       ריתוק למיטה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 rot="1304400">
            <a:off x="1022400" y="2912040"/>
            <a:ext cx="72057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000" spc="-1" strike="noStrike">
                <a:solidFill>
                  <a:srgbClr val="fc0100"/>
                </a:solidFill>
                <a:latin typeface="Arial"/>
                <a:cs typeface="David"/>
              </a:rPr>
              <a:t>ת  ר  ו  פ  ו  ת</a:t>
            </a:r>
            <a:endParaRPr b="0" lang="en-US" sz="1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10439280" cy="685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Times New Roman"/>
              </a:rPr>
              <a:t>"</a:t>
            </a:r>
            <a:r>
              <a:rPr b="1" lang="he-IL" sz="5400" spc="-1" strike="noStrike">
                <a:solidFill>
                  <a:srgbClr val="fc0128"/>
                </a:solidFill>
                <a:latin typeface="Times New Roman"/>
                <a:cs typeface="David"/>
              </a:rPr>
              <a:t>הצד הרע" של החיים </a:t>
            </a:r>
            <a:br>
              <a:rPr sz="5400"/>
            </a:br>
            <a:r>
              <a:rPr b="1" lang="he-IL" sz="4000" spc="-1" strike="noStrike">
                <a:solidFill>
                  <a:srgbClr val="fc0128"/>
                </a:solidFill>
                <a:latin typeface="Times New Roman"/>
                <a:ea typeface="David"/>
              </a:rPr>
              <a:t>- הסבל ממחלות "תלויות גיל"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GE RELATED DISEASES</a:t>
            </a:r>
            <a:endParaRPr b="0" lang="en-US" sz="28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2400" y="75960"/>
            <a:ext cx="9515520" cy="68580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  BALANC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0" y="1214280"/>
          <a:ext cx="102855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10285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4"/>
          <p:cNvSpPr/>
          <p:nvPr/>
        </p:nvSpPr>
        <p:spPr>
          <a:xfrm>
            <a:off x="2486160" y="1905120"/>
            <a:ext cx="0" cy="4114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486400" y="6172200"/>
            <a:ext cx="85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3718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257640" y="6156360"/>
            <a:ext cx="10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515280" y="6172200"/>
            <a:ext cx="154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000240" y="1965240"/>
            <a:ext cx="3257640" cy="13114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ANCIENT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OM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2486160" y="1562040"/>
            <a:ext cx="561960" cy="1866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2486160" y="3429000"/>
            <a:ext cx="514080" cy="259092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52280" y="3184560"/>
            <a:ext cx="27432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7219800" y="838080"/>
            <a:ext cx="2953080" cy="45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476440" y="2895480"/>
            <a:ext cx="77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000240" y="5410080"/>
            <a:ext cx="214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Freeform 16"/>
          <p:cNvSpPr/>
          <p:nvPr/>
        </p:nvSpPr>
        <p:spPr>
          <a:xfrm>
            <a:off x="5905440" y="5638680"/>
            <a:ext cx="1349280" cy="3812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030" h="169">
                <a:moveTo>
                  <a:pt x="0" y="0"/>
                </a:moveTo>
                <a:lnTo>
                  <a:pt x="0" y="168"/>
                </a:lnTo>
                <a:lnTo>
                  <a:pt x="1029" y="168"/>
                </a:lnTo>
                <a:lnTo>
                  <a:pt x="996" y="150"/>
                </a:lnTo>
                <a:lnTo>
                  <a:pt x="447" y="132"/>
                </a:lnTo>
                <a:lnTo>
                  <a:pt x="0" y="15"/>
                </a:lnTo>
              </a:path>
            </a:pathLst>
          </a:cu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-76320"/>
            <a:ext cx="8039160" cy="99072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BALANCE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-20520" y="1143000"/>
          <a:ext cx="1025028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143000"/>
                    <a:ext cx="1025028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6858000" y="6095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211720" y="609588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514680" y="608004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8298000" y="609588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438280" y="1447920"/>
            <a:ext cx="905040" cy="45147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586320" y="2452680"/>
            <a:ext cx="204588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2 0 0 0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7458120" y="4952880"/>
            <a:ext cx="1114560" cy="914400"/>
          </a:xfrm>
          <a:prstGeom prst="rtTriangle">
            <a:avLst/>
          </a:prstGeom>
          <a:solidFill>
            <a:srgbClr val="00002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8143920" y="5562720"/>
            <a:ext cx="1800360" cy="380880"/>
          </a:xfrm>
          <a:prstGeom prst="rtTriangle">
            <a:avLst/>
          </a:pr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2486160" y="1905120"/>
            <a:ext cx="771480" cy="75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44360" y="3032280"/>
            <a:ext cx="225612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6983280" y="762120"/>
            <a:ext cx="296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583080" y="3352680"/>
            <a:ext cx="283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65752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5560" cy="990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GERIATRIC   BOOM  CATASTROPHE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157320" y="1389240"/>
          <a:ext cx="1009152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389240"/>
                    <a:ext cx="1009152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685800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211720" y="617220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514680" y="615636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8298000" y="617220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772080" y="3200400"/>
            <a:ext cx="325728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21 st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CENTU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97360" y="3260880"/>
            <a:ext cx="21816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687840" y="2743200"/>
            <a:ext cx="229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7288200" y="914400"/>
            <a:ext cx="288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274320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7507440" y="4495680"/>
            <a:ext cx="232092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556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ERIATRIC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OOM     BURDE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0" y="1238400"/>
          <a:ext cx="100918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0"/>
                    <a:ext cx="100918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4"/>
          <p:cNvSpPr/>
          <p:nvPr/>
        </p:nvSpPr>
        <p:spPr>
          <a:xfrm>
            <a:off x="685800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211720" y="617220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514680" y="615636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8298000" y="617220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772080" y="3200400"/>
            <a:ext cx="325728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21 st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CENTU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-37440" y="3260880"/>
            <a:ext cx="21816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687840" y="2743200"/>
            <a:ext cx="22939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114480" y="6248520"/>
            <a:ext cx="28843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arfinkel  D., 2006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2705040" y="1905120"/>
            <a:ext cx="4287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7507440" y="4495680"/>
            <a:ext cx="232092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208240" y="1523880"/>
            <a:ext cx="344520" cy="4648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8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 rot="10380000">
            <a:off x="2274840" y="5562360"/>
            <a:ext cx="5797440" cy="649080"/>
          </a:xfrm>
          <a:prstGeom prst="triangle">
            <a:avLst>
              <a:gd name="adj" fmla="val 2204"/>
            </a:avLst>
          </a:prstGeom>
          <a:solidFill>
            <a:srgbClr val="00000c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561960" y="-380880"/>
            <a:ext cx="3981600" cy="243252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DISABILITY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SUFFERING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 rot="10800000">
            <a:off x="2162160" y="5790960"/>
            <a:ext cx="6943680" cy="457200"/>
          </a:xfrm>
          <a:prstGeom prst="parallelogram">
            <a:avLst>
              <a:gd name="adj" fmla="val 72070"/>
            </a:avLst>
          </a:prstGeom>
          <a:solidFill>
            <a:srgbClr val="00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1828800"/>
            <a:ext cx="9867960" cy="32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5"/>
                </a:solidFill>
                <a:latin typeface="Arial"/>
                <a:ea typeface="David"/>
              </a:rPr>
              <a:t>  בימינו, בהרבה משפחות יש ארבעה דורות חיים (סבתא רבא...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5"/>
                </a:solidFill>
                <a:latin typeface="Arial"/>
                <a:cs typeface="David"/>
              </a:rPr>
              <a:t>נוצר עיוות מהיר  של שיווי המשקל  בין אוכלוסייה זקנה, חולה, מוגבלת     ובלתי פרודוקטיבית – לבין האוכלוסייה הצעירה – בריאה - פרודוקטיבית הנאלצת לשאת בנטל הגובר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400480" y="1881360"/>
            <a:ext cx="7848360" cy="3862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7f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0100"/>
                </a:solidFill>
                <a:latin typeface="Arial"/>
              </a:rPr>
              <a:t>*</a:t>
            </a:r>
            <a:r>
              <a:rPr b="1" lang="he-IL" sz="3200" spc="-1" strike="noStrike">
                <a:solidFill>
                  <a:srgbClr val="fc0100"/>
                </a:solidFill>
                <a:latin typeface="Arial"/>
                <a:ea typeface="Arial"/>
              </a:rPr>
              <a:t> </a:t>
            </a:r>
            <a:r>
              <a:rPr b="1" lang="he-IL" sz="2800" spc="-1" strike="noStrike">
                <a:solidFill>
                  <a:srgbClr val="fc0100"/>
                </a:solidFill>
                <a:latin typeface="Arial"/>
                <a:cs typeface="Arial"/>
              </a:rPr>
              <a:t>שינוי בשיווי משקל חברתי בין תת - אוכלוסיות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162920" y="4038480"/>
            <a:ext cx="293364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7f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00"/>
                </a:solidFill>
                <a:latin typeface="Arial"/>
                <a:ea typeface="Arial"/>
              </a:rPr>
              <a:t>*</a:t>
            </a:r>
            <a:r>
              <a:rPr b="1" lang="he-IL" sz="2800" spc="-1" strike="noStrike">
                <a:solidFill>
                  <a:srgbClr val="fc0100"/>
                </a:solidFill>
                <a:latin typeface="Arial"/>
                <a:ea typeface="Arial"/>
              </a:rPr>
              <a:t> כ ל כ ל י ת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38160" y="4038480"/>
            <a:ext cx="1009656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5"/>
                </a:solidFill>
                <a:latin typeface="Arial"/>
                <a:cs typeface="David"/>
              </a:rPr>
              <a:t>הוצאות למבוגרים/קשישים מוגבלים עולות בקצב מבהיל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5"/>
                </a:solidFill>
                <a:latin typeface="Arial"/>
                <a:cs typeface="David"/>
              </a:rPr>
              <a:t>משאבי הביטוח הלאומי או  ביטוחי בריאות עלולים שלא להספיק  !!!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5"/>
                </a:solidFill>
                <a:latin typeface="Arial"/>
                <a:cs typeface="David"/>
              </a:rPr>
              <a:t>ילדינו עלולים לעמוד בפני הדילמה – האם לתת טיפול אופטימלי להוריהם – או להשקיע בעתיד ילדיהם....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קידום  בריאות  ושיפור בריאות </a:t>
            </a:r>
            <a:br>
              <a:rPr sz="4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בעולם  המשתנה  במהירות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647640" y="152280"/>
            <a:ext cx="11049120" cy="144792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Arial"/>
              </a:rPr>
              <a:t>הסיבות המובילות למוגבלות בשנת </a:t>
            </a:r>
            <a:r>
              <a:rPr b="1" lang="he-IL" sz="4400" spc="-1" strike="noStrike">
                <a:solidFill>
                  <a:srgbClr val="ffff00"/>
                </a:solidFill>
                <a:latin typeface="Arial"/>
                <a:ea typeface="Arial"/>
              </a:rPr>
              <a:t>2020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857320" y="3932280"/>
            <a:ext cx="7142040" cy="26208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51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he-IL" sz="3000" spc="-1" strike="noStrike">
                <a:solidFill>
                  <a:srgbClr val="ffff00"/>
                </a:solidFill>
                <a:latin typeface="Arial"/>
                <a:cs typeface="Arial"/>
              </a:rPr>
              <a:t>אירוע  מוחי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51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מחלת ריאות חסימתית כרונית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51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זיהום במערכת הנשימה 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51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שחפת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51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פציעות  מלחמה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56" name="Object 5"/>
          <p:cNvGraphicFramePr/>
          <p:nvPr/>
        </p:nvGraphicFramePr>
        <p:xfrm>
          <a:off x="1333440" y="5029200"/>
          <a:ext cx="1852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029200"/>
                    <a:ext cx="1852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6"/>
          <p:cNvSpPr/>
          <p:nvPr/>
        </p:nvSpPr>
        <p:spPr>
          <a:xfrm>
            <a:off x="190440" y="1951200"/>
            <a:ext cx="9829800" cy="1921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he-IL" sz="3000" spc="-1" strike="noStrike">
                <a:solidFill>
                  <a:srgbClr val="ffff00"/>
                </a:solidFill>
                <a:latin typeface="Arial"/>
                <a:cs typeface="Arial"/>
              </a:rPr>
              <a:t>מחלת לב כלילית (אי ספיקת לב)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ס ר ט ן   (כל הסוגים)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ד י כ א ו ן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תאונות  דרכים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9" name="Object 7"/>
          <p:cNvGraphicFramePr/>
          <p:nvPr/>
        </p:nvGraphicFramePr>
        <p:xfrm>
          <a:off x="1392120" y="3954600"/>
          <a:ext cx="1737000" cy="17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3954600"/>
                    <a:ext cx="1737000" cy="176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9192" dir="13818056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261" name="Rectangle 8"/>
          <p:cNvSpPr/>
          <p:nvPr/>
        </p:nvSpPr>
        <p:spPr>
          <a:xfrm>
            <a:off x="1657440" y="4464000"/>
            <a:ext cx="120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Levenim MT"/>
              </a:rPr>
              <a:t>2020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62" name="Object 9"/>
          <p:cNvGraphicFramePr/>
          <p:nvPr/>
        </p:nvGraphicFramePr>
        <p:xfrm>
          <a:off x="-419040" y="2133720"/>
          <a:ext cx="407664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19040" y="2133720"/>
                    <a:ext cx="4076640" cy="1904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Text Box 10"/>
          <p:cNvSpPr/>
          <p:nvPr/>
        </p:nvSpPr>
        <p:spPr>
          <a:xfrm>
            <a:off x="1486080" y="3048120"/>
            <a:ext cx="15285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22c"/>
                </a:solidFill>
                <a:latin typeface="Arial"/>
              </a:rPr>
              <a:t>$ $ $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38160" y="1905120"/>
            <a:ext cx="4419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- מעל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120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מיליון מוגבלים !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נטל העולמי של התחלואה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1752480"/>
            <a:ext cx="1013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946080"/>
            <a:ext cx="1005840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</a:rPr>
              <a:t>"בריאות ואריכות ימים..."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בדרך כלל אינם באים ביחד שכן הזדקנות קשורה בעלייה בשכיחות ומורכבות של מחלות כרוניות מגבילות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העלייה הגדולה "נטו" בהיוותרות  בחיים מתורגמת בסופו של דבר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ליותר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שנים של תפקוד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לקוי - גופני, מנטלי וחברתי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480" y="2743200"/>
            <a:ext cx="10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בערך חצי מהשנים שנותרו לאנשים בגיל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65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74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יהיו קשורות במוגבלות כלשהי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218040"/>
            <a:ext cx="10058400" cy="23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מוגבלות בתפקוד יום יומי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קיימת ביותר משליש מהחולים לאחר שבר בצוואר הירך ובערך רבע זקוקים לאשפוז במוסד לטיפול ממושך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עלויות הטיפול הרפואי והסיעודי בחולים עם שברים בצוואר הירך, הכפילו עצמן תוך פחות מעשור...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מגמה דומה קיימת לגבי דמנציה, סרטן או מחלות מגבילות אחרות התלויות בגיל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8160" y="5521320"/>
            <a:ext cx="10058400" cy="12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בהתאם, מספר האנשים בארה"ב בבתי אבות סיעודיים  (</a:t>
            </a:r>
            <a:r>
              <a:rPr b="1" lang="en-US" sz="2400" spc="-1" strike="noStrike">
                <a:solidFill>
                  <a:srgbClr val="fffff7"/>
                </a:solidFill>
                <a:latin typeface="Arial"/>
              </a:rPr>
              <a:t>NURSING HOMES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) בשנת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1985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היה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1.1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מיליון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המספר הוכפל בשנת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2000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 וצפוי להגיע  בשנת 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2050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ל - 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5.5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 מליון!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helet"/>
          <p:cNvPicPr/>
          <p:nvPr/>
        </p:nvPicPr>
        <p:blipFill>
          <a:blip r:embed="rId1"/>
          <a:stretch/>
        </p:blipFill>
        <p:spPr>
          <a:xfrm>
            <a:off x="6591240" y="5029200"/>
            <a:ext cx="3657600" cy="1828800"/>
          </a:xfrm>
          <a:prstGeom prst="rect">
            <a:avLst/>
          </a:prstGeom>
          <a:ln w="0">
            <a:noFill/>
          </a:ln>
          <a:effectLst>
            <a:outerShdw dist="63504" dir="13016092" blurRad="0" rotWithShape="0">
              <a:srgbClr val="fc0128"/>
            </a:outerShdw>
          </a:effectLst>
        </p:spPr>
      </p:pic>
      <p:sp>
        <p:nvSpPr>
          <p:cNvPr id="55" name="Text Box 3"/>
          <p:cNvSpPr/>
          <p:nvPr/>
        </p:nvSpPr>
        <p:spPr>
          <a:xfrm>
            <a:off x="0" y="1676520"/>
            <a:ext cx="10287000" cy="8344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7f7"/>
                </a:solidFill>
                <a:latin typeface="David"/>
                <a:cs typeface="David"/>
              </a:rPr>
              <a:t>ד"ר  דורון  גרפינקל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-304920"/>
            <a:ext cx="1028700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יכוב  תהליכי הזדקנות –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Levenim MT"/>
              </a:rPr>
              <a:t>עובדות מול פנטזי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7" name="Picture 5" descr="LOGOSHOH"/>
          <p:cNvPicPr/>
          <p:nvPr/>
        </p:nvPicPr>
        <p:blipFill>
          <a:blip r:embed="rId2"/>
          <a:stretch/>
        </p:blipFill>
        <p:spPr>
          <a:xfrm>
            <a:off x="19080" y="5029200"/>
            <a:ext cx="3219480" cy="182880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58" name="Text Box 6"/>
          <p:cNvSpPr/>
          <p:nvPr/>
        </p:nvSpPr>
        <p:spPr>
          <a:xfrm>
            <a:off x="0" y="2362320"/>
            <a:ext cx="10287000" cy="295920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David"/>
                <a:cs typeface="David"/>
              </a:rPr>
              <a:t>מנהל מחלקה גריאטרית  פליאטיבית</a:t>
            </a:r>
            <a:r>
              <a:rPr b="1" lang="en-US" sz="3600" spc="-1" strike="noStrike">
                <a:solidFill>
                  <a:srgbClr val="fafd00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afd00"/>
                </a:solidFill>
                <a:latin typeface="David"/>
                <a:ea typeface="David"/>
              </a:rPr>
              <a:t>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David"/>
                <a:cs typeface="David"/>
              </a:rPr>
              <a:t>שהם</a:t>
            </a:r>
            <a:r>
              <a:rPr b="1" lang="he-IL" sz="3600" spc="-1" strike="noStrike">
                <a:solidFill>
                  <a:srgbClr val="fafd00"/>
                </a:solidFill>
                <a:latin typeface="David"/>
                <a:ea typeface="David"/>
              </a:rPr>
              <a:t> המרכז המשולב לרפואת הגיל השלישי, פרדס -חנה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afd00"/>
                </a:solidFill>
                <a:latin typeface="David"/>
                <a:cs typeface="David"/>
              </a:rPr>
              <a:t>ויו"ר העמותה  לעיכוב  תהליכים  התלויים בגיל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-114480" y="4038480"/>
            <a:ext cx="10287360" cy="971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יועץ  מכבי במרכז רפואי שיבא  תל השומר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בנושאי  גריאטריה, פנימית ושיקו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7229520" y="1371600"/>
          <a:ext cx="28274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9520" y="1371600"/>
                    <a:ext cx="2827440" cy="22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4" name="Object 3"/>
          <p:cNvGraphicFramePr/>
          <p:nvPr/>
        </p:nvGraphicFramePr>
        <p:xfrm>
          <a:off x="1709640" y="1600200"/>
          <a:ext cx="41036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1600200"/>
                    <a:ext cx="4103640" cy="76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703" dir="5060257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9410760" cy="11430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GLOBAL BURDEN OF DISEASE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נטל  העולמי  של  התחלואה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1790640" y="2362320"/>
          <a:ext cx="3772080" cy="42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0640" y="2362320"/>
                    <a:ext cx="3772080" cy="4267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2300" dir="4563564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5408640" y="3886200"/>
          <a:ext cx="4630680" cy="236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8640" y="3886200"/>
                    <a:ext cx="4630680" cy="2362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0066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1195560" y="4173480"/>
          <a:ext cx="6176880" cy="268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5560" y="4173480"/>
                    <a:ext cx="6176880" cy="268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283" name="Rectangle 8"/>
          <p:cNvSpPr/>
          <p:nvPr/>
        </p:nvSpPr>
        <p:spPr>
          <a:xfrm>
            <a:off x="7772400" y="5715000"/>
            <a:ext cx="20368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ETHIC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 rot="20040000">
            <a:off x="7000920" y="5135400"/>
            <a:ext cx="2130480" cy="579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fbff"/>
                </a:solidFill>
                <a:latin typeface="Arial"/>
                <a:ea typeface="Levenim MT"/>
              </a:rPr>
              <a:t>LAW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 rot="18181200">
            <a:off x="5217120" y="4764600"/>
            <a:ext cx="2214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DICIN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 rot="19313400">
            <a:off x="5905080" y="4738320"/>
            <a:ext cx="2800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HUMANITY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1987560" y="2360520"/>
            <a:ext cx="195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evenim MT"/>
              </a:rPr>
              <a:t>COS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0" y="3352680"/>
            <a:ext cx="10248840" cy="109944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אז מה ניתן לעשות ?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92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192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192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192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151920"/>
            <a:ext cx="9906120" cy="11430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כיצד  ניתן להקל  על </a:t>
            </a:r>
            <a:br>
              <a:rPr sz="6000"/>
            </a:b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הנטל  העולמי  של  התחלואה ?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0" y="1676520"/>
            <a:ext cx="10248840" cy="274536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לטווח הארוך- השקעה בקידום בריאות עיכוב ומניעה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הכי</a:t>
            </a:r>
            <a:r>
              <a:rPr b="0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David"/>
              </a:rPr>
              <a:t>COST  EFFECTIVE</a:t>
            </a:r>
            <a:r>
              <a:rPr b="0" lang="he-IL" sz="6600" spc="-1" strike="noStrike">
                <a:solidFill>
                  <a:srgbClr val="fafd00"/>
                </a:solidFill>
                <a:latin typeface="Arial"/>
                <a:ea typeface="David"/>
              </a:rPr>
              <a:t>   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160" y="3889440"/>
            <a:ext cx="10248840" cy="375156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לטווח הקרוב – השקעה בשיפור הטיפול  במוגבלות וסבל 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פיתוח הטיפול הפליאטיבי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92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92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92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92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9360" y="76320"/>
            <a:ext cx="9687240" cy="1371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Arial"/>
              </a:rPr>
              <a:t>ע י כ ו ב</a:t>
            </a:r>
            <a:br>
              <a:rPr sz="7200"/>
            </a:b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Arial"/>
              </a:rPr>
              <a:t>ה ב ו ם   ה ג ר י א ט ר י</a:t>
            </a:r>
            <a:endParaRPr b="0" lang="en-US" sz="72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190440" y="1644480"/>
          <a:ext cx="10096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644480"/>
                    <a:ext cx="10096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4"/>
          <p:cNvSpPr/>
          <p:nvPr/>
        </p:nvSpPr>
        <p:spPr>
          <a:xfrm>
            <a:off x="6858000" y="62485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211720" y="624852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514680" y="623268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8298000" y="624852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5153040" y="4991040"/>
            <a:ext cx="1209600" cy="457200"/>
          </a:xfrm>
          <a:prstGeom prst="rightArrow">
            <a:avLst>
              <a:gd name="adj1" fmla="val 50000"/>
              <a:gd name="adj2" fmla="val 132295"/>
            </a:avLst>
          </a:prstGeom>
          <a:solidFill>
            <a:srgbClr val="fafd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5454720" y="3454560"/>
            <a:ext cx="1320840" cy="253800"/>
          </a:xfrm>
          <a:prstGeom prst="rightArrow">
            <a:avLst>
              <a:gd name="adj1" fmla="val 50000"/>
              <a:gd name="adj2" fmla="val 260237"/>
            </a:avLst>
          </a:prstGeom>
          <a:solidFill>
            <a:srgbClr val="fafd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4838760" y="5905440"/>
            <a:ext cx="380880" cy="381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609480" y="3489480"/>
            <a:ext cx="2743200" cy="4428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3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3581280" y="4038480"/>
            <a:ext cx="300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297180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6360" y="6400800"/>
            <a:ext cx="2973600" cy="4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D.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7682040" y="5105520"/>
            <a:ext cx="1752480" cy="38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19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AutoShape 18"/>
          <p:cNvSpPr/>
          <p:nvPr/>
        </p:nvSpPr>
        <p:spPr>
          <a:xfrm>
            <a:off x="4191120" y="5029200"/>
            <a:ext cx="1209600" cy="457200"/>
          </a:xfrm>
          <a:prstGeom prst="rightArrow">
            <a:avLst>
              <a:gd name="adj1" fmla="val 50000"/>
              <a:gd name="adj2" fmla="val 132295"/>
            </a:avLst>
          </a:prstGeom>
          <a:solidFill>
            <a:srgbClr val="fafd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267120" y="228240"/>
            <a:ext cx="1082052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LIATIVE  CARE 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cs typeface="David"/>
              </a:rPr>
              <a:t>טיפול פליאטיבי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David"/>
              </a:rPr>
              <a:t>-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.H.O.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2002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e-IL" sz="4800" spc="-1" strike="noStrike">
                <a:solidFill>
                  <a:srgbClr val="fafd00"/>
                </a:solidFill>
                <a:latin typeface="Times New Roman"/>
              </a:rPr>
              <a:t>הגדרה  חדשה</a:t>
            </a:r>
            <a:r>
              <a:rPr b="0" lang="he-IL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8520" y="1676520"/>
            <a:ext cx="10325160" cy="41148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69000"/>
          </a:bodyPr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גישה  המשפרת  את   איכות   החיים  של חולים   ומשפחותיהם   בהתמודדות   עם  מחלה מאיימת-חיים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דרך   מניעה,  הערכה  וטיפול         בכאב  ובבעיות  אחרות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גופניות, פסיכולוגיות  ורוחניות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228600" y="152280"/>
            <a:ext cx="10248840" cy="155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בריאות וחולי משך ההיסטוריה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419040" y="2841480"/>
            <a:ext cx="9867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משך כל שנות ההיסטוריה, איחולים לאושר אולטימטיבי התמצו בברכות העתיקות: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    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" עד מאה ועשרים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",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ו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"בריאות ואריכות ימים"...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9080" y="6108840"/>
            <a:ext cx="10267920" cy="113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Arial"/>
                <a:ea typeface="David"/>
              </a:rPr>
              <a:t>                                                         -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זבנג וגמרנו!            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-95400" y="1873080"/>
            <a:ext cx="103442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שינוי ההיסטורי בתפיסה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קביל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באופן מפתיע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שינוי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שאני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ומטפלים אחרים עברנו בסוף המאה ה -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0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ובתחילת המילניום השלישי..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-114480" y="4005360"/>
            <a:ext cx="10268280" cy="159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תפיסה הפשטנית:  אדם בריא רוב חייו... חולה במחלה אחת.. נבדק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ומאובחן ע"י רופא אחד &gt;&gt; מקבל טיפול יעיל &gt;&gt;&gt; חוזר לבריאות שלמה!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-114480" y="5105520"/>
            <a:ext cx="10268280" cy="1800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דוגמאות:  דלקת ריאות... פצע.. שבר ברגל... ניתוח תוספתן... כריתת סרטן...   ניתוח וסקולרי (תיקון צנרת - לב, גפיים, קרוטיד..) השתלות (מפרקים, כליה, לב, ריאות, כבד, לבלב.. והשמיים הם הגבול...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385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385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38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38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2146320" y="2852640"/>
            <a:ext cx="4049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6208560" y="2852640"/>
            <a:ext cx="0" cy="16430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214632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6926400" y="556272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38160" y="-76320"/>
            <a:ext cx="1028700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תפיסה ההיסטורית הפשטני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000" spc="-1" strike="noStrike">
                <a:solidFill>
                  <a:srgbClr val="ffff00"/>
                </a:solidFill>
                <a:latin typeface="Arial"/>
                <a:ea typeface="Arial"/>
              </a:rPr>
              <a:t> "</a:t>
            </a:r>
            <a:r>
              <a:rPr b="1" i="1" lang="he-IL" sz="4800" spc="-1" strike="noStrike">
                <a:solidFill>
                  <a:srgbClr val="ffff00"/>
                </a:solidFill>
                <a:latin typeface="Arial"/>
                <a:cs typeface="Arial"/>
              </a:rPr>
              <a:t>המחלה האידיאלית והרופא האידיאלי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2708280" y="2316240"/>
            <a:ext cx="2282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110484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Arc 13"/>
          <p:cNvSpPr/>
          <p:nvPr/>
        </p:nvSpPr>
        <p:spPr>
          <a:xfrm flipH="1" flipV="1" rot="4129800">
            <a:off x="6612480" y="2579760"/>
            <a:ext cx="739800" cy="1849320"/>
          </a:xfrm>
          <a:custGeom>
            <a:avLst/>
            <a:gdLst>
              <a:gd name="textAreaLeft" fmla="*/ -360 w 739800"/>
              <a:gd name="textAreaRight" fmla="*/ 739800 w 739800"/>
              <a:gd name="textAreaTop" fmla="*/ -360 h 1849320"/>
              <a:gd name="textAreaBottom" fmla="*/ 1849320 h 1849320"/>
            </a:gdLst>
            <a:ahLst/>
            <a:rect l="textAreaLeft" t="textAreaTop" r="textAreaRight" b="textAreaBottom"/>
            <a:pathLst>
              <a:path fill="none" w="22221" h="25078">
                <a:moveTo>
                  <a:pt x="-1" y="8"/>
                </a:moveTo>
                <a:cubicBezTo>
                  <a:pt x="206" y="2"/>
                  <a:pt x="413" y="-1"/>
                  <a:pt x="621" y="0"/>
                </a:cubicBezTo>
                <a:cubicBezTo>
                  <a:pt x="12550" y="0"/>
                  <a:pt x="22221" y="9670"/>
                  <a:pt x="22221" y="21600"/>
                </a:cubicBezTo>
                <a:cubicBezTo>
                  <a:pt x="22221" y="22765"/>
                  <a:pt x="22126" y="23928"/>
                  <a:pt x="21939" y="25078"/>
                </a:cubicBezTo>
              </a:path>
              <a:path stroke="0" w="22221" h="25078">
                <a:moveTo>
                  <a:pt x="-1" y="8"/>
                </a:moveTo>
                <a:cubicBezTo>
                  <a:pt x="206" y="2"/>
                  <a:pt x="413" y="-1"/>
                  <a:pt x="621" y="0"/>
                </a:cubicBezTo>
                <a:cubicBezTo>
                  <a:pt x="12550" y="0"/>
                  <a:pt x="22221" y="9670"/>
                  <a:pt x="22221" y="21600"/>
                </a:cubicBezTo>
                <a:cubicBezTo>
                  <a:pt x="22221" y="22765"/>
                  <a:pt x="22126" y="23928"/>
                  <a:pt x="21939" y="25078"/>
                </a:cubicBezTo>
                <a:lnTo>
                  <a:pt x="621" y="2160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prstDash val="dashDot"/>
            <a:round/>
          </a:ln>
          <a:effectLst>
            <a:outerShdw dist="12600" dir="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7723080" y="2819520"/>
            <a:ext cx="206856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5753160" y="2979720"/>
            <a:ext cx="547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ח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 rot="19478400">
            <a:off x="6643080" y="3445560"/>
            <a:ext cx="144756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רו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מטפל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ומר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581960" y="2286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משיך בריא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38160" y="5638680"/>
            <a:ext cx="10287000" cy="11912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התקדמות בטכנולוגיות רפואיות במאה ה-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גרמה לאופוריה מסוימת ולאמונת שווא שניתן לרפא הכל או לפחות הרוב (אנטיביוטיקה תחסל כל המחלות הזיהומיות, החיסונים ימנעו, טיפולי מעקפים והשתלות יצילו ויאריכו החיים...).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5565600" y="5091120"/>
            <a:ext cx="1178280" cy="4597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  <a:cs typeface="Levenim MT"/>
              </a:rPr>
              <a:t>מוות</a:t>
            </a:r>
            <a:r>
              <a:rPr b="1" lang="he-IL" sz="2400" spc="-1" strike="noStrike">
                <a:solidFill>
                  <a:srgbClr val="000020"/>
                </a:solidFill>
                <a:latin typeface="Arial"/>
                <a:ea typeface="Levenim MT"/>
              </a:rPr>
              <a:t>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Line 20"/>
          <p:cNvSpPr/>
          <p:nvPr/>
        </p:nvSpPr>
        <p:spPr>
          <a:xfrm>
            <a:off x="6210360" y="4197240"/>
            <a:ext cx="0" cy="7556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38160" y="1554120"/>
            <a:ext cx="10287000" cy="947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c0128"/>
                </a:solidFill>
                <a:latin typeface="Arial"/>
                <a:cs typeface="David"/>
              </a:rPr>
              <a:t>מטרת על ברפואה היתה הקטנת תמותה (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David"/>
              </a:rPr>
              <a:t>MORTALITY</a:t>
            </a:r>
            <a:r>
              <a:rPr b="1" lang="he-IL" sz="2800" spc="-1" strike="noStrike">
                <a:solidFill>
                  <a:srgbClr val="fc0128"/>
                </a:solidFill>
                <a:latin typeface="Arial"/>
                <a:ea typeface="David"/>
              </a:rPr>
              <a:t>) ודחיית זמן המוות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77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77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744040" cy="198144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38160" y="0"/>
          <a:ext cx="27432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0"/>
                    <a:ext cx="27432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600" dir="5400000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39" name="Text Box 5"/>
          <p:cNvSpPr/>
          <p:nvPr/>
        </p:nvSpPr>
        <p:spPr>
          <a:xfrm>
            <a:off x="38160" y="-152280"/>
            <a:ext cx="10287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    ההתפכחות במאה ה –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: 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  פרדוקס הטכנולוגיה הרפואית 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14480" y="1447920"/>
            <a:ext cx="1017252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טיפול יעיל יותר במחלות אקוטיות, יותר שורדים וממשיכים לחיות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אכן הצלחנו להקטין תמותה (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David"/>
              </a:rPr>
              <a:t>MORTALITY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) ממחלות חדו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Object 7"/>
          <p:cNvGraphicFramePr/>
          <p:nvPr/>
        </p:nvGraphicFramePr>
        <p:xfrm>
          <a:off x="4381560" y="5318280"/>
          <a:ext cx="3581280" cy="16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5318280"/>
                    <a:ext cx="3581280" cy="169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43" name="Object 8"/>
          <p:cNvGraphicFramePr/>
          <p:nvPr/>
        </p:nvGraphicFramePr>
        <p:xfrm>
          <a:off x="6134040" y="5089680"/>
          <a:ext cx="99072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5089680"/>
                    <a:ext cx="990720" cy="1228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cece"/>
                    </a:outerShdw>
                  </a:effectLst>
                </p:spPr>
              </p:pic>
            </p:oleObj>
          </a:graphicData>
        </a:graphic>
      </p:graphicFrame>
      <p:sp>
        <p:nvSpPr>
          <p:cNvPr id="345" name="Text Box 9"/>
          <p:cNvSpPr/>
          <p:nvPr/>
        </p:nvSpPr>
        <p:spPr>
          <a:xfrm>
            <a:off x="38160" y="2590920"/>
            <a:ext cx="102488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אך התחלואה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(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David"/>
              </a:rPr>
              <a:t>MORBIDITY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) </a:t>
            </a: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דווקא עלתה! יותר שורדים,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יותר סובלים ממחלות תלויות גיל שאין להם "ריפוי"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200" spc="-1" strike="noStrike">
                <a:solidFill>
                  <a:srgbClr val="fafd00"/>
                </a:solidFill>
                <a:latin typeface="Arial"/>
                <a:cs typeface="David"/>
              </a:rPr>
              <a:t>עליה ענקית בפלח האוכלוסייה עם תחלואה כרונית 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הגורמת מוגבלות, 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ריתוק למיטה וסבל</a:t>
            </a:r>
            <a:r>
              <a:rPr b="1" lang="he-IL" sz="42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0" y="5319720"/>
            <a:ext cx="10287000" cy="2292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0000"/>
                </a:solidFill>
                <a:latin typeface="Arial"/>
                <a:cs typeface="David"/>
              </a:rPr>
              <a:t>אריכות ימים לרוב אינה קשורה בבריא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0000"/>
                </a:solidFill>
                <a:latin typeface="Arial"/>
                <a:ea typeface="David"/>
              </a:rPr>
              <a:t> אלא בחולי, מוגבלות וסבל... איכות חיים ?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0" y="1523880"/>
            <a:ext cx="10134720" cy="776916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David"/>
                <a:ea typeface="David"/>
              </a:rPr>
              <a:t>"בריאות ואריכות ימים"...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David"/>
                <a:cs typeface="David"/>
              </a:rPr>
              <a:t>לרוב, אריכות חיים כרוכה בפחות בריאות..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afd00"/>
                </a:solidFill>
                <a:latin typeface="David"/>
                <a:cs typeface="David"/>
              </a:rPr>
              <a:t>ככל  שנשרוד וככל שהרפואה "תציל" יותר ממחלות חדות  (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CUTE</a:t>
            </a:r>
            <a:r>
              <a:rPr b="1" lang="he-IL" sz="4800" spc="-1" strike="noStrike">
                <a:solidFill>
                  <a:srgbClr val="fafd00"/>
                </a:solidFill>
                <a:latin typeface="David"/>
                <a:ea typeface="David"/>
              </a:rPr>
              <a:t>),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David"/>
                <a:ea typeface="David"/>
              </a:rPr>
              <a:t> כך עולה הסיכוי של כל אחד מאתנו      לסבול זמן רב יותר - ממחלה כרונית שאין לה "ריפוי"  ומשילוב מספר מחלות כאלו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228600" y="150840"/>
            <a:ext cx="10248840" cy="155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בריאות וחולי ההתפכחות במאה ה -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Line 4"/>
          <p:cNvSpPr/>
          <p:nvPr/>
        </p:nvSpPr>
        <p:spPr>
          <a:xfrm>
            <a:off x="2146320" y="2852640"/>
            <a:ext cx="4049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6208560" y="2852640"/>
            <a:ext cx="0" cy="16430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214632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3281400" y="573408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8160" y="-76320"/>
            <a:ext cx="1028700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תפיסה  הפשטנית הנאיבי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000" spc="-1" strike="noStrike">
                <a:solidFill>
                  <a:srgbClr val="ffff00"/>
                </a:solidFill>
                <a:latin typeface="Arial"/>
                <a:ea typeface="Arial"/>
              </a:rPr>
              <a:t> "</a:t>
            </a:r>
            <a:r>
              <a:rPr b="1" i="1" lang="he-IL" sz="4800" spc="-1" strike="noStrike">
                <a:solidFill>
                  <a:srgbClr val="ffff00"/>
                </a:solidFill>
                <a:latin typeface="Arial"/>
                <a:cs typeface="Arial"/>
              </a:rPr>
              <a:t>המחלה האידיאלית והרופא האידיאלי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2708280" y="2316240"/>
            <a:ext cx="2282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110484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Arc 13"/>
          <p:cNvSpPr/>
          <p:nvPr/>
        </p:nvSpPr>
        <p:spPr>
          <a:xfrm flipH="1" flipV="1" rot="4129800">
            <a:off x="6612480" y="2579760"/>
            <a:ext cx="739800" cy="1849320"/>
          </a:xfrm>
          <a:custGeom>
            <a:avLst/>
            <a:gdLst>
              <a:gd name="textAreaLeft" fmla="*/ -360 w 739800"/>
              <a:gd name="textAreaRight" fmla="*/ 739800 w 739800"/>
              <a:gd name="textAreaTop" fmla="*/ -360 h 1849320"/>
              <a:gd name="textAreaBottom" fmla="*/ 1849320 h 1849320"/>
            </a:gdLst>
            <a:ahLst/>
            <a:rect l="textAreaLeft" t="textAreaTop" r="textAreaRight" b="textAreaBottom"/>
            <a:pathLst>
              <a:path fill="none" w="22221" h="25078">
                <a:moveTo>
                  <a:pt x="-1" y="8"/>
                </a:moveTo>
                <a:cubicBezTo>
                  <a:pt x="206" y="2"/>
                  <a:pt x="413" y="-1"/>
                  <a:pt x="621" y="0"/>
                </a:cubicBezTo>
                <a:cubicBezTo>
                  <a:pt x="12550" y="0"/>
                  <a:pt x="22221" y="9670"/>
                  <a:pt x="22221" y="21600"/>
                </a:cubicBezTo>
                <a:cubicBezTo>
                  <a:pt x="22221" y="22765"/>
                  <a:pt x="22126" y="23928"/>
                  <a:pt x="21939" y="25078"/>
                </a:cubicBezTo>
              </a:path>
              <a:path stroke="0" w="22221" h="25078">
                <a:moveTo>
                  <a:pt x="-1" y="8"/>
                </a:moveTo>
                <a:cubicBezTo>
                  <a:pt x="206" y="2"/>
                  <a:pt x="413" y="-1"/>
                  <a:pt x="621" y="0"/>
                </a:cubicBezTo>
                <a:cubicBezTo>
                  <a:pt x="12550" y="0"/>
                  <a:pt x="22221" y="9670"/>
                  <a:pt x="22221" y="21600"/>
                </a:cubicBezTo>
                <a:cubicBezTo>
                  <a:pt x="22221" y="22765"/>
                  <a:pt x="22126" y="23928"/>
                  <a:pt x="21939" y="25078"/>
                </a:cubicBezTo>
                <a:lnTo>
                  <a:pt x="621" y="2160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prstDash val="dashDot"/>
            <a:round/>
          </a:ln>
          <a:effectLst>
            <a:outerShdw dist="12600" dir="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7723080" y="2819520"/>
            <a:ext cx="206856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753160" y="2979720"/>
            <a:ext cx="547560" cy="1612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ח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 rot="19478400">
            <a:off x="6645960" y="3449520"/>
            <a:ext cx="1447560" cy="15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רו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מטפל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ומר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7581960" y="2286000"/>
            <a:ext cx="2590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משיך בריא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565600" y="5091120"/>
            <a:ext cx="1178280" cy="4597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  <a:cs typeface="Levenim MT"/>
              </a:rPr>
              <a:t>מוות</a:t>
            </a:r>
            <a:r>
              <a:rPr b="1" lang="he-IL" sz="2400" spc="-1" strike="noStrike">
                <a:solidFill>
                  <a:srgbClr val="000020"/>
                </a:solidFill>
                <a:latin typeface="Arial"/>
                <a:ea typeface="Levenim MT"/>
              </a:rPr>
              <a:t>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6210360" y="4197240"/>
            <a:ext cx="0" cy="7556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5141880" y="2852640"/>
            <a:ext cx="1800" cy="103356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10484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214632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6972480" y="5734080"/>
            <a:ext cx="210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816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>
            <a:off x="5448240" y="2819520"/>
            <a:ext cx="3581640" cy="0"/>
          </a:xfrm>
          <a:prstGeom prst="line">
            <a:avLst/>
          </a:prstGeom>
          <a:ln w="572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4824360" y="2514600"/>
            <a:ext cx="547920" cy="1612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ח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5448240" y="1828800"/>
            <a:ext cx="3962520" cy="450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20"/>
                </a:solidFill>
                <a:latin typeface="Arial"/>
                <a:cs typeface="David"/>
              </a:rPr>
              <a:t>אין ריפוי מלא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5219640" y="22860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לא ממשיך בריא לגמ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 flipV="1">
            <a:off x="1104840" y="2819520"/>
            <a:ext cx="3276720" cy="3312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>
            <a:off x="110484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1333440" y="2316240"/>
            <a:ext cx="2282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Freeform 17"/>
          <p:cNvSpPr/>
          <p:nvPr/>
        </p:nvSpPr>
        <p:spPr>
          <a:xfrm>
            <a:off x="4305240" y="2819520"/>
            <a:ext cx="838440" cy="75960"/>
          </a:xfrm>
          <a:custGeom>
            <a:avLst/>
            <a:gdLst>
              <a:gd name="textAreaLeft" fmla="*/ 0 w 838440"/>
              <a:gd name="textAreaRight" fmla="*/ 838800 w 8384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104" h="103">
                <a:moveTo>
                  <a:pt x="0" y="42"/>
                </a:moveTo>
                <a:cubicBezTo>
                  <a:pt x="60" y="22"/>
                  <a:pt x="24" y="26"/>
                  <a:pt x="108" y="54"/>
                </a:cubicBezTo>
                <a:cubicBezTo>
                  <a:pt x="120" y="58"/>
                  <a:pt x="144" y="66"/>
                  <a:pt x="144" y="66"/>
                </a:cubicBezTo>
                <a:cubicBezTo>
                  <a:pt x="253" y="30"/>
                  <a:pt x="81" y="80"/>
                  <a:pt x="240" y="66"/>
                </a:cubicBezTo>
                <a:cubicBezTo>
                  <a:pt x="296" y="61"/>
                  <a:pt x="333" y="23"/>
                  <a:pt x="384" y="6"/>
                </a:cubicBezTo>
                <a:cubicBezTo>
                  <a:pt x="487" y="75"/>
                  <a:pt x="357" y="1"/>
                  <a:pt x="456" y="18"/>
                </a:cubicBezTo>
                <a:cubicBezTo>
                  <a:pt x="470" y="20"/>
                  <a:pt x="480" y="34"/>
                  <a:pt x="492" y="42"/>
                </a:cubicBezTo>
                <a:cubicBezTo>
                  <a:pt x="504" y="38"/>
                  <a:pt x="515" y="29"/>
                  <a:pt x="528" y="30"/>
                </a:cubicBezTo>
                <a:cubicBezTo>
                  <a:pt x="553" y="33"/>
                  <a:pt x="600" y="54"/>
                  <a:pt x="600" y="54"/>
                </a:cubicBezTo>
                <a:cubicBezTo>
                  <a:pt x="662" y="7"/>
                  <a:pt x="664" y="0"/>
                  <a:pt x="708" y="66"/>
                </a:cubicBezTo>
                <a:cubicBezTo>
                  <a:pt x="720" y="58"/>
                  <a:pt x="730" y="44"/>
                  <a:pt x="744" y="42"/>
                </a:cubicBezTo>
                <a:cubicBezTo>
                  <a:pt x="756" y="40"/>
                  <a:pt x="767" y="54"/>
                  <a:pt x="780" y="54"/>
                </a:cubicBezTo>
                <a:cubicBezTo>
                  <a:pt x="793" y="54"/>
                  <a:pt x="804" y="46"/>
                  <a:pt x="816" y="42"/>
                </a:cubicBezTo>
                <a:cubicBezTo>
                  <a:pt x="828" y="54"/>
                  <a:pt x="836" y="74"/>
                  <a:pt x="852" y="78"/>
                </a:cubicBezTo>
                <a:cubicBezTo>
                  <a:pt x="953" y="103"/>
                  <a:pt x="882" y="21"/>
                  <a:pt x="936" y="102"/>
                </a:cubicBezTo>
                <a:cubicBezTo>
                  <a:pt x="987" y="68"/>
                  <a:pt x="1001" y="88"/>
                  <a:pt x="1020" y="30"/>
                </a:cubicBezTo>
                <a:cubicBezTo>
                  <a:pt x="1071" y="47"/>
                  <a:pt x="1043" y="42"/>
                  <a:pt x="1104" y="42"/>
                </a:cubicBezTo>
              </a:path>
            </a:pathLst>
          </a:custGeom>
          <a:noFill/>
          <a:ln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3" name="Freeform 18"/>
          <p:cNvSpPr/>
          <p:nvPr/>
        </p:nvSpPr>
        <p:spPr>
          <a:xfrm>
            <a:off x="5372280" y="3352680"/>
            <a:ext cx="838080" cy="114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28" h="72">
                <a:moveTo>
                  <a:pt x="0" y="0"/>
                </a:moveTo>
                <a:cubicBezTo>
                  <a:pt x="94" y="23"/>
                  <a:pt x="181" y="26"/>
                  <a:pt x="276" y="12"/>
                </a:cubicBezTo>
                <a:cubicBezTo>
                  <a:pt x="349" y="30"/>
                  <a:pt x="456" y="72"/>
                  <a:pt x="528" y="72"/>
                </a:cubicBezTo>
              </a:path>
            </a:pathLst>
          </a:custGeom>
          <a:noFill/>
          <a:ln w="540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Arc 19"/>
          <p:cNvSpPr/>
          <p:nvPr/>
        </p:nvSpPr>
        <p:spPr>
          <a:xfrm flipH="1" flipV="1" rot="5142000">
            <a:off x="5077440" y="3418560"/>
            <a:ext cx="425520" cy="293400"/>
          </a:xfrm>
          <a:custGeom>
            <a:avLst/>
            <a:gdLst>
              <a:gd name="textAreaLeft" fmla="*/ 360 w 425520"/>
              <a:gd name="textAreaRight" fmla="*/ 426240 w 425520"/>
              <a:gd name="textAreaTop" fmla="*/ -360 h 293400"/>
              <a:gd name="textAreaBottom" fmla="*/ 293400 h 293400"/>
            </a:gdLst>
            <a:ahLst/>
            <a:rect l="textAreaLeft" t="textAreaTop" r="textAreaRight" b="textAreaBottom"/>
            <a:pathLst>
              <a:path fill="none" w="21600" h="2876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38"/>
                  <a:pt x="21186" y="26460"/>
                  <a:pt x="20378" y="28761"/>
                </a:cubicBezTo>
              </a:path>
              <a:path stroke="0" w="21600" h="2876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38"/>
                  <a:pt x="21186" y="26460"/>
                  <a:pt x="20378" y="28761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Freeform 20"/>
          <p:cNvSpPr/>
          <p:nvPr/>
        </p:nvSpPr>
        <p:spPr>
          <a:xfrm>
            <a:off x="6210360" y="3457440"/>
            <a:ext cx="2485800" cy="1114560"/>
          </a:xfrm>
          <a:custGeom>
            <a:avLst/>
            <a:gdLst>
              <a:gd name="textAreaLeft" fmla="*/ 0 w 2485800"/>
              <a:gd name="textAreaRight" fmla="*/ 2486160 w 2485800"/>
              <a:gd name="textAreaTop" fmla="*/ 0 h 1114560"/>
              <a:gd name="textAreaBottom" fmla="*/ 1114920 h 1114560"/>
            </a:gdLst>
            <a:ahLst/>
            <a:rect l="textAreaLeft" t="textAreaTop" r="textAreaRight" b="textAreaBottom"/>
            <a:pathLst>
              <a:path w="1566" h="702">
                <a:moveTo>
                  <a:pt x="0" y="0"/>
                </a:moveTo>
                <a:cubicBezTo>
                  <a:pt x="3" y="1"/>
                  <a:pt x="53" y="18"/>
                  <a:pt x="54" y="18"/>
                </a:cubicBezTo>
                <a:cubicBezTo>
                  <a:pt x="60" y="20"/>
                  <a:pt x="72" y="24"/>
                  <a:pt x="72" y="24"/>
                </a:cubicBezTo>
                <a:cubicBezTo>
                  <a:pt x="74" y="30"/>
                  <a:pt x="74" y="37"/>
                  <a:pt x="78" y="42"/>
                </a:cubicBezTo>
                <a:cubicBezTo>
                  <a:pt x="83" y="48"/>
                  <a:pt x="93" y="48"/>
                  <a:pt x="96" y="54"/>
                </a:cubicBezTo>
                <a:cubicBezTo>
                  <a:pt x="118" y="98"/>
                  <a:pt x="101" y="144"/>
                  <a:pt x="156" y="162"/>
                </a:cubicBezTo>
                <a:cubicBezTo>
                  <a:pt x="202" y="153"/>
                  <a:pt x="200" y="156"/>
                  <a:pt x="228" y="114"/>
                </a:cubicBezTo>
                <a:cubicBezTo>
                  <a:pt x="236" y="102"/>
                  <a:pt x="264" y="90"/>
                  <a:pt x="264" y="90"/>
                </a:cubicBezTo>
                <a:cubicBezTo>
                  <a:pt x="316" y="107"/>
                  <a:pt x="289" y="105"/>
                  <a:pt x="330" y="132"/>
                </a:cubicBezTo>
                <a:cubicBezTo>
                  <a:pt x="344" y="175"/>
                  <a:pt x="324" y="123"/>
                  <a:pt x="354" y="168"/>
                </a:cubicBezTo>
                <a:cubicBezTo>
                  <a:pt x="358" y="173"/>
                  <a:pt x="356" y="182"/>
                  <a:pt x="360" y="186"/>
                </a:cubicBezTo>
                <a:cubicBezTo>
                  <a:pt x="370" y="196"/>
                  <a:pt x="396" y="210"/>
                  <a:pt x="396" y="210"/>
                </a:cubicBezTo>
                <a:cubicBezTo>
                  <a:pt x="426" y="208"/>
                  <a:pt x="457" y="214"/>
                  <a:pt x="486" y="204"/>
                </a:cubicBezTo>
                <a:cubicBezTo>
                  <a:pt x="529" y="190"/>
                  <a:pt x="521" y="149"/>
                  <a:pt x="576" y="138"/>
                </a:cubicBezTo>
                <a:cubicBezTo>
                  <a:pt x="610" y="161"/>
                  <a:pt x="613" y="190"/>
                  <a:pt x="654" y="204"/>
                </a:cubicBezTo>
                <a:cubicBezTo>
                  <a:pt x="662" y="210"/>
                  <a:pt x="671" y="215"/>
                  <a:pt x="678" y="222"/>
                </a:cubicBezTo>
                <a:cubicBezTo>
                  <a:pt x="688" y="233"/>
                  <a:pt x="688" y="253"/>
                  <a:pt x="702" y="258"/>
                </a:cubicBezTo>
                <a:cubicBezTo>
                  <a:pt x="714" y="262"/>
                  <a:pt x="726" y="266"/>
                  <a:pt x="738" y="270"/>
                </a:cubicBezTo>
                <a:cubicBezTo>
                  <a:pt x="744" y="272"/>
                  <a:pt x="756" y="276"/>
                  <a:pt x="756" y="276"/>
                </a:cubicBezTo>
                <a:cubicBezTo>
                  <a:pt x="776" y="269"/>
                  <a:pt x="790" y="259"/>
                  <a:pt x="810" y="252"/>
                </a:cubicBezTo>
                <a:cubicBezTo>
                  <a:pt x="822" y="256"/>
                  <a:pt x="842" y="252"/>
                  <a:pt x="846" y="264"/>
                </a:cubicBezTo>
                <a:cubicBezTo>
                  <a:pt x="854" y="288"/>
                  <a:pt x="846" y="280"/>
                  <a:pt x="870" y="288"/>
                </a:cubicBezTo>
                <a:cubicBezTo>
                  <a:pt x="872" y="294"/>
                  <a:pt x="872" y="302"/>
                  <a:pt x="876" y="306"/>
                </a:cubicBezTo>
                <a:cubicBezTo>
                  <a:pt x="886" y="316"/>
                  <a:pt x="912" y="330"/>
                  <a:pt x="912" y="330"/>
                </a:cubicBezTo>
                <a:cubicBezTo>
                  <a:pt x="929" y="356"/>
                  <a:pt x="954" y="370"/>
                  <a:pt x="972" y="396"/>
                </a:cubicBezTo>
                <a:cubicBezTo>
                  <a:pt x="976" y="459"/>
                  <a:pt x="980" y="505"/>
                  <a:pt x="990" y="564"/>
                </a:cubicBezTo>
                <a:cubicBezTo>
                  <a:pt x="992" y="608"/>
                  <a:pt x="988" y="653"/>
                  <a:pt x="996" y="696"/>
                </a:cubicBezTo>
                <a:cubicBezTo>
                  <a:pt x="996" y="696"/>
                  <a:pt x="1011" y="651"/>
                  <a:pt x="1014" y="642"/>
                </a:cubicBezTo>
                <a:cubicBezTo>
                  <a:pt x="1025" y="610"/>
                  <a:pt x="1032" y="594"/>
                  <a:pt x="1056" y="570"/>
                </a:cubicBezTo>
                <a:cubicBezTo>
                  <a:pt x="1060" y="557"/>
                  <a:pt x="1063" y="544"/>
                  <a:pt x="1074" y="534"/>
                </a:cubicBezTo>
                <a:cubicBezTo>
                  <a:pt x="1085" y="525"/>
                  <a:pt x="1110" y="510"/>
                  <a:pt x="1110" y="510"/>
                </a:cubicBezTo>
                <a:cubicBezTo>
                  <a:pt x="1136" y="519"/>
                  <a:pt x="1156" y="531"/>
                  <a:pt x="1182" y="540"/>
                </a:cubicBezTo>
                <a:cubicBezTo>
                  <a:pt x="1200" y="567"/>
                  <a:pt x="1234" y="582"/>
                  <a:pt x="1266" y="588"/>
                </a:cubicBezTo>
                <a:cubicBezTo>
                  <a:pt x="1274" y="613"/>
                  <a:pt x="1287" y="610"/>
                  <a:pt x="1308" y="624"/>
                </a:cubicBezTo>
                <a:cubicBezTo>
                  <a:pt x="1379" y="617"/>
                  <a:pt x="1372" y="608"/>
                  <a:pt x="1428" y="594"/>
                </a:cubicBezTo>
                <a:cubicBezTo>
                  <a:pt x="1489" y="553"/>
                  <a:pt x="1502" y="620"/>
                  <a:pt x="1524" y="660"/>
                </a:cubicBezTo>
                <a:cubicBezTo>
                  <a:pt x="1531" y="673"/>
                  <a:pt x="1534" y="691"/>
                  <a:pt x="1548" y="696"/>
                </a:cubicBezTo>
                <a:cubicBezTo>
                  <a:pt x="1554" y="698"/>
                  <a:pt x="1566" y="702"/>
                  <a:pt x="1566" y="702"/>
                </a:cubicBezTo>
              </a:path>
            </a:pathLst>
          </a:custGeom>
          <a:noFill/>
          <a:ln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3390840" y="3581280"/>
            <a:ext cx="2895840" cy="914400"/>
          </a:xfrm>
          <a:prstGeom prst="line">
            <a:avLst/>
          </a:prstGeom>
          <a:ln w="10800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Arc 22"/>
          <p:cNvSpPr/>
          <p:nvPr/>
        </p:nvSpPr>
        <p:spPr>
          <a:xfrm flipH="1" flipV="1" rot="5400000">
            <a:off x="7757280" y="4334760"/>
            <a:ext cx="355680" cy="220320"/>
          </a:xfrm>
          <a:custGeom>
            <a:avLst/>
            <a:gdLst>
              <a:gd name="textAreaLeft" fmla="*/ 360 w 355680"/>
              <a:gd name="textAreaRight" fmla="*/ 356400 w 355680"/>
              <a:gd name="textAreaTop" fmla="*/ 360 h 220320"/>
              <a:gd name="textAreaBottom" fmla="*/ 221040 h 220320"/>
            </a:gdLst>
            <a:ahLst/>
            <a:rect l="textAreaLeft" t="textAreaTop" r="textAreaRight" b="textAreaBottom"/>
            <a:pathLst>
              <a:path fill="none" w="18047" h="21600">
                <a:moveTo>
                  <a:pt x="-1" y="0"/>
                </a:moveTo>
                <a:cubicBezTo>
                  <a:pt x="7270" y="0"/>
                  <a:pt x="14052" y="3657"/>
                  <a:pt x="18047" y="9731"/>
                </a:cubicBezTo>
              </a:path>
              <a:path stroke="0" w="18047" h="21600">
                <a:moveTo>
                  <a:pt x="-1" y="0"/>
                </a:moveTo>
                <a:cubicBezTo>
                  <a:pt x="7270" y="0"/>
                  <a:pt x="14052" y="3657"/>
                  <a:pt x="18047" y="9731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Rectangle 23"/>
          <p:cNvSpPr/>
          <p:nvPr/>
        </p:nvSpPr>
        <p:spPr>
          <a:xfrm>
            <a:off x="228600" y="76320"/>
            <a:ext cx="10248840" cy="155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בריאות וחולי ההתפכחות במאה ה -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24"/>
          <p:cNvSpPr/>
          <p:nvPr/>
        </p:nvSpPr>
        <p:spPr>
          <a:xfrm rot="1085400">
            <a:off x="2362680" y="4096440"/>
            <a:ext cx="5438880" cy="15562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c0128"/>
                </a:solidFill>
                <a:latin typeface="Arial"/>
                <a:ea typeface="David"/>
              </a:rPr>
              <a:t>&lt;&lt;&lt;&lt;&lt; איכות  החיים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Line 25"/>
          <p:cNvSpPr/>
          <p:nvPr/>
        </p:nvSpPr>
        <p:spPr>
          <a:xfrm>
            <a:off x="6515280" y="4510080"/>
            <a:ext cx="2180880" cy="747720"/>
          </a:xfrm>
          <a:prstGeom prst="line">
            <a:avLst/>
          </a:prstGeom>
          <a:ln w="10800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26"/>
          <p:cNvSpPr/>
          <p:nvPr/>
        </p:nvSpPr>
        <p:spPr>
          <a:xfrm>
            <a:off x="8877240" y="49528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fc0128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AutoShape 27"/>
          <p:cNvSpPr/>
          <p:nvPr/>
        </p:nvSpPr>
        <p:spPr>
          <a:xfrm>
            <a:off x="770040" y="1752480"/>
            <a:ext cx="4678200" cy="685800"/>
          </a:xfrm>
          <a:prstGeom prst="leftArrow">
            <a:avLst>
              <a:gd name="adj1" fmla="val 50000"/>
              <a:gd name="adj2" fmla="val 170538"/>
            </a:avLst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" name="Text Box 28"/>
          <p:cNvSpPr/>
          <p:nvPr/>
        </p:nvSpPr>
        <p:spPr>
          <a:xfrm>
            <a:off x="-343080" y="5029200"/>
            <a:ext cx="441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הו מצב בריאותי </a:t>
            </a:r>
            <a:r>
              <a:rPr b="1" lang="he-IL" sz="3600" spc="-1" strike="noStrike">
                <a:solidFill>
                  <a:srgbClr val="fafd00"/>
                </a:solidFill>
                <a:latin typeface="Garamond"/>
                <a:ea typeface="Arial"/>
              </a:rPr>
              <a:t>0%</a:t>
            </a:r>
            <a:r>
              <a:rPr b="1" lang="he-IL" sz="1200" spc="-1" strike="noStrike">
                <a:solidFill>
                  <a:srgbClr val="fafd00"/>
                </a:solidFill>
                <a:latin typeface="Garamond"/>
                <a:ea typeface="Arial"/>
              </a:rPr>
              <a:t> </a:t>
            </a:r>
            <a:r>
              <a:rPr b="1" lang="he-IL" sz="3600" spc="-1" strike="noStrike">
                <a:solidFill>
                  <a:srgbClr val="fafd00"/>
                </a:solidFill>
                <a:latin typeface="Garamond"/>
                <a:ea typeface="Arial"/>
              </a:rPr>
              <a:t>? מוות?  גרוע ממוות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Text Box 29"/>
          <p:cNvSpPr/>
          <p:nvPr/>
        </p:nvSpPr>
        <p:spPr>
          <a:xfrm>
            <a:off x="800280" y="1828800"/>
            <a:ext cx="43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  <a:cs typeface="David"/>
              </a:rPr>
              <a:t>לעתים סבל ומוגבלות כבר מהליד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18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18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 rot="19200">
            <a:off x="-171000" y="1649520"/>
            <a:ext cx="10353600" cy="86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מהי  ההזדקנות ?  (הכר את  ה"אויב"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השינוי הדמוגראפי: הארכת תוחלת חיים ממוצע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הקשר בין הזדקנות לתחלואה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הבום הגריאטרי – רפואי, כלכלי וחברתי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תרומת הרפואה והקידום הטכנולוגי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רפואה מונעת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ea typeface="David"/>
              </a:rPr>
              <a:t> &lt;&gt;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מרפאה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RE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)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ea typeface="David"/>
              </a:rPr>
              <a:t> &lt;&gt;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פליאטיבית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התפוחים הרקובים: מרפאות "אנטי אייג'ינג"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מה  באמת  נוכל  לעשות  ?                   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127160"/>
            <a:ext cx="10287000" cy="703440"/>
          </a:xfrm>
          <a:prstGeom prst="rect">
            <a:avLst/>
          </a:pr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</a:rPr>
              <a:t>נקודות   לדיו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-360" y="-7668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קידום  בריאות  ושיפור בריאות </a:t>
            </a: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בעולם  המשתנה  במהירות</a:t>
            </a:r>
            <a:r>
              <a:rPr b="0" lang="he-IL" sz="4400" spc="-1" strike="noStrike">
                <a:solidFill>
                  <a:srgbClr val="00cece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0" y="0"/>
          <a:ext cx="10287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2"/>
          <p:cNvGraphicFramePr/>
          <p:nvPr/>
        </p:nvGraphicFramePr>
        <p:xfrm>
          <a:off x="5315040" y="1190520"/>
          <a:ext cx="197172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1190520"/>
                    <a:ext cx="1971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3"/>
          <p:cNvGraphicFramePr/>
          <p:nvPr/>
        </p:nvGraphicFramePr>
        <p:xfrm>
          <a:off x="353880" y="914400"/>
          <a:ext cx="890460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880" y="914400"/>
                    <a:ext cx="890460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4"/>
          <p:cNvSpPr/>
          <p:nvPr/>
        </p:nvSpPr>
        <p:spPr>
          <a:xfrm>
            <a:off x="2443320" y="3505320"/>
            <a:ext cx="4052880" cy="9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טיפול מרפא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086280" y="2468520"/>
            <a:ext cx="26431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טיפול פליאטיב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00360" y="1752480"/>
            <a:ext cx="149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evenim MT"/>
              </a:rPr>
              <a:t>DEATH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6858000" y="4572000"/>
            <a:ext cx="1525680" cy="20970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Line 8"/>
          <p:cNvSpPr/>
          <p:nvPr/>
        </p:nvSpPr>
        <p:spPr>
          <a:xfrm flipH="1">
            <a:off x="464760" y="4581360"/>
            <a:ext cx="1438200" cy="208764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1903320" y="4572000"/>
            <a:ext cx="4954680" cy="936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428760" y="6705720"/>
            <a:ext cx="7972200" cy="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 rot="8375400">
            <a:off x="7383240" y="3944880"/>
            <a:ext cx="1141200" cy="2664000"/>
          </a:xfrm>
          <a:custGeom>
            <a:avLst/>
            <a:gdLst>
              <a:gd name="textAreaLeft" fmla="*/ 184320 w 1141200"/>
              <a:gd name="textAreaRight" fmla="*/ 956880 w 1141200"/>
              <a:gd name="textAreaTop" fmla="*/ 430560 h 2664000"/>
              <a:gd name="textAreaBottom" fmla="*/ 223344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81" y="21600"/>
                </a:lnTo>
                <a:lnTo>
                  <a:pt x="1821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6719760" y="3516480"/>
            <a:ext cx="2691000" cy="825120"/>
          </a:xfrm>
          <a:prstGeom prst="rect">
            <a:avLst/>
          </a:prstGeom>
          <a:solidFill>
            <a:srgbClr val="9900cc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Arial"/>
                <a:cs typeface="David"/>
              </a:rPr>
              <a:t>חולים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905440" y="2479680"/>
            <a:ext cx="2895840" cy="642600"/>
          </a:xfrm>
          <a:prstGeom prst="rect">
            <a:avLst/>
          </a:prstGeom>
          <a:solidFill>
            <a:srgbClr val="ff6600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20"/>
                </a:solidFill>
                <a:latin typeface="Arial"/>
                <a:cs typeface="David"/>
              </a:rPr>
              <a:t>חולים קשי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3546360" y="685800"/>
            <a:ext cx="1901880" cy="1434960"/>
          </a:xfrm>
          <a:prstGeom prst="triangle">
            <a:avLst>
              <a:gd name="adj" fmla="val 47292"/>
            </a:avLst>
          </a:prstGeom>
          <a:solidFill>
            <a:srgbClr val="5c5c5c"/>
          </a:solidFill>
          <a:ln w="12600">
            <a:solidFill>
              <a:srgbClr val="c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3695760" y="1371600"/>
            <a:ext cx="1619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מ ו ו 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Times New Roman"/>
                <a:cs typeface="David"/>
              </a:rPr>
              <a:t>בריאות וחולי גלובלית - האידיאל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14" name="AutoShape 17"/>
          <p:cNvSpPr/>
          <p:nvPr/>
        </p:nvSpPr>
        <p:spPr>
          <a:xfrm flipV="1">
            <a:off x="465120" y="4581000"/>
            <a:ext cx="8336160" cy="2068560"/>
          </a:xfrm>
          <a:custGeom>
            <a:avLst/>
            <a:gdLst>
              <a:gd name="textAreaLeft" fmla="*/ 1421640 w 8336160"/>
              <a:gd name="textAreaRight" fmla="*/ 6914520 w 8336160"/>
              <a:gd name="textAreaTop" fmla="*/ 352800 h 2068560"/>
              <a:gd name="textAreaBottom" fmla="*/ 1715760 h 20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67" y="21600"/>
                </a:lnTo>
                <a:lnTo>
                  <a:pt x="17833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99cc"/>
          </a:soli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1069920" y="5791320"/>
            <a:ext cx="6740640" cy="915480"/>
          </a:xfrm>
          <a:prstGeom prst="rect">
            <a:avLst/>
          </a:prstGeom>
          <a:noFill/>
          <a:ln w="0">
            <a:noFill/>
          </a:ln>
          <a:effectLst>
            <a:outerShdw dist="77353" dir="1676247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Times New Roman"/>
                <a:cs typeface="Levenim MT"/>
              </a:rPr>
              <a:t>וקידום  בריאו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2080080" y="4876920"/>
            <a:ext cx="4560480" cy="915480"/>
          </a:xfrm>
          <a:prstGeom prst="rect">
            <a:avLst/>
          </a:prstGeom>
          <a:noFill/>
          <a:ln w="0">
            <a:noFill/>
          </a:ln>
          <a:effectLst>
            <a:outerShdw dist="63360" dir="162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Times New Roman"/>
                <a:cs typeface="Levenim MT"/>
              </a:rPr>
              <a:t>עיכוב , מניעה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7505640" y="4952880"/>
            <a:ext cx="2708280" cy="1752840"/>
          </a:xfrm>
          <a:prstGeom prst="rect">
            <a:avLst/>
          </a:prstGeom>
          <a:solidFill>
            <a:srgbClr val="ffff00"/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ef5fe5"/>
                </a:solidFill>
                <a:latin typeface="Arial"/>
                <a:cs typeface="David"/>
              </a:rPr>
              <a:t>בריאים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2324160" y="5181480"/>
            <a:ext cx="3247920" cy="106740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עיכוב, מניעה וקידום בריאו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7029360" y="1508040"/>
            <a:ext cx="3256200" cy="7628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600880" y="4959360"/>
            <a:ext cx="2133360" cy="172944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Arial"/>
              </a:rPr>
              <a:t>ב ר י א י 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486080" y="3330720"/>
            <a:ext cx="4114800" cy="1738440"/>
          </a:xfrm>
          <a:prstGeom prst="rect">
            <a:avLst/>
          </a:prstGeom>
          <a:solidFill>
            <a:srgbClr val="800080"/>
          </a:solidFill>
          <a:ln w="38160">
            <a:solidFill>
              <a:srgbClr val="ffff00"/>
            </a:solidFill>
            <a:miter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ט י פ ו ל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מ ר פ א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f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David"/>
              </a:rPr>
              <a:t>מצב בריאות במאה ה-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ea typeface="David"/>
              </a:rPr>
              <a:t>21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ea typeface="David"/>
              </a:rPr>
              <a:t>  - המציאות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572080" y="3352680"/>
            <a:ext cx="3124080" cy="2130480"/>
          </a:xfrm>
          <a:prstGeom prst="rect">
            <a:avLst/>
          </a:prstGeom>
          <a:solidFill>
            <a:srgbClr val="9900cc"/>
          </a:solidFill>
          <a:ln w="2556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ח  ו ל י 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0" y="1066680"/>
            <a:ext cx="5648400" cy="3410280"/>
          </a:xfrm>
          <a:prstGeom prst="rect">
            <a:avLst/>
          </a:prstGeom>
          <a:solidFill>
            <a:srgbClr val="70707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  <a:cs typeface="David"/>
              </a:rPr>
              <a:t>ט י פ ו ל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  <a:cs typeface="David"/>
              </a:rPr>
              <a:t>פ ל י א ט י ב י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5648400" y="1066680"/>
            <a:ext cx="4637160" cy="2311560"/>
          </a:xfrm>
          <a:prstGeom prst="rect">
            <a:avLst/>
          </a:prstGeom>
          <a:solidFill>
            <a:srgbClr val="707070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8"/>
                </a:solidFill>
                <a:latin typeface="Arial"/>
                <a:cs typeface="David"/>
              </a:rPr>
              <a:t>ח ו ל י ם</a:t>
            </a:r>
            <a:r>
              <a:rPr b="1" lang="he-IL" sz="7200" spc="-1" strike="noStrike">
                <a:solidFill>
                  <a:srgbClr val="000008"/>
                </a:solidFill>
                <a:latin typeface="Arial"/>
                <a:ea typeface="David"/>
              </a:rPr>
              <a:t> 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8"/>
                </a:solidFill>
                <a:latin typeface="Arial"/>
                <a:ea typeface="David"/>
              </a:rPr>
              <a:t> </a:t>
            </a:r>
            <a:r>
              <a:rPr b="1" lang="he-IL" sz="7200" spc="-1" strike="noStrike">
                <a:solidFill>
                  <a:srgbClr val="000008"/>
                </a:solidFill>
                <a:latin typeface="Arial"/>
                <a:cs typeface="David"/>
              </a:rPr>
              <a:t>ק ש י ם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>
            <a:off x="2324160" y="6248520"/>
            <a:ext cx="5410080" cy="609480"/>
          </a:xfrm>
          <a:custGeom>
            <a:avLst/>
            <a:gdLst>
              <a:gd name="textAreaLeft" fmla="*/ 1127160 w 5410080"/>
              <a:gd name="textAreaRight" fmla="*/ 4282920 w 5410080"/>
              <a:gd name="textAreaTop" fmla="*/ 126720 h 609480"/>
              <a:gd name="textAreaBottom" fmla="*/ 4827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99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AutoShape 11"/>
          <p:cNvSpPr/>
          <p:nvPr/>
        </p:nvSpPr>
        <p:spPr>
          <a:xfrm>
            <a:off x="9069480" y="1981080"/>
            <a:ext cx="1484280" cy="4876920"/>
          </a:xfrm>
          <a:prstGeom prst="upArrow">
            <a:avLst>
              <a:gd name="adj1" fmla="val 50000"/>
              <a:gd name="adj2" fmla="val 82143"/>
            </a:avLst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9414000" y="3581280"/>
            <a:ext cx="530280" cy="2104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400"/>
                            </p:stCondLst>
                            <p:childTnLst>
                              <p:par>
                                <p:cTn id="7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4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900"/>
                            </p:stCondLst>
                            <p:childTnLst>
                              <p:par>
                                <p:cTn id="8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0" y="1647720"/>
            <a:ext cx="10287000" cy="146556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I  WANT  TO  DIE  YOUNG…..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95360" y="75960"/>
            <a:ext cx="1002960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T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HE  BEST  WAY  TO  LIVE AND  DIE...? 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0" y="3627360"/>
            <a:ext cx="10287000" cy="17906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S  LATE  IN LIFE AS POSSIBLE !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33" name="Object 6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312408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</p:pic>
      <p:pic>
        <p:nvPicPr>
          <p:cNvPr id="434" name="Object 7" descr=""/>
          <p:cNvPicPr/>
          <p:nvPr/>
        </p:nvPicPr>
        <p:blipFill>
          <a:blip r:embed="rId2"/>
          <a:stretch/>
        </p:blipFill>
        <p:spPr>
          <a:xfrm>
            <a:off x="7924680" y="4505400"/>
            <a:ext cx="762120" cy="981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</p:pic>
      <p:sp>
        <p:nvSpPr>
          <p:cNvPr id="435" name="Text Box 8"/>
          <p:cNvSpPr/>
          <p:nvPr/>
        </p:nvSpPr>
        <p:spPr>
          <a:xfrm>
            <a:off x="544824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ntegu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קידום  בריאות  ושיפור בריאות </a:t>
            </a:r>
            <a:br>
              <a:rPr sz="5400"/>
            </a:br>
            <a:r>
              <a:rPr b="1" lang="he-IL" sz="4800" spc="-1" strike="noStrike">
                <a:solidFill>
                  <a:srgbClr val="fafd00"/>
                </a:solidFill>
                <a:latin typeface="Levenim MT"/>
                <a:cs typeface="Levenim MT"/>
              </a:rPr>
              <a:t>בעולם  המשתנה  במהירות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-457200" y="2590920"/>
            <a:ext cx="11391840" cy="30200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r>
              <a:rPr b="1" lang="he-IL" sz="9600" spc="-1" strike="noStrike">
                <a:solidFill>
                  <a:srgbClr val="fafd00"/>
                </a:solidFill>
                <a:latin typeface="Arial"/>
                <a:cs typeface="David"/>
              </a:rPr>
              <a:t>ומה לא  לעשות  ???</a:t>
            </a:r>
            <a:endParaRPr b="0" lang="en-US" sz="9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44" name="Object 6"/>
          <p:cNvGraphicFramePr/>
          <p:nvPr/>
        </p:nvGraphicFramePr>
        <p:xfrm>
          <a:off x="1066680" y="5257800"/>
          <a:ext cx="1722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7226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46" name="Object 7"/>
          <p:cNvGraphicFramePr/>
          <p:nvPr/>
        </p:nvGraphicFramePr>
        <p:xfrm>
          <a:off x="181080" y="1295280"/>
          <a:ext cx="10105920" cy="525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080" y="1295280"/>
                    <a:ext cx="10105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8"/>
          <p:cNvGraphicFramePr/>
          <p:nvPr/>
        </p:nvGraphicFramePr>
        <p:xfrm>
          <a:off x="0" y="4952880"/>
          <a:ext cx="7351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952880"/>
                    <a:ext cx="73512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50" name="Object 9"/>
          <p:cNvGraphicFramePr/>
          <p:nvPr/>
        </p:nvGraphicFramePr>
        <p:xfrm>
          <a:off x="341280" y="5486400"/>
          <a:ext cx="9540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280" y="5486400"/>
                    <a:ext cx="9540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452" name="Rectangle 10"/>
          <p:cNvSpPr/>
          <p:nvPr/>
        </p:nvSpPr>
        <p:spPr>
          <a:xfrm>
            <a:off x="1104840" y="1828800"/>
            <a:ext cx="7162920" cy="1404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כן, כן... קח  טבליה אחת  צעירון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   וזריקת יפהפיון ותהיה צעיר ויפה לנצח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                                    (חה, חה, חה....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3" name="Arc 11"/>
          <p:cNvSpPr/>
          <p:nvPr/>
        </p:nvSpPr>
        <p:spPr>
          <a:xfrm flipV="1">
            <a:off x="3809880" y="3351960"/>
            <a:ext cx="1268640" cy="838440"/>
          </a:xfrm>
          <a:custGeom>
            <a:avLst/>
            <a:gdLst>
              <a:gd name="textAreaLeft" fmla="*/ 0 w 1268640"/>
              <a:gd name="textAreaRight" fmla="*/ 1269000 w 12686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1155" h="21600">
                <a:moveTo>
                  <a:pt x="-1" y="0"/>
                </a:moveTo>
                <a:cubicBezTo>
                  <a:pt x="10248" y="0"/>
                  <a:pt x="19086" y="7202"/>
                  <a:pt x="21155" y="17239"/>
                </a:cubicBezTo>
              </a:path>
              <a:path stroke="0" w="21155" h="21600">
                <a:moveTo>
                  <a:pt x="-1" y="0"/>
                </a:moveTo>
                <a:cubicBezTo>
                  <a:pt x="10248" y="0"/>
                  <a:pt x="19086" y="7202"/>
                  <a:pt x="21155" y="17239"/>
                </a:cubicBez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4" name="Arc 12"/>
          <p:cNvSpPr/>
          <p:nvPr/>
        </p:nvSpPr>
        <p:spPr>
          <a:xfrm flipV="1">
            <a:off x="3728880" y="3351960"/>
            <a:ext cx="1509840" cy="838440"/>
          </a:xfrm>
          <a:custGeom>
            <a:avLst/>
            <a:gdLst>
              <a:gd name="textAreaLeft" fmla="*/ 0 w 1509840"/>
              <a:gd name="textAreaRight" fmla="*/ 1510200 w 15098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5189" h="21600">
                <a:moveTo>
                  <a:pt x="-1" y="627"/>
                </a:moveTo>
                <a:cubicBezTo>
                  <a:pt x="1691" y="210"/>
                  <a:pt x="3427" y="-1"/>
                  <a:pt x="5170" y="0"/>
                </a:cubicBezTo>
                <a:cubicBezTo>
                  <a:pt x="13967" y="0"/>
                  <a:pt x="21885" y="5334"/>
                  <a:pt x="25188" y="13488"/>
                </a:cubicBezTo>
              </a:path>
              <a:path stroke="0" w="25189" h="21600">
                <a:moveTo>
                  <a:pt x="-1" y="627"/>
                </a:moveTo>
                <a:cubicBezTo>
                  <a:pt x="1691" y="210"/>
                  <a:pt x="3427" y="-1"/>
                  <a:pt x="5170" y="0"/>
                </a:cubicBezTo>
                <a:cubicBezTo>
                  <a:pt x="13967" y="0"/>
                  <a:pt x="21885" y="5334"/>
                  <a:pt x="25188" y="13488"/>
                </a:cubicBezTo>
                <a:lnTo>
                  <a:pt x="5170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Arc 13"/>
          <p:cNvSpPr/>
          <p:nvPr/>
        </p:nvSpPr>
        <p:spPr>
          <a:xfrm flipV="1">
            <a:off x="3863880" y="3276720"/>
            <a:ext cx="1317600" cy="914400"/>
          </a:xfrm>
          <a:custGeom>
            <a:avLst/>
            <a:gdLst>
              <a:gd name="textAreaLeft" fmla="*/ 0 w 1317600"/>
              <a:gd name="textAreaRight" fmla="*/ 1317960 w 131760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fill="none" w="21975" h="21600">
                <a:moveTo>
                  <a:pt x="-1" y="57"/>
                </a:moveTo>
                <a:cubicBezTo>
                  <a:pt x="525" y="19"/>
                  <a:pt x="1052" y="-1"/>
                  <a:pt x="1579" y="0"/>
                </a:cubicBezTo>
                <a:cubicBezTo>
                  <a:pt x="10767" y="0"/>
                  <a:pt x="18950" y="5812"/>
                  <a:pt x="21974" y="14489"/>
                </a:cubicBezTo>
              </a:path>
              <a:path stroke="0" w="21975" h="21600">
                <a:moveTo>
                  <a:pt x="-1" y="57"/>
                </a:moveTo>
                <a:cubicBezTo>
                  <a:pt x="525" y="19"/>
                  <a:pt x="1052" y="-1"/>
                  <a:pt x="1579" y="0"/>
                </a:cubicBezTo>
                <a:cubicBezTo>
                  <a:pt x="10767" y="0"/>
                  <a:pt x="18950" y="5812"/>
                  <a:pt x="21974" y="14489"/>
                </a:cubicBezTo>
                <a:lnTo>
                  <a:pt x="1579" y="21600"/>
                </a:lnTo>
                <a:close/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56" name="Object 14"/>
          <p:cNvGraphicFramePr/>
          <p:nvPr/>
        </p:nvGraphicFramePr>
        <p:xfrm>
          <a:off x="5867280" y="5029200"/>
          <a:ext cx="954360" cy="9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029200"/>
                    <a:ext cx="95436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458" name="Text Box 15"/>
          <p:cNvSpPr/>
          <p:nvPr/>
        </p:nvSpPr>
        <p:spPr>
          <a:xfrm>
            <a:off x="28440" y="76320"/>
            <a:ext cx="10258560" cy="838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ea typeface="Levenim MT"/>
              </a:rPr>
              <a:t>"מומחי"  ה"אנטי אג'ינג"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181080" y="1752480"/>
            <a:ext cx="10258200" cy="83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והתפוחים  הרקובים.....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880"/>
                            </p:stCondLst>
                            <p:childTnLst>
                              <p:par>
                                <p:cTn id="8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88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0" y="1295280"/>
            <a:ext cx="10287000" cy="8614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890000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 MOST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URBING  ASPECT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 THE  ANTI-AGING  MEDICINE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MENT  IS  IT’S 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R CUT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ERCIALIT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247680" y="6324480"/>
            <a:ext cx="1011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9"/>
                </a:solidFill>
                <a:latin typeface="Arial"/>
              </a:rPr>
              <a:t>United States General Accounting Office (GAO), Report Sept. 200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9360" y="2195640"/>
            <a:ext cx="101635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MANY  OF  THE  ANTI-AGING  PRODUCTS: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MIGHT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OSE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AND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ECONOMIC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HARM… 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MANY PRODUCTS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WERE 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FOUND  NOT TO  MEET …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CRITERIA  GIVEN  ON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THE LABEL…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ONE</a:t>
            </a:r>
            <a:r>
              <a:rPr b="1" lang="he-IL" sz="28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b"/>
                </a:solidFill>
                <a:latin typeface="Arial"/>
              </a:rPr>
              <a:t>IN 10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HERBAL  PRODUCTS  MAY  BE CONTAMINATED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BY PESTICIDES  AND  HEAVY  METALS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57480" y="75960"/>
            <a:ext cx="874368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TI  AGING  MEDICINE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360" y="5218200"/>
            <a:ext cx="10468080" cy="104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buClr>
                <a:srgbClr val="fc0128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FALSE HOPES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REJUVENATION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Y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ANTI-AGING PRODUCTS … DELAY  APPROPRIATE   PROFESSIONAL  THERAPY 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70" name="Object 6"/>
          <p:cNvGraphicFramePr/>
          <p:nvPr/>
        </p:nvGraphicFramePr>
        <p:xfrm>
          <a:off x="1030320" y="1828800"/>
          <a:ext cx="796140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1828800"/>
                    <a:ext cx="7961400" cy="496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72" name="Object 7"/>
          <p:cNvGraphicFramePr/>
          <p:nvPr/>
        </p:nvGraphicFramePr>
        <p:xfrm>
          <a:off x="1828800" y="3886200"/>
          <a:ext cx="16765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167652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474" name="Text Box 8"/>
          <p:cNvSpPr/>
          <p:nvPr/>
        </p:nvSpPr>
        <p:spPr>
          <a:xfrm>
            <a:off x="28440" y="-304920"/>
            <a:ext cx="10258560" cy="83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 אג'ינג"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ל רופא המשפחה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1828800"/>
            <a:ext cx="1024740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54080" y="2651040"/>
            <a:ext cx="10047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7" name="Object 4"/>
          <p:cNvGraphicFramePr/>
          <p:nvPr/>
        </p:nvGraphicFramePr>
        <p:xfrm rot="10800000">
          <a:off x="771480" y="5997240"/>
          <a:ext cx="8732880" cy="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71480" y="5997240"/>
                    <a:ext cx="873288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480" name="Object 6"/>
          <p:cNvGraphicFramePr/>
          <p:nvPr/>
        </p:nvGraphicFramePr>
        <p:xfrm>
          <a:off x="1030320" y="1828800"/>
          <a:ext cx="796140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1828800"/>
                    <a:ext cx="7961400" cy="496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1828800" y="3886200"/>
          <a:ext cx="16765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167652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84" name="Object 8"/>
          <p:cNvGraphicFramePr/>
          <p:nvPr/>
        </p:nvGraphicFramePr>
        <p:xfrm>
          <a:off x="6324480" y="2819520"/>
          <a:ext cx="266724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2819520"/>
                    <a:ext cx="26672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9"/>
          <p:cNvGraphicFramePr/>
          <p:nvPr/>
        </p:nvGraphicFramePr>
        <p:xfrm>
          <a:off x="8626320" y="1905120"/>
          <a:ext cx="6699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26320" y="1905120"/>
                    <a:ext cx="669960" cy="761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7772400" y="2362320"/>
          <a:ext cx="77796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72400" y="2362320"/>
                    <a:ext cx="777960" cy="533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490" name="AutoShape 11"/>
          <p:cNvSpPr/>
          <p:nvPr/>
        </p:nvSpPr>
        <p:spPr>
          <a:xfrm rot="20607000">
            <a:off x="2018880" y="1828440"/>
            <a:ext cx="3505320" cy="1752480"/>
          </a:xfrm>
          <a:prstGeom prst="cloudCallout">
            <a:avLst>
              <a:gd name="adj1" fmla="val -42662"/>
              <a:gd name="adj2" fmla="val 58694"/>
            </a:avLst>
          </a:prstGeom>
          <a:gradFill rotWithShape="0">
            <a:gsLst>
              <a:gs pos="0">
                <a:srgbClr val="0066ff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afd00"/>
            </a:solidFill>
            <a:miter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  <a:cs typeface="David"/>
              </a:rPr>
              <a:t>רפואה המבוססת על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  <a:cs typeface="David"/>
              </a:rPr>
              <a:t>עובדות וידע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  <a:cs typeface="David"/>
              </a:rPr>
              <a:t>ופרקטיקה נכונ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AutoShape 12"/>
          <p:cNvSpPr/>
          <p:nvPr/>
        </p:nvSpPr>
        <p:spPr>
          <a:xfrm>
            <a:off x="7620120" y="1600200"/>
            <a:ext cx="1960560" cy="1752480"/>
          </a:xfrm>
          <a:prstGeom prst="cloudCallout">
            <a:avLst>
              <a:gd name="adj1" fmla="val -32833"/>
              <a:gd name="adj2" fmla="val 38675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2" name="Object 13"/>
          <p:cNvGraphicFramePr/>
          <p:nvPr/>
        </p:nvGraphicFramePr>
        <p:xfrm>
          <a:off x="7985160" y="1981080"/>
          <a:ext cx="77796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85160" y="1981080"/>
                    <a:ext cx="777960" cy="533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494" name="AutoShape 14"/>
          <p:cNvSpPr/>
          <p:nvPr/>
        </p:nvSpPr>
        <p:spPr>
          <a:xfrm rot="16204800">
            <a:off x="5556240" y="1150200"/>
            <a:ext cx="1598760" cy="2957400"/>
          </a:xfrm>
          <a:prstGeom prst="wedgeEllipseCallout">
            <a:avLst>
              <a:gd name="adj1" fmla="val -41000"/>
              <a:gd name="adj2" fmla="val 44527"/>
            </a:avLst>
          </a:prstGeom>
          <a:noFill/>
          <a:ln w="38160">
            <a:solidFill>
              <a:srgbClr val="fafd00"/>
            </a:solidFill>
            <a:miter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לעשות כסף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!!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שיווק, פרסו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5" name="Object 15"/>
          <p:cNvGraphicFramePr/>
          <p:nvPr/>
        </p:nvGraphicFramePr>
        <p:xfrm>
          <a:off x="7315200" y="2971800"/>
          <a:ext cx="288432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6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5200" y="2971800"/>
                    <a:ext cx="2884320" cy="76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8100000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497" name="Text Box 16"/>
          <p:cNvSpPr/>
          <p:nvPr/>
        </p:nvSpPr>
        <p:spPr>
          <a:xfrm>
            <a:off x="28440" y="-228600"/>
            <a:ext cx="10258560" cy="838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 אג'ינג"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ל רופא המשפחה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-190440" y="2209680"/>
            <a:ext cx="10029600" cy="4845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David"/>
              </a:rPr>
              <a:t>משתמשים בשיטות אגרסיביות לקדם ולשווק את המרפאות שלהם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ea typeface="David"/>
              </a:rPr>
              <a:t>(שימוש בלתי הולם באמצעי התקשורת, שחקנים מפורסמים וכד')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0" y="1859040"/>
            <a:ext cx="10029960" cy="825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ff"/>
                </a:solidFill>
                <a:latin typeface="Arial"/>
                <a:cs typeface="David"/>
              </a:rPr>
              <a:t>בניגוד מוחלט לרופא המשפחה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אג'ינג"</a:t>
            </a:r>
            <a:br>
              <a:rPr sz="5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מ א פ י י נ י ם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3" descr=""/>
          <p:cNvPicPr/>
          <p:nvPr/>
        </p:nvPicPr>
        <p:blipFill>
          <a:blip r:embed="rId1"/>
          <a:stretch/>
        </p:blipFill>
        <p:spPr>
          <a:xfrm>
            <a:off x="7010280" y="5583240"/>
            <a:ext cx="824040" cy="1351080"/>
          </a:xfrm>
          <a:prstGeom prst="rect">
            <a:avLst/>
          </a:prstGeom>
          <a:ln w="0">
            <a:noFill/>
          </a:ln>
          <a:effectLst>
            <a:outerShdw dist="25560" dir="10800000" blurRad="0" rotWithShape="0">
              <a:srgbClr val="fafd00"/>
            </a:outerShdw>
          </a:effectLst>
        </p:spPr>
      </p:pic>
      <p:pic>
        <p:nvPicPr>
          <p:cNvPr id="65" name="Object 4" descr=""/>
          <p:cNvPicPr/>
          <p:nvPr/>
        </p:nvPicPr>
        <p:blipFill>
          <a:blip r:embed="rId2"/>
          <a:stretch/>
        </p:blipFill>
        <p:spPr>
          <a:xfrm>
            <a:off x="5791320" y="5791320"/>
            <a:ext cx="804600" cy="1143000"/>
          </a:xfrm>
          <a:prstGeom prst="rect">
            <a:avLst/>
          </a:prstGeom>
          <a:ln w="0">
            <a:noFill/>
          </a:ln>
          <a:effectLst>
            <a:outerShdw dist="45929" dir="12828878" blurRad="0" rotWithShape="0">
              <a:srgbClr val="000020"/>
            </a:outerShdw>
          </a:effectLst>
        </p:spPr>
      </p:pic>
      <p:pic>
        <p:nvPicPr>
          <p:cNvPr id="66" name="Object 5" descr=""/>
          <p:cNvPicPr/>
          <p:nvPr/>
        </p:nvPicPr>
        <p:blipFill>
          <a:blip r:embed="rId3"/>
          <a:stretch/>
        </p:blipFill>
        <p:spPr>
          <a:xfrm>
            <a:off x="4114800" y="5791320"/>
            <a:ext cx="806400" cy="11667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</p:pic>
      <p:pic>
        <p:nvPicPr>
          <p:cNvPr id="67" name="Object 6" descr=""/>
          <p:cNvPicPr/>
          <p:nvPr/>
        </p:nvPicPr>
        <p:blipFill>
          <a:blip r:embed="rId4"/>
          <a:stretch/>
        </p:blipFill>
        <p:spPr>
          <a:xfrm>
            <a:off x="-152280" y="5410080"/>
            <a:ext cx="251460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Object 7" descr=""/>
          <p:cNvPicPr/>
          <p:nvPr/>
        </p:nvPicPr>
        <p:blipFill>
          <a:blip r:embed="rId5"/>
          <a:stretch/>
        </p:blipFill>
        <p:spPr>
          <a:xfrm>
            <a:off x="2362320" y="5562720"/>
            <a:ext cx="914400" cy="12952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afd00"/>
            </a:outerShdw>
          </a:effectLst>
        </p:spPr>
      </p:pic>
      <p:pic>
        <p:nvPicPr>
          <p:cNvPr id="69" name="Object 8" descr=""/>
          <p:cNvPicPr/>
          <p:nvPr/>
        </p:nvPicPr>
        <p:blipFill>
          <a:blip r:embed="rId6"/>
          <a:stretch/>
        </p:blipFill>
        <p:spPr>
          <a:xfrm>
            <a:off x="8186760" y="6019920"/>
            <a:ext cx="2100240" cy="8380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sp>
        <p:nvSpPr>
          <p:cNvPr id="70" name="Text Box 9"/>
          <p:cNvSpPr/>
          <p:nvPr/>
        </p:nvSpPr>
        <p:spPr>
          <a:xfrm>
            <a:off x="76320" y="50292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David"/>
                <a:cs typeface="David"/>
              </a:rPr>
              <a:t>רפואה  מונעת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953640" cy="11430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6000" spc="-1" strike="noStrike">
                <a:solidFill>
                  <a:srgbClr val="fafd00"/>
                </a:solidFill>
                <a:latin typeface="Levenim MT"/>
                <a:cs typeface="Levenim MT"/>
              </a:rPr>
              <a:t>הרחבת  אופק  הבריאות </a:t>
            </a:r>
            <a:br>
              <a:rPr sz="6000"/>
            </a:br>
            <a:r>
              <a:rPr b="1" lang="he-IL" sz="6000" spc="-1" strike="noStrike">
                <a:solidFill>
                  <a:srgbClr val="fafd00"/>
                </a:solidFill>
                <a:latin typeface="Levenim MT"/>
                <a:cs typeface="Levenim MT"/>
              </a:rPr>
              <a:t>במאה  ה - </a:t>
            </a:r>
            <a:r>
              <a:rPr b="1" lang="he-IL" sz="6000" spc="-1" strike="noStrike">
                <a:solidFill>
                  <a:srgbClr val="fafd00"/>
                </a:solidFill>
                <a:latin typeface="Levenim MT"/>
                <a:ea typeface="Levenim MT"/>
              </a:rPr>
              <a:t>21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10201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400" spc="-1" strike="noStrike">
                <a:solidFill>
                  <a:srgbClr val="fafd00"/>
                </a:solidFill>
                <a:latin typeface="Times New Roman"/>
                <a:cs typeface="David"/>
              </a:rPr>
              <a:t>האם ניתן לקדם בריאות                            לאנשים בכל קבוצות  הגיל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0" y="3336840"/>
            <a:ext cx="10287000" cy="1388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he-IL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he-IL" sz="5000" spc="-1" strike="noStrike">
                <a:solidFill>
                  <a:srgbClr val="fffffb"/>
                </a:solidFill>
                <a:latin typeface="Arial"/>
              </a:rPr>
              <a:t>בנוכחות  איום   "הבום  הגריאטרי" ?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b"/>
                </a:solidFill>
                <a:latin typeface="Arial"/>
              </a:rPr>
              <a:t> </a:t>
            </a:r>
            <a:r>
              <a:rPr b="1" lang="he-IL" sz="3600" spc="-1" strike="noStrike">
                <a:solidFill>
                  <a:srgbClr val="fffffb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fffb"/>
                </a:solidFill>
                <a:latin typeface="Arial"/>
              </a:rPr>
              <a:t> THE  GERIATRIC  BOOM CATASTROPHE?</a:t>
            </a:r>
            <a:r>
              <a:rPr b="1" lang="he-IL" sz="3600" spc="-1" strike="noStrike">
                <a:solidFill>
                  <a:srgbClr val="fffffb"/>
                </a:solidFill>
                <a:latin typeface="Arial"/>
              </a:rPr>
              <a:t>(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1903320"/>
            <a:ext cx="10287000" cy="1507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* מתיימרים לפתור בעיה שהיא אכן חשובה ביותר - 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  עיכוב תהליכי הזדקנות...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אג'ינג"</a:t>
            </a:r>
            <a:br>
              <a:rPr sz="5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מ א פ י י נ י ם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52280" y="3076560"/>
            <a:ext cx="9792000" cy="1738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7"/>
                </a:solidFill>
                <a:latin typeface="Arial"/>
                <a:ea typeface="David"/>
              </a:rPr>
              <a:t> המטרה אינה ניתנת להבדלה מזו הקונבנציונאלית  - קידום בריאות המוצע ע"י רופא המשפחה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52280" y="4432320"/>
            <a:ext cx="9944280" cy="2287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*  מתיימרים להיות "מומחים" בשטח יותר מרופא המשפחה ולכן עדיפים עליו, למרות שבהרבה מקרים אין להם מומחיות בשום תחום רפואי כלשהו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0" y="763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אג'ינג"</a:t>
            </a:r>
            <a:br>
              <a:rPr sz="5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מ א פ י י נ י ם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52280" y="2057400"/>
            <a:ext cx="9944280" cy="28353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*  מבצעים (ולעתים שולחים לחו"ל)  בדיקות רבות ויקרות  מאד עם  שמות  מפוצצים ואטרקטיביים : "נבדוק את כל המינרלים, הויטמינים והאנטי אוקסידנטים שלך לראות מה חסר...."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52280" y="4432320"/>
            <a:ext cx="9944280" cy="27248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f7"/>
                </a:solidFill>
                <a:latin typeface="Arial"/>
                <a:cs typeface="David"/>
              </a:rPr>
              <a:t>למעשה, לגבי רובם המכריע של הבדיקות , שום מסקנה רצינית ושום פעולה מעשית אינם יכולים להתבצע עם התוצאות !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אג'ינג"</a:t>
            </a:r>
            <a:br>
              <a:rPr sz="5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מ א פ י י נ י ם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90440" y="2590920"/>
            <a:ext cx="9944280" cy="2117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* משדרים מסר חד והבטחה ברורה: "בואו אלי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 ואעשה אתכם בריאים יותר וצעירים יותר! "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0" y="1600200"/>
            <a:ext cx="10029960" cy="825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ff"/>
                </a:solidFill>
                <a:latin typeface="Arial"/>
                <a:cs typeface="David"/>
              </a:rPr>
              <a:t>בניגוד מוחלט לרופא המשפחה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8160" y="4038480"/>
            <a:ext cx="99439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7"/>
                </a:solidFill>
                <a:latin typeface="Arial"/>
                <a:ea typeface="David"/>
              </a:rPr>
              <a:t>* מערבבים תרופות מקובלות קונבנציונאליות ביחד עם אמצעים בלתי מקובלים שיעילותם ובטיחותם לא הוכחה אבל עם שמות מגרים לדוגמה: "עתיק, אוריאנטלי, סיני, טבעי, מצעיר, צעירון, מחדשון..."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55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מומחי  ה"אנטי אג'ינג"</a:t>
            </a:r>
            <a:br>
              <a:rPr sz="5400"/>
            </a:br>
            <a:r>
              <a:rPr b="1" lang="he-IL" sz="4400" spc="-1" strike="noStrike">
                <a:solidFill>
                  <a:srgbClr val="fafd00"/>
                </a:solidFill>
                <a:latin typeface="Levenim MT"/>
                <a:cs typeface="Levenim MT"/>
              </a:rPr>
              <a:t>מ א פ י י נ י ם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14480" y="1828800"/>
            <a:ext cx="9943920" cy="3080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* נלחמים בביקורת המדעית מקצועית המוטחת בהם ע"י שימוש באמצעים שיווקיים פסיכולוגיים נוסח: "הרבה המצאות גדולות של היום לא הוכחו ולא התקבלו בתחילה בזמנם...  וכמובן, רופאים אחרים מקנאים בנו בגלל הצלחתנו ולכן תוקפים אותנו "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90440" y="4114800"/>
            <a:ext cx="9944280" cy="339768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52300" dir="4563564" blurRad="0" rotWithShape="0">
              <a:srgbClr val="00002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7"/>
                </a:solidFill>
                <a:latin typeface="Arial"/>
                <a:ea typeface="David"/>
              </a:rPr>
              <a:t>* מנצלים החולשה האוניברסאלית של כל  בן אנוש, המבוססת על התקווה והכמיהה של כל אחד ואחת מאתנו - להיות בריא וצעיר לנצח...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7"/>
                </a:solidFill>
                <a:latin typeface="Arial"/>
                <a:ea typeface="David"/>
              </a:rPr>
              <a:t>* איש אינו משוחרר מכמיהה סמויה זו ולכן מתפתים להאמין בקלות וכושרנו השיפוטי מיטשטש ..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14480" y="2394000"/>
            <a:ext cx="9982080" cy="4208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5400" spc="-1" strike="noStrike">
                <a:solidFill>
                  <a:srgbClr val="fffffb"/>
                </a:solidFill>
                <a:latin typeface="David"/>
                <a:cs typeface="David"/>
              </a:rPr>
              <a:t>הועדה רואה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fb"/>
                </a:solidFill>
                <a:latin typeface="David"/>
                <a:ea typeface="David"/>
              </a:rPr>
              <a:t> במונח  ”אנטי-אייג’ינג” מונח  בעל  קונוטציה שלילית  כלפי הזקנה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fb"/>
                </a:solidFill>
                <a:latin typeface="David"/>
                <a:ea typeface="David"/>
              </a:rPr>
              <a:t>  ועל  כן  יש  לפעול  לשנותו.</a:t>
            </a:r>
            <a:r>
              <a:rPr b="1" lang="en-US" sz="5400" spc="-1" strike="noStrike">
                <a:solidFill>
                  <a:srgbClr val="fffffb"/>
                </a:solidFill>
                <a:latin typeface="David"/>
                <a:ea typeface="David"/>
              </a:rPr>
              <a:t>..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0" y="1752480"/>
            <a:ext cx="9982080" cy="4360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b"/>
                </a:solidFill>
                <a:latin typeface="David"/>
                <a:cs typeface="David"/>
              </a:rPr>
              <a:t>מהעדויות ששמעה, לרבות מבעלי המכונים הפרטיים עצמם - הועדה נדהמה לגלות שהמכונים… מתקיימים מחוץ לתחום הרפואה המוכרת …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b"/>
                </a:solidFill>
                <a:latin typeface="David"/>
                <a:cs typeface="David"/>
              </a:rPr>
              <a:t>תחום ה”אנטי-אייג’ינג”, אינו מוכר בישראל ובאף מקום בעולם ע”י ההסתדרות הרפואי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0" y="4952880"/>
            <a:ext cx="998208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b"/>
                </a:solidFill>
                <a:latin typeface="David"/>
                <a:ea typeface="David"/>
              </a:rPr>
              <a:t>(בארה”ב  למשל, קיימת עמותה פרטית  לנושא המכשירה, בוחנת ונותנת תעודות הסמכה פרטיות -ללא הכרה של גוף מוסמך אחר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026"/>
          <p:cNvSpPr/>
          <p:nvPr/>
        </p:nvSpPr>
        <p:spPr>
          <a:xfrm>
            <a:off x="0" y="1752480"/>
            <a:ext cx="9982080" cy="3383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b"/>
                </a:solidFill>
                <a:latin typeface="David"/>
                <a:cs typeface="David"/>
              </a:rPr>
              <a:t>הועדה מוחה בפני שר הבריאות על חוסר הטיפול בסוגיות הקשורות לאכיפת החוק בתחום …     הועדה תובעת ממשרד הבריאות… להתקין תקנות שיסדירו את רישוי העוסקים בתחום “עיכוב הזקנה” (אנטי-אייג’ינג”)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Text Box 1027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Text Box 1029"/>
          <p:cNvSpPr/>
          <p:nvPr/>
        </p:nvSpPr>
        <p:spPr>
          <a:xfrm>
            <a:off x="0" y="0"/>
            <a:ext cx="10287000" cy="169128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fc0128"/>
                </a:solidFill>
                <a:latin typeface="Arial"/>
                <a:ea typeface="Levenim MT"/>
              </a:rPr>
              <a:t> בנושא “אנטי-אייג’ינג”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1030"/>
          <p:cNvSpPr/>
          <p:nvPr/>
        </p:nvSpPr>
        <p:spPr>
          <a:xfrm>
            <a:off x="0" y="4584600"/>
            <a:ext cx="99820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fb"/>
                </a:solidFill>
                <a:latin typeface="David"/>
                <a:cs typeface="David"/>
              </a:rPr>
              <a:t>הועדה  לא  יכולה  לקבל  הטלת  האחריות על  הצרכנים  בלבד  והמתנת משרדי הממשלה לתלונות פרטני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6320" y="228600"/>
            <a:ext cx="10210680" cy="12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20"/>
                </a:solidFill>
                <a:latin typeface="Arial"/>
                <a:cs typeface="Levenim MT"/>
              </a:rPr>
              <a:t>סיכום והחלטות ועדת המדע והטכנולוגיה של הכנסת מישיבתה ביום 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2/7/02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בנושא “אנטי-אייג’ינג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”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-114480" y="1778040"/>
            <a:ext cx="10287360" cy="6489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יו"ר - ד"ר אלי רוזנברג - בריאות הציבור/רפואה מונעת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 u="sng">
                <a:solidFill>
                  <a:srgbClr val="ffffff"/>
                </a:solidFill>
                <a:uFillTx/>
                <a:latin typeface="Arial"/>
                <a:cs typeface="David"/>
              </a:rPr>
              <a:t>חברי הועדה</a:t>
            </a:r>
            <a:r>
              <a:rPr b="1" lang="he-IL" sz="2600" spc="-1" strike="noStrike">
                <a:solidFill>
                  <a:srgbClr val="ffffff"/>
                </a:solidFill>
                <a:latin typeface="Arial"/>
                <a:ea typeface="David"/>
              </a:rPr>
              <a:t> (לפי א-ב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פרופ' שמעון גליק - אנדוקרינולוגיה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ד"ר יוסף גרינבלט - גריאטריה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ד"ר דורון גרפינקל - גריאטריה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he-IL" sz="2600" spc="-1" strike="noStrike">
                <a:solidFill>
                  <a:srgbClr val="ffffff"/>
                </a:solidFill>
                <a:latin typeface="Arial"/>
                <a:ea typeface="David"/>
              </a:rPr>
              <a:t>(יו"ר העמותה לעיכוב תהליכים התלויים בגיל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ד"ר מיכאל דור-רפואת משפחה (ראש אגף רפואה כללית בפועל, משרד הבריאות)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פרופ' מיכאל דייוויס - בריאות הציבור/רפואה מונעת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מגר' אלי מרום - רוקחות (עוזר בכיר במנהלת אגף הרוקחות של משרד הבריאות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ד"ר דורית ניצן-קלוסקי - תזונה (ראש השירות למזון ותזונה, משרד הבריאות)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פרופ' מרק קלרפילד - גריאטריה, בריאות הציבור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פרופ' רפאל קרסו - מנהל מרפאה לעיכוב תהליכי הזדקנות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פרופ' אברהם רזניק - גרונטולוגיה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600" spc="-1" strike="noStrike">
                <a:solidFill>
                  <a:srgbClr val="ffffff"/>
                </a:solidFill>
                <a:latin typeface="Arial"/>
                <a:cs typeface="David"/>
              </a:rPr>
              <a:t>פרופ' אבינועם רכס - אתיקה רפואית </a:t>
            </a:r>
            <a:endParaRPr b="0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0" y="112680"/>
            <a:ext cx="10287000" cy="1464840"/>
          </a:xfrm>
          <a:prstGeom prst="rect">
            <a:avLst/>
          </a:prstGeom>
          <a:solidFill>
            <a:srgbClr val="ffff00"/>
          </a:solidFill>
          <a:ln w="15840">
            <a:solidFill>
              <a:srgbClr val="fc0128"/>
            </a:solidFill>
            <a:miter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fc0128"/>
                </a:solidFill>
                <a:latin typeface="Arial"/>
                <a:cs typeface="Levenim MT"/>
              </a:rPr>
              <a:t>ועדת  “אנטי-אייג’ינג” של משרד הבריאות  </a:t>
            </a:r>
            <a:endParaRPr b="0" lang="en-US" sz="33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Levenim MT"/>
              </a:rPr>
              <a:t>חברי הועדה בפועל ומומחיותם/תפקידם הרלוונטיים לעבודת הועדה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76320" y="1687680"/>
            <a:ext cx="10096560" cy="5120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</a:rPr>
              <a:t>מידע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יש לפרסם לציבור הרופאים וכן באתר משה"ב כדלהלן: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א.   טרם נמצאה התערבות המסוגלת לעכב תהליכי הזדקנות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MS PGothic"/>
              </a:rPr>
              <a:t>aging process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David"/>
              </a:rPr>
              <a:t>)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,   ולבטח לא לעצרם  או להצעיר מטופלים.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ב.   קיימות התערבויות המסוגלות לעכב מחלות התלויות בגיל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MS PGothic"/>
              </a:rPr>
              <a:t>age-related diseases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David"/>
              </a:rPr>
              <a:t>)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28600" y="677880"/>
            <a:ext cx="10096560" cy="1903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המלצות לצמרת משרד הבריאות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76320" y="1676520"/>
            <a:ext cx="10096560" cy="402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he-IL" sz="2400" spc="-1" strike="noStrike" u="sng">
                <a:solidFill>
                  <a:srgbClr val="ffffff"/>
                </a:solidFill>
                <a:uFillTx/>
                <a:latin typeface="Arial"/>
              </a:rPr>
              <a:t>. מידע (המשך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ffffff"/>
                </a:solidFill>
                <a:latin typeface="Arial"/>
                <a:cs typeface="David"/>
              </a:rPr>
              <a:t>ד. </a:t>
            </a:r>
            <a:r>
              <a:rPr b="1" lang="he-IL" sz="2800" spc="-1" strike="noStrike" u="sng">
                <a:solidFill>
                  <a:srgbClr val="ffffff"/>
                </a:solidFill>
                <a:uFillTx/>
                <a:latin typeface="Arial"/>
                <a:cs typeface="David"/>
              </a:rPr>
              <a:t>לא הוכחה יעילות/בטיחות ההתערבויות הבאות למטרות "אנטי-אייג'ינג"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ffffff"/>
                </a:solidFill>
                <a:latin typeface="Arial"/>
                <a:ea typeface="David"/>
              </a:rPr>
              <a:t>1</a:t>
            </a:r>
            <a:r>
              <a:rPr b="1" lang="he-IL" sz="2200" spc="-1" strike="noStrike">
                <a:solidFill>
                  <a:srgbClr val="ffffff"/>
                </a:solidFill>
                <a:latin typeface="Arial"/>
                <a:ea typeface="David"/>
              </a:rPr>
              <a:t>).  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טיפול הורמונאלי:  הורמון גדילה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DH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David"/>
              </a:rPr>
              <a:t>,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טסטוסטרון,  אסטרוגן,  הורמון בלוטת התריס, מלטונין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2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).  טיפול בנוגדי חמצון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3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).  טיפול בתוספי מזון/עשבי מרפא למיניה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4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).   טיפול גנטי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5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David"/>
              </a:rPr>
              <a:t>). טיפול בהשתלת רקמות צעירות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228600" y="677880"/>
            <a:ext cx="10096560" cy="1903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המלצות לצמרת משרד הבריאות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-114480" y="5378400"/>
            <a:ext cx="10325160" cy="1373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  <a:cs typeface="David"/>
              </a:rPr>
              <a:t>ה.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לא  קיימת  התמחות  "אנטי-אייג'ינג"/עיכוב  תהליכי  הזדקנות  מוכרת  ע"י רשויות הבריאות /   ארגוני הרופאים הארציים בארץ או בארה"ב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" y="228240"/>
            <a:ext cx="1011564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GERIATRIC  BOOM  CATASTROPH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3857760" y="4038480"/>
          <a:ext cx="61592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4038480"/>
                    <a:ext cx="6159240" cy="281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8416092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7" name="Object 5"/>
          <p:cNvGraphicFramePr/>
          <p:nvPr/>
        </p:nvGraphicFramePr>
        <p:xfrm>
          <a:off x="1219320" y="4038480"/>
          <a:ext cx="312408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038480"/>
                    <a:ext cx="3124080" cy="281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pic>
        <p:nvPicPr>
          <p:cNvPr id="79" name="Object 6" descr=""/>
          <p:cNvPicPr/>
          <p:nvPr/>
        </p:nvPicPr>
        <p:blipFill>
          <a:blip r:embed="rId5"/>
          <a:stretch/>
        </p:blipFill>
        <p:spPr>
          <a:xfrm>
            <a:off x="44928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0" name="Object 7" descr=""/>
          <p:cNvPicPr/>
          <p:nvPr/>
        </p:nvPicPr>
        <p:blipFill>
          <a:blip r:embed="rId6"/>
          <a:stretch/>
        </p:blipFill>
        <p:spPr>
          <a:xfrm>
            <a:off x="464832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8" descr=""/>
          <p:cNvPicPr/>
          <p:nvPr/>
        </p:nvPicPr>
        <p:blipFill>
          <a:blip r:embed="rId7"/>
          <a:stretch/>
        </p:blipFill>
        <p:spPr>
          <a:xfrm>
            <a:off x="464832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2" name="Object 9" descr=""/>
          <p:cNvPicPr/>
          <p:nvPr/>
        </p:nvPicPr>
        <p:blipFill>
          <a:blip r:embed="rId8"/>
          <a:stretch/>
        </p:blipFill>
        <p:spPr>
          <a:xfrm>
            <a:off x="40356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10" descr=""/>
          <p:cNvPicPr/>
          <p:nvPr/>
        </p:nvPicPr>
        <p:blipFill>
          <a:blip r:embed="rId9"/>
          <a:stretch/>
        </p:blipFill>
        <p:spPr>
          <a:xfrm>
            <a:off x="48006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4" name="Object 11" descr=""/>
          <p:cNvPicPr/>
          <p:nvPr/>
        </p:nvPicPr>
        <p:blipFill>
          <a:blip r:embed="rId10"/>
          <a:stretch/>
        </p:blipFill>
        <p:spPr>
          <a:xfrm>
            <a:off x="49500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12" descr=""/>
          <p:cNvPicPr/>
          <p:nvPr/>
        </p:nvPicPr>
        <p:blipFill>
          <a:blip r:embed="rId11"/>
          <a:stretch/>
        </p:blipFill>
        <p:spPr>
          <a:xfrm>
            <a:off x="45720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3" descr=""/>
          <p:cNvPicPr/>
          <p:nvPr/>
        </p:nvPicPr>
        <p:blipFill>
          <a:blip r:embed="rId12"/>
          <a:stretch/>
        </p:blipFill>
        <p:spPr>
          <a:xfrm>
            <a:off x="5029200" y="4470480"/>
            <a:ext cx="1717560" cy="238752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4" descr=""/>
          <p:cNvPicPr/>
          <p:nvPr/>
        </p:nvPicPr>
        <p:blipFill>
          <a:blip r:embed="rId13"/>
          <a:stretch/>
        </p:blipFill>
        <p:spPr>
          <a:xfrm>
            <a:off x="5446800" y="4546440"/>
            <a:ext cx="1868400" cy="23878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5" descr=""/>
          <p:cNvPicPr/>
          <p:nvPr/>
        </p:nvPicPr>
        <p:blipFill>
          <a:blip r:embed="rId14"/>
          <a:stretch/>
        </p:blipFill>
        <p:spPr>
          <a:xfrm>
            <a:off x="6095880" y="5410080"/>
            <a:ext cx="99072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Object 16" descr=""/>
          <p:cNvPicPr/>
          <p:nvPr/>
        </p:nvPicPr>
        <p:blipFill>
          <a:blip r:embed="rId15"/>
          <a:stretch/>
        </p:blipFill>
        <p:spPr>
          <a:xfrm>
            <a:off x="63244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Object 17" descr=""/>
          <p:cNvPicPr/>
          <p:nvPr/>
        </p:nvPicPr>
        <p:blipFill>
          <a:blip r:embed="rId16"/>
          <a:stretch/>
        </p:blipFill>
        <p:spPr>
          <a:xfrm>
            <a:off x="662940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8" descr=""/>
          <p:cNvPicPr/>
          <p:nvPr/>
        </p:nvPicPr>
        <p:blipFill>
          <a:blip r:embed="rId17"/>
          <a:stretch/>
        </p:blipFill>
        <p:spPr>
          <a:xfrm>
            <a:off x="6553080" y="6248520"/>
            <a:ext cx="1752840" cy="609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pic>
        <p:nvPicPr>
          <p:cNvPr id="92" name="Object 19" descr=""/>
          <p:cNvPicPr/>
          <p:nvPr/>
        </p:nvPicPr>
        <p:blipFill>
          <a:blip r:embed="rId18"/>
          <a:stretch/>
        </p:blipFill>
        <p:spPr>
          <a:xfrm>
            <a:off x="6858000" y="6248520"/>
            <a:ext cx="1752480" cy="609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afd00"/>
            </a:outerShdw>
          </a:effectLst>
        </p:spPr>
      </p:pic>
      <p:pic>
        <p:nvPicPr>
          <p:cNvPr id="93" name="Object 20" descr=""/>
          <p:cNvPicPr/>
          <p:nvPr/>
        </p:nvPicPr>
        <p:blipFill>
          <a:blip r:embed="rId19"/>
          <a:stretch/>
        </p:blipFill>
        <p:spPr>
          <a:xfrm>
            <a:off x="7848720" y="6324480"/>
            <a:ext cx="1523880" cy="4572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afd00"/>
            </a:outerShdw>
          </a:effectLst>
        </p:spPr>
      </p:pic>
      <p:pic>
        <p:nvPicPr>
          <p:cNvPr id="94" name="Object 21" descr=""/>
          <p:cNvPicPr/>
          <p:nvPr/>
        </p:nvPicPr>
        <p:blipFill>
          <a:blip r:embed="rId20"/>
          <a:stretch/>
        </p:blipFill>
        <p:spPr>
          <a:xfrm>
            <a:off x="838080" y="5181480"/>
            <a:ext cx="457200" cy="68580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afd00"/>
            </a:outerShdw>
          </a:effectLst>
        </p:spPr>
      </p:pic>
      <p:sp>
        <p:nvSpPr>
          <p:cNvPr id="95" name="Text Box 22"/>
          <p:cNvSpPr/>
          <p:nvPr/>
        </p:nvSpPr>
        <p:spPr>
          <a:xfrm>
            <a:off x="3360600" y="223920"/>
            <a:ext cx="284976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RFINKEL  1997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5545080" y="685800"/>
            <a:ext cx="36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5446800" y="547560"/>
            <a:ext cx="4570200" cy="8251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B U R D E 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80" y="1752480"/>
            <a:ext cx="1004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THE    SUM  OF   THE       EXPONENTIALLY   ACCUMULATING  MEDICAL,  ECONOMIC AND   SOCIAL            AGE - RELATED   PROBLEM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76320" y="1755720"/>
            <a:ext cx="10096560" cy="3450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ffffff"/>
                </a:solidFill>
                <a:latin typeface="Arial"/>
                <a:ea typeface="David"/>
              </a:rPr>
              <a:t> 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יש ללמוד מהניסיון במדינות נאורות בחו"ל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ffffff"/>
                </a:solidFill>
                <a:uFillTx/>
                <a:latin typeface="Arial"/>
                <a:cs typeface="David"/>
              </a:rPr>
              <a:t>ולאסור שיווק ופרסום מוצרים בשטח  אנטי-אייג'ינג 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שאין הוכחה ליעילותם ובטיחותם לפי קנה מידה נתמך ראיות מקובל.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יש לבחון רמת האכיפה ומכשולים המגבילים יכולת אכיפת החוק האוסר  רישום  תרופות לא מאושרות...  בתחום "אנטי-אייג'ינג".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28600" y="144360"/>
            <a:ext cx="10096560" cy="998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מדיניות 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-190440" y="4572000"/>
            <a:ext cx="10287000" cy="2288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ffffff"/>
                </a:solidFill>
                <a:latin typeface="Arial"/>
                <a:ea typeface="David"/>
              </a:rPr>
              <a:t>  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יש לעודד ביצוע רפואה מונעת נתמכת-ראיות בגיל המבוגר על ידי רופאים גריאטריים,     רופאים ראשוניים, ומומחים ברפואה מונעת/בריאות הציבור.....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76320" y="1687680"/>
            <a:ext cx="10096560" cy="27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he-IL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2400" spc="-1" strike="noStrike" u="sng">
                <a:solidFill>
                  <a:srgbClr val="ffffff"/>
                </a:solidFill>
                <a:uFillTx/>
                <a:latin typeface="Arial"/>
              </a:rPr>
              <a:t>מידע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ffffff"/>
                </a:solidFill>
                <a:latin typeface="Arial"/>
                <a:cs typeface="David"/>
              </a:rPr>
              <a:t>ג.  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אימוץ אורחות חיים בריאים הבאים עשוי לעכב/למנוע הופעת מחלות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כרוניות המאפיינות  את  גיל  הזקנה 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ביצוע פעילות גופנית סדירה: אירובית, בונה כוח, משפרת שווי-משקל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תזונה מאוזנת קלורית....שמירה על משקל גוף תקין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228600" y="677880"/>
            <a:ext cx="10096560" cy="1903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המלצות לצמרת משרד הבריאות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8160" y="4189320"/>
            <a:ext cx="100965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התחסנות במועד...הימנעות מעישון, שתיה כהילה מופרזת, היחשפות לשמש והתנהגות מועדת להיפצעות (נהיגה/הליכה לא זהירה, אי-סילוק מכשולים ביתיים..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76320" y="5716440"/>
            <a:ext cx="1009656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הקפדה לבצע מעקב תקופתי של לחץ הדם וכולסטרול  ובדיקות סקירה לסרטן השד והמעי הגס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5320" y="-360"/>
            <a:ext cx="10201320" cy="1523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אמצעים לעיכוב תהליכי הזדקנות וקידום בריאות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42" name="Object 3" descr=""/>
          <p:cNvPicPr/>
          <p:nvPr/>
        </p:nvPicPr>
        <p:blipFill>
          <a:blip r:embed="rId1"/>
          <a:stretch/>
        </p:blipFill>
        <p:spPr>
          <a:xfrm>
            <a:off x="8763120" y="4800600"/>
            <a:ext cx="1523880" cy="101124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pic>
        <p:nvPicPr>
          <p:cNvPr id="543" name="Object 4" descr=""/>
          <p:cNvPicPr/>
          <p:nvPr/>
        </p:nvPicPr>
        <p:blipFill>
          <a:blip r:embed="rId2"/>
          <a:stretch/>
        </p:blipFill>
        <p:spPr>
          <a:xfrm>
            <a:off x="5638680" y="2406600"/>
            <a:ext cx="1371600" cy="64152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</p:pic>
      <p:pic>
        <p:nvPicPr>
          <p:cNvPr id="544" name="Object 5" descr=""/>
          <p:cNvPicPr/>
          <p:nvPr/>
        </p:nvPicPr>
        <p:blipFill>
          <a:blip r:embed="rId3"/>
          <a:stretch/>
        </p:blipFill>
        <p:spPr>
          <a:xfrm>
            <a:off x="8648640" y="2846520"/>
            <a:ext cx="1295640" cy="112212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fafd00"/>
            </a:outerShdw>
          </a:effectLst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5320" y="5867280"/>
            <a:ext cx="4334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* DRUG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85680" y="1600200"/>
            <a:ext cx="10201320" cy="764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9"/>
                </a:solidFill>
                <a:uFillTx/>
                <a:latin typeface="Arial"/>
              </a:rPr>
              <a:t>M A J O R    I N T E R V E N T I O N 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*  PHYSICAL  ACTIVIT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85680" y="3003480"/>
            <a:ext cx="8372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* AVOIDING / STOPPING   SMOKING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0" y="3809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*  WEIGHT   LOS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0" y="4511520"/>
            <a:ext cx="9944280" cy="153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* DIET (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OOD SUPPLEMENTS / VITAMINS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NERALS / ANTI  OXIDANTS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  etc.)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51" name="Object 12" descr=""/>
          <p:cNvPicPr/>
          <p:nvPr/>
        </p:nvPicPr>
        <p:blipFill>
          <a:blip r:embed="rId4"/>
          <a:stretch/>
        </p:blipFill>
        <p:spPr>
          <a:xfrm>
            <a:off x="3124080" y="6019920"/>
            <a:ext cx="114300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Object 13"/>
          <p:cNvGraphicFramePr/>
          <p:nvPr/>
        </p:nvGraphicFramePr>
        <p:xfrm>
          <a:off x="4876920" y="3657600"/>
          <a:ext cx="32763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657600"/>
                    <a:ext cx="327636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54" name="Object 14"/>
          <p:cNvGraphicFramePr/>
          <p:nvPr/>
        </p:nvGraphicFramePr>
        <p:xfrm>
          <a:off x="5943600" y="3733920"/>
          <a:ext cx="1600200" cy="96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733920"/>
                    <a:ext cx="1600200" cy="96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56" name="Object 15"/>
          <p:cNvGraphicFramePr/>
          <p:nvPr/>
        </p:nvGraphicFramePr>
        <p:xfrm>
          <a:off x="6248520" y="3657600"/>
          <a:ext cx="685800" cy="96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657600"/>
                    <a:ext cx="685800" cy="96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fffff9"/>
                    </a:outerShdw>
                  </a:effectLst>
                </p:spPr>
              </p:pic>
            </p:oleObj>
          </a:graphicData>
        </a:graphic>
      </p:graphicFrame>
      <p:sp>
        <p:nvSpPr>
          <p:cNvPr id="558" name="WordArt 16"/>
          <p:cNvSpPr txBox="1"/>
          <p:nvPr/>
        </p:nvSpPr>
        <p:spPr>
          <a:xfrm rot="1848000">
            <a:off x="-880920" y="2263680"/>
            <a:ext cx="9942480" cy="398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0100"/>
                    </a:gs>
                    <a:gs pos="50000">
                      <a:srgbClr val="fffff9"/>
                    </a:gs>
                    <a:gs pos="100000">
                      <a:srgbClr val="fc0100"/>
                    </a:gs>
                  </a:gsLst>
                  <a:lin ang="1692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GENE   THERAP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0100"/>
                  </a:gs>
                  <a:gs pos="50000">
                    <a:srgbClr val="fffff9"/>
                  </a:gs>
                  <a:gs pos="100000">
                    <a:srgbClr val="fc0100"/>
                  </a:gs>
                </a:gsLst>
                <a:lin ang="1692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ut thruBlk="true"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560" name="Picture 3" descr="StairwayToHeaven-small"/>
          <p:cNvPicPr/>
          <p:nvPr/>
        </p:nvPicPr>
        <p:blipFill>
          <a:blip r:embed="rId1"/>
          <a:stretch/>
        </p:blipFill>
        <p:spPr>
          <a:xfrm>
            <a:off x="0" y="-92160"/>
            <a:ext cx="10287000" cy="6875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250px-Edeng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52960" y="-76320"/>
            <a:ext cx="2362320" cy="15624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5"/>
          <p:cNvSpPr/>
          <p:nvPr/>
        </p:nvSpPr>
        <p:spPr>
          <a:xfrm>
            <a:off x="-190440" y="548640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David"/>
              </a:rPr>
              <a:t>ב ר י א ו ת     ש ל מ ה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4305240" y="-92160"/>
            <a:ext cx="19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גן  עדן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..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181160" y="2590920"/>
            <a:ext cx="25146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9000" spc="-1" strike="noStrike">
                <a:solidFill>
                  <a:srgbClr val="fc0128"/>
                </a:solidFill>
                <a:latin typeface="Arial"/>
                <a:ea typeface="Arial"/>
              </a:rPr>
              <a:t>?</a:t>
            </a:r>
            <a:endParaRPr b="0" lang="en-US" sz="19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5" name="Object 9"/>
          <p:cNvGraphicFramePr/>
          <p:nvPr/>
        </p:nvGraphicFramePr>
        <p:xfrm>
          <a:off x="7658280" y="0"/>
          <a:ext cx="259056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58280" y="0"/>
                    <a:ext cx="2590560" cy="1981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3016092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567" name="Text Box 10"/>
          <p:cNvSpPr/>
          <p:nvPr/>
        </p:nvSpPr>
        <p:spPr>
          <a:xfrm>
            <a:off x="3009960" y="1371600"/>
            <a:ext cx="72007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כולנו חייבים למות..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השאלה היא אם בדרך לגן עדן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  <a:ea typeface="David"/>
              </a:rPr>
              <a:t>                           לא נחווה גיהינום...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70" name="Picture 4" descr="intro"/>
          <p:cNvPicPr/>
          <p:nvPr/>
        </p:nvPicPr>
        <p:blipFill>
          <a:blip r:embed="rId1">
            <a:lum contrast="26000"/>
          </a:blip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0" y="762120"/>
            <a:ext cx="10287000" cy="11912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בריאות כבר לא נקבל אז לפחות קצת אהבה, חינם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3314880" y="2590920"/>
            <a:ext cx="1295280" cy="1181520"/>
          </a:xfrm>
          <a:prstGeom prst="rect">
            <a:avLst/>
          </a:prstGeom>
          <a:gradFill rotWithShape="0">
            <a:gsLst>
              <a:gs pos="0">
                <a:srgbClr val="fbfb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c0128"/>
                </a:solidFill>
                <a:latin typeface="Arial"/>
                <a:cs typeface="David"/>
              </a:rPr>
              <a:t>קומפוטאהב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0" name="Object 3" descr=""/>
          <p:cNvPicPr/>
          <p:nvPr/>
        </p:nvPicPr>
        <p:blipFill>
          <a:blip r:embed="rId1"/>
          <a:stretch/>
        </p:blipFill>
        <p:spPr>
          <a:xfrm>
            <a:off x="2022480" y="5297400"/>
            <a:ext cx="984240" cy="9874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101" name="Object 4" descr=""/>
          <p:cNvPicPr/>
          <p:nvPr/>
        </p:nvPicPr>
        <p:blipFill>
          <a:blip r:embed="rId2"/>
          <a:stretch/>
        </p:blipFill>
        <p:spPr>
          <a:xfrm>
            <a:off x="800280" y="572940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102" name="Object 5" descr=""/>
          <p:cNvPicPr/>
          <p:nvPr/>
        </p:nvPicPr>
        <p:blipFill>
          <a:blip r:embed="rId3"/>
          <a:stretch/>
        </p:blipFill>
        <p:spPr>
          <a:xfrm>
            <a:off x="1333440" y="5638680"/>
            <a:ext cx="914400" cy="82404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103" name="Object 6" descr=""/>
          <p:cNvPicPr/>
          <p:nvPr/>
        </p:nvPicPr>
        <p:blipFill>
          <a:blip r:embed="rId4"/>
          <a:stretch/>
        </p:blipFill>
        <p:spPr>
          <a:xfrm>
            <a:off x="2597040" y="4992840"/>
            <a:ext cx="1365480" cy="129204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104" name="Object 7" descr=""/>
          <p:cNvPicPr/>
          <p:nvPr/>
        </p:nvPicPr>
        <p:blipFill>
          <a:blip r:embed="rId5"/>
          <a:stretch/>
        </p:blipFill>
        <p:spPr>
          <a:xfrm>
            <a:off x="3670200" y="4516560"/>
            <a:ext cx="1663920" cy="16668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pic>
        <p:nvPicPr>
          <p:cNvPr id="105" name="Object 8" descr=""/>
          <p:cNvPicPr/>
          <p:nvPr/>
        </p:nvPicPr>
        <p:blipFill>
          <a:blip r:embed="rId6"/>
          <a:stretch/>
        </p:blipFill>
        <p:spPr>
          <a:xfrm>
            <a:off x="4648320" y="4114800"/>
            <a:ext cx="2133360" cy="19512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pic>
        <p:nvPicPr>
          <p:cNvPr id="106" name="Object 9" descr=""/>
          <p:cNvPicPr/>
          <p:nvPr/>
        </p:nvPicPr>
        <p:blipFill>
          <a:blip r:embed="rId7"/>
          <a:stretch/>
        </p:blipFill>
        <p:spPr>
          <a:xfrm>
            <a:off x="76320" y="5715000"/>
            <a:ext cx="914400" cy="106668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676767"/>
            </a:outerShdw>
          </a:effectLst>
        </p:spPr>
      </p:pic>
      <p:sp>
        <p:nvSpPr>
          <p:cNvPr id="107" name="Text Box 10"/>
          <p:cNvSpPr/>
          <p:nvPr/>
        </p:nvSpPr>
        <p:spPr>
          <a:xfrm>
            <a:off x="297180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962520" y="518148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34120" y="4890960"/>
            <a:ext cx="144144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920880" y="63244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 rot="20510400">
            <a:off x="7656840" y="2590560"/>
            <a:ext cx="2555640" cy="102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היגיינה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וסניטציה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671200">
            <a:off x="6019920" y="4089240"/>
            <a:ext cx="261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ת ז ו נ ה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 rot="20938800">
            <a:off x="7194960" y="4801680"/>
            <a:ext cx="2803680" cy="146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ח י ס ו נ י ם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</a:rPr>
              <a:t>נגד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  המגפו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</a:rPr>
              <a:t> הגדולו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8440" y="75960"/>
            <a:ext cx="1025856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קידום  בריאות  ושיפור בריאות </a:t>
            </a:r>
            <a:br>
              <a:rPr sz="5400"/>
            </a:br>
            <a:r>
              <a:rPr b="1" lang="he-IL" sz="4800" spc="-1" strike="noStrike">
                <a:solidFill>
                  <a:srgbClr val="fafd00"/>
                </a:solidFill>
                <a:latin typeface="Levenim MT"/>
                <a:cs typeface="Levenim MT"/>
              </a:rPr>
              <a:t>בעולם  המשתנה  במהירות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0" y="1752480"/>
            <a:ext cx="7772400" cy="4177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327d9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משך כל ההיסטוריה,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הגורמים  המשפיעים  ביותר   על  בריאות   ברמת   האוכלוסייה  הכללית,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           </a:t>
            </a:r>
            <a:r>
              <a:rPr b="1" lang="he-IL" sz="5400" spc="-1" strike="noStrike">
                <a:solidFill>
                  <a:srgbClr val="ffffff"/>
                </a:solidFill>
                <a:latin typeface="David"/>
                <a:cs typeface="David"/>
              </a:rPr>
              <a:t>היו  סביבתיים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7" name="Object 3" descr=""/>
          <p:cNvPicPr/>
          <p:nvPr/>
        </p:nvPicPr>
        <p:blipFill>
          <a:blip r:embed="rId1"/>
          <a:stretch/>
        </p:blipFill>
        <p:spPr>
          <a:xfrm>
            <a:off x="1066680" y="5562720"/>
            <a:ext cx="53352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118" name="Object 4" descr=""/>
          <p:cNvPicPr/>
          <p:nvPr/>
        </p:nvPicPr>
        <p:blipFill>
          <a:blip r:embed="rId2"/>
          <a:stretch/>
        </p:blipFill>
        <p:spPr>
          <a:xfrm>
            <a:off x="1447920" y="5410080"/>
            <a:ext cx="914400" cy="82404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pic>
        <p:nvPicPr>
          <p:cNvPr id="119" name="Object 5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2743200" cy="1967040"/>
          </a:xfrm>
          <a:prstGeom prst="rect">
            <a:avLst/>
          </a:prstGeom>
          <a:ln w="0">
            <a:noFill/>
          </a:ln>
          <a:effectLst>
            <a:outerShdw dist="127008" dir="8583908" blurRad="0" rotWithShape="0">
              <a:srgbClr val="ffffff"/>
            </a:outerShdw>
          </a:effectLst>
        </p:spPr>
      </p:pic>
      <p:sp>
        <p:nvSpPr>
          <p:cNvPr id="120" name="Text Box 6"/>
          <p:cNvSpPr/>
          <p:nvPr/>
        </p:nvSpPr>
        <p:spPr>
          <a:xfrm>
            <a:off x="320688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1" name="Object 7" descr=""/>
          <p:cNvPicPr/>
          <p:nvPr/>
        </p:nvPicPr>
        <p:blipFill>
          <a:blip r:embed="rId4"/>
          <a:stretch/>
        </p:blipFill>
        <p:spPr>
          <a:xfrm>
            <a:off x="7543800" y="1905120"/>
            <a:ext cx="2743200" cy="2590560"/>
          </a:xfrm>
          <a:prstGeom prst="rect">
            <a:avLst/>
          </a:prstGeom>
          <a:ln w="0">
            <a:noFill/>
          </a:ln>
          <a:effectLst>
            <a:outerShdw dist="200703" dir="11904147" blurRad="0" rotWithShape="0">
              <a:srgbClr val="fafd00"/>
            </a:outerShdw>
          </a:effectLst>
        </p:spPr>
      </p:pic>
      <p:sp>
        <p:nvSpPr>
          <p:cNvPr id="122" name="Text Box 8"/>
          <p:cNvSpPr/>
          <p:nvPr/>
        </p:nvSpPr>
        <p:spPr>
          <a:xfrm>
            <a:off x="7772400" y="3625920"/>
            <a:ext cx="210492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20"/>
                </a:solidFill>
                <a:latin typeface="Arial"/>
              </a:rPr>
              <a:t>21st.  CENTURY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 rot="19200">
            <a:off x="-155880" y="2028600"/>
            <a:ext cx="7467480" cy="4115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והנה פתאום במאה  ה - 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21</a:t>
            </a: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, הגורם  העיקרי  המשפיע  על  בריאות   ברמת  האוכלוסייה הכללית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  כבר אינו סביבתי.. ..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318360" y="6156360"/>
            <a:ext cx="3968640" cy="7034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אלא  ב י ו ל ו ג י -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-266760" y="6019920"/>
            <a:ext cx="6782040" cy="82512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ff"/>
                </a:solidFill>
                <a:latin typeface="Arial"/>
              </a:rPr>
              <a:t>תהליך  ה ה ז ד ק נ ו ת !!!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6" name="Object 12" descr=""/>
          <p:cNvPicPr/>
          <p:nvPr/>
        </p:nvPicPr>
        <p:blipFill>
          <a:blip r:embed="rId5"/>
          <a:stretch/>
        </p:blipFill>
        <p:spPr>
          <a:xfrm>
            <a:off x="2209680" y="5257800"/>
            <a:ext cx="984240" cy="8380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127" name="Object 13" descr=""/>
          <p:cNvPicPr/>
          <p:nvPr/>
        </p:nvPicPr>
        <p:blipFill>
          <a:blip r:embed="rId6"/>
          <a:stretch/>
        </p:blipFill>
        <p:spPr>
          <a:xfrm>
            <a:off x="2895480" y="5029200"/>
            <a:ext cx="1212840" cy="91440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128" name="Object 14" descr=""/>
          <p:cNvPicPr/>
          <p:nvPr/>
        </p:nvPicPr>
        <p:blipFill>
          <a:blip r:embed="rId7"/>
          <a:stretch/>
        </p:blipFill>
        <p:spPr>
          <a:xfrm>
            <a:off x="3657600" y="4800600"/>
            <a:ext cx="1219320" cy="1143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29" name="Text Box 15"/>
          <p:cNvSpPr/>
          <p:nvPr/>
        </p:nvSpPr>
        <p:spPr>
          <a:xfrm>
            <a:off x="3809880" y="525780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30" name="Object 16" descr=""/>
          <p:cNvPicPr/>
          <p:nvPr/>
        </p:nvPicPr>
        <p:blipFill>
          <a:blip r:embed="rId8"/>
          <a:stretch/>
        </p:blipFill>
        <p:spPr>
          <a:xfrm>
            <a:off x="4572000" y="4572000"/>
            <a:ext cx="1454040" cy="135576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31" name="Text Box 17"/>
          <p:cNvSpPr/>
          <p:nvPr/>
        </p:nvSpPr>
        <p:spPr>
          <a:xfrm>
            <a:off x="4876920" y="5105520"/>
            <a:ext cx="144144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-360" y="75960"/>
            <a:ext cx="1002996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he-IL" sz="5400" spc="-1" strike="noStrike">
                <a:solidFill>
                  <a:srgbClr val="fafd00"/>
                </a:solidFill>
                <a:latin typeface="Levenim MT"/>
                <a:cs typeface="Levenim MT"/>
              </a:rPr>
              <a:t>קידום  בריאות  ושיפור בריאות </a:t>
            </a:r>
            <a:br>
              <a:rPr sz="5400"/>
            </a:br>
            <a:r>
              <a:rPr b="1" lang="he-IL" sz="4800" spc="-1" strike="noStrike">
                <a:solidFill>
                  <a:srgbClr val="fafd00"/>
                </a:solidFill>
                <a:latin typeface="Levenim MT"/>
                <a:cs typeface="Levenim MT"/>
              </a:rPr>
              <a:t>בעולם  המשתנה  במהירות</a:t>
            </a:r>
            <a:r>
              <a:rPr b="1" lang="he-IL" sz="3300" spc="-1" strike="noStrike">
                <a:solidFill>
                  <a:srgbClr val="000020"/>
                </a:solidFill>
                <a:latin typeface="Arial"/>
                <a:ea typeface="Levenim MT"/>
              </a:rPr>
              <a:t>   </a:t>
            </a:r>
            <a:r>
              <a:rPr b="1" lang="he-IL" sz="3200" spc="-1" strike="noStrike">
                <a:solidFill>
                  <a:srgbClr val="000020"/>
                </a:solidFill>
                <a:latin typeface="Arial"/>
                <a:ea typeface="Levenim MT"/>
              </a:rPr>
              <a:t>    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9982080" cy="12952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c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f9"/>
                </a:solidFill>
                <a:latin typeface="Arial"/>
                <a:cs typeface="David"/>
              </a:rPr>
              <a:t>עקומות  היוותרות  בחיים</a:t>
            </a:r>
            <a:br>
              <a:rPr sz="5400"/>
            </a:br>
            <a:r>
              <a:rPr b="1" lang="he-IL" sz="44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9"/>
                </a:solidFill>
                <a:latin typeface="Arial"/>
              </a:rPr>
              <a:t>SURVIVAL  CUR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338040" y="1670040"/>
          <a:ext cx="964908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670040"/>
                    <a:ext cx="964908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4"/>
          <p:cNvSpPr/>
          <p:nvPr/>
        </p:nvSpPr>
        <p:spPr>
          <a:xfrm>
            <a:off x="5481720" y="6167520"/>
            <a:ext cx="8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367160" y="6167520"/>
            <a:ext cx="138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52960" y="6151680"/>
            <a:ext cx="103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510240" y="6167520"/>
            <a:ext cx="15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66840" y="3157560"/>
            <a:ext cx="2376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urvival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560" y="76320"/>
            <a:ext cx="10225080" cy="12952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c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f9"/>
                </a:solidFill>
                <a:latin typeface="Arial"/>
                <a:cs typeface="David"/>
              </a:rPr>
              <a:t>עקומות  היוותרות  בחיים</a:t>
            </a:r>
            <a:br>
              <a:rPr sz="5400"/>
            </a:br>
            <a:r>
              <a:rPr b="1" lang="he-IL" sz="44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9"/>
                </a:solidFill>
                <a:latin typeface="Arial"/>
              </a:rPr>
              <a:t>SURVIVAL  CUR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61920" y="1670040"/>
          <a:ext cx="990108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670040"/>
                    <a:ext cx="990108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6477120" y="61675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029200" y="616752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510000" y="615168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8001000" y="616752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2400480" y="4038480"/>
            <a:ext cx="4267080" cy="0"/>
          </a:xfrm>
          <a:prstGeom prst="line">
            <a:avLst/>
          </a:prstGeom>
          <a:ln w="57240">
            <a:solidFill>
              <a:srgbClr val="c0c0c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8160" y="3157560"/>
            <a:ext cx="2376360" cy="5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urvival%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14520" y="3657600"/>
            <a:ext cx="29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 EXPECTANCY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2:47:18Z</dcterms:created>
  <dc:creator>DORON</dc:creator>
  <dc:description/>
  <dc:language>en-US</dc:language>
  <cp:lastModifiedBy>דורון</cp:lastModifiedBy>
  <dcterms:modified xsi:type="dcterms:W3CDTF">2010-08-16T16:22:18Z</dcterms:modified>
  <cp:revision>315</cp:revision>
  <dc:subject/>
  <dc:title>ZINC 96</dc:title>
</cp:coreProperties>
</file>